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1676520"/>
            <a:ext cx="9144000" cy="266688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AngsanaUPC"/>
                <a:cs typeface="AngsanaUPC"/>
              </a:rPr>
              <a:t>การใช้</a:t>
            </a:r>
            <a:r>
              <a:rPr b="1" lang="th-TH" sz="6600" spc="-1" strike="noStrike">
                <a:solidFill>
                  <a:srgbClr val="000000"/>
                </a:solidFill>
                <a:latin typeface="AngsanaUPC"/>
              </a:rPr>
              <a:t>สิทธิประโ</a:t>
            </a:r>
            <a:r>
              <a:rPr b="1" lang="en-US" sz="6600" spc="-1" strike="noStrike">
                <a:solidFill>
                  <a:srgbClr val="000000"/>
                </a:solidFill>
                <a:latin typeface="AngsanaUPC"/>
              </a:rPr>
              <a:t>ยชน์พิเศษ</a:t>
            </a:r>
            <a:br>
              <a:rPr sz="6600"/>
            </a:br>
            <a:r>
              <a:rPr b="1" lang="th-TH" sz="6600" spc="-1" strike="noStrike">
                <a:solidFill>
                  <a:srgbClr val="000000"/>
                </a:solidFill>
                <a:latin typeface="AngsanaUPC"/>
                <a:cs typeface="AngsanaUPC"/>
              </a:rPr>
              <a:t>ด้าน</a:t>
            </a:r>
            <a:r>
              <a:rPr b="1" lang="en-US" sz="6600" spc="-1" strike="noStrike">
                <a:solidFill>
                  <a:srgbClr val="000000"/>
                </a:solidFill>
                <a:latin typeface="AngsanaUPC"/>
              </a:rPr>
              <a:t>อากรขาเข้า</a:t>
            </a:r>
            <a:br>
              <a:rPr sz="6600"/>
            </a:br>
            <a:r>
              <a:rPr b="1" lang="th-TH" sz="6600" spc="-1" strike="noStrike">
                <a:solidFill>
                  <a:srgbClr val="000000"/>
                </a:solidFill>
                <a:latin typeface="AngsanaUPC"/>
                <a:cs typeface="AngsanaUPC"/>
              </a:rPr>
              <a:t>ภายใต้ความตกลงเขตการค้าเสร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0" y="44956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</a:rPr>
              <a:t>ดร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</a:rPr>
              <a:t>.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</a:rPr>
              <a:t>นิลสุวรรณ ลีลารัศม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</a:rPr>
              <a:t>ประธานคณะกรรมการกฎว่าด้วยแหล่งกำเนิดสินค้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และมาตรการกีดกันทางการค้าที่มิใช่ภาษ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</a:rPr>
              <a:t>สภาอุตสาหกรรมแห่งประเทศไท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0" y="0"/>
          <a:ext cx="1270080" cy="12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7008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"/>
          <p:cNvSpPr/>
          <p:nvPr/>
        </p:nvSpPr>
        <p:spPr>
          <a:xfrm>
            <a:off x="1270080" y="141120"/>
            <a:ext cx="161280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581280" y="0"/>
          <a:ext cx="144792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0"/>
                    <a:ext cx="14479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7238880" y="0"/>
            <a:ext cx="1905120" cy="144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0" spc="-1" strike="noStrike">
                <a:solidFill>
                  <a:srgbClr val="ffffff"/>
                </a:solidFill>
                <a:latin typeface="AngsanaUPC"/>
                <a:ea typeface="Cordia New"/>
              </a:rPr>
              <a:t>FTA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0" y="5845320"/>
            <a:ext cx="1066680" cy="1012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8077320" y="5845320"/>
            <a:ext cx="106668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52280"/>
            <a:ext cx="9144000" cy="137160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th-TH" sz="7200" spc="-1" strike="noStrike">
                <a:solidFill>
                  <a:srgbClr val="660033"/>
                </a:solidFill>
                <a:latin typeface="MS Outlook"/>
                <a:ea typeface="MS Outlook"/>
              </a:rPr>
              <a:t></a:t>
            </a:r>
            <a:r>
              <a:rPr b="1" lang="th-TH" sz="60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th-TH" sz="6000" spc="-1" strike="noStrike">
                <a:solidFill>
                  <a:srgbClr val="000000"/>
                </a:solidFill>
                <a:latin typeface="AngsanaUPC"/>
                <a:cs typeface="AngsanaUPC"/>
              </a:rPr>
              <a:t>การเปิดเสรีสาขาอุตสหกรรมของไท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523880"/>
            <a:ext cx="91440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MS Outlook"/>
                <a:ea typeface="MS Outlook"/>
              </a:rPr>
              <a:t></a:t>
            </a:r>
            <a:r>
              <a:rPr b="1" lang="th-TH" sz="4800" spc="-1" strike="noStrike">
                <a:solidFill>
                  <a:srgbClr val="ffffff"/>
                </a:solidFill>
                <a:latin typeface="AngsanaUPC"/>
                <a:ea typeface="AngsanaUPC"/>
              </a:rPr>
              <a:t>  </a:t>
            </a:r>
            <a:r>
              <a:rPr b="1" lang="th-TH" sz="4800" spc="-1" strike="noStrike">
                <a:solidFill>
                  <a:srgbClr val="ffffff"/>
                </a:solidFill>
                <a:latin typeface="AngsanaUPC"/>
                <a:cs typeface="AngsanaUPC"/>
              </a:rPr>
              <a:t>รุกสินค้าที่มีศักยภาพสูง เช่น อาหาร รถยนต์และ</a:t>
            </a:r>
            <a:r>
              <a:rPr b="1" lang="th-TH" sz="48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UPC"/>
                <a:ea typeface="AngsanaUPC"/>
              </a:rPr>
              <a:t>  ชิ้นส่วนยานยนต์ เพชรพลอย เฟอร์นิเจอร์ </a:t>
            </a:r>
            <a:r>
              <a:rPr b="1" lang="th-TH" sz="48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UPC"/>
                <a:ea typeface="AngsanaUPC"/>
              </a:rPr>
              <a:t>  </a:t>
            </a:r>
            <a:r>
              <a:rPr b="1" lang="th-TH" sz="48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UPC"/>
                <a:ea typeface="AngsanaUPC"/>
              </a:rPr>
              <a:t>  เครื่องประดับ เครื่องใช้ไฟฟ้า ฯล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089240"/>
            <a:ext cx="9144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660033"/>
                </a:solidFill>
                <a:latin typeface="AngsanaUPC"/>
                <a:ea typeface="AngsanaUPC"/>
              </a:rPr>
              <a:t> </a:t>
            </a:r>
            <a:r>
              <a:rPr b="1" lang="th-TH" sz="5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th-TH" sz="4800" spc="-1" strike="noStrike">
                <a:solidFill>
                  <a:srgbClr val="ffffff"/>
                </a:solidFill>
                <a:latin typeface="AngsanaUPC"/>
                <a:ea typeface="AngsanaUPC"/>
              </a:rPr>
              <a:t>    </a:t>
            </a:r>
            <a:r>
              <a:rPr b="1" lang="th-TH" sz="4800" spc="-1" strike="noStrike">
                <a:solidFill>
                  <a:srgbClr val="ffffff"/>
                </a:solidFill>
                <a:latin typeface="AngsanaUPC"/>
                <a:cs typeface="AngsanaUPC"/>
              </a:rPr>
              <a:t>สร้างมาตรฐาน กำหนดคุณภาพสินค้า </a:t>
            </a:r>
            <a:r>
              <a:rPr b="1" lang="en-US" sz="4800" spc="-1" strike="noStrike">
                <a:solidFill>
                  <a:srgbClr val="ffffff"/>
                </a:solidFill>
                <a:latin typeface="AngsanaUPC"/>
                <a:ea typeface="AngsanaUPC"/>
              </a:rPr>
              <a:t>[MRA]</a:t>
            </a:r>
            <a:r>
              <a:rPr b="1" lang="en-US" sz="48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UPC"/>
                <a:ea typeface="AngsanaUPC"/>
              </a:rPr>
              <a:t>  </a:t>
            </a:r>
            <a:r>
              <a:rPr b="1" lang="th-TH" sz="4800" spc="-1" strike="noStrike">
                <a:solidFill>
                  <a:srgbClr val="ffffff"/>
                </a:solidFill>
                <a:latin typeface="AngsanaUPC"/>
                <a:cs typeface="AngsanaUPC"/>
              </a:rPr>
              <a:t>เจรจายกเลิกการกีดกันที่เป็นอุปสรร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791320"/>
            <a:ext cx="9144000" cy="916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Comic Sans MS"/>
                <a:ea typeface="Angsana New"/>
              </a:rPr>
              <a:t> </a:t>
            </a:r>
            <a:r>
              <a:rPr b="1" lang="th-TH" sz="54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1" lang="th-TH" sz="5400" spc="-1" strike="noStrike">
                <a:solidFill>
                  <a:srgbClr val="ffffff"/>
                </a:solidFill>
                <a:latin typeface="Comic Sans MS"/>
                <a:ea typeface="Angsana New"/>
              </a:rPr>
              <a:t> </a:t>
            </a:r>
            <a:r>
              <a:rPr b="1" lang="th-TH" sz="5400" spc="-1" strike="noStrike">
                <a:solidFill>
                  <a:srgbClr val="ffffff"/>
                </a:solidFill>
                <a:latin typeface="Comic Sans MS"/>
                <a:cs typeface="Angsana New"/>
              </a:rPr>
              <a:t>สินค้าอ่อนไหวให้เปิดช้าที่สุ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th-TH" sz="6600" spc="-1" strike="noStrike">
                <a:solidFill>
                  <a:srgbClr val="ffffff"/>
                </a:solidFill>
                <a:latin typeface="MS Outlook"/>
                <a:ea typeface="MS Outlook"/>
              </a:rPr>
              <a:t>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</a:rPr>
              <a:t> </a:t>
            </a:r>
            <a:r>
              <a:rPr b="1" lang="th-TH" sz="5400" spc="-1" strike="noStrike">
                <a:solidFill>
                  <a:srgbClr val="ffffff"/>
                </a:solidFill>
                <a:latin typeface="AngsanaUPC"/>
                <a:cs typeface="AngsanaUPC"/>
              </a:rPr>
              <a:t>การเปิดเสรีสาขาบริการของไท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219320"/>
            <a:ext cx="914400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cc"/>
                </a:solidFill>
                <a:latin typeface="AngsanaUPC"/>
                <a:ea typeface="AngsanaUPC"/>
              </a:rPr>
              <a:t> </a:t>
            </a:r>
            <a:r>
              <a:rPr b="1" lang="th-TH" sz="4400" spc="-1" strike="noStrike">
                <a:solidFill>
                  <a:srgbClr val="0000cc"/>
                </a:solidFill>
                <a:latin typeface="Wingdings"/>
                <a:ea typeface="Wingdings"/>
              </a:rPr>
              <a:t></a:t>
            </a:r>
            <a:r>
              <a:rPr b="1" lang="th-TH" sz="4800" spc="-1" strike="noStrike">
                <a:solidFill>
                  <a:srgbClr val="0000cc"/>
                </a:solidFill>
                <a:latin typeface="AngsanaUPC"/>
                <a:ea typeface="AngsanaUPC"/>
              </a:rPr>
              <a:t>  </a:t>
            </a:r>
            <a:r>
              <a:rPr b="1" lang="th-TH" sz="4800" spc="-1" strike="noStrike">
                <a:solidFill>
                  <a:srgbClr val="0000cc"/>
                </a:solidFill>
                <a:latin typeface="AngsanaUPC"/>
                <a:cs typeface="AngsanaUPC"/>
              </a:rPr>
              <a:t>เปิดทีละสาขา </a:t>
            </a:r>
            <a:r>
              <a:rPr b="1" lang="en-US" sz="4800" spc="-1" strike="noStrike">
                <a:solidFill>
                  <a:srgbClr val="0000cc"/>
                </a:solidFill>
                <a:latin typeface="AngsanaUPC"/>
                <a:ea typeface="AngsanaUPC"/>
              </a:rPr>
              <a:t>(Positive</a:t>
            </a:r>
            <a:r>
              <a:rPr b="1" lang="th-TH" sz="4800" spc="-1" strike="noStrike">
                <a:solidFill>
                  <a:srgbClr val="0000cc"/>
                </a:solidFill>
                <a:latin typeface="AngsanaUPC"/>
                <a:ea typeface="AngsanaUPC"/>
              </a:rPr>
              <a:t> </a:t>
            </a:r>
            <a:r>
              <a:rPr b="1" lang="en-US" sz="4800" spc="-1" strike="noStrike">
                <a:solidFill>
                  <a:srgbClr val="0000cc"/>
                </a:solidFill>
                <a:latin typeface="AngsanaUPC"/>
                <a:ea typeface="AngsanaUPC"/>
              </a:rPr>
              <a:t>List Approach) </a:t>
            </a:r>
            <a:r>
              <a:rPr b="1" lang="th-TH" sz="4800" spc="-1" strike="noStrike">
                <a:solidFill>
                  <a:srgbClr val="0000cc"/>
                </a:solidFill>
                <a:latin typeface="AngsanaUPC"/>
                <a:cs typeface="AngsanaUPC"/>
              </a:rPr>
              <a:t>เช่น </a:t>
            </a:r>
            <a:r>
              <a:rPr b="1" lang="th-TH" sz="4800" spc="-1" strike="noStrike">
                <a:solidFill>
                  <a:srgbClr val="0000cc"/>
                </a:solidFill>
                <a:latin typeface="AngsanaUPC"/>
                <a:ea typeface="AngsanaUPC"/>
              </a:rPr>
              <a:t>	</a:t>
            </a:r>
            <a:r>
              <a:rPr b="1" lang="th-TH" sz="4800" spc="-1" strike="noStrike">
                <a:solidFill>
                  <a:srgbClr val="0000cc"/>
                </a:solidFill>
                <a:latin typeface="AngsanaUPC"/>
                <a:ea typeface="AngsanaUPC"/>
              </a:rPr>
              <a:t>	</a:t>
            </a:r>
            <a:r>
              <a:rPr b="1" lang="th-TH" sz="4800" spc="-1" strike="noStrike">
                <a:solidFill>
                  <a:srgbClr val="0000cc"/>
                </a:solidFill>
                <a:latin typeface="AngsanaUPC"/>
                <a:cs typeface="AngsanaUPC"/>
              </a:rPr>
              <a:t>ภัตตาคาร การท่องเที่ยว โรงแรม แพทย์แผนไทย</a:t>
            </a:r>
            <a:r>
              <a:rPr b="1" lang="th-TH" sz="4800" spc="-1" strike="noStrike">
                <a:solidFill>
                  <a:srgbClr val="0000cc"/>
                </a:solidFill>
                <a:latin typeface="AngsanaUPC"/>
                <a:ea typeface="AngsanaUPC"/>
              </a:rPr>
              <a:t>	</a:t>
            </a:r>
            <a:r>
              <a:rPr b="1" lang="th-TH" sz="4800" spc="-1" strike="noStrike">
                <a:solidFill>
                  <a:srgbClr val="0000cc"/>
                </a:solidFill>
                <a:latin typeface="AngsanaUPC"/>
                <a:cs typeface="AngsanaUPC"/>
              </a:rPr>
              <a:t>การซ่อมบำรุง ฯล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cc"/>
                </a:solidFill>
                <a:latin typeface="Wingdings"/>
                <a:ea typeface="Wingdings"/>
              </a:rPr>
              <a:t></a:t>
            </a:r>
            <a:r>
              <a:rPr b="1" lang="th-TH" sz="4400" spc="-1" strike="noStrike">
                <a:solidFill>
                  <a:srgbClr val="0000cc"/>
                </a:solidFill>
                <a:latin typeface="Times New Roman"/>
                <a:ea typeface="Angsana New"/>
              </a:rPr>
              <a:t> </a:t>
            </a:r>
            <a:r>
              <a:rPr b="1" lang="th-TH" sz="7200" spc="-1" strike="noStrike">
                <a:solidFill>
                  <a:srgbClr val="0000cc"/>
                </a:solidFill>
                <a:latin typeface="AngsanaUPC"/>
                <a:ea typeface="AngsanaUPC"/>
              </a:rPr>
              <a:t>  </a:t>
            </a:r>
            <a:r>
              <a:rPr b="1" lang="th-TH" sz="4800" spc="-1" strike="noStrike">
                <a:solidFill>
                  <a:srgbClr val="0000cc"/>
                </a:solidFill>
                <a:latin typeface="AngsanaUPC"/>
              </a:rPr>
              <a:t>สาขา</a:t>
            </a:r>
            <a:r>
              <a:rPr b="1" lang="th-TH" sz="4800" spc="-1" strike="noStrike">
                <a:solidFill>
                  <a:srgbClr val="0000cc"/>
                </a:solidFill>
                <a:latin typeface="AngsanaUPC"/>
                <a:cs typeface="AngsanaUPC"/>
              </a:rPr>
              <a:t>ที่ยังไม่พร้อมให้เปิดช้าที่สุด ธนาคาร</a:t>
            </a:r>
            <a:r>
              <a:rPr b="1" lang="th-TH" sz="4800" spc="-1" strike="noStrike">
                <a:solidFill>
                  <a:srgbClr val="0000cc"/>
                </a:solidFill>
                <a:latin typeface="AngsanaUPC"/>
                <a:ea typeface="AngsanaUPC"/>
              </a:rPr>
              <a:t>	</a:t>
            </a:r>
            <a:r>
              <a:rPr b="1" lang="th-TH" sz="4800" spc="-1" strike="noStrike">
                <a:solidFill>
                  <a:srgbClr val="0000cc"/>
                </a:solidFill>
                <a:latin typeface="AngsanaUPC"/>
                <a:cs typeface="AngsanaUPC"/>
              </a:rPr>
              <a:t>ประกันภัย การขนส่ง โทรคมนาคม ฯล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0896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0000"/>
                </a:solidFill>
                <a:latin typeface="MS Outlook"/>
                <a:ea typeface="MS Outlook"/>
              </a:rPr>
              <a:t>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499104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0000"/>
                </a:solidFill>
                <a:latin typeface="Angsana New"/>
                <a:cs typeface="Angsana New"/>
              </a:rPr>
              <a:t>ด้านแรงงาน </a:t>
            </a:r>
            <a:r>
              <a:rPr b="1" lang="en-US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USA 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cs typeface="Angsana New"/>
              </a:rPr>
              <a:t>ได้แสดงท่าทีใช้เงื่อนไข </a:t>
            </a:r>
            <a:r>
              <a:rPr b="1" lang="en-US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IL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0000"/>
                </a:solidFill>
                <a:latin typeface="Angsana New"/>
                <a:cs typeface="Angsana New"/>
              </a:rPr>
              <a:t>ภายใต้  </a:t>
            </a:r>
            <a:r>
              <a:rPr b="1" lang="en-US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FTA:  US Chile 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cs typeface="Angsana New"/>
              </a:rPr>
              <a:t>และ</a:t>
            </a:r>
            <a:r>
              <a:rPr b="1" lang="en-US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/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cs typeface="Angsana New"/>
              </a:rPr>
              <a:t>หรือ </a:t>
            </a:r>
            <a:r>
              <a:rPr b="1" lang="en-US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US-S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52280"/>
            <a:ext cx="9144000" cy="137160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th-TH" sz="6000" spc="-1" strike="noStrike">
                <a:solidFill>
                  <a:srgbClr val="000000"/>
                </a:solidFill>
                <a:latin typeface="AngsanaUPC"/>
                <a:cs typeface="AngsanaUPC"/>
              </a:rPr>
              <a:t>การเปิดสาขาทรัพยสินทางปัญญาของไท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854360"/>
            <a:ext cx="9144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8000"/>
                </a:solidFill>
                <a:latin typeface="AngsanaUPC"/>
                <a:ea typeface="AngsanaUPC"/>
              </a:rPr>
              <a:t> </a:t>
            </a:r>
            <a:r>
              <a:rPr b="1" lang="en-US" sz="5400" spc="-1" strike="noStrike">
                <a:solidFill>
                  <a:srgbClr val="660033"/>
                </a:solidFill>
                <a:latin typeface="Times New Roman"/>
              </a:rPr>
              <a:t>®</a:t>
            </a:r>
            <a:r>
              <a:rPr b="1" lang="th-TH" sz="5400" spc="-1" strike="noStrike">
                <a:solidFill>
                  <a:srgbClr val="008000"/>
                </a:solidFill>
                <a:latin typeface="AngsanaUPC"/>
                <a:ea typeface="AngsanaUPC"/>
              </a:rPr>
              <a:t>  </a:t>
            </a:r>
            <a:r>
              <a:rPr b="1" lang="th-TH" sz="5400" spc="-1" strike="noStrike">
                <a:solidFill>
                  <a:srgbClr val="008000"/>
                </a:solidFill>
                <a:latin typeface="AngsanaUPC"/>
                <a:ea typeface="AngsanaUPC"/>
              </a:rPr>
              <a:t>	</a:t>
            </a:r>
            <a:r>
              <a:rPr b="1" lang="th-TH" sz="5400" spc="-1" strike="noStrike">
                <a:solidFill>
                  <a:srgbClr val="008000"/>
                </a:solidFill>
                <a:latin typeface="AngsanaUPC"/>
                <a:ea typeface="AngsanaUPC"/>
              </a:rPr>
              <a:t>      </a:t>
            </a:r>
            <a:r>
              <a:rPr b="1" lang="th-TH" sz="5400" spc="-1" strike="noStrike">
                <a:solidFill>
                  <a:srgbClr val="008000"/>
                </a:solidFill>
                <a:latin typeface="AngsanaUPC"/>
                <a:cs typeface="AngsanaUPC"/>
              </a:rPr>
              <a:t>เปิดตามกรอบความตกลงของ </a:t>
            </a:r>
            <a:r>
              <a:rPr b="1" lang="en-US" sz="5400" spc="-1" strike="noStrike">
                <a:solidFill>
                  <a:srgbClr val="008000"/>
                </a:solidFill>
                <a:latin typeface="AngsanaUPC"/>
                <a:ea typeface="AngsanaUPC"/>
              </a:rPr>
              <a:t>WT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048120"/>
            <a:ext cx="9144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660033"/>
                </a:solidFill>
                <a:latin typeface="Times New Roman"/>
                <a:ea typeface="Angsana New"/>
              </a:rPr>
              <a:t>™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  <a:ea typeface="Angsana New"/>
              </a:rPr>
              <a:t>©   </a:t>
            </a:r>
            <a:r>
              <a:rPr b="1" lang="th-TH" sz="5400" spc="-1" strike="noStrike">
                <a:solidFill>
                  <a:srgbClr val="660033"/>
                </a:solidFill>
                <a:latin typeface="AngsanaUPC"/>
                <a:cs typeface="AngsanaUPC"/>
              </a:rPr>
              <a:t>เน้นความร่วมมือถ่ายทอดเทคโนโลยี</a:t>
            </a:r>
            <a:r>
              <a:rPr b="1" lang="th-TH" sz="5400" spc="-1" strike="noStrike">
                <a:solidFill>
                  <a:srgbClr val="660033"/>
                </a:solidFill>
                <a:latin typeface="AngsanaUPC"/>
                <a:ea typeface="AngsanaUPC"/>
              </a:rPr>
              <a:t>	</a:t>
            </a:r>
            <a:r>
              <a:rPr b="1" lang="th-TH" sz="5400" spc="-1" strike="noStrike">
                <a:solidFill>
                  <a:srgbClr val="660033"/>
                </a:solidFill>
                <a:latin typeface="AngsanaUPC"/>
                <a:ea typeface="AngsanaUPC"/>
              </a:rPr>
              <a:t>  </a:t>
            </a:r>
            <a:r>
              <a:rPr b="1" lang="th-TH" sz="5400" spc="-1" strike="noStrike">
                <a:solidFill>
                  <a:srgbClr val="660033"/>
                </a:solidFill>
                <a:latin typeface="AngsanaUPC"/>
                <a:ea typeface="AngsanaUPC"/>
              </a:rPr>
              <a:t>	</a:t>
            </a:r>
            <a:r>
              <a:rPr b="1" lang="th-TH" sz="5400" spc="-1" strike="noStrike">
                <a:solidFill>
                  <a:srgbClr val="660033"/>
                </a:solidFill>
                <a:latin typeface="AngsanaUPC"/>
                <a:ea typeface="AngsanaUPC"/>
              </a:rPr>
              <a:t>     โดยเฉพาะอย่างยิ่งด้านสิทธิบัต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660033"/>
                </a:solidFill>
                <a:latin typeface="Times New Roman"/>
                <a:ea typeface="Angsana New"/>
              </a:rPr>
              <a:t>™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  <a:ea typeface="Angsana New"/>
              </a:rPr>
              <a:t>©   </a:t>
            </a:r>
            <a:r>
              <a:rPr b="1" lang="th-TH" sz="5400" spc="-1" strike="noStrike">
                <a:solidFill>
                  <a:srgbClr val="660033"/>
                </a:solidFill>
                <a:latin typeface="Times New Roman"/>
                <a:cs typeface="Angsana New"/>
              </a:rPr>
              <a:t>เน้นการรักษาภูมิปัญญาท้องถิ่น พันธุ์พืช</a:t>
            </a:r>
            <a:r>
              <a:rPr b="1" lang="th-TH" sz="5400" spc="-1" strike="noStrike">
                <a:solidFill>
                  <a:srgbClr val="660033"/>
                </a:solidFill>
                <a:latin typeface="Times New Roman"/>
                <a:ea typeface="Angsana New"/>
              </a:rPr>
              <a:t>	</a:t>
            </a:r>
            <a:r>
              <a:rPr b="1" lang="th-TH" sz="5400" spc="-1" strike="noStrike">
                <a:solidFill>
                  <a:srgbClr val="660033"/>
                </a:solidFill>
                <a:latin typeface="Times New Roman"/>
                <a:ea typeface="Angsana New"/>
              </a:rPr>
              <a:t>   และพันธุ์สัตว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AngsanaUPC"/>
                <a:cs typeface="AngsanaUPC"/>
              </a:rPr>
              <a:t>แผนภูมิวงจรการส่งออ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5029200"/>
            <a:ext cx="6324480" cy="17524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</a:rPr>
              <a:t>@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  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ค่าบริหารจัดการ ขนส่ง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@  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กำไร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447920"/>
            <a:ext cx="3276720" cy="18288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สินค้าไท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1360" y="3581280"/>
            <a:ext cx="2095560" cy="12193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</a:rPr>
              <a:t> 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ผู้ซื้อจี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1447920"/>
            <a:ext cx="3733920" cy="182880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Comic Sans MS"/>
                <a:cs typeface="AngsanaUPC"/>
              </a:rPr>
              <a:t>ศุลกากรจี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Comic Sans MS"/>
                <a:cs typeface="AngsanaUPC"/>
              </a:rPr>
              <a:t>อากรขาเข้า </a:t>
            </a:r>
            <a:r>
              <a:rPr b="1" lang="en-US" sz="6000" spc="-1" strike="noStrike">
                <a:solidFill>
                  <a:srgbClr val="ffffff"/>
                </a:solidFill>
                <a:latin typeface="Angsana New"/>
                <a:ea typeface="AngsanaUPC"/>
              </a:rPr>
              <a:t>20%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2666880"/>
            <a:ext cx="1828800" cy="60984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1447920"/>
            <a:ext cx="18288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Comic Sans MS"/>
                <a:cs typeface="Angsana New"/>
              </a:rPr>
              <a:t>ราคาส่งออ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534520" y="3429000"/>
            <a:ext cx="609480" cy="1600200"/>
          </a:xfrm>
          <a:prstGeom prst="downArrow">
            <a:avLst>
              <a:gd name="adj1" fmla="val 50000"/>
              <a:gd name="adj2" fmla="val 65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342900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Comic Sans MS"/>
                <a:cs typeface="Angsana New"/>
              </a:rPr>
              <a:t>ราคาเพิ่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ngsana New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600200" y="5333760"/>
            <a:ext cx="1218960" cy="12193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334120"/>
            <a:ext cx="1600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Comic Sans MS"/>
                <a:cs typeface="Angsana New"/>
              </a:rPr>
              <a:t>ราคาเพิ่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ngsana New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66920" y="3581280"/>
            <a:ext cx="228600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Comic Sans MS"/>
                <a:cs typeface="Angsana New"/>
              </a:rPr>
              <a:t>ราคาสุดท้า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1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AngsanaUPC"/>
                <a:cs typeface="AngsanaUPC"/>
              </a:rPr>
              <a:t>แผนภูมิวงจรการส่งออก </a:t>
            </a:r>
            <a:r>
              <a:rPr b="1" lang="en-US" sz="6600" spc="-1" strike="noStrike">
                <a:solidFill>
                  <a:srgbClr val="000000"/>
                </a:solidFill>
                <a:latin typeface="Angsana New"/>
                <a:ea typeface="AngsanaUPC"/>
              </a:rPr>
              <a:t>FT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5029200"/>
            <a:ext cx="6324480" cy="17524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</a:rPr>
              <a:t>@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  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ค่าบริหารจัดการ ขนส่ง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@  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กำไรจากการขาย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447920"/>
            <a:ext cx="3276720" cy="18288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สินค้าไท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ได้แหล่งกำเนิ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1360" y="3581280"/>
            <a:ext cx="2095560" cy="12193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</a:rPr>
              <a:t> 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ผู้ซื้อจี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1447920"/>
            <a:ext cx="3733920" cy="182880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Comic Sans MS"/>
                <a:cs typeface="AngsanaUPC"/>
              </a:rPr>
              <a:t>ศุลกากรจี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Comic Sans MS"/>
                <a:cs typeface="AngsanaUPC"/>
              </a:rPr>
              <a:t>อากรขาเข้า </a:t>
            </a:r>
            <a:r>
              <a:rPr b="1" lang="en-US" sz="6000" spc="-1" strike="noStrike">
                <a:solidFill>
                  <a:srgbClr val="ffffff"/>
                </a:solidFill>
                <a:latin typeface="Angsana New"/>
                <a:ea typeface="AngsanaUPC"/>
              </a:rPr>
              <a:t>0%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2666880"/>
            <a:ext cx="1828800" cy="60984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1447920"/>
            <a:ext cx="18288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Comic Sans MS"/>
                <a:cs typeface="Angsana New"/>
              </a:rPr>
              <a:t>ราคาส่งออ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34520" y="3429000"/>
            <a:ext cx="609480" cy="1600200"/>
          </a:xfrm>
          <a:prstGeom prst="downArrow">
            <a:avLst>
              <a:gd name="adj1" fmla="val 50000"/>
              <a:gd name="adj2" fmla="val 65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342900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Comic Sans MS"/>
                <a:cs typeface="Angsana New"/>
              </a:rPr>
              <a:t>ราคาเพิ่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ngsana New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1600200" y="5333760"/>
            <a:ext cx="1218960" cy="12193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5334120"/>
            <a:ext cx="1600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Comic Sans MS"/>
                <a:cs typeface="Angsana New"/>
              </a:rPr>
              <a:t>ราคาเพิ่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ngsana New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66920" y="3581280"/>
            <a:ext cx="228600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Comic Sans MS"/>
                <a:cs typeface="Angsana New"/>
              </a:rPr>
              <a:t>ราคาสุดท้า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1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34320" y="3962520"/>
            <a:ext cx="761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52720" y="4267080"/>
            <a:ext cx="9144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1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3429000"/>
            <a:ext cx="38102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Comic Sans MS"/>
                <a:cs typeface="Angsana New"/>
              </a:rPr>
              <a:t>กำลังซื้อจีนเพิ่ม</a:t>
            </a:r>
            <a:r>
              <a:rPr b="1" lang="th-TH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7:1 (x20 </a:t>
            </a:r>
            <a:r>
              <a:rPr b="1" lang="th-TH" sz="5400" spc="-1" strike="noStrike">
                <a:solidFill>
                  <a:srgbClr val="000000"/>
                </a:solidFill>
                <a:latin typeface="Comic Sans MS"/>
                <a:cs typeface="Angsana New"/>
              </a:rPr>
              <a:t>เท่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ขนาดตลาด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UPC"/>
              </a:rPr>
              <a:t>FTA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ระเมินจากประชากรไท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9051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1. ASEAN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530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8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่า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160 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74320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2. USA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280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4.3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่า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86 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581280"/>
            <a:ext cx="914400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3. China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1350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20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่า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   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400 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14400"/>
            <a:ext cx="9144000" cy="99072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FTA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UPC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UPC"/>
              </a:rPr>
              <a:t> </a:t>
            </a:r>
            <a:r>
              <a:rPr b="1" lang="th-TH" sz="5400" spc="-1" strike="noStrike">
                <a:solidFill>
                  <a:srgbClr val="ffff00"/>
                </a:solidFill>
                <a:latin typeface="Angsana New"/>
                <a:cs typeface="AngsanaUPC"/>
              </a:rPr>
              <a:t>ประชากร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  <a:ea typeface="AngsanaUPC"/>
              </a:rPr>
              <a:t>    ประเมิน   </a:t>
            </a:r>
            <a:r>
              <a:rPr b="1" lang="th-TH" sz="5400" spc="-1" strike="noStrike">
                <a:solidFill>
                  <a:srgbClr val="ffff00"/>
                </a:solidFill>
                <a:latin typeface="Angsana New"/>
                <a:ea typeface="AngsanaUPC"/>
              </a:rPr>
              <a:t>% </a:t>
            </a:r>
            <a:r>
              <a:rPr b="1" lang="th-TH" sz="5400" spc="-1" strike="noStrike">
                <a:solidFill>
                  <a:srgbClr val="ffff00"/>
                </a:solidFill>
                <a:latin typeface="Angsana New"/>
                <a:cs typeface="AngsanaUPC"/>
              </a:rPr>
              <a:t>กำลังซื้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4197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4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. AUS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  15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0.23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่า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4.6 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2578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5. JPN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350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5.5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่า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110 %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6. India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1000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16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่า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320 % </a:t>
            </a:r>
            <a:r>
              <a:rPr b="1" lang="th-TH" sz="66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ลาดส่งออกของไทย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 New"/>
              </a:rPr>
              <a:t>2546  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ูลค่า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 New"/>
              </a:rPr>
              <a:t>: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 New"/>
              </a:rPr>
              <a:t>US$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057400"/>
            <a:ext cx="914400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. ASEAN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6,537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2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895480"/>
            <a:ext cx="91440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2. USA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3,618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6.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581280"/>
            <a:ext cx="91440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3. EU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1,761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4.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14400"/>
            <a:ext cx="91440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  <a:cs typeface="Angsana New"/>
              </a:rPr>
              <a:t>มูลค่า         สัดส่วน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  <a:ea typeface="Angsana New"/>
              </a:rPr>
              <a:t>(%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267080"/>
            <a:ext cx="91440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4. JPN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1,397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952880"/>
            <a:ext cx="91440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5. Others (FTAs)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26,926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33.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5638680"/>
            <a:ext cx="9144000" cy="1067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6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รวม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    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  <a:ea typeface="Angsana New"/>
              </a:rPr>
              <a:t>80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,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  <a:ea typeface="Angsana New"/>
              </a:rPr>
              <a:t>239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      100 %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914400"/>
            <a:ext cx="4648320" cy="1143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พิ่มมากว่า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 New"/>
              </a:rPr>
              <a:t>21,000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 New"/>
              </a:rPr>
              <a:t>ล้าน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 New"/>
              </a:rPr>
              <a:t>US$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ัจจัยการผลิตที่ต้องคำนึงใน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UPC"/>
              </a:rPr>
              <a:t>F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01124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1.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ขนาดกำลังการผลิต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เพิ่มหรือลด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โรงงานใหม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07792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2.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วัตถุดิบ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 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นำเข้า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ในประเทศ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การจัดซื้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99232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3.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ครื่องจักร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เก่า ใหม่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จำนวน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ซื้อ นำเข้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90672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4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.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คโนโลยี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ใช้มากขึ้น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ซื้อ พัฒนา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?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821120"/>
            <a:ext cx="9144000" cy="97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5.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งินลงทุน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ต้องขยายมาก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กู้ หุ้นเพิ่มทุ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6.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บุคลากร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แรงงาน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การตลาด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ภาษา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ฝึกอบร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4960" y="3749760"/>
            <a:ext cx="5256360" cy="25905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457200"/>
            <a:ext cx="2735280" cy="1282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ngsana New"/>
              </a:rPr>
              <a:t>F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1989000"/>
            <a:ext cx="8229600" cy="0"/>
          </a:xfrm>
          <a:prstGeom prst="line">
            <a:avLst/>
          </a:prstGeom>
          <a:ln w="63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2057400"/>
            <a:ext cx="647064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Angsana New"/>
              </a:rPr>
              <a:t>Framework Agre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400" spc="-1" strike="noStrike">
                <a:solidFill>
                  <a:srgbClr val="000000"/>
                </a:solidFill>
                <a:latin typeface="Arial"/>
                <a:cs typeface="Angsana New"/>
              </a:rPr>
              <a:t>เลือกเจรจาประเด็นตกลงเงื่อนไขที่ต้องกา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3505320"/>
            <a:ext cx="8229600" cy="0"/>
          </a:xfrm>
          <a:prstGeom prst="line">
            <a:avLst/>
          </a:prstGeom>
          <a:ln w="63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897360"/>
            <a:ext cx="302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cc"/>
                </a:solidFill>
                <a:latin typeface="Angsana New"/>
                <a:cs typeface="Angsana New"/>
              </a:rPr>
              <a:t>ไทย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ea typeface="Angsana New"/>
              </a:rPr>
              <a:t>-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cs typeface="Angsana New"/>
              </a:rPr>
              <a:t>อินเดีย   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ea typeface="Angsana New"/>
              </a:rPr>
              <a:t>8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37080" y="3902040"/>
            <a:ext cx="1925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66ff"/>
                </a:solidFill>
                <a:latin typeface="Angsana New"/>
                <a:ea typeface="Angsana New"/>
              </a:rPr>
              <a:t> 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ea typeface="Angsana New"/>
              </a:rPr>
              <a:t>9 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cs typeface="Angsana New"/>
              </a:rPr>
              <a:t>ต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ea typeface="Angsana New"/>
              </a:rPr>
              <a:t>.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cs typeface="Angsana New"/>
              </a:rPr>
              <a:t>ค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ea typeface="Angsana New"/>
              </a:rPr>
              <a:t>. 4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3962520"/>
            <a:ext cx="287964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Angsana New"/>
              </a:rPr>
              <a:t>EHS 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ngsana New"/>
              </a:rPr>
              <a:t>Early Harvest 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464832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0000"/>
                </a:solidFill>
                <a:latin typeface="Angsana New"/>
                <a:cs typeface="Angsana New"/>
              </a:rPr>
              <a:t>อาเซียน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-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cs typeface="Angsana New"/>
              </a:rPr>
              <a:t>จีน   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07-0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3920" y="4648320"/>
            <a:ext cx="18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1 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cs typeface="Angsana New"/>
              </a:rPr>
              <a:t>ต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.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cs typeface="Angsana New"/>
              </a:rPr>
              <a:t>ค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. 4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410080"/>
            <a:ext cx="3200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ทย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-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าร์เรน  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6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5410080"/>
            <a:ext cx="1992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29 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ธ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. 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0280" y="1676520"/>
            <a:ext cx="792360" cy="2057400"/>
          </a:xfrm>
          <a:prstGeom prst="upArrow">
            <a:avLst>
              <a:gd name="adj1" fmla="val 50000"/>
              <a:gd name="adj2" fmla="val 649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457200"/>
            <a:ext cx="495288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ทย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-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อสเตรเลีย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1 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. 25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000000"/>
              </a:gs>
              <a:gs pos="100000">
                <a:srgbClr val="c0c0c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ffff"/>
                </a:solidFill>
                <a:latin typeface="Angsana New"/>
                <a:cs typeface="Angsana New"/>
              </a:rPr>
              <a:t>ประเด็นหลักใน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การเจรจาเปิดการค้าเสร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52480"/>
            <a:ext cx="9134640" cy="11271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1.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ลดภาษีนำเข้าระหว่างกัน  </a:t>
            </a:r>
            <a:r>
              <a:rPr b="1" i="1" lang="th-TH" sz="5400" spc="-1" strike="noStrike">
                <a:solidFill>
                  <a:srgbClr val="000000"/>
                </a:solidFill>
                <a:latin typeface="Angsana New"/>
              </a:rPr>
              <a:t>เลือกกลุ่มสินค้าได้ </a:t>
            </a:r>
            <a:r>
              <a:rPr b="1" i="1" lang="th-TH" sz="5400" spc="-1" strike="noStrike">
                <a:solidFill>
                  <a:srgbClr val="000000"/>
                </a:solidFill>
                <a:latin typeface="Angsana New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971800"/>
            <a:ext cx="9144000" cy="121932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efefe"/>
              </a:gs>
              <a:gs pos="100000">
                <a:srgbClr val="3333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2.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มีเงื่อนไขแหล่งกำเนิดสินค้าที่ผลิตและส่งออ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267080"/>
            <a:ext cx="9144000" cy="11430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efefe"/>
              </a:gs>
              <a:gs pos="100000">
                <a:srgbClr val="ff33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3.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อำนวยความสะดวก ขนผ่านด่านศุลกากร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gsanaUPC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ngsanaUPC"/>
              </a:rPr>
              <a:t>4. </a:t>
            </a:r>
            <a:r>
              <a:rPr b="1" lang="th-TH" sz="5400" spc="-1" strike="noStrike">
                <a:solidFill>
                  <a:srgbClr val="000000"/>
                </a:solidFill>
                <a:latin typeface="AngsanaUPC"/>
              </a:rPr>
              <a:t>เพิ่ม</a:t>
            </a:r>
            <a:r>
              <a:rPr b="1" lang="en-US" sz="5400" spc="-1" strike="noStrike">
                <a:solidFill>
                  <a:srgbClr val="000000"/>
                </a:solidFill>
                <a:latin typeface="AngsanaUPC"/>
              </a:rPr>
              <a:t>กรอบความร่วมมือด้านอื่น และลด </a:t>
            </a:r>
            <a:r>
              <a:rPr b="1" lang="en-US" sz="5400" spc="-1" strike="noStrike">
                <a:solidFill>
                  <a:srgbClr val="000000"/>
                </a:solidFill>
                <a:latin typeface="AngsanaUPC"/>
              </a:rPr>
              <a:t>NTB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380880"/>
            <a:ext cx="8686800" cy="73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5400" spc="-1" strike="noStrike">
                <a:solidFill>
                  <a:srgbClr val="ccccff"/>
                </a:solidFill>
                <a:latin typeface="FreesiaUPC"/>
              </a:rPr>
              <a:t>	</a:t>
            </a:r>
            <a:r>
              <a:rPr b="1" lang="th-TH" sz="5400" spc="-1" strike="noStrike">
                <a:solidFill>
                  <a:srgbClr val="ccccff"/>
                </a:solidFill>
                <a:latin typeface="FreesiaUPC"/>
              </a:rPr>
              <a:t>	</a:t>
            </a:r>
            <a:r>
              <a:rPr b="1" lang="th-TH" sz="5400" spc="-1" strike="noStrike">
                <a:solidFill>
                  <a:srgbClr val="ccccff"/>
                </a:solidFill>
                <a:latin typeface="FreesiaUPC"/>
              </a:rPr>
              <a:t>องค์การการค้าโล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FreesiaUPC"/>
              </a:rPr>
              <a:t>	</a:t>
            </a:r>
            <a:r>
              <a:rPr b="1" lang="en-US" sz="7200" spc="-1" strike="noStrike">
                <a:solidFill>
                  <a:srgbClr val="ffff00"/>
                </a:solidFill>
                <a:latin typeface="FreesiaUPC"/>
              </a:rPr>
              <a:t>	</a:t>
            </a:r>
            <a:r>
              <a:rPr b="1" lang="en-US" sz="7200" spc="-1" strike="noStrike">
                <a:solidFill>
                  <a:srgbClr val="ffff00"/>
                </a:solidFill>
                <a:latin typeface="FreesiaUPC"/>
              </a:rPr>
              <a:t>  </a:t>
            </a:r>
            <a:r>
              <a:rPr b="1" lang="en-US" sz="7200" spc="-1" strike="noStrike">
                <a:solidFill>
                  <a:srgbClr val="ffff00"/>
                </a:solidFill>
                <a:latin typeface="FreesiaUPC"/>
              </a:rPr>
              <a:t>W</a:t>
            </a:r>
            <a:r>
              <a:rPr b="1" lang="en-US" sz="5400" spc="-1" strike="noStrike">
                <a:solidFill>
                  <a:srgbClr val="ccccff"/>
                </a:solidFill>
                <a:latin typeface="FreesiaUPC"/>
              </a:rPr>
              <a:t>ORLD </a:t>
            </a:r>
            <a:r>
              <a:rPr b="1" lang="en-US" sz="7200" spc="-1" strike="noStrike">
                <a:solidFill>
                  <a:srgbClr val="ffff00"/>
                </a:solidFill>
                <a:latin typeface="FreesiaUPC"/>
              </a:rPr>
              <a:t>T</a:t>
            </a:r>
            <a:r>
              <a:rPr b="1" lang="en-US" sz="5400" spc="-1" strike="noStrike">
                <a:solidFill>
                  <a:srgbClr val="ccccff"/>
                </a:solidFill>
                <a:latin typeface="FreesiaUPC"/>
              </a:rPr>
              <a:t>RADE </a:t>
            </a:r>
            <a:r>
              <a:rPr b="1" lang="en-US" sz="7200" spc="-1" strike="noStrike">
                <a:solidFill>
                  <a:srgbClr val="ffff00"/>
                </a:solidFill>
                <a:latin typeface="FreesiaUPC"/>
              </a:rPr>
              <a:t>O</a:t>
            </a:r>
            <a:r>
              <a:rPr b="1" lang="en-US" sz="5400" spc="-1" strike="noStrike">
                <a:solidFill>
                  <a:srgbClr val="ccccff"/>
                </a:solidFill>
                <a:latin typeface="FreesiaUPC"/>
              </a:rPr>
              <a:t>RGANIZ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4800" spc="-1" strike="noStrike">
                <a:solidFill>
                  <a:srgbClr val="ff6600"/>
                </a:solidFill>
                <a:latin typeface="FreesiaUPC"/>
              </a:rPr>
              <a:t>องค์การระหว่างประเทศเพื่อดูแลการค้าทั่ว</a:t>
            </a:r>
            <a:r>
              <a:rPr b="1" lang="th-TH" sz="5400" spc="-1" strike="noStrike">
                <a:solidFill>
                  <a:srgbClr val="ff6600"/>
                </a:solidFill>
                <a:latin typeface="FreesiaUPC"/>
              </a:rPr>
              <a:t>โล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4400" spc="-1" strike="noStrike">
                <a:solidFill>
                  <a:srgbClr val="ff6600"/>
                </a:solidFill>
                <a:latin typeface="FreesiaUPC"/>
              </a:rPr>
              <a:t>กำเนิด  </a:t>
            </a:r>
            <a:r>
              <a:rPr b="1" lang="th-TH" sz="4400" spc="-1" strike="noStrike">
                <a:solidFill>
                  <a:srgbClr val="ff6600"/>
                </a:solidFill>
                <a:latin typeface="FreesiaUPC"/>
              </a:rPr>
              <a:t>1 </a:t>
            </a:r>
            <a:r>
              <a:rPr b="1" lang="th-TH" sz="4400" spc="-1" strike="noStrike">
                <a:solidFill>
                  <a:srgbClr val="ff6600"/>
                </a:solidFill>
                <a:latin typeface="FreesiaUPC"/>
              </a:rPr>
              <a:t>มกราคม </a:t>
            </a:r>
            <a:r>
              <a:rPr b="1" lang="th-TH" sz="4400" spc="-1" strike="noStrike">
                <a:solidFill>
                  <a:srgbClr val="ff6600"/>
                </a:solidFill>
                <a:latin typeface="FreesiaUPC"/>
              </a:rPr>
              <a:t>25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FreesiaUPC"/>
              </a:rPr>
              <a:t>เป็นการรวมกลุ่มทางการค้าที่ใหญ่ที่สุ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4000" spc="-1" strike="noStrike">
                <a:solidFill>
                  <a:srgbClr val="00ff00"/>
                </a:solidFill>
                <a:latin typeface="FreesiaUPC"/>
              </a:rPr>
              <a:t>ปัจจุบันมีสมาชิก </a:t>
            </a:r>
            <a:r>
              <a:rPr b="1" lang="th-TH" sz="4000" spc="-1" strike="noStrike">
                <a:solidFill>
                  <a:srgbClr val="00ff00"/>
                </a:solidFill>
                <a:latin typeface="FreesiaUPC"/>
              </a:rPr>
              <a:t>14</a:t>
            </a:r>
            <a:r>
              <a:rPr b="1" lang="en-US" sz="4000" spc="-1" strike="noStrike">
                <a:solidFill>
                  <a:srgbClr val="00ff00"/>
                </a:solidFill>
                <a:latin typeface="FreesiaUPC"/>
              </a:rPr>
              <a:t>8</a:t>
            </a:r>
            <a:r>
              <a:rPr b="1" lang="th-TH" sz="4400" spc="-1" strike="noStrike">
                <a:solidFill>
                  <a:srgbClr val="00ff00"/>
                </a:solidFill>
                <a:latin typeface="FreesiaUPC"/>
              </a:rPr>
              <a:t> </a:t>
            </a:r>
            <a:r>
              <a:rPr b="1" lang="th-TH" sz="4400" spc="-1" strike="noStrike">
                <a:solidFill>
                  <a:srgbClr val="00ff00"/>
                </a:solidFill>
                <a:latin typeface="FreesiaUPC"/>
              </a:rPr>
              <a:t>ประเท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4000" spc="-1" strike="noStrike">
                <a:solidFill>
                  <a:srgbClr val="66ffff"/>
                </a:solidFill>
                <a:latin typeface="FreesiaUPC"/>
              </a:rPr>
              <a:t>ไทยเป็นสมาชิกอันดับที่ </a:t>
            </a:r>
            <a:r>
              <a:rPr b="1" lang="th-TH" sz="4000" spc="-1" strike="noStrike">
                <a:solidFill>
                  <a:srgbClr val="66ffff"/>
                </a:solidFill>
                <a:latin typeface="FreesiaUPC"/>
              </a:rPr>
              <a:t>5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อีก </a:t>
            </a:r>
            <a:r>
              <a:rPr b="1" lang="en-US" sz="4400" spc="-1" strike="noStrike">
                <a:solidFill>
                  <a:srgbClr val="000000"/>
                </a:solidFill>
                <a:latin typeface="AngsanaUPC"/>
              </a:rPr>
              <a:t>24 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ประเทศ 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(… 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ซาอุดิอาระเบีย  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  <a:cs typeface="AngsanaUPC"/>
              </a:rPr>
              <a:t>รัสเซีย 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ลาว  …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0"/>
          <a:ext cx="1828800" cy="18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82880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 New"/>
              </a:rPr>
              <a:t>การลดภาษีของไทยกับ </a:t>
            </a:r>
            <a:r>
              <a:rPr b="1" lang="en-US" sz="6000" spc="-1" strike="noStrike">
                <a:solidFill>
                  <a:srgbClr val="ffffff"/>
                </a:solidFill>
                <a:latin typeface="Angsana New"/>
              </a:rPr>
              <a:t>FT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143000"/>
            <a:ext cx="9144000" cy="838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719360"/>
                <a:tab algn="l" pos="4194000"/>
                <a:tab algn="l" pos="6853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กลุ่ม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U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Unilateral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ลดฝ่ายเดียว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0%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ได้ทันท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981080"/>
            <a:ext cx="91440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719360"/>
                <a:tab algn="l" pos="4194000"/>
                <a:tab algn="l" pos="6853320"/>
                <a:tab algn="l" pos="771192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กลุ่ม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Reciprocal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ต่างตอบแทน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0%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254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819520"/>
            <a:ext cx="9144000" cy="1523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719360"/>
                <a:tab algn="l" pos="4194000"/>
                <a:tab algn="l" pos="6667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กลุ่ม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N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Normal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มีแผน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ลดภาษี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0% 2550 - 5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5181480"/>
            <a:ext cx="9144000" cy="838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719360"/>
                <a:tab algn="l" pos="4194000"/>
                <a:tab algn="l" pos="6481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กลุ่ม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O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Others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ระบุรายละเอียดและมีเหตุผ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4343400"/>
            <a:ext cx="9144000" cy="85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719360"/>
                <a:tab algn="l" pos="4194000"/>
                <a:tab algn="l" pos="6481800"/>
                <a:tab algn="l" pos="771192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กลุ่ม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Sentitive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ยังขอภาษีคุ้มครอง 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2553-5 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IN, AUS, JPN, PERU, </a:t>
            </a:r>
            <a:r>
              <a:rPr b="1" lang="en-US" sz="5400" spc="-1" strike="noStrike">
                <a:solidFill>
                  <a:srgbClr val="ffff00"/>
                </a:solidFill>
                <a:latin typeface="Angsana New"/>
              </a:rPr>
              <a:t>USA</a:t>
            </a: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, CHN, BAHRA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A (RTA) Tariff Update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 IN CH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S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PN PERU MEX CHILE N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9051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ASEA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-5% Tariff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% Tar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74320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. Bahrai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626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% Tariff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4197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China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CH. 07 – 08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0% Tariff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A (RTA)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4</a:t>
            </a:r>
            <a:r>
              <a:rPr b="1" lang="th-TH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th-TH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th-TH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581280"/>
            <a:ext cx="914400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AUS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98% Tariff lines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% Tariff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0% Tar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2578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JPN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Negotiation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India(Interim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82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0% Tariff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--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th-TH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05120" y="2209680"/>
            <a:ext cx="70866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เป็นความตกลงระหว่างประเทศคู่สัญญาที่เอื้อผลประโยชน์ระหว่างกันให้ดีกว่า หรือมากกว่าเงื่อนไขความตกลงของ </a:t>
            </a:r>
            <a:r>
              <a:rPr b="1" lang="en-US" sz="4400" spc="-1" strike="noStrike">
                <a:solidFill>
                  <a:srgbClr val="000000"/>
                </a:solidFill>
                <a:latin typeface="AngsanaUPC"/>
              </a:rPr>
              <a:t>WTO 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ไม่ว่าประเทศเหล่านั้นจะเป็นสมาชิก </a:t>
            </a:r>
            <a:r>
              <a:rPr b="1" lang="en-US" sz="4400" spc="-1" strike="noStrike">
                <a:solidFill>
                  <a:srgbClr val="000000"/>
                </a:solidFill>
                <a:latin typeface="AngsanaUPC"/>
              </a:rPr>
              <a:t>WTO 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หรือไม่ก็ตา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12952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WTO</a:t>
            </a:r>
            <a:r>
              <a:rPr b="1" lang="th-TH" sz="3600" spc="-1" strike="noStrike">
                <a:solidFill>
                  <a:srgbClr val="ffff00"/>
                </a:solidFill>
                <a:latin typeface="Tahoma"/>
              </a:rPr>
              <a:t> “</a:t>
            </a:r>
            <a:r>
              <a:rPr b="1" lang="th-TH" sz="3600" spc="-1" strike="noStrike">
                <a:solidFill>
                  <a:srgbClr val="ffff00"/>
                </a:solidFill>
                <a:latin typeface="Tahoma"/>
              </a:rPr>
              <a:t>การรวมกลุ่มทางการค้า คือ 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RTA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04920" y="2209680"/>
          <a:ext cx="1600200" cy="15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160020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457200" y="1401840"/>
            <a:ext cx="81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RTAs 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= Regional Trade Agre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788080"/>
            <a:ext cx="91440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Comic Sans MS"/>
              </a:rPr>
              <a:t>Bilateral Free Trade Agreemen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ngsana New"/>
              </a:rPr>
              <a:t>: BF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ป้าหมายของการเปิดการค้าเสร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ใช้เงื่อนไขความพร้อมและมีกำหนดระยะเวลาให้เตรียมการก่อนเปิดเสร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รอบคลุมประเด็นที่เกี่ยวข้องกับการค้าทุกชนิด แบ่งออกได้เป็น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UPC"/>
              </a:rPr>
              <a:t>2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ลุ่ม คือ การค้าสินค้า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UPC"/>
              </a:rPr>
              <a:t>(Trade in Goods)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และ บริการ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UPC"/>
              </a:rPr>
              <a:t>(Trade in Services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UPC"/>
              </a:rPr>
              <a:t>~2553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ไทยจะเปิดการค้าเสรีเต็มรูปแบ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762120"/>
            <a:ext cx="84582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3333cc"/>
                </a:solidFill>
                <a:latin typeface="IrisUPC"/>
                <a:cs typeface="Angsana New"/>
              </a:rPr>
              <a:t>ประเด็นเจรจาการค้าเสร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63640" cy="515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58920" y="2014560"/>
            <a:ext cx="180000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Fi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64400" y="4929120"/>
            <a:ext cx="21589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Textiles and Appar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4929120"/>
            <a:ext cx="1981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UPC"/>
                <a:ea typeface="IrisUPC"/>
              </a:rPr>
              <a:t>e</a:t>
            </a: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-Co</a:t>
            </a:r>
            <a:r>
              <a:rPr b="1" lang="en-US" sz="4000" spc="-1" strike="noStrike">
                <a:solidFill>
                  <a:srgbClr val="000000"/>
                </a:solidFill>
                <a:latin typeface="AngsanaUPC"/>
                <a:ea typeface="IrisUPC"/>
              </a:rPr>
              <a:t>m</a:t>
            </a: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me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64400" y="3957480"/>
            <a:ext cx="21589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Custom Ad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&amp;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7840" y="2014560"/>
            <a:ext cx="180000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Competition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7840" y="1079640"/>
            <a:ext cx="180000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  <a:ea typeface="IrisUPC"/>
              </a:rPr>
              <a:t>Trade Reme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  <a:ea typeface="IrisUPC"/>
              </a:rPr>
              <a:t>(SG, AD &amp; C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7840" y="2986200"/>
            <a:ext cx="180000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Government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Proc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7840" y="3957480"/>
            <a:ext cx="180000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Cross Border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Serv</a:t>
            </a:r>
            <a:r>
              <a:rPr b="1" lang="en-US" sz="2800" spc="-1" strike="noStrike">
                <a:solidFill>
                  <a:srgbClr val="000000"/>
                </a:solidFill>
                <a:latin typeface="AngsanaUPC"/>
                <a:ea typeface="IrisUPC"/>
              </a:rPr>
              <a:t>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78200" y="298620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UPC"/>
                <a:ea typeface="IrisUPC"/>
              </a:rPr>
              <a:t>TB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1079640"/>
            <a:ext cx="1800000" cy="718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IP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64400" y="1079640"/>
            <a:ext cx="21589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UPC"/>
                <a:ea typeface="IrisUPC"/>
              </a:rPr>
              <a:t>Temporary Entry (Mobility)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ngsanaUPC"/>
                <a:ea typeface="IrisUPC"/>
              </a:rPr>
              <a:t> of Business Per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64400" y="2014560"/>
            <a:ext cx="21589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Science &amp; Tech./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R &amp;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64400" y="2986200"/>
            <a:ext cx="21589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Dispute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Sett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5943600"/>
            <a:ext cx="43178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General (Preamble, Definitions,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 Exception, Final Provis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5867280"/>
            <a:ext cx="1800000" cy="719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UPC"/>
                <a:ea typeface="IrisUPC"/>
              </a:rPr>
              <a:t>RO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78200" y="107964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UPC"/>
                <a:ea typeface="IrisUPC"/>
              </a:rPr>
              <a:t>Trade in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78200" y="2014560"/>
            <a:ext cx="1800360" cy="719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UPC"/>
                <a:ea typeface="IrisUPC"/>
              </a:rPr>
              <a:t>Trade i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78200" y="4929120"/>
            <a:ext cx="180036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Teleco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4929120"/>
            <a:ext cx="180000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Lab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2986200"/>
            <a:ext cx="180000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Inves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7840" y="5865840"/>
            <a:ext cx="180000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S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3957480"/>
            <a:ext cx="180000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Envir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78200" y="3957480"/>
            <a:ext cx="1800360" cy="7192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S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863640" cy="515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500"/>
                            </p:stCondLst>
                            <p:childTnLst>
                              <p:par>
                                <p:cTn id="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50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500"/>
                            </p:stCondLst>
                            <p:childTnLst>
                              <p:par>
                                <p:cTn id="1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9500"/>
                            </p:stCondLst>
                            <p:childTnLst>
                              <p:par>
                                <p:cTn id="12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152280"/>
            <a:ext cx="7772400" cy="10670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th-TH" sz="6000" spc="-1" strike="noStrike">
                <a:solidFill>
                  <a:srgbClr val="000000"/>
                </a:solidFill>
                <a:latin typeface="AngsanaUPC"/>
              </a:rPr>
              <a:t>การค้า</a:t>
            </a:r>
            <a:r>
              <a:rPr b="1" lang="th-TH" sz="6000" spc="-1" strike="noStrike">
                <a:solidFill>
                  <a:srgbClr val="000000"/>
                </a:solidFill>
                <a:latin typeface="AngsanaUPC"/>
                <a:cs typeface="AngsanaUPC"/>
              </a:rPr>
              <a:t>สินค้า </a:t>
            </a:r>
            <a:r>
              <a:rPr b="1" lang="en-US" sz="6000" spc="-1" strike="noStrike">
                <a:solidFill>
                  <a:srgbClr val="000000"/>
                </a:solidFill>
                <a:latin typeface="AngsanaUPC"/>
                <a:ea typeface="AngsanaUPC"/>
              </a:rPr>
              <a:t>(Trade in Good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219320"/>
            <a:ext cx="80773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333399"/>
                </a:solidFill>
                <a:latin typeface="AngsanaUPC"/>
              </a:rPr>
              <a:t>เปิดเสรี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ด้วยการลดอากรขาเข้า</a:t>
            </a:r>
            <a:r>
              <a:rPr b="1" lang="en-US" sz="4800" spc="-1" strike="noStrike">
                <a:solidFill>
                  <a:srgbClr val="333399"/>
                </a:solidFill>
                <a:latin typeface="AngsanaUPC"/>
                <a:ea typeface="AngsanaUPC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AngsanaUPC"/>
                <a:ea typeface="AngsanaUPC"/>
              </a:rPr>
              <a:t>(Tariff) 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ระหว่างกัน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</a:rPr>
              <a:t> 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จนในที่สุดมีอัตราร้อยละ </a:t>
            </a:r>
            <a:r>
              <a:rPr b="1" lang="en-US" sz="4800" spc="-1" strike="noStrike">
                <a:solidFill>
                  <a:srgbClr val="333399"/>
                </a:solidFill>
                <a:latin typeface="AngsanaUPC"/>
                <a:ea typeface="AngsanaUPC"/>
              </a:rPr>
              <a:t>0 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ทุกรายกา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ลดและยกเลิกการอุดหนุน </a:t>
            </a:r>
            <a:r>
              <a:rPr b="1" lang="en-US" sz="4800" spc="-1" strike="noStrike">
                <a:solidFill>
                  <a:srgbClr val="333399"/>
                </a:solidFill>
                <a:latin typeface="AngsanaUPC"/>
                <a:ea typeface="AngsanaUPC"/>
              </a:rPr>
              <a:t>(Subsidy) 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ของรัฐ เพื่อไม่ให้มีการบิดเบือนราคาสินค้าส่งออกที่ต่ำกว่าความเป็นจริ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ลดและยกเลิกการกีดกันทางการค้า 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ea typeface="AngsanaUPC"/>
              </a:rPr>
              <a:t>(</a:t>
            </a:r>
            <a:r>
              <a:rPr b="1" lang="en-US" sz="4800" spc="-1" strike="noStrike">
                <a:solidFill>
                  <a:srgbClr val="333399"/>
                </a:solidFill>
                <a:latin typeface="AngsanaUPC"/>
                <a:ea typeface="AngsanaUPC"/>
              </a:rPr>
              <a:t>Non-Tariff Barrier: NTB) 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ที่ไม่เป็นธรร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1295280"/>
          <a:ext cx="44136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44136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12840" y="3048120"/>
          <a:ext cx="44136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840" y="3048120"/>
                    <a:ext cx="4413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5359320"/>
          <a:ext cx="44136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5359320"/>
                    <a:ext cx="4413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152280"/>
            <a:ext cx="777240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th-TH" sz="6000" spc="-1" strike="noStrike">
                <a:solidFill>
                  <a:srgbClr val="000000"/>
                </a:solidFill>
                <a:latin typeface="AngsanaUPC"/>
              </a:rPr>
              <a:t>การค้าบริการ</a:t>
            </a:r>
            <a:r>
              <a:rPr b="1" lang="en-US" sz="60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ngsanaUPC"/>
              </a:rPr>
              <a:t>(Trade in Service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219320"/>
            <a:ext cx="80773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เปิดเสรี 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10 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สาขา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:  </a:t>
            </a:r>
            <a:r>
              <a:rPr b="1" lang="th-TH" sz="4400" spc="-1" strike="noStrike">
                <a:solidFill>
                  <a:srgbClr val="008000"/>
                </a:solidFill>
                <a:latin typeface="AngsanaUPC"/>
              </a:rPr>
              <a:t>บริการธุรกิ</a:t>
            </a:r>
            <a:r>
              <a:rPr b="1" lang="th-TH" sz="4400" spc="-1" strike="noStrike">
                <a:solidFill>
                  <a:srgbClr val="339933"/>
                </a:solidFill>
                <a:latin typeface="AngsanaUPC"/>
              </a:rPr>
              <a:t>จ</a:t>
            </a:r>
            <a:r>
              <a:rPr b="1" lang="th-TH" sz="4400" spc="-1" strike="noStrike">
                <a:solidFill>
                  <a:srgbClr val="ffcc00"/>
                </a:solidFill>
                <a:latin typeface="AngsanaUPC"/>
              </a:rPr>
              <a:t> </a:t>
            </a:r>
            <a:r>
              <a:rPr b="1" lang="th-TH" sz="4400" spc="-1" strike="noStrike">
                <a:solidFill>
                  <a:srgbClr val="ff0000"/>
                </a:solidFill>
                <a:latin typeface="AngsanaUPC"/>
              </a:rPr>
              <a:t>การสื่อสารคมนาคม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การก่อสร้างและวิศวกรรม </a:t>
            </a:r>
            <a:r>
              <a:rPr b="1" lang="th-TH" sz="4400" spc="-1" strike="noStrike">
                <a:solidFill>
                  <a:srgbClr val="008000"/>
                </a:solidFill>
                <a:latin typeface="AngsanaUPC"/>
              </a:rPr>
              <a:t>สิ่งแวดล้อม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 การศึกษา  การเงิน การจัดจำหน่าย นันทนาการ วัฒนธรรมและการกีฬา  การท่องเที่ยว และ</a:t>
            </a:r>
            <a:r>
              <a:rPr b="1" lang="th-TH" sz="4400" spc="-1" strike="noStrike">
                <a:solidFill>
                  <a:srgbClr val="ff0000"/>
                </a:solidFill>
                <a:latin typeface="AngsanaUPC"/>
              </a:rPr>
              <a:t>การขนส่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333399"/>
                </a:solidFill>
                <a:latin typeface="AngsanaUPC"/>
                <a:cs typeface="AngsanaUPC"/>
              </a:rPr>
              <a:t>ไทยได้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เปิดตั้งแต่ 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1 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ม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.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ค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.  38   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การเงิน 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(1 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มี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.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ค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. 42)   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และโทรคมนาคมขั้นพื้นฐาน  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(254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ผูกพันเท่าที่กฎหมาย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  <a:cs typeface="AngsanaUPC"/>
              </a:rPr>
              <a:t>ไทยใน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ปัจจุบันให้อำนาจไว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1295280"/>
          <a:ext cx="44136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44136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04920" y="4191120"/>
          <a:ext cx="44136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191120"/>
                    <a:ext cx="4413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12840" y="5842080"/>
          <a:ext cx="44136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840" y="5842080"/>
                    <a:ext cx="4413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152280"/>
            <a:ext cx="8153280" cy="137160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th-TH" sz="6000" spc="-1" strike="noStrike">
                <a:solidFill>
                  <a:srgbClr val="000000"/>
                </a:solidFill>
                <a:latin typeface="AngsanaUPC"/>
                <a:cs typeface="AngsanaUPC"/>
              </a:rPr>
              <a:t>สาขาที่เจรจาเปิดการ</a:t>
            </a:r>
            <a:r>
              <a:rPr b="1" lang="th-TH" sz="6000" spc="-1" strike="noStrike">
                <a:solidFill>
                  <a:srgbClr val="000000"/>
                </a:solidFill>
                <a:latin typeface="AngsanaUPC"/>
              </a:rPr>
              <a:t>ค้า</a:t>
            </a:r>
            <a:r>
              <a:rPr b="1" lang="th-TH" sz="6000" spc="-1" strike="noStrike">
                <a:solidFill>
                  <a:srgbClr val="000000"/>
                </a:solidFill>
                <a:latin typeface="AngsanaUPC"/>
                <a:cs typeface="AngsanaUPC"/>
              </a:rPr>
              <a:t>เสรี </a:t>
            </a:r>
            <a:r>
              <a:rPr b="1" lang="en-US" sz="6000" spc="-1" strike="noStrike">
                <a:solidFill>
                  <a:srgbClr val="000000"/>
                </a:solidFill>
                <a:latin typeface="AngsanaUPC"/>
                <a:ea typeface="AngsanaUPC"/>
              </a:rPr>
              <a:t>F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854360"/>
            <a:ext cx="7315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8000"/>
                </a:solidFill>
                <a:latin typeface="MS Outlook"/>
                <a:ea typeface="MS Outlook"/>
              </a:rPr>
              <a:t></a:t>
            </a:r>
            <a:r>
              <a:rPr b="1" lang="th-TH" sz="5400" spc="-1" strike="noStrike">
                <a:solidFill>
                  <a:srgbClr val="008000"/>
                </a:solidFill>
                <a:latin typeface="AngsanaUPC"/>
                <a:ea typeface="AngsanaUPC"/>
              </a:rPr>
              <a:t>   </a:t>
            </a:r>
            <a:r>
              <a:rPr b="1" lang="th-TH" sz="5400" spc="-1" strike="noStrike">
                <a:solidFill>
                  <a:srgbClr val="008000"/>
                </a:solidFill>
                <a:latin typeface="AngsanaUPC"/>
              </a:rPr>
              <a:t>สาขา</a:t>
            </a:r>
            <a:r>
              <a:rPr b="1" lang="th-TH" sz="5400" spc="-1" strike="noStrike">
                <a:solidFill>
                  <a:srgbClr val="008000"/>
                </a:solidFill>
                <a:latin typeface="AngsanaUPC"/>
                <a:cs typeface="AngsanaUPC"/>
              </a:rPr>
              <a:t>เกษต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3048120"/>
            <a:ext cx="7315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660033"/>
                </a:solidFill>
                <a:latin typeface="MS Outlook"/>
                <a:ea typeface="MS Outlook"/>
              </a:rPr>
              <a:t></a:t>
            </a:r>
            <a:r>
              <a:rPr b="1" lang="th-TH" sz="5400" spc="-1" strike="noStrike">
                <a:solidFill>
                  <a:srgbClr val="660033"/>
                </a:solidFill>
                <a:latin typeface="AngsanaUPC"/>
                <a:ea typeface="AngsanaUPC"/>
              </a:rPr>
              <a:t>   </a:t>
            </a:r>
            <a:r>
              <a:rPr b="1" lang="th-TH" sz="5400" spc="-1" strike="noStrike">
                <a:solidFill>
                  <a:srgbClr val="660033"/>
                </a:solidFill>
                <a:latin typeface="AngsanaUPC"/>
              </a:rPr>
              <a:t>สาขา</a:t>
            </a:r>
            <a:r>
              <a:rPr b="1" lang="th-TH" sz="5400" spc="-1" strike="noStrike">
                <a:solidFill>
                  <a:srgbClr val="660033"/>
                </a:solidFill>
                <a:latin typeface="AngsanaUPC"/>
                <a:cs typeface="AngsanaUPC"/>
              </a:rPr>
              <a:t>อุตสาหกรร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4343400"/>
            <a:ext cx="83059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333399"/>
                </a:solidFill>
                <a:latin typeface="MS Outlook"/>
                <a:ea typeface="MS Outlook"/>
              </a:rPr>
              <a:t></a:t>
            </a:r>
            <a:r>
              <a:rPr b="1" lang="th-TH" sz="5400" spc="-1" strike="noStrike">
                <a:solidFill>
                  <a:srgbClr val="333399"/>
                </a:solidFill>
                <a:latin typeface="AngsanaUPC"/>
                <a:ea typeface="AngsanaUPC"/>
              </a:rPr>
              <a:t>   </a:t>
            </a:r>
            <a:r>
              <a:rPr b="1" lang="th-TH" sz="5400" spc="-1" strike="noStrike">
                <a:solidFill>
                  <a:srgbClr val="333399"/>
                </a:solidFill>
                <a:latin typeface="AngsanaUPC"/>
              </a:rPr>
              <a:t>สาขา</a:t>
            </a:r>
            <a:r>
              <a:rPr b="1" lang="th-TH" sz="5400" spc="-1" strike="noStrike">
                <a:solidFill>
                  <a:srgbClr val="333399"/>
                </a:solidFill>
                <a:latin typeface="AngsanaUPC"/>
                <a:cs typeface="AngsanaUPC"/>
              </a:rPr>
              <a:t>บริการ </a:t>
            </a:r>
            <a:r>
              <a:rPr b="1" lang="th-TH" sz="5400" spc="-1" strike="noStrike">
                <a:solidFill>
                  <a:srgbClr val="333399"/>
                </a:solidFill>
                <a:latin typeface="AngsanaUPC"/>
                <a:ea typeface="AngsanaUPC"/>
              </a:rPr>
              <a:t>(</a:t>
            </a:r>
            <a:r>
              <a:rPr b="1" lang="th-TH" sz="5400" spc="-1" strike="noStrike">
                <a:solidFill>
                  <a:srgbClr val="333399"/>
                </a:solidFill>
                <a:latin typeface="AngsanaUPC"/>
                <a:cs typeface="AngsanaUPC"/>
              </a:rPr>
              <a:t>การลงทุน ขนส่ง ฯลฯ</a:t>
            </a:r>
            <a:r>
              <a:rPr b="1" lang="th-TH" sz="5400" spc="-1" strike="noStrike">
                <a:solidFill>
                  <a:srgbClr val="333399"/>
                </a:solidFill>
                <a:latin typeface="AngsanaUPC"/>
                <a:ea typeface="AngsanaUPC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562720"/>
            <a:ext cx="7315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660066"/>
                </a:solidFill>
                <a:latin typeface="MS Outlook"/>
                <a:ea typeface="MS Outlook"/>
              </a:rPr>
              <a:t></a:t>
            </a:r>
            <a:r>
              <a:rPr b="1" lang="th-TH" sz="5400" spc="-1" strike="noStrike">
                <a:solidFill>
                  <a:srgbClr val="660066"/>
                </a:solidFill>
                <a:latin typeface="AngsanaUPC"/>
                <a:ea typeface="AngsanaUPC"/>
              </a:rPr>
              <a:t>   </a:t>
            </a:r>
            <a:r>
              <a:rPr b="1" lang="th-TH" sz="5400" spc="-1" strike="noStrike">
                <a:solidFill>
                  <a:srgbClr val="660066"/>
                </a:solidFill>
                <a:latin typeface="AngsanaUPC"/>
              </a:rPr>
              <a:t>สาขา</a:t>
            </a:r>
            <a:r>
              <a:rPr b="1" lang="th-TH" sz="5400" spc="-1" strike="noStrike">
                <a:solidFill>
                  <a:srgbClr val="660066"/>
                </a:solidFill>
                <a:latin typeface="AngsanaUPC"/>
                <a:cs typeface="AngsanaUPC"/>
              </a:rPr>
              <a:t>ทรัพยสินทางปัญญ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8000"/>
                </a:solidFill>
                <a:latin typeface="AngsanaUPC"/>
                <a:ea typeface="AngsanaUPC"/>
              </a:rPr>
              <a:t>  </a:t>
            </a:r>
            <a:r>
              <a:rPr b="1" lang="th-TH" sz="6000" spc="-1" strike="noStrike">
                <a:solidFill>
                  <a:srgbClr val="008000"/>
                </a:solidFill>
                <a:latin typeface="MS Outlook"/>
                <a:ea typeface="MS Outlook"/>
              </a:rPr>
              <a:t></a:t>
            </a:r>
            <a:r>
              <a:rPr b="1" lang="th-TH" sz="6000" spc="-1" strike="noStrike">
                <a:solidFill>
                  <a:srgbClr val="008000"/>
                </a:solidFill>
                <a:latin typeface="AngsanaUPC"/>
                <a:ea typeface="AngsanaUPC"/>
              </a:rPr>
              <a:t>   </a:t>
            </a:r>
            <a:r>
              <a:rPr b="1" lang="th-TH" sz="6000" spc="-1" strike="noStrike">
                <a:solidFill>
                  <a:srgbClr val="008000"/>
                </a:solidFill>
                <a:latin typeface="AngsanaUPC"/>
                <a:cs typeface="AngsanaUPC"/>
              </a:rPr>
              <a:t>การเปิด </a:t>
            </a:r>
            <a:r>
              <a:rPr b="1" lang="en-US" sz="6000" spc="-1" strike="noStrike">
                <a:solidFill>
                  <a:srgbClr val="008000"/>
                </a:solidFill>
                <a:latin typeface="AngsanaUPC"/>
                <a:ea typeface="AngsanaUPC"/>
              </a:rPr>
              <a:t>FTA </a:t>
            </a:r>
            <a:r>
              <a:rPr b="1" lang="th-TH" sz="6000" spc="-1" strike="noStrike">
                <a:solidFill>
                  <a:srgbClr val="008000"/>
                </a:solidFill>
                <a:latin typeface="AngsanaUPC"/>
              </a:rPr>
              <a:t>สาขา</a:t>
            </a:r>
            <a:r>
              <a:rPr b="1" lang="th-TH" sz="6000" spc="-1" strike="noStrike">
                <a:solidFill>
                  <a:srgbClr val="008000"/>
                </a:solidFill>
                <a:latin typeface="AngsanaUPC"/>
                <a:cs typeface="AngsanaUPC"/>
              </a:rPr>
              <a:t>เกษตรของไท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00400"/>
            <a:ext cx="914400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660033"/>
                </a:solidFill>
                <a:latin typeface="AngsanaUPC"/>
                <a:ea typeface="AngsanaUPC"/>
              </a:rPr>
              <a:t> </a:t>
            </a:r>
            <a:r>
              <a:rPr b="1" lang="th-TH" sz="5400" spc="-1" strike="noStrike">
                <a:solidFill>
                  <a:srgbClr val="660033"/>
                </a:solidFill>
                <a:latin typeface="Wingdings"/>
                <a:ea typeface="Wingdings"/>
              </a:rPr>
              <a:t></a:t>
            </a:r>
            <a:r>
              <a:rPr b="1" lang="th-TH" sz="4800" spc="-1" strike="noStrike">
                <a:solidFill>
                  <a:srgbClr val="660033"/>
                </a:solidFill>
                <a:latin typeface="AngsanaUPC"/>
                <a:ea typeface="AngsanaUPC"/>
              </a:rPr>
              <a:t>   </a:t>
            </a:r>
            <a:r>
              <a:rPr b="1" lang="th-TH" sz="4800" spc="-1" strike="noStrike">
                <a:solidFill>
                  <a:srgbClr val="660033"/>
                </a:solidFill>
                <a:latin typeface="AngsanaUPC"/>
                <a:cs typeface="AngsanaUPC"/>
              </a:rPr>
              <a:t>กำหนดมาตรฐานคุณภาพนำเข้า</a:t>
            </a:r>
            <a:r>
              <a:rPr b="1" lang="en-US" sz="4800" spc="-1" strike="noStrike">
                <a:solidFill>
                  <a:srgbClr val="660033"/>
                </a:solidFill>
                <a:latin typeface="AngsanaUPC"/>
                <a:ea typeface="AngsanaUPC"/>
              </a:rPr>
              <a:t>-</a:t>
            </a:r>
            <a:r>
              <a:rPr b="1" lang="th-TH" sz="4800" spc="-1" strike="noStrike">
                <a:solidFill>
                  <a:srgbClr val="660033"/>
                </a:solidFill>
                <a:latin typeface="AngsanaUPC"/>
                <a:cs typeface="AngsanaUPC"/>
              </a:rPr>
              <a:t>ส่งออกสินค้า</a:t>
            </a:r>
            <a:r>
              <a:rPr b="1" lang="th-TH" sz="4800" spc="-1" strike="noStrike">
                <a:solidFill>
                  <a:srgbClr val="660033"/>
                </a:solidFill>
                <a:latin typeface="AngsanaUPC"/>
                <a:ea typeface="AngsanaUPC"/>
              </a:rPr>
              <a:t>	</a:t>
            </a:r>
            <a:r>
              <a:rPr b="1" lang="th-TH" sz="4800" spc="-1" strike="noStrike">
                <a:solidFill>
                  <a:srgbClr val="660033"/>
                </a:solidFill>
                <a:latin typeface="AngsanaUPC"/>
                <a:ea typeface="AngsanaUPC"/>
              </a:rPr>
              <a:t> เกษตร</a:t>
            </a:r>
            <a:r>
              <a:rPr b="1" lang="en-US" sz="4800" spc="-1" strike="noStrike">
                <a:solidFill>
                  <a:srgbClr val="660033"/>
                </a:solidFill>
                <a:latin typeface="AngsanaUPC"/>
                <a:ea typeface="AngsanaUPC"/>
              </a:rPr>
              <a:t>-</a:t>
            </a:r>
            <a:r>
              <a:rPr b="1" lang="th-TH" sz="4800" spc="-1" strike="noStrike">
                <a:solidFill>
                  <a:srgbClr val="660033"/>
                </a:solidFill>
                <a:latin typeface="AngsanaUPC"/>
                <a:cs typeface="AngsanaUPC"/>
              </a:rPr>
              <a:t>อาหาร เช่น </a:t>
            </a:r>
            <a:r>
              <a:rPr b="1" lang="en-US" sz="4800" spc="-1" strike="noStrike">
                <a:solidFill>
                  <a:srgbClr val="660033"/>
                </a:solidFill>
                <a:latin typeface="AngsanaUPC"/>
                <a:ea typeface="AngsanaUPC"/>
              </a:rPr>
              <a:t>SPS [MRA]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724280"/>
            <a:ext cx="9144000" cy="10670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660033"/>
                </a:solidFill>
                <a:latin typeface="AngsanaUPC"/>
                <a:ea typeface="AngsanaUPC"/>
              </a:rPr>
              <a:t> </a:t>
            </a:r>
            <a:r>
              <a:rPr b="1" lang="th-TH" sz="4800" spc="-1" strike="noStrike">
                <a:solidFill>
                  <a:srgbClr val="660033"/>
                </a:solidFill>
                <a:latin typeface="Wingdings"/>
                <a:ea typeface="Wingdings"/>
              </a:rPr>
              <a:t></a:t>
            </a:r>
            <a:r>
              <a:rPr b="1" lang="th-TH" sz="4800" spc="-1" strike="noStrike">
                <a:solidFill>
                  <a:srgbClr val="660033"/>
                </a:solidFill>
                <a:latin typeface="AngsanaUPC"/>
                <a:ea typeface="AngsanaUPC"/>
              </a:rPr>
              <a:t>  </a:t>
            </a:r>
            <a:r>
              <a:rPr b="1" lang="th-TH" sz="4800" spc="-1" strike="noStrike">
                <a:solidFill>
                  <a:srgbClr val="660033"/>
                </a:solidFill>
                <a:latin typeface="AngsanaUPC"/>
                <a:cs typeface="AngsanaUPC"/>
              </a:rPr>
              <a:t>เจรจาลดและยกเลิกการอุดหนุน </a:t>
            </a:r>
            <a:r>
              <a:rPr b="1" lang="en-US" sz="4800" spc="-1" strike="noStrike">
                <a:solidFill>
                  <a:srgbClr val="660033"/>
                </a:solidFill>
                <a:latin typeface="AngsanaUPC"/>
                <a:ea typeface="AngsanaUPC"/>
              </a:rPr>
              <a:t>(Subsidy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828800"/>
            <a:ext cx="91440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MS Outlook"/>
                <a:ea typeface="MS Outlook"/>
              </a:rPr>
              <a:t>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  <a:ea typeface="AngsanaUPC"/>
              </a:rPr>
              <a:t> 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รุกสินค้าที่มีศักยภาพสูง เช่น ข้าว ไก่ กุ้ง ปาล์ม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  <a:ea typeface="AngsanaUPC"/>
              </a:rPr>
              <a:t>	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  <a:ea typeface="AngsanaUPC"/>
              </a:rPr>
              <a:t>  มันสำปะหลัง ผลไม้ไทย ฯล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791320"/>
            <a:ext cx="9144000" cy="916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660033"/>
                </a:solidFill>
                <a:latin typeface="Comic Sans MS"/>
                <a:ea typeface="Angsana New"/>
              </a:rPr>
              <a:t> </a:t>
            </a:r>
            <a:r>
              <a:rPr b="1" lang="th-TH" sz="54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1" lang="th-TH" sz="5400" spc="-1" strike="noStrike">
                <a:solidFill>
                  <a:srgbClr val="ffffff"/>
                </a:solidFill>
                <a:latin typeface="Comic Sans MS"/>
                <a:ea typeface="Angsana New"/>
              </a:rPr>
              <a:t> </a:t>
            </a:r>
            <a:r>
              <a:rPr b="1" lang="th-TH" sz="5400" spc="-1" strike="noStrike">
                <a:solidFill>
                  <a:srgbClr val="ffffff"/>
                </a:solidFill>
                <a:latin typeface="Comic Sans MS"/>
                <a:cs typeface="Angsana New"/>
              </a:rPr>
              <a:t>สินค้าอ่อนไหวให้เปิดช้าที่สุ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07:49:00Z</dcterms:created>
  <dc:creator>Rey</dc:creator>
  <dc:description/>
  <dc:language>en-US</dc:language>
  <cp:lastModifiedBy>sirirat</cp:lastModifiedBy>
  <cp:lastPrinted>2002-09-17T06:51:31Z</cp:lastPrinted>
  <dcterms:modified xsi:type="dcterms:W3CDTF">2005-03-25T09:26:45Z</dcterms:modified>
  <cp:revision>127</cp:revision>
  <dc:subject/>
  <dc:title>No Slide Title</dc:title>
</cp:coreProperties>
</file>