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E6-3942-4EEC-B084-E8356236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9DC-55D1-4939-BE43-A298590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3F9-3F1E-4D3B-A8DD-7B006338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7E8-144E-43A5-86A7-FB11B8A8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235-BA22-4C8A-B357-260ED5C0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6E97-9F09-4214-A825-7AD7D03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B33-98B8-4ABC-BD47-8A1D7BE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3FB4-2337-49A7-B753-E5B55DA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CD8-F4DB-4985-8C91-28388CE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2030-D2A5-4BBB-A0DA-60F869F4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07D6-3D62-4E3C-B236-2ABEB83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90F-C2C2-4401-A697-A0E95FD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627-C084-4749-B264-CC0F503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A06-BCAD-4FD9-9006-AA8B1B1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E25-B992-4DF4-8EAF-39E0E56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FB4-9746-4B27-954D-DBE942C9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E2A-A010-4C24-81FE-8DEC9AD5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A7C-4B4D-4CD2-B860-D79DEED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1D4-F46B-47CA-8F82-B66D91A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1CE-EC28-4E15-8A48-CAC1D6AD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B51-6023-4392-A448-1B0B5F14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BAD-65FF-465B-8FD2-13236523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436-701A-46F0-9439-D1C342A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73E-615B-4740-9000-ADA3C26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E9F-EA30-4400-BEFE-221B699F9D8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EE99-EBE5-4FAF-83C5-534A6113F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B5A8-0BF9-4B77-B98E-77FCDEFD666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264D-1091-412A-ABF5-21EB555DC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2624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เครื่องจักรกล เครื่องใช้ไฟฟ้า รถยนต์และชิ้นส่วนยานยนต์ เรือ เครื่องบิน รถไฟ และอุปกรณ์เครื่องมือต่าง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352680"/>
            <a:ext cx="6400800" cy="10130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ce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S CHAPTERS 84 –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292640"/>
            <a:ext cx="74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ดร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. 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นิลสุวรรณ ลีลารัศม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ประธานคณะกรรมการ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และมาตรการกีดกันทางการค้าที่มิใช่ภาษ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สภาอุตสาหกรรมแห่งประเทศไท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77320" y="3284640"/>
            <a:ext cx="1066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0"/>
            <a:ext cx="7772400" cy="133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0000"/>
                </a:solidFill>
                <a:latin typeface="Angsana New"/>
                <a:cs typeface="Angsana New"/>
              </a:rPr>
              <a:t>เกณฑ์ที่ไม่ให้แหล่งกำเนิ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84280"/>
            <a:ext cx="78469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ถอดสินค้ามาเป็นชิ้นส่วน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Disassembly)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้วนำมาประกอบ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นำชิ้นส่วนมารวมไว้ด้วยกัน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Collection of part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ทดสอบสินค้า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Recertification or retestin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ที่ง่ายเกินไป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(Minimal Operatio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BD8-A005-4361-99B8-AB9E7E13572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65D0B-3904-46AF-B2A7-7FBDFA525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00200" y="76320"/>
            <a:ext cx="6019920" cy="480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038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S Phetchaburi"/>
              </a:rPr>
              <a:t>คำถามครับ</a:t>
            </a:r>
            <a:endParaRPr b="1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S Phetchaburi"/>
              <a:ea typeface="TS Phetchaburi"/>
            </a:endParaRPr>
          </a:p>
        </p:txBody>
      </p:sp>
      <p:sp>
        <p:nvSpPr>
          <p:cNvPr id="135" name=""/>
          <p:cNvSpPr/>
          <p:nvPr/>
        </p:nvSpPr>
        <p:spPr>
          <a:xfrm rot="20212800">
            <a:off x="837720" y="1828440"/>
            <a:ext cx="762120" cy="6858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461600">
            <a:off x="7543440" y="1904760"/>
            <a:ext cx="762120" cy="6858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1066680" cy="101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579-3E55-465F-A139-CF3702557C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2169C-A4E7-4235-831B-0FF78C0B6A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MS PGothic"/>
              </a:rPr>
              <a:t>Goods of Chapters 84 to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8153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4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Heavy machines or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5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Electric or electronics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6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como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7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8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9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90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goods or medical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153-3D0A-4CC3-B175-EAE8A0E1C7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2261A-676F-4D61-A1EA-E5700F10D1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UPC"/>
              </a:rPr>
              <a:t>ลักษณะเด่นของการผลิตสินค้าตอนที่ </a:t>
            </a: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84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CTSH</a:t>
            </a:r>
            <a:r>
              <a:rPr b="1" lang="th-TH" sz="5400" spc="-1" strike="noStrike">
                <a:solidFill>
                  <a:srgbClr val="0000ff"/>
                </a:solidFill>
                <a:latin typeface="Angsana New"/>
                <a:ea typeface="AngsanaUP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828800"/>
            <a:ext cx="784692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มิได้ผลิตมาจากการแปรรูปวัตถุดิบโดยตรง แต่ประกอบ </a:t>
            </a:r>
            <a:r>
              <a:rPr b="1" lang="en-US" sz="4000" spc="-1" strike="noStrike">
                <a:solidFill>
                  <a:srgbClr val="990033"/>
                </a:solidFill>
                <a:latin typeface="Angsana New"/>
                <a:ea typeface="MS PGothic"/>
              </a:rPr>
              <a:t>(Assembly)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ึ้นมาจากชิ้นส่วนเป็นหลัก และมีการเปลี่ยนพิกัดอัตราศุลกากรในระดับ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ใช้ชิ้นส่วนนับพันหมื่นชิ้นมาประกอบเพื่อให้ได้เครื่องจักรหรือสินค้าเพียง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1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ิ้นเท่านั้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้นค้ามีขนาดหลากหลายและหลากชนิ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66F-3B60-4C42-9616-AE32A136AC8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A0547-6ABE-4E46-80FB-8D55C613A93C}" type="datetime1">
              <a:rPr lang="en-US"/>
              <a:t>07/29/26</a:t>
            </a:fld>
          </a:p>
        </p:txBody>
      </p:sp>
    </p:spTree>
  </p:cSld>
  <p:transition spd="slow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4391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ประกอบชิ้นส่วนหลักจากชิ้นส่วนย่อย</a:t>
            </a:r>
            <a:br>
              <a:rPr sz="5400"/>
            </a:br>
            <a:r>
              <a:rPr b="1" lang="en-US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Subassemb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752480"/>
            <a:ext cx="871380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3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ชิ้นส่วนหลัก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[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omponent]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ไม่ได้ส่งออกเสมอไ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4464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852640"/>
            <a:ext cx="8713800" cy="16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5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ประกอบชิ้นส่วนแบบ 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Subassembly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อาจไ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มีการเปลี่ยนพิกัด และไม่ได้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92428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724280"/>
            <a:ext cx="87138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f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พื่อให้ได้แหล่งกำเนิด อาจมีเงื่อนไขบังคับจำนว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ชิ้นส่วนที่นำมาประกอบแบบ 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Subassemb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86900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B6F-13DA-4256-BBFF-7DC9C7A422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661E4-4485-41A6-BF85-5C4706B9CD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01992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081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 Narrow"/>
              </a:rPr>
              <a:t>Turbine Rotor:  HS No. 8411.99 for 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 Narrow"/>
              </a:rPr>
              <a:t>Gas Tur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143000"/>
          <a:ext cx="4572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4572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48520" y="2057040"/>
            <a:ext cx="2666880" cy="35053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10 cm to 2 meters in leng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p to 100 kg i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44956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400" y="4952880"/>
            <a:ext cx="4191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209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la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MS PGothic"/>
              </a:rPr>
              <a:t>a part of turbine ro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3E2-03DB-41D2-B5A9-75004ED387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38A2D-3F97-4EB9-A1ED-D32152DD65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228600"/>
            <a:ext cx="878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ส่งออกในตอนที่ </a:t>
            </a:r>
            <a:r>
              <a:rPr b="1" lang="en-GB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84 &amp; 85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กอบจากชิ้น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(Par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0"/>
            <a:ext cx="1981080" cy="2025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 Narrow"/>
              </a:rPr>
              <a:t>Parts of mach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286000"/>
            <a:ext cx="624852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Parts suitable for use solely or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MS PGothic"/>
              </a:rPr>
              <a:t>p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incipally with a particular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962520"/>
            <a:ext cx="6324480" cy="253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s of general use: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tubes, pipes, wire, ropes, chain, nails, etc.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veral excepted goods: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bobbins, spools, cops, drill pip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62520"/>
            <a:ext cx="1962000" cy="273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Parts not in Chapters 84-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907920"/>
            <a:ext cx="624852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emiconductor devic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lectric mo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2017440" cy="122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s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6B3-4E05-436D-95C7-FFD2D19FA89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2F968-9CEE-49D4-BF1C-8418E6C67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89000"/>
            <a:ext cx="8424720" cy="162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กณฑ์ที่ได้แหล่งกำเนิดจากการประกอบชิ้นส่วน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Assembl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3816360" cy="15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90440"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ariff shif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ปลี่ยนพิกั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267080"/>
            <a:ext cx="38876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cal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ำนวณสัดส่วนเป็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133720"/>
            <a:ext cx="3456000" cy="2927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ลี่ยนพิกัดและมี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MS PGothic"/>
              </a:rPr>
              <a:t>Content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่น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4076640"/>
            <a:ext cx="3456000" cy="3780360"/>
          </a:xfrm>
          <a:prstGeom prst="rect">
            <a:avLst/>
          </a:prstGeom>
          <a:solidFill>
            <a:srgbClr val="99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ปลี่ยนพิกัดและมีเงื่อนไขการประกอบ ด้วยจำนวนชิ้นส่ว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2160" y="31417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ssembl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880" y="537372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Value add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875-E5B6-4363-8A70-54CE215B213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F8AFC-E88B-4F4E-BC86-10A3DC6DA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คิดคำนวณสัดส่วนอย่างง่า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ดิบนำเข้าจากต่างประเท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วัตถุดิบในประเทศไทย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่าแรงงาน เงินเดือน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่าผลิตสินค้า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กำไร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หมด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632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ัดส่วนคำนวณ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= 4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DA4-85BB-45AF-ACCA-4A32B0EACB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04BA-E36A-4B3A-9DBE-E1DE8A1D23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341360"/>
          <a:ext cx="8763120" cy="48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1360"/>
                    <a:ext cx="8763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68360" y="457200"/>
            <a:ext cx="7991280" cy="143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ัวอย่าง แหล่งกำเนิดสินค้าพิกัด  </a:t>
            </a:r>
            <a:r>
              <a:rPr b="1" lang="en-GB" sz="4400" spc="-1" strike="noStrike">
                <a:solidFill>
                  <a:srgbClr val="0000ff"/>
                </a:solidFill>
                <a:latin typeface="Angsana New"/>
                <a:ea typeface="Angsana New"/>
              </a:rPr>
              <a:t>84.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0880" y="1341360"/>
            <a:ext cx="14400" cy="467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EEE-41ED-46C2-A4FB-D5581C7D90E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F9DDA-259F-46F5-83C8-A2E18E9F1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06:59Z</dcterms:created>
  <dc:creator>Hiroshi IMAGAWA</dc:creator>
  <dc:description/>
  <dc:language>en-US</dc:language>
  <cp:lastModifiedBy>Guest</cp:lastModifiedBy>
  <cp:lastPrinted>2002-04-22T15:17:34Z</cp:lastPrinted>
  <dcterms:modified xsi:type="dcterms:W3CDTF">2005-03-17T20:41:50Z</dcterms:modified>
  <cp:revision>94</cp:revision>
  <dc:subject/>
  <dc:title>ITEM 13  MACHINERY, TRANSPORT EQUIPMENT, OPTICAL GOODS, ETC </dc:title>
</cp:coreProperties>
</file>