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847-A769-4841-936E-6584068C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ค้าสินค้าระหว่างไทยกับออสเตรเลีย ตั้งแต่เริ่มเปิดเสรี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ที่ผ่านมา สรุปได้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ส่งออก ไทยส่งออกสินค้าทุกชนิดไปยัง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7,642.6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6,518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.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ส่งออกสินค้าชิ้นส่วนยานยนต์ไปยัง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3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4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ลดลงเล็กน้อย คิดเป็น การส่งออกสินค้าชิ้นส่วนยานยนต์ ในสัดส่ว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ส่งออกสินค้าทุกชนิดไปยังออสเตรเลี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นำเข้า ไทยนำเข้าสินค้าทุกชนิดจาก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,057.1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5,923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6.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นำเข้าสินค้าชิ้นส่วนยานยนต์จาก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7.7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.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25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คิดเป็น การนำเข้าสินค้าชิ้นส่วนยานยนต์ ในสัดส่วนเพียงแค่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0.3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นำเข้าสินค้าทุกชนิดจากออสเตรเล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A89-773C-40AC-A45D-4374F3E0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การประชุมผู้นำเขตเศรษฐกิกเอเปคที่ประเทศไทย เมื่อ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46 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ายกรัฐมนตรีไทยและนิวซีแลนด์ได้เห็นชอบให้ทำการศึกษาความเป็นไปได้ในการทำ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CEP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ะหว่างสองประเท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เจรจาใช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TA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พื้นฐาน  โดยทั้งสองฝ่ายสามารถสรุปผลการเจรจาเบื้องต้นได้ในระดับเจ้าหน้าที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ณะรัฐมนตรีให้ความเห็นชอบผลการเจรจาแล้ว และนายกรัฐมนตรีทั้งสองฝ่ายได้ประกาศสรุปผลการเจรจาเมื่อ 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3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พฤศจิก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4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ณ กรุงเวียงจันทน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คาดว่าจะมีการลงนามความตกลงในเดือนเมษ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มีผลบังคับใช้ใน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98F-0636-4A18-BF63-FF0B856A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รุปสาระสำดัญ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๏ การค้าสินค้า  สามารถตกลงกันได้ในเรื่องการเปิดตลาดและการลดภาษ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ไทยลดภาษีให้นิวซีแลนด์ทันทีที่ความตกลงมีผลบังคับใช้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49.2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มูลค่าการนำเข้าจากนิวซีแลนด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ิวซีแลนด์ลดภาษีให้ไทยทันทีที่ความตกลงมีผลบังคับใช้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84.9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มูลค่าการนำเข้าจาก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ไทยยังมีใช้มาตรการโควตาภาษีและมาตรการปกป้องพิเศษในบางสินค้า เช่น เนื้อ นม หัวหอม นฝรั่ง ทั้งนี้ไทยได้ปรับเพิ่มระดับของจำนวนนำเข้าสำหรับมาตรการปกป้องพิเศษ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Triger Volume)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ำหรับสินค้าเกษตรให้แก่นิวซีแลนด์ ได้แก่ เนื้อวัว นมผงเต็มมันเนย เครื่องในวัว และเฟรนช์ฟรายส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๏ การค้าบริการ จะเริ่มเจรจาเปิดตลาดการค้าบริการภายใน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หลังจากที่ความตกลงมีผลบังคับใช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ณะนี้ ทั้งสองฝ่ายสามารถตกลงร่วมกันในร่างข้อบทอื่นๆ ในเบื้องต้น เช่น การลงทุน กฎแหล่งกำเนิดสินค้า พิธีการ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ร่วมมือทางศุลกากร  มาตรฐานสินค้า  มาตรการเยียวยาทางการค้า ทั้งนี้ จะได้มีการพิจารณาร่างความตกลงร่วมกันอีกครั้งในเดือนธันวาคม ศกนี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654-228F-4510-9D16-FE3B9171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66280" y="4664160"/>
            <a:ext cx="5683320" cy="52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าเซียน – จี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นามในกรอบความตกลง   เมื่อ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พฤศจิกาย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2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ณ ประเทศกัมพูชา โดยจะมีการลดภาษีสินค้ากลุ่มแรกภายใต้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Early Harvest Programm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พิกัด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01-08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ด้แก่  สัตว์มีชีวิต เนื้อสัตว์ ปลาและอาหารทะเล นมและผลิตภัณฑ์ ผลิตภัณฑ์จากพืชและสัตว์ ผักและผลไม้  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0%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ัฐมนตรีการค้า ได้การลงนามความตกลงเปิดเสรีทางการค้าสินค้า และความตกลงว่าด้วยกลไกการระงับข้อพิพาทระหว่าง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 ในการประชุมสุดยอด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 ในเดือนพฤศจิกาย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547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ประเทศลาว ส่วนเรื่อง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ค้าบริการ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ยังไม่สามารถตกลงกันได้ในประเด็นหลักๆ เช่น คำนิยามของบุคลธรรมดา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Natural Person)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ว่าครอบคลุมถึงผู้มีถิ่นพำนักถาวร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Permanent Resident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หรือไม่  โดยจีนไม่ต้องการให้ครอบคลุมถึง ขณะที่สิงคโปร์ถือเป็นองค์ประกอบสำคัญ ส่วนไทยยังสงวนสิทธิที่จะให้คำนิยามของบุคคลธรรมดา จึงยังไม่มีการลงนามความตกลงด้านการค้าบริการ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ตกลงทางการค้าสินค้าดังกล่าวจะครอบคลุมการเปิดเสรีสินค้าทั้งหมด  โดยจะเริ่มมีผลบังคับใช้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จะเริ่มลดภาษีสินค้า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รุปสาระสำคัญ 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รูปแบบการลดภาษีสินค้า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ปกติ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Normal Track)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จะลดภาษีเหลือไม่เกิน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อ่อนไหว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จะคงภาษีไว้และลดเหลือ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ค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 20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กำหนดเพดานรายการสินค้าอ่อนไหวไม่เกิ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40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และมูลค่านำเข้าสินค้า   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ชุดสายไฟรถยนต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หลอดไฟรถยนต์ แตร ไซเรน เครื่องปัดน้ำฝน เครื่องกำจัดฝ้า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ะลายน้ำแข็ง ชุดสายไฟรถยนต์ แชสซีส์ ส่วนประกอบรถ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บรก กระปุกเกียร์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อ่อนไหวสูง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จะคงภาษีไว้และลดลงเหลือ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5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ค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สินค้าที่มีโควตาภาษ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ส่วนประกอบรถ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ถยนต์นั่ง รถตู้ รถบัส รถบรรทุก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CE9-4CD4-460B-8B86-AB2F6057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Early Harvest)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ต้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อบอาเซียน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HS.07-08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ุกรายการ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116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ามพิกัดศุลกากร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หลัก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%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หล่งกำเนิดสินค้า </a:t>
            </a:r>
            <a:r>
              <a:rPr b="0" lang="en-US" sz="1800" spc="-1" strike="noStrike">
                <a:solidFill>
                  <a:srgbClr val="ffff66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  โดยใช้วัตถุดิบในประเทศทั้งหมด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Wholly Obtain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DC96-26A7-43A3-89D8-B412AC01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8108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ริ่มต้น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ื่อ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ทย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ินเดีย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นามกรอบควา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ก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รอบคลุมการเปิดเสรีการค้าสินค้า  การค้าบริการและการ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งทุน จะลดภาษีเหล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ษี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E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ัญมณี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ฯล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%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ย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.2004-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ย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.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ขตการค้าเสรี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FTA)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ืออะไร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ความตกลงระหว่างประเทศประเภทหนึ่ง การเจรจาอาจจะเป็นการเจรจาระหว่าง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เช่น ระหว่างไทยกับสหรัฐอเมริกา ไทยกับญี่ปุ่น ไทยกับออสเตรเลีย หรือเจรจาเป็นกลุ่มประเทศก็ได้ เช่น ระหว่างอาเซียนกับอินเดีย อาเซียนกับญี่ปุ่น อาเซียนกับ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SimSun"/>
              </a:rPr>
              <a:t>CER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มีวัตถุประสงค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พื่อจะลดอุปสรรคทางการค้าระหว่างกันให้เหลือน้อยที่สุด เพื่อให้เกิดการค้าเสรีระหว่างประเทศคู่เจรจา  ปัจจุบันประเทศต่างๆได้ขยายขอบเขตของ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ห้ครอบคลุมทั้งด้านสินค้า  การลงทุน การคุ้มครองทรัพย์สินทางปัญญา รวมทั้งการลดอุปสรรคในด้านการค้าบริการ เช่น บริการท่องเที่ยว การรักษาพยาบาล การสื่อสาร การขนส่ง ฯลฯ ด้ว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ังเป็นเครื่องมือการค้าที่ประเทศต่างๆใช้เพื่อขยายโอกาสในการค้า สร้างพันธมิตรทางเศรษฐกิจ พร้อมๆกับเพิ่มความสามารถในการแข่งขันด้านราคาให้แก่สินค้าของต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ค้าสินค้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Harvest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 ระหว่างไทยกับอินเดีย ในช่วงตั้งแต่ 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ที่ผ่านมา สรุปได้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ส่งออก ไทยส่งออกสินค้า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ไปยัง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,603.3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,231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1.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ส่งออกสินค้าบอลล์แบริ่งไปยัง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.3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7.7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46.7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คิดเป็น การส่งออกบอลล์แบริ่งในสัดส่ว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0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ส่งออกสินค้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Harvest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 ไปยัง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นำเข้า ไทยนำเข้าสินค้าสินค้า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จาก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674.0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96.8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ลดล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4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นำเข้าสินค้าชิ้นส่วนยานยนต์จาก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ประมาณ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0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แบ่งเป็น นำเข้าบอลล์แบริ่ง มูลค่าเล็กน้อย และกระปุกเกียร์ 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65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หรือคิดเป็นสัดส่วนสูง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4.6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นำเข้าสินค้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จาก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จรจาการค้ารอบใหม่ของ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WTO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ชะงัก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ทั้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ประชุมระดับรัฐมนตรี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ครั้ง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มื่อปลาย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542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ณ นครซีแอตเติล สหรัฐอเมริกา ประเทศสมาชิกไม่สามารถตกลงกันได้ จึงไม่มีผลการประชุมหรือปฎิญญารัฐมนตรีใดๆ ออกมาเล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ประชุมระดับรัฐมนตรี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ครั้ง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มื่อเดือนกันย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546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ณ เมืองแคนคูน เม็กซิโก ที่ประชุมไม่สามารถหาข้อยุติได้เนื่องจากสมาชิกมีความเห็นขัดแย้งกันอย่างมากใ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รื่องสำคัญ ค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1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ปิดเสรีสินค้าเกษตร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อุดหนุนการส่งออกฝ้าย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3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ingapore Iss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แ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4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ปิดตลาดสินค้าอุตสาห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ลาดบริโภคขนาดใหญ่ มีประชากรมากถึง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,300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านค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รงงานราคาถูก รองรับการผลิต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ด้ตระหนักถึงประเด็นนี้ และได้มีการรวบรวมข้อมูลเกี่ยวกับ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ประเทศต่างๆ ซึ่งชี้ให้เห็นว่า ตั้งแต่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999 (2543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ประชุ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Seattl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มเหลว ประเทศสมาชิกเริ่มหันไปให้ความสนใจ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อีกทางเลือกหนึ่งในการแข่งขันกันเปิดเสร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 (2546) 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งานว่ามี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แจ้งต่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ว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1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ฉบับ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ำหรับประเทศกำลังพัฒนาที่เริ่มเจรจ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ซึ่งยังอยู่ระหว่างการเจรจา จึงยังไม่มีการแจ้งต่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ในจำนว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1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ตกลงเป็นความตกลง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ฝ่าย หร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Bilateral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Agreement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ว่า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ับ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และ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ลุ่มเศรษฐกิ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ที่เจรจาเสร็จแล้ว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: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อสเตรเลีย นิวซีแลนด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ยู่ระหว่างการเจรจากับ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และ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ลุ่มเศรษฐกิ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หรัฐ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ญี่ปุ่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บาห์เร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ร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BIMSTEC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EFTA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วิตเซอร์แลนด์ นอร์เวย์ ไอซ์แลนด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ลิกเตนสไตน์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8D6-8C2A-4CFE-AECF-6EFB7B03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69360" y="4746600"/>
            <a:ext cx="5929560" cy="42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เขตการค้าเสรีไทย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-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ออสเตรเล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ผลการเจรจาลดภาษีสินค้า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ไทยใช้เวลาการลดภาษีที่ยาวกว่าออสเตรเลี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ไท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 ออสเตรเลี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การลดภาษีของไท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จะทยอยลดภาษีสินค้าจน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ทุกรายการภายใ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ินค้าที่ไทยมีความต้องการนำเข้าจะลดภาษี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%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ทันที่ในวันแรกที่ความตกลงฯ มีผลบังคับใช้ ค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,72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รายการ หรือ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49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ของรายการสินค้าทั้งหมด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5,5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รายการ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ซึ่งส่วนใหญ่เป็นวัตถุดิบที่ไทยไม่มีศักยภาพในการผลิตหรือเป็นสินค้าที่นำเข้ามา แล้วจะไม่กระทบการแข่งขันกับสินค้าในประเทศ เช่น ธัญพืช เส้นใยใช้ในการทอ โกโก้ สินแร่ อัญมณี  เชื้อเพลิง เคมีภัณฑ์ รถยนต์นั่งขนาดเกิ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3,000 c.c.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เป็นต้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 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ินค้าที่เหลือประมาณ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5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ซึ่งเป็นสินค้าอ่อนไหวของไทย จะค่อยๆ ทยอยลดภาษีเป็นศูนย์ ภายใ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10 (2553),  10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15 (2558),  1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20 (2563),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และ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25 (25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C3B0-47CB-44EF-9B0A-464FE496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52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แผนการลดภาษีของออสเตรเลี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มาณ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3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สินค้าทั้งหมด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,10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จะลดภาษีเป็นศูนย์ทันที ณ วันที่ความตกลงฯ มีผลบังคับใช้ คิดเป็นมูลค่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,522.9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านเหรียญออสเตรเลีย ได้แก่ สินค้าเกษตรทุกรายกา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กเว้น ปลาทูน่ากระป๋อง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-2006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ดเหลือ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.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เป็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สินค้าอุตสาหกรรมทุกรายการ ที่ลดเป็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ันท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กเว้น พลาสติก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ม็ดพลาสติก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0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ผลิตภัณฑ์พลาสติก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08,20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5 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หนัง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ชิ้นส่วนยานยนต์บางประเภท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หล็ก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่งทอ เครื่องนุ่งห่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ผ้าผืน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สื้อผ้าสำเร็จรูป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5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รองเท้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9-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ที่เหลืออีก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3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ษีจะเป็นศูนย์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53 (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4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ศูนย์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58 (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BFB0-BD9C-4ECD-86BA-0562FC6B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1E67-8BD3-4784-BAA2-F798C2CA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8230-4899-46C5-B66B-1455F8D7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86BF-BE0C-41A4-8A9C-34B71A94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FA55-4A77-41D9-8D04-D609446D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CFF2-4283-4DA9-ABB1-C8E34AC0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37AF-1ADE-413B-8EF3-042523E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B173-C43D-4E35-A197-0A9F4A2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0459-7D54-4C01-9DEA-5948332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8DE3-A277-4180-8F39-8F5F9727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E53A-2091-47FA-8654-8DE3140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48E4-19B3-4EE8-8D67-1F792BB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4AF-BDFF-4958-BD05-98B454C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AFF-48C6-4552-9CFF-82B0555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20F-E3AE-4C8A-8334-B2AA5070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97FE-718D-41EF-B8BE-17B4CC5D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0C7-A46D-438B-B3EE-82E354D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216B-3A6A-41DF-9107-D24B98B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E494-11F3-4D7E-ABE3-F5B3D8D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25B0-9140-4DC2-9954-E695BD7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2A27-DA7D-4965-ACFD-168D4DC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9C3E-101F-439A-AADF-A5863F3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39E3-8843-472F-8EFB-676C3F6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7075-C4BB-419B-A0A4-333B2B4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315-E60C-49B6-887D-B39C78B418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5F4D-2079-43C6-ADAC-0778A1B6E412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a.gov/cia/publications/factbook/flags/th-flag.html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758520"/>
            <a:ext cx="838224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ความคืบหน้าการทำความตกลง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เขตการค้าเสรีของประเทศไทย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นายณัฐวัชร์ จันทร์วิเมลื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มเจรจาการค้าระหว่างประเท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วันพฤหัสบดี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7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มีน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ณ โรงแรม มิราเคิล แกรนด์ คอนเวนชั่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ลดภาษีชิ้นส่วนยานยนต์</a:t>
            </a:r>
            <a:br>
              <a:rPr sz="5000"/>
            </a:b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ไทยและออสเตรเล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Tahoma"/>
                <a:cs typeface="JasmineUPC"/>
              </a:rPr>
              <a:t>ไท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ป็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ทันที ได้แก่ แชสซีส์ ชิ้นส่วนรถตู้ ชิ้นส่วนรถบรรทุ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หลือเหลือภาย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010 (5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แก่ ตัวถังรถ หลอดไฟ แตรและไซเรน  เครื่องปัดน้ำฝน เครื่องกำจัดฝ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ะลายน้ำแข็ง ชิ้นส่วนรถแทรกเตอร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ป็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ทันที ได้แก่ แชสซีส์ ตัวถังรถ ชิ้นส่วนรถ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รถยนต์นั่ง รถตู้ รถบรรทุก รถแทรกเตอร์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หลือเหลือภาย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010 (5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แก่ ชุดสายไฟรถยนต์ หลอดไฟ แตรและไซเรน เครื่องปัดน้ำฝน เครื่องกำจัดฝ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ะลายน้ำแข็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994040"/>
          <a:ext cx="8229600" cy="4298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,518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,642.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ชิ้นส่วน    ยานยนต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4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3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0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,923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,057.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6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ชิ้นส่วน    ยานยนต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7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25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653160" y="957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เจรจา 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TAFTA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เป็นพื้นฐา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คณะรัฐมนตรีให้ความเห็นชอบผลการเจรจาแล้ว  รวมทั้งนายกรัฐมนตรีทั้งสองฝ่ายได้ประกาศสรุปผลการเจรจา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ณ กรุงเวียงจันทน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คาดว่าจะมีการลงนามความตกลงในเดือนเมษา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005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และมีผลบังคับใช้ใน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กฎ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00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สรุปสาระสำคัญ ดังนี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ในเรื่องการเปิดตลาดและการลดภาษี ทันทีที่ความตกลงมีผลบังคับใช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ลดภาษี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54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ลดภาษี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79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ยังมีใช้มาตรการโควตาภาษีและมาตรการปกป้องพิเศษในบาง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บริการ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จะเริ่มเจรจาใ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ีหลังจากที่ความตกลงมีผลบังคับใช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62320" y="304920"/>
            <a:ext cx="441936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89154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indent="-484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0020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bf25a"/>
                </a:solidFill>
                <a:latin typeface="Angsana New"/>
                <a:cs typeface="JasmineUPC"/>
              </a:rPr>
              <a:t>สิ่งที่ไทยคาดหวัง</a:t>
            </a:r>
            <a:r>
              <a:rPr b="0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คือ เข้าตลาดจีนและขยายการค้าและการลงทุน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้งจากจีนและจากทั่วโลก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ห้จีนใช้ไทยเป็นฐานเชื่อมโยงกับอาเซีย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/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อเชียใต้</a:t>
            </a:r>
            <a:r>
              <a:rPr b="1" lang="th-TH" sz="1800" spc="-1" strike="noStrike">
                <a:solidFill>
                  <a:srgbClr val="ffffff"/>
                </a:solidFill>
                <a:latin typeface="Arial Black"/>
                <a:ea typeface="JasmineUPC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ea typeface="JasmineUPC"/>
              </a:rPr>
              <a:t>-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จี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ลงนามใ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ความตกลงเร่ง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สินค้า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งส่วนก่อน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 Programme)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พิกัดศุลกากรตอนที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1-08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1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ค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4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</a:t>
            </a:r>
            <a:r>
              <a:rPr b="1" lang="en-US" sz="3400" spc="-1" strike="noStrike">
                <a:solidFill>
                  <a:srgbClr val="ebf25a"/>
                </a:solidFill>
                <a:latin typeface="Angsana New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การลงนามความตกลงเปิดเสรีการค้าสินค้าและความตกลงว่าด้วยกลไกระงับข้อพิพาท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9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ะหว่าง อาเซีย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 ที่ประเทศลาว เริ่มมีผลบังคับ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เริ่มลดภาษ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ปกต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8440" y="1828800"/>
          <a:ext cx="8194680" cy="4361040"/>
        </p:xfrm>
        <a:graphic>
          <a:graphicData uri="http://schemas.openxmlformats.org/drawingml/2006/table">
            <a:tbl>
              <a:tblPr/>
              <a:tblGrid>
                <a:gridCol w="2743200"/>
                <a:gridCol w="1354320"/>
                <a:gridCol w="1365120"/>
                <a:gridCol w="1366920"/>
                <a:gridCol w="13651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=MFN Applied r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กค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. 2003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อัตราภาษี 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(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gt;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2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2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1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&lt;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1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  <a:ea typeface="Arial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 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คงอัตราภาษ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อ่อนไหว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06680"/>
            <a:ext cx="807732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75000"/>
              </a:lnSpc>
              <a:spcBef>
                <a:spcPts val="201"/>
              </a:spcBef>
              <a:buClr>
                <a:srgbClr val="5cff2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จะคงภาษีไว้และลด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12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กำหนดเพดานรายการสินค้าอ่อนไหวไม่เกิ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และมูลค่านำเข้าสินค้า 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ชุดสายไฟรถยนต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en-US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หลอดไฟรถยนต์ แตร ไซเรน เครื่องปัดน้ำฝน เครื่องกำจัดฝ้า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/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ละลายน้ำแข็ง ชุดสายไฟรถยนต์ แชสซีส์ ส่วนประกอบรถ 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เบรก กระปุกเกียร์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buClr>
                <a:srgbClr val="5cff2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สูง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จะคงภาษีไว้และลดลง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5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สินค้าที่มีโควตาภาษ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en-US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ส่วนประกอบรถ 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รถยนต์นั่ง รถตู้ รถบัส รถบรรทุก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828800"/>
            <a:ext cx="838188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ต้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อาเซีย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ิกัดศุลกากรตอ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7-08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ุกราย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116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%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ุลาคม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  <a:ea typeface="JasmineUPC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JasmineUPC"/>
              </a:rPr>
              <a:t>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  <a:ea typeface="JasmineUPC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ทั้งหมด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Wholly Obtain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743200" y="380880"/>
            <a:ext cx="3504960" cy="1008360"/>
            <a:chOff x="2743200" y="380880"/>
            <a:chExt cx="3504960" cy="100836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380880"/>
              <a:ext cx="3504960" cy="990360"/>
              <a:chOff x="2743200" y="380880"/>
              <a:chExt cx="3504960" cy="99036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32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"/>
            <p:cNvSpPr/>
            <p:nvPr/>
          </p:nvSpPr>
          <p:spPr>
            <a:xfrm>
              <a:off x="2848320" y="380880"/>
              <a:ext cx="329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cs typeface="JasmineUPC"/>
                </a:rPr>
                <a:t>ไทย</a:t>
              </a: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ea typeface="JasmineUPC"/>
                </a:rPr>
                <a:t>-</a:t>
              </a:r>
              <a:r>
                <a:rPr b="1" lang="th-TH" sz="6000" spc="-1" strike="noStrike">
                  <a:solidFill>
                    <a:srgbClr val="000099"/>
                  </a:solidFill>
                  <a:latin typeface="Angsana New"/>
                  <a:cs typeface="JasmineUPC"/>
                </a:rPr>
                <a:t>จีน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58840" y="458280"/>
            <a:ext cx="3306600" cy="662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371600"/>
            <a:ext cx="8534520" cy="61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rial Black"/>
                <a:cs typeface="JasmineUPC"/>
              </a:rPr>
              <a:t>สิ่งที่คาดหวัง</a:t>
            </a:r>
            <a:r>
              <a:rPr b="1" lang="th-TH" sz="3200" spc="-1" strike="noStrike">
                <a:solidFill>
                  <a:srgbClr val="ff99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เข้าตลาดอินเดียซึ่งประชากรบางกลุ่มมีกำลังซื้อสูง             ดึงดูดการลงทุนเข้าไทย และใช้เป็นฐานเข้าเอเชีย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ไทย </a:t>
            </a:r>
            <a:r>
              <a:rPr b="1" lang="th-TH" sz="3200" spc="-1" strike="noStrike">
                <a:solidFill>
                  <a:srgbClr val="ffff00"/>
                </a:solidFill>
                <a:latin typeface="Arial Black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อินเดีย</a:t>
            </a:r>
            <a:r>
              <a:rPr b="1" lang="th-TH" sz="3200" spc="-1" strike="noStrike">
                <a:solidFill>
                  <a:srgbClr val="ff33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ได้มีการเร่งลดภาษีสินค้าบางส่วนทันท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82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รายการ  ตั้งแต่ 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0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ภาษี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JasmineUPC"/>
              </a:rPr>
              <a:t>EHS</a:t>
            </a:r>
            <a:r>
              <a:rPr b="1" lang="en-US" sz="3200" spc="-1" strike="noStrike">
                <a:solidFill>
                  <a:srgbClr val="ff9900"/>
                </a:solidFill>
                <a:latin typeface="Angsana New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2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ัญมณี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ฯล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%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2004-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2006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ลดภาษีชิ้นส่วนยานยนต์</a:t>
            </a:r>
            <a:br>
              <a:rPr sz="5000"/>
            </a:b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ไทยและอินเด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808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.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อินเดี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2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2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6900" spc="-1" strike="noStrike">
                <a:solidFill>
                  <a:srgbClr val="ffffcc"/>
                </a:solidFill>
                <a:latin typeface="Angsana New"/>
                <a:cs typeface="JasmineUPC"/>
              </a:rPr>
              <a:t>คืออะไร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เขตการค้าเสร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(Free Trade Area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-FTA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กอบด้ว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สองประเทศขึ้นไ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ตกลงจะขยายการค้าและการลงทุนระหว่างกั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พยายามจะลดอุปสรรคทั้งด้านภาษีและไม่ใช่ภาษีให้เหลือน้อยที่สุ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ครอบคลุมทั้งสินค้า บริการและการลงทุ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ค้าสินค้า 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82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รายการระหว่างไทย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5210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,231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,603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1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6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96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74.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24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.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71.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65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53160" y="7293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200" spc="-1" strike="noStrike">
                <a:solidFill>
                  <a:srgbClr val="ffffff"/>
                </a:solidFill>
                <a:latin typeface="Tahoma"/>
                <a:cs typeface="JasmineUPC"/>
              </a:rPr>
              <a:t>ข้อมูลเพิ่มเติม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dtn.moc.go.th</a:t>
            </a:r>
            <a:r>
              <a:rPr b="1" lang="th-TH" sz="72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thaifta.com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JasmineUPC"/>
              </a:rPr>
              <a:t>FTA Unit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. 0 2507 7444      0 2507 755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0 2507 7680       0 2507 7687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เจรจาการค้ารอบใหม่ขอ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ชะงั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“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1" lang="en-US" sz="33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ลาดบริโภคขนาดใหญ่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รงงานราคาถูก รองรับการผลิต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4120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ให้สิทธิประโยชน์ระหว่างคู่ภาคีส่งผลกระทบต่อประเทศนอกกลุ่ม เกิดแรงกระตุ้นทั้งระบ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ช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็นวิธีใน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เพื่อ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ร้างพันธมิตรด้านเศรษฐกิจและการเมือ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ตลาด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การค้าและการลงทุนกับภูมิภาคอื่นๆ ที่อยู่ห่างไก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ที่มีพื้นที่ขนาดเล็กแต่มีระบบเศรษฐกิจที่เปิดเสรีเต็มที่อยู่แล้ว เช่น สิงคโปร์ และชิลี ได้ใช้ยุทธวิธีนี้อย่างแข็งขั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80880"/>
            <a:ext cx="74120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934920"/>
            <a:chOff x="0" y="0"/>
            <a:chExt cx="9144000" cy="934920"/>
          </a:xfrm>
        </p:grpSpPr>
        <p:sp>
          <p:nvSpPr>
            <p:cNvPr id="141" name=""/>
            <p:cNvSpPr/>
            <p:nvPr/>
          </p:nvSpPr>
          <p:spPr>
            <a:xfrm>
              <a:off x="1332000" y="27000"/>
              <a:ext cx="7812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863640"/>
              <a:ext cx="9144000" cy="71280"/>
            </a:xfrm>
            <a:prstGeom prst="rect">
              <a:avLst/>
            </a:prstGeom>
            <a:solidFill>
              <a:srgbClr val="71da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Flag of Thailan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32000" cy="909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4" name=""/>
          <p:cNvGraphicFramePr/>
          <p:nvPr/>
        </p:nvGraphicFramePr>
        <p:xfrm>
          <a:off x="914400" y="1143000"/>
          <a:ext cx="7634160" cy="527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143000"/>
                    <a:ext cx="763416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600" spc="-1" strike="noStrike">
                <a:solidFill>
                  <a:srgbClr val="ffffff"/>
                </a:solidFill>
                <a:latin typeface="Californian FB"/>
                <a:cs typeface="JasmineUPC"/>
              </a:rPr>
              <a:t>แนวโน้มการทำเขตการค้าเสรี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286000"/>
            <a:ext cx="6192720" cy="2768760"/>
          </a:xfrm>
          <a:custGeom>
            <a:avLst/>
            <a:gdLst/>
            <a:ahLst/>
            <a:rect l="l" t="t" r="r" b="b"/>
            <a:pathLst>
              <a:path w="4224" h="1880">
                <a:moveTo>
                  <a:pt x="0" y="1824"/>
                </a:moveTo>
                <a:cubicBezTo>
                  <a:pt x="236" y="1852"/>
                  <a:pt x="472" y="1880"/>
                  <a:pt x="1008" y="1824"/>
                </a:cubicBezTo>
                <a:cubicBezTo>
                  <a:pt x="1544" y="1768"/>
                  <a:pt x="2680" y="1792"/>
                  <a:pt x="3216" y="1488"/>
                </a:cubicBezTo>
                <a:cubicBezTo>
                  <a:pt x="3752" y="1184"/>
                  <a:pt x="4056" y="248"/>
                  <a:pt x="4224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0240" y="2357280"/>
            <a:ext cx="64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โลกมีแนวโน้มทำเขตการค้าเสรี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70% </a:t>
            </a: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เป็น </a:t>
            </a: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Bilateral F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320" y="62784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fornian FB"/>
                <a:ea typeface="JasmineUPC"/>
              </a:rPr>
              <a:t>Source : WTO</a:t>
            </a:r>
            <a:r>
              <a:rPr b="0" lang="en-GB" sz="3200" spc="-1" strike="noStrike">
                <a:solidFill>
                  <a:srgbClr val="000000"/>
                </a:solidFill>
                <a:latin typeface="Californian FB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บประเทศใดบ้าง คืบหน้าอย่างไร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จรจาเสร็จแล้ว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อสเตรเลีย นิวซีแลนด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65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ยู่ระหว่างการเจรจา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+ 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ลุ่มเศรษฐกิจ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1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BIMSTEC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1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EFTA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วิตเซอร์แลนด์ นอร์เวย์ ไอซ์แลนด์ และลิกเตนสไตน์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ความคืบหน้าของ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ในกรอบ 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จี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676520"/>
            <a:ext cx="845820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่งที่ไทยคาดหวัง คือ ลดมาตรการ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49%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 ธัญพืช  เส้นใยใช้ในการทอ โกโก้ อัญมณี รถยนต์นั่งขนาดเกิ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,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00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c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1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ผักผลไม้ พลาสติก กระดาษ สิ่งทอ เสื้อผ้า เหล็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นื้อโค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นื้อสุกร นม เครื่องในสัตว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นฝรั่ง  กาแฟ  ชา  ข้าวโพ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นมและครี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53352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(TAFTA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5359320"/>
            <a:ext cx="145260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905120"/>
            <a:ext cx="807732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ของออสเตรเลี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3%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เกษตรทุกรายการ เช่น เนื้อสัตว์ ผัก ผลไม้  ยกเว้น ปลาทูน่า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ุตสาหกรรมทุกรายการ เช่น อัญมณี ทองแดง ตะกั่ว ดีบุ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สิ่งทอ รองเท้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สื้อผ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5720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467480" y="762120"/>
            <a:ext cx="1452600" cy="149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19:35Z</dcterms:created>
  <dc:creator>MANIKA BURANASIN</dc:creator>
  <dc:description/>
  <dc:language>en-US</dc:language>
  <cp:lastModifiedBy>user</cp:lastModifiedBy>
  <dcterms:modified xsi:type="dcterms:W3CDTF">2005-03-17T02:12:26Z</dcterms:modified>
  <cp:revision>88</cp:revision>
  <dc:subject/>
  <dc:title>Slide 1</dc:title>
</cp:coreProperties>
</file>