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75201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94E-6800-44A2-B48A-7A8C46D7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A42-EBA4-4E6D-844B-495915D1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BD8-9E2F-4892-BA8B-7C34135F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283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997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9569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4283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8997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B6C-2AB5-44F0-814B-2F757EC2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D64D-07A7-4BC4-AE8F-81159DBC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CCA7-51C0-491C-9538-58ED349D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AC3-4615-47C2-BFDD-42EB1A14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266-37AD-488D-AEB6-D009689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A368-F15B-4FD9-9D02-551F4261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56960" y="298080"/>
            <a:ext cx="74502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8C5-8364-4C7A-B5C8-C5A86286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2DF4-3C6E-4DF5-B3BD-45B43D2F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DDE-0DB3-4FBA-BA86-CC3863E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84EE-6D1C-4238-9232-51D7024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302C-6890-4912-96E5-CC42ECC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4E96-8DF5-4831-828C-ACA6634C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E39E-5BA8-4282-B48B-79DC00D7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83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997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9569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4283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8997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27B9-D08A-4BAD-80AC-2CC0AE21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FEB-DBE8-4A11-9332-BC6947BF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E08-C411-4E59-85D3-F3C312D6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091-E46A-4DB9-A548-83B6E1D8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56960" y="298080"/>
            <a:ext cx="74502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B01-5681-4851-B7EC-74109F9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33A-5952-4964-9132-0D25BA53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865-FE41-4140-959D-784A9B1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41F-4634-4589-A241-F690606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06480" y="0"/>
            <a:ext cx="0" cy="74674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69160"/>
            <a:ext cx="9753480" cy="598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06480" y="0"/>
            <a:ext cx="7947000" cy="1225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816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46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462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14720" indent="-2462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14720" indent="-2462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14720" indent="-2462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87080" y="6800760"/>
            <a:ext cx="227628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56A4969A-3D06-4CC0-95BE-222138481E3C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31800" y="6800760"/>
            <a:ext cx="308916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89760" y="6800760"/>
            <a:ext cx="227664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58C55301-C06B-4019-8A9A-ACCDE691B74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1225440"/>
            <a:ext cx="1806120" cy="5643360"/>
            <a:chOff x="0" y="1225440"/>
            <a:chExt cx="1806120" cy="5643360"/>
          </a:xfrm>
        </p:grpSpPr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0" y="1225440"/>
              <a:ext cx="1802880" cy="14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2713680"/>
              <a:ext cx="1806120" cy="41551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2373480"/>
              <a:ext cx="1806120" cy="392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0" y="0"/>
            <a:ext cx="1812600" cy="1225080"/>
            <a:chOff x="0" y="0"/>
            <a:chExt cx="1812600" cy="1225080"/>
          </a:xfrm>
        </p:grpSpPr>
        <p:sp>
          <p:nvSpPr>
            <p:cNvPr id="13" name=""/>
            <p:cNvSpPr/>
            <p:nvPr/>
          </p:nvSpPr>
          <p:spPr>
            <a:xfrm>
              <a:off x="0" y="0"/>
              <a:ext cx="1812600" cy="122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3"/>
            <a:stretch/>
          </p:blipFill>
          <p:spPr>
            <a:xfrm>
              <a:off x="199800" y="298800"/>
              <a:ext cx="1384200" cy="5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Base" hidden="1"/>
          <p:cNvSpPr/>
          <p:nvPr/>
        </p:nvSpPr>
        <p:spPr>
          <a:xfrm>
            <a:off x="1625760" y="1521000"/>
            <a:ext cx="650232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06480" y="0"/>
            <a:ext cx="7947000" cy="1225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6480" y="1225440"/>
            <a:ext cx="7947000" cy="227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69160"/>
            <a:ext cx="9753480" cy="598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56960" y="1537920"/>
            <a:ext cx="7604280" cy="1600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87080" y="6800760"/>
            <a:ext cx="227628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62EA7FDC-BF2E-4C10-8AFF-05B92E103412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31800" y="6800760"/>
            <a:ext cx="308916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989760" y="6800760"/>
            <a:ext cx="227664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11DDA9EE-5140-451D-AB9A-DBC42B30D06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1225440"/>
            <a:ext cx="1806120" cy="5643360"/>
            <a:chOff x="0" y="1225440"/>
            <a:chExt cx="1806120" cy="564336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0" y="1225440"/>
              <a:ext cx="1806120" cy="14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2713680"/>
              <a:ext cx="1806120" cy="41551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323080"/>
              <a:ext cx="1806120" cy="392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0"/>
            <a:ext cx="1812600" cy="1225080"/>
            <a:chOff x="0" y="0"/>
            <a:chExt cx="1812600" cy="122508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1812600" cy="122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199800" y="298800"/>
              <a:ext cx="1384200" cy="5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87440" y="1747080"/>
            <a:ext cx="877680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 algn="ctr">
              <a:spcBef>
                <a:spcPts val="649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424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76360" algn="ctr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848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68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68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overs@moc.go.th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การเชื่อมโยงข้อมูลต้นทุนการผลิตสินค้า</a:t>
            </a:r>
            <a:br>
              <a:rPr sz="4300"/>
            </a:b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รองรับการขยายเขตการค้าเสรี</a:t>
            </a:r>
            <a:br>
              <a:rPr sz="43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Rules of Origin Verification System (ROVERS)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36880" y="3968640"/>
            <a:ext cx="7294320" cy="243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ษัท โนวา เทกนิคา จำกัด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17 </a:t>
            </a:r>
            <a:r>
              <a:rPr b="0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นาคม </a:t>
            </a: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2548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1654-38B5-438E-B9F5-C2ACD236B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ลงทะเบียนระบบ 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6800" y="1693800"/>
            <a:ext cx="2419200" cy="125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ลงทะเบียนเพื่อใช้งานระบ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87720" y="3421080"/>
            <a:ext cx="2419200" cy="13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ยื่นเอกสารเพื่อขอรับชื่อผู้ใช้และรหัสผ่าน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  <a:ea typeface="Angsana New"/>
              </a:rPr>
              <a:t> </a:t>
            </a: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ณ กรมการค้าต่างประเท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6960" y="1693800"/>
            <a:ext cx="4149720" cy="109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ngsana New"/>
              </a:rPr>
              <a:t>https://rovers.moc.dft.go.th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6960" y="3263760"/>
            <a:ext cx="4149720" cy="3057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หนังสือรับรองการจดทะเบียน</a:t>
            </a:r>
            <a:br>
              <a:rPr sz="2400"/>
            </a:b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นิติบุคค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ใบทะเบียนภาษีมูลค่าเพิ่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กรณีนิติบุคคล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บัตรประจำตัวผู้เสียภาษีอากร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กรณีบุคคลธรรมด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ใบอนุญาตประกอบกิจการโรง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2949480"/>
            <a:ext cx="0" cy="39204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87720" y="5302080"/>
            <a:ext cx="2419200" cy="13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รับชื่อผู้ใช้และรหัสผ่าน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  <a:ea typeface="Angsana New"/>
              </a:rPr>
              <a:t> </a:t>
            </a: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ณ กรมการค้าต่างประเท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01640" y="4753080"/>
            <a:ext cx="11160" cy="4618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7BA-A7D4-4A6A-B69E-3339BB9B85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ธิตการลงทะเบียนเพื่อใช้งานระบบ </a:t>
            </a:r>
            <a:r>
              <a:rPr b="1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2ADB-D42E-4F3D-8D9A-0EB23DCAAB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ระบบยื่นคำขอตรวจสอบแหล่งกำเนิดสินค้า</a:t>
            </a:r>
            <a:endParaRPr b="1" lang="en-US" sz="39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1360" y="1380960"/>
            <a:ext cx="7872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การป้อนคำขอแบบอิเล็กโทรนิกส์จึงทำให้ลดภาระด้านเอกสาร และการใช้กระดา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จัดเก็บคำขอที่ได้บันทึกไว้ในเครื่องคอมพิวเตอร์ของกรมการค้าต่างประเทศเพื่อช่วยอำนวยความสะดวกในการเรียกใช้ข้อมูลคำขอ และใช้เรียกดูเพื่อตรวจสอบในภายหลั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จะทำการคำนวณผลให้โดยอัตโนมัติ เช่นสัดส่วนของต้นทุนวัตถุดิบในประเทศ ทำให้ลดภาระของผู้นำเข้าข้อมู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จะทำการสืบค้นกฎตามพิกัดศุลกากรและประเทศให้โดยอัตโนม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B01-7847-4145-9BBB-35E3E153B5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ระบบยื่นคำขอตรวจสอบแหล่งกำเนิดสินค้า</a:t>
            </a:r>
            <a:endParaRPr b="1" lang="en-US" sz="39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1360" y="1380960"/>
            <a:ext cx="7872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ที่มีความปลอดภัยของข้อมูลสู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ที่ออกแบบให้สอดคล้องกับกระบวนการทำงานของผู้ส่งออก ทำให้ง่ายต่อการใช้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องรับการส่งผ่านข้อมูลที่มีปริมาณมา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มารถทราบผลได้ทันที โดยมีรายละเอียดเงื่อนไขการพิจารณ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จำลองการยื่นคำขอ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Sim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ABB-3C5F-4702-BD61-ED907C63BA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ยื่นคำขอตรวจสอบแหล่งกำเนิดสินค้า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98960" y="1851120"/>
            <a:ext cx="205560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ใส่ชื่อผู้ใช้และรหัสผ่านเพื่อเข้าสู่ระบบ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98960" y="2949480"/>
            <a:ext cx="207648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เรียกคำขอที่ได้บันทึกไว้หรือยื่นคำขอใหม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4046400"/>
            <a:ext cx="207648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บันทึกหรือแก้ไขข้อมูลต้นทุ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57560" y="5222880"/>
            <a:ext cx="2076480" cy="78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บันทึกหรือแก้ไขข้อมูลกระบวนการผลิ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9600" y="2243160"/>
            <a:ext cx="384120" cy="941400"/>
          </a:xfrm>
          <a:custGeom>
            <a:avLst/>
            <a:gdLst>
              <a:gd name="textAreaLeft" fmla="*/ 51480 w 384120"/>
              <a:gd name="textAreaRight" fmla="*/ 332640 w 3841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49600" y="3497400"/>
            <a:ext cx="384120" cy="939600"/>
          </a:xfrm>
          <a:custGeom>
            <a:avLst/>
            <a:gdLst>
              <a:gd name="textAreaLeft" fmla="*/ 51480 w 384120"/>
              <a:gd name="textAreaRight" fmla="*/ 332640 w 384120"/>
              <a:gd name="textAreaTop" fmla="*/ 164160 h 939600"/>
              <a:gd name="textAreaBottom" fmla="*/ 681120 h 93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9600" y="4673520"/>
            <a:ext cx="384120" cy="941400"/>
          </a:xfrm>
          <a:custGeom>
            <a:avLst/>
            <a:gdLst>
              <a:gd name="textAreaLeft" fmla="*/ 51480 w 384120"/>
              <a:gd name="textAreaRight" fmla="*/ 332640 w 3841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48440" y="5222880"/>
            <a:ext cx="2073240" cy="78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ส่งคำขอทางอิเล็กทรอนิกส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42000" y="6164280"/>
            <a:ext cx="2226960" cy="549360"/>
          </a:xfrm>
          <a:custGeom>
            <a:avLst/>
            <a:gdLst>
              <a:gd name="textAreaLeft" fmla="*/ 389520 w 2226960"/>
              <a:gd name="textAreaRight" fmla="*/ 1614240 w 222696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2" hR="21600" stAng="10800000" swAng="-5400000"/>
                <a:lnTo>
                  <a:pt x="11876" y="21600"/>
                </a:lnTo>
                <a:arcTo wR="7562" hR="21600" stAng="5400000" swAng="-2254792"/>
                <a:lnTo>
                  <a:pt x="20921" y="8944"/>
                </a:lnTo>
                <a:lnTo>
                  <a:pt x="17280" y="0"/>
                </a:lnTo>
                <a:lnTo>
                  <a:pt x="12281" y="8944"/>
                </a:lnTo>
                <a:lnTo>
                  <a:pt x="14444" y="8944"/>
                </a:lnTo>
                <a:arcTo wR="7562" hR="21600" stAng="3145208" swAng="1897901"/>
                <a:lnTo>
                  <a:pt x="9719" y="20703"/>
                </a:lnTo>
                <a:arcTo wR="7562" hR="21600" stAng="5756892" swAng="5043108"/>
                <a:close/>
              </a:path>
              <a:path fill="darkenLess" w="21600" h="21600">
                <a:moveTo>
                  <a:pt x="0" y="0"/>
                </a:moveTo>
                <a:arcTo wR="7562" hR="21600" stAng="10800000" swAng="-5400000"/>
                <a:lnTo>
                  <a:pt x="11876" y="21600"/>
                </a:lnTo>
                <a:arcTo wR="7562" hR="21600" stAng="5400000" swAng="356892"/>
                <a:lnTo>
                  <a:pt x="9719" y="20703"/>
                </a:lnTo>
                <a:arcTo wR="7562" hR="21600" stAng="5756892" swAng="5043108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48440" y="4046400"/>
            <a:ext cx="207324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ระบบ</a:t>
            </a:r>
            <a:r>
              <a:rPr b="1" lang="th-TH" sz="2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ngsana New"/>
                <a:ea typeface="Angsana New"/>
              </a:rPr>
              <a:t>ROVERS </a:t>
            </a:r>
            <a:r>
              <a:rPr b="1" lang="th-TH" sz="22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จ้งผลการตรวจสอ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8440" y="2949480"/>
            <a:ext cx="207324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มพ์และลงนามแบบรับรองตนเอ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8440" y="1851120"/>
            <a:ext cx="207324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ื่นแบบรับรองตนเอง และขอรับใบรับรอ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8451720" y="4438440"/>
            <a:ext cx="385920" cy="941400"/>
          </a:xfrm>
          <a:custGeom>
            <a:avLst/>
            <a:gdLst>
              <a:gd name="textAreaLeft" fmla="*/ 51480 w 385920"/>
              <a:gd name="textAreaRight" fmla="*/ 334440 w 3859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8451720" y="3341160"/>
            <a:ext cx="385920" cy="939960"/>
          </a:xfrm>
          <a:custGeom>
            <a:avLst/>
            <a:gdLst>
              <a:gd name="textAreaLeft" fmla="*/ 51480 w 385920"/>
              <a:gd name="textAreaRight" fmla="*/ 334440 w 385920"/>
              <a:gd name="textAreaTop" fmla="*/ 164520 h 939960"/>
              <a:gd name="textAreaBottom" fmla="*/ 681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8451720" y="2163240"/>
            <a:ext cx="385920" cy="941400"/>
          </a:xfrm>
          <a:custGeom>
            <a:avLst/>
            <a:gdLst>
              <a:gd name="textAreaLeft" fmla="*/ 51480 w 385920"/>
              <a:gd name="textAreaRight" fmla="*/ 334440 w 3859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2F6-0C46-404B-881C-D203F33DE5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ที่ใช้ในกระบวนการยื่นคำขอ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616040"/>
            <a:ext cx="7872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ผู้ขอจากระบบลงทะเบีย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สินค้าที่ขอใช้สิทธ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ยละเอียดกระบวนการผล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ยละเอียดต้นทุนการผล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ACE-63CE-48DD-BA47-02EA4DB6C5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ที่สำคัญ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81360" y="1380960"/>
            <a:ext cx="7872120" cy="4938840"/>
          </a:xfrm>
          <a:prstGeom prst="rect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698400" indent="-57312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1     Email Contact: </a:t>
            </a:r>
            <a:r>
              <a:rPr b="0" lang="en-US" sz="3900" spc="-1" strike="noStrike" u="sng">
                <a:solidFill>
                  <a:srgbClr val="009999"/>
                </a:solidFill>
                <a:uFillTx/>
                <a:latin typeface="Angsana New"/>
                <a:ea typeface="Angsana New"/>
                <a:hlinkClick r:id="rId1"/>
              </a:rPr>
              <a:t>rovers@moc.go.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98400" indent="-57312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2    DFT Help Desk: Hot line 1385 </a:t>
            </a:r>
            <a:r>
              <a:rPr b="0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่อ </a:t>
            </a:r>
            <a:r>
              <a:rPr b="0" lang="th-TH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4808-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th-TH" sz="3000" spc="-1" strike="noStrike">
                <a:solidFill>
                  <a:srgbClr val="000000"/>
                </a:solidFill>
                <a:latin typeface="Arial"/>
                <a:cs typeface="Angsana New"/>
              </a:rPr>
              <a:t>สายตรง </a:t>
            </a: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0-2547-5090, 0-2547-480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D5A-B2F7-4D2B-A4A3-11CA0F91A5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การลงทะเบียนและยื่นคำขอ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A36F-F635-4D74-9D1A-57F37BDA25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925560"/>
            <a:ext cx="9753120" cy="6541560"/>
            <a:chOff x="0" y="925560"/>
            <a:chExt cx="9753120" cy="65415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0" y="925560"/>
              <a:ext cx="9753120" cy="65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999560" y="4279320"/>
              <a:ext cx="1510920" cy="67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90320" y="3776760"/>
              <a:ext cx="2962800" cy="523080"/>
            </a:xfrm>
            <a:prstGeom prst="wedgeRectCallout">
              <a:avLst>
                <a:gd name="adj1" fmla="val 10847"/>
                <a:gd name="adj2" fmla="val 793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คลิ๊กเลือก </a:t>
              </a: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Banner </a:t>
              </a:r>
              <a:r>
                <a:rPr b="0" lang="th-TH" sz="1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“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รวจแหล่งกำเนิดสินค้า</a:t>
              </a:r>
              <a:r>
                <a:rPr b="1" lang="en-US" sz="1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81280" y="33120"/>
            <a:ext cx="78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ว็บไซต์ของ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มการค้าต่างประเทศ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www.dft.moc.go.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008080"/>
            <a:ext cx="975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08080"/>
            <a:ext cx="975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DB1-C241-43E4-BD7E-2629C90D57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9753480" cy="65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89C-9633-4245-9111-4FB5F26573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การตรวจสอบแหล่งกำเนิดสินค้าผ่านระบบ </a:t>
            </a:r>
            <a:r>
              <a:rPr b="1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ne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6985-E204-48FE-9485-127189832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81280" y="61920"/>
            <a:ext cx="7972200" cy="746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A16-91E7-4A97-936C-20EA625A65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9753480" cy="65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43D-799C-44AE-9666-7ED084D100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9753480" cy="64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98C-258E-4E3E-AC65-C944C14D7D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4120" y="1239840"/>
            <a:ext cx="7929360" cy="2273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ยื่นคำขอผ่านระบบ </a:t>
            </a:r>
            <a:r>
              <a:rPr b="1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n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78E-5077-4E54-BF4B-D33A29D8F8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8920" y="173880"/>
            <a:ext cx="68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ันทึก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User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Name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79480"/>
            <a:ext cx="476280" cy="200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979640"/>
            <a:ext cx="975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996840"/>
            <a:ext cx="9753480" cy="64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2C7-5AE1-46E9-903E-C89CD9D7E19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996840"/>
          <a:ext cx="9753480" cy="64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75348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3F1-8E23-4725-B5AD-7CDF2DC15A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1285920"/>
          <a:ext cx="9753480" cy="61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5920"/>
                    <a:ext cx="975348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EEA-F313-4255-950D-CEE72AEF40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925560"/>
          <a:ext cx="9753480" cy="65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5560"/>
                    <a:ext cx="9753480" cy="65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610-A3A7-40DE-9D33-272C75A6E2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753480" cy="53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588-BE14-42F1-AB20-1C797FE47C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81280" y="0"/>
          <a:ext cx="7972200" cy="74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0"/>
                    <a:ext cx="7972200" cy="74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C6C-7C29-4463-96BE-DE2D8A872D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โยชน์ที่ผู้ส่งออกจะได้รับ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1360" y="1460520"/>
            <a:ext cx="78721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86000"/>
          </a:bodyPr>
          <a:p>
            <a:pPr marL="600480" indent="-492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ส่งออกสามารถรับทราบผลการตรวจสอบเงื่อนไขได้โดยทันที ในกรณีที่สินค้าที่ยื่นขอคำรับรองไม่มีเงื่อนไขที่ต้องตรวจสอบโดยใช้เจ้าหน้าที่ โดยระบบจะให้ข้อมูลเงื่อนไขที่ทำให้ไม่ผ่านหรือขั้นตอนที่ต้องรอการตรวจสอ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480" indent="-492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ประมวลผลกฎแหล่งกำเนิดสินค้าซึ่งผู้ส่งออกสามารถใช้ในการตรวจสอบเงื่อนไขได้ด้วยตนเองตลอด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24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ั่วโมงทั่วประเทศ ซึ่งจะอำนวยความสะดวกและเพิ่มประสิทธิภาพในการดำเนินการของผู้ส่งออ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480" indent="-492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จัดเก็บกฎแหล่งกำเนิดสินค้าที่เผยแพร่ผ่านระบ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net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นำไปใช้ประมวลผลการอนุมัติคำขอรับรองกฎแหล่งกำเนิดสินค้า ซึ่งจะทำให้ลดความผิดพลาดจากการตรวจสอบ และสามารถรองรับการเปลี่ยนแปล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ยายตัวของเขตการค้าเสรีได้อย่างรวดเร็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A75-D7B2-402E-9B91-2F4EE923DA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1069920"/>
          <a:ext cx="9753480" cy="63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9920"/>
                    <a:ext cx="9753480" cy="63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07D-7557-42C6-A265-0C0FA34881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996840"/>
          <a:ext cx="9753480" cy="64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75348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079-F9AF-497A-92F0-690A33A898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9753480" cy="64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B2E-A524-4AA5-A760-026B8035D9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โยชน์ที่ผู้ส่งออกจะได้รับ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81360" y="1460520"/>
            <a:ext cx="78721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82000"/>
          </a:bodyPr>
          <a:p>
            <a:pPr marL="572400" indent="-469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ประมวลผลซึ่งสามารถเชื่อมโยงข้อมูลกับผู้ส่งออก และหน่วยราชการอื่นๆเพื่อใช้ในการตรวจสอบข้อมูล จึงทำให้เพิ่มประสิทธิภาพและความโปร่งใสจากการลดความซ้ำซ้อนในการนำเข้าข้อมูลจากแหล่งต่างๆ  อีกทั้งเพิ่มความชัดเจนของข้อมูลและความสามารถในการตรวจสอบข้อมูลของทางกรม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0" indent="-469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ส่งออกสามารถยื่นคำขอรับรองกฎแหล่งกำเนิดสินค้าจากระบบคอมพิวเตอร์ผ่านทางเครือข่ายอินเตอร์เน็ต โดยใช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Web Browser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active Mod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รือส่งข้อมูลแบ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Batch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่านทา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XML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ใช้โปรแกรมที่ผู้ส่งออกได้พัฒนาเองหรือมีอยู่เดิม เพื่อเพิ่มความรวดเร็วในการยื่นคำข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0" indent="-469800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0C9-ED44-4ABC-9704-68A928F95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การเชื่อมโยงข้อมูลต้นทุนการผลิตสินค้า</a:t>
            </a:r>
            <a:br>
              <a:rPr sz="3400"/>
            </a:br>
            <a:r>
              <a:rPr b="1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รองรับการขยายเขตการค้าเสรี 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(ROVERS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7C84-E2DB-4C1C-93DA-9FD79B68CA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ของระบบ 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1360" y="1538280"/>
            <a:ext cx="78721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0000"/>
          </a:bodyPr>
          <a:p>
            <a:pPr marL="450000" indent="-336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ระบบเครือข่ายอินเตอร์เน็ตเป็นช่องทางสื่อสารโดยมีการเข้ารหัสผ่านทาง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Secured Socket Layer (SSL)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ระดั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28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ิท ซึ่งทำให้การรับส่งข้อมูลในการตรวจสอบมีความปลอดภัยสู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000" indent="-336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ะมวลผลจะถูกดำเนินการบนเครื่องคอมพิวเตอร์ของกรมการค้าต่างประเทศ ทำให้ผู้ส่งออกไม่จำเป็นต้องใช้อุปกรณ์ราคาสูงเกินความจำเป็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000" indent="-336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Web Service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ซึ่งผู้ส่งออกสามารถส่งข้อมูลคำขอในมาตรฐาน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XML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เชื่อมโยงระบบโปรแกรมประยุกต์ของผู้ส่งออกกับระบ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ตรง โดยกรมการค้าต่างประเทศได้กำหนด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XML Schema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แก่ผู้ส่งออ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72E-F3AD-48D4-99A6-B45E793D0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การใช้งานของผู้ส่งออก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7279-2807-4460-ACE0-2A44D2060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การใช้งาน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 2 </a:t>
            </a: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81360" y="2008080"/>
            <a:ext cx="7872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698400" indent="-57312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งทะเบียนเพื่อใช้งานระบ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98400" indent="-57312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ื่นคำขอตรวจสอบกฎแหล่งกำเนิด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F67-8F20-477D-97E1-656C67E25F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ระบบลงทะเบียน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81360" y="1380960"/>
            <a:ext cx="7872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ลงทะเบียนล่วงหน้า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Pre Regist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เชื่อมโยงข้อมูลกับหน่วยงานภายนอก ได้แก่กรมโรงงานฯ และกรมพัฒนาธุรกิจการค้าทำให้ระบบสามารถแก้ไขข้อมูลจากหน่วยราชการอื่นได้โดยอัตโนม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ที่ให้ผู้ส่งออกไม่ต้องยื่นต่อทะเบีย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บริหารชื่อผู้ใช้และรหัสผ่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055-24F3-4AE9-8099-3A762666DB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29:11Z</dcterms:created>
  <dc:creator>Chatchai Dusadenoad</dc:creator>
  <dc:description/>
  <dc:language>en-US</dc:language>
  <cp:lastModifiedBy>Piyada Parawong</cp:lastModifiedBy>
  <dcterms:modified xsi:type="dcterms:W3CDTF">2005-03-17T05:32:32Z</dcterms:modified>
  <cp:revision>88</cp:revision>
  <dc:subject/>
  <dc:title>การประชุมกำหนดวิธีการเก็บข้อมูลโครงการ F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9259841</vt:r8>
  </property>
  <property fmtid="{D5CDD505-2E9C-101B-9397-08002B2CF9AE}" pid="3" name="_AuthorEmail">
    <vt:lpwstr>chatchai@novateknica.com</vt:lpwstr>
  </property>
  <property fmtid="{D5CDD505-2E9C-101B-9397-08002B2CF9AE}" pid="4" name="_AuthorEmailDisplayName">
    <vt:lpwstr>Chatchai Dusadenoad</vt:lpwstr>
  </property>
  <property fmtid="{D5CDD505-2E9C-101B-9397-08002B2CF9AE}" pid="5" name="_EmailSubject">
    <vt:lpwstr>Presentation on Dec 15</vt:lpwstr>
  </property>
  <property fmtid="{D5CDD505-2E9C-101B-9397-08002B2CF9AE}" pid="6" name="_ReviewingToolsShownOnce">
    <vt:lpwstr/>
  </property>
</Properties>
</file>