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28.png" ContentType="image/png"/>
  <Override PartName="/ppt/media/image36.png" ContentType="image/png"/>
  <Override PartName="/ppt/media/image11.png" ContentType="image/png"/>
  <Override PartName="/ppt/media/image6.wmf" ContentType="image/x-wmf"/>
  <Override PartName="/ppt/media/image45.png" ContentType="image/png"/>
  <Override PartName="/ppt/media/image48.jpeg" ContentType="image/jpeg"/>
  <Override PartName="/ppt/media/image39.wmf" ContentType="image/x-wmf"/>
  <Override PartName="/ppt/media/image56.png" ContentType="image/png"/>
  <Override PartName="/ppt/media/image8.jpeg" ContentType="image/jpeg"/>
  <Override PartName="/ppt/media/image38.png" ContentType="image/png"/>
  <Override PartName="/ppt/media/image41.wmf" ContentType="image/x-wmf"/>
  <Override PartName="/ppt/media/image51.png" ContentType="image/png"/>
  <Override PartName="/ppt/media/image52.png" ContentType="image/png"/>
  <Override PartName="/ppt/media/image54.png" ContentType="image/png"/>
  <Override PartName="/ppt/media/image57.jpeg" ContentType="image/jpeg"/>
  <Override PartName="/ppt/media/image43.png" ContentType="image/png"/>
  <Override PartName="/ppt/media/image55.png" ContentType="image/png"/>
  <Override PartName="/ppt/media/image44.png" ContentType="image/png"/>
  <Override PartName="/ppt/media/image58.gif" ContentType="image/gif"/>
  <Override PartName="/ppt/media/image35.png" ContentType="image/png"/>
  <Override PartName="/ppt/media/image31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46.gif" ContentType="image/gif"/>
  <Override PartName="/ppt/media/image42.wmf" ContentType="image/x-wmf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40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216-374B-43B8-8C9F-ED9C14E7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218-4E31-4251-A59C-3507A2DC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567-1291-44F9-B203-69BA8DDE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7F5-92E1-4D26-8D1C-BC8920D2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0BB7-177E-481C-A87F-97E5F4C3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C496-7A18-430A-B8B9-636F2F1B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2F7B-6B69-4A74-9102-D564F506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9FDB-C63A-4D5A-8B87-0B8E8BE8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6B3D-8BF4-44C7-9848-FBC14599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506F-7E59-4F61-AE2D-8CCB0A99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9AB6-98D8-414E-95B0-1B352900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BCC-318F-465A-905E-5863DD9F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645A-156D-4F27-A6F4-0AD15FC8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855B-3528-46A6-AA28-8646E982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AF58-B1C1-4184-8B13-98B8791E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49C7-9F6B-4D5D-B36D-B0D2847D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82A2-18B1-4143-8EF0-3C2BE619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B80-D970-4D93-A667-AFB8B2CF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2EC-E745-45C4-AE57-3EA18EC1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E9C-CF84-438C-B8E8-B7813320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A76-65DC-4142-8B23-52D5CEF6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DEA-CCCD-4F42-9BD8-C94D5F23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2A6-95F7-4926-8C6D-D8A3194B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903-C3EE-4D67-A64F-A36EA2CE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C655-DAF0-4D2B-A0AE-D51F7B7ACA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605E-D38D-4E95-B98E-18FE7C2DCAE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wmf"/><Relationship Id="rId3" Type="http://schemas.openxmlformats.org/officeDocument/2006/relationships/image" Target="../media/image11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wmf"/><Relationship Id="rId3" Type="http://schemas.openxmlformats.org/officeDocument/2006/relationships/image" Target="../media/image1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ardhost.net/cardi/chicken.gif" TargetMode="External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image" Target="../media/image6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gif"/><Relationship Id="rId11" Type="http://schemas.openxmlformats.org/officeDocument/2006/relationships/image" Target="../media/image6.wmf"/><Relationship Id="rId12" Type="http://schemas.openxmlformats.org/officeDocument/2006/relationships/image" Target="../media/image47.png"/><Relationship Id="rId13" Type="http://schemas.openxmlformats.org/officeDocument/2006/relationships/image" Target="../media/image47.png"/><Relationship Id="rId14" Type="http://schemas.openxmlformats.org/officeDocument/2006/relationships/image" Target="../media/image47.png"/><Relationship Id="rId15" Type="http://schemas.openxmlformats.org/officeDocument/2006/relationships/image" Target="../media/image47.png"/><Relationship Id="rId16" Type="http://schemas.openxmlformats.org/officeDocument/2006/relationships/image" Target="../media/image47.png"/><Relationship Id="rId17" Type="http://schemas.openxmlformats.org/officeDocument/2006/relationships/image" Target="../media/image47.png"/><Relationship Id="rId18" Type="http://schemas.openxmlformats.org/officeDocument/2006/relationships/image" Target="../media/image47.png"/><Relationship Id="rId19" Type="http://schemas.openxmlformats.org/officeDocument/2006/relationships/image" Target="../media/image47.png"/><Relationship Id="rId2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wmf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wmf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5.png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6.png"/><Relationship Id="rId3" Type="http://schemas.openxmlformats.org/officeDocument/2006/relationships/hyperlink" Target="http://www.dtn.moc.go.th/" TargetMode="External"/><Relationship Id="rId4" Type="http://schemas.openxmlformats.org/officeDocument/2006/relationships/hyperlink" Target="http://www.thaifta.com/" TargetMode="Externa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2240" y="1738440"/>
            <a:ext cx="8797680" cy="3282840"/>
          </a:xfrm>
          <a:custGeom>
            <a:avLst/>
            <a:gdLst>
              <a:gd name="textAreaLeft" fmla="*/ 266040 w 8797680"/>
              <a:gd name="textAreaRight" fmla="*/ 8531640 w 8797680"/>
              <a:gd name="textAreaTop" fmla="*/ 266040 h 3282840"/>
              <a:gd name="textAreaBottom" fmla="*/ 3016800 h 3282840"/>
            </a:gdLst>
            <a:ahLst/>
            <a:rect l="textAreaLeft" t="textAreaTop" r="textAreaRight" b="textAreaBottom"/>
            <a:pathLst>
              <a:path w="57882" h="21600">
                <a:moveTo>
                  <a:pt x="0" y="0"/>
                </a:moveTo>
                <a:lnTo>
                  <a:pt x="0" y="21600"/>
                </a:lnTo>
                <a:lnTo>
                  <a:pt x="57882" y="21600"/>
                </a:lnTo>
                <a:lnTo>
                  <a:pt x="57882" y="0"/>
                </a:lnTo>
                <a:close/>
                <a:moveTo>
                  <a:pt x="1751" y="1751"/>
                </a:moveTo>
                <a:lnTo>
                  <a:pt x="1751" y="19849"/>
                </a:lnTo>
                <a:lnTo>
                  <a:pt x="56131" y="19849"/>
                </a:lnTo>
                <a:lnTo>
                  <a:pt x="56131" y="175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0280" y="5683320"/>
            <a:ext cx="39985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ปิยะนุช มาลากุล ณ อยุธย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FreesiaUPC"/>
              </a:rPr>
              <a:t>สภาหอการค้าแห่งประเทศไท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FreesiaUPC"/>
              </a:rPr>
              <a:t>17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FreesiaUPC"/>
              </a:rPr>
              <a:t>มีนาคม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2548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080" y="2403360"/>
            <a:ext cx="732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Tahoma"/>
                <a:cs typeface="FreesiaUPC"/>
              </a:rPr>
              <a:t>ผู้ผลิต 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  <a:ea typeface="FreesiaUPC"/>
              </a:rPr>
              <a:t>SMEs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Tahoma"/>
                <a:cs typeface="FreesiaUPC"/>
              </a:rPr>
              <a:t>ชิ้นส่วนยานยนต์            จะใช้ประโยชน์จา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Tahoma"/>
                <a:cs typeface="FreesiaUPC"/>
              </a:rPr>
              <a:t>อย่างไร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  <a:ea typeface="FreesiaUP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2349360"/>
            <a:ext cx="7272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1680" y="1025640"/>
            <a:ext cx="88394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ชิ้นส่วนยานยนต์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รณีส่งออกไปจี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1680" y="1589040"/>
            <a:ext cx="8661240" cy="84240"/>
          </a:xfrm>
          <a:prstGeom prst="flowChartOnlineStorage">
            <a:avLst/>
          </a:prstGeom>
          <a:gradFill rotWithShape="0">
            <a:gsLst>
              <a:gs pos="0">
                <a:srgbClr val="ffffff"/>
              </a:gs>
              <a:gs pos="50000">
                <a:srgbClr val="33333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27280" y="174600"/>
            <a:ext cx="7265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กฎแหล่งกำเนิดสินค้าสะสมของอาเซีย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6600"/>
                </a:solidFill>
                <a:latin typeface="Tahoma"/>
                <a:ea typeface="FreesiaUPC"/>
              </a:rPr>
              <a:t>(</a:t>
            </a:r>
            <a:r>
              <a:rPr b="1" lang="en-US" sz="2100" spc="-1" strike="noStrike">
                <a:solidFill>
                  <a:srgbClr val="006600"/>
                </a:solidFill>
                <a:latin typeface="Tahoma"/>
                <a:ea typeface="FreesiaUPC"/>
              </a:rPr>
              <a:t>CRO : Cumulative Rules of Origin</a:t>
            </a:r>
            <a:r>
              <a:rPr b="1" lang="th-TH" sz="2100" spc="-1" strike="noStrike">
                <a:solidFill>
                  <a:srgbClr val="006600"/>
                </a:solidFill>
                <a:latin typeface="Tahoma"/>
                <a:ea typeface="FreesiaUPC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2343240"/>
            <a:ext cx="1656000" cy="2617560"/>
          </a:xfrm>
          <a:prstGeom prst="ellipse">
            <a:avLst/>
          </a:prstGeom>
          <a:solidFill>
            <a:srgbClr val="3366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36040" y="19051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ไท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4040" y="2305080"/>
            <a:ext cx="1656000" cy="2652840"/>
          </a:xfrm>
          <a:prstGeom prst="ellipse">
            <a:avLst/>
          </a:prstGeom>
          <a:solidFill>
            <a:srgbClr val="00808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21320" y="2397240"/>
            <a:ext cx="1655640" cy="2566800"/>
          </a:xfrm>
          <a:prstGeom prst="ellipse">
            <a:avLst/>
          </a:prstGeom>
          <a:solidFill>
            <a:srgbClr val="a50021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2733840"/>
            <a:ext cx="142416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FreesiaUPC"/>
              </a:rPr>
              <a:t>เม็ดพลาสติ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ff33"/>
                </a:solidFill>
                <a:latin typeface="Arial"/>
                <a:cs typeface="FreesiaUPC"/>
              </a:rPr>
              <a:t>นอกอาเซีย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87600" y="2743200"/>
            <a:ext cx="1566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FreesiaUPC"/>
              </a:rPr>
              <a:t>ทำชิ้นส่วนพลาสติ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ff"/>
                </a:solidFill>
                <a:latin typeface="Arial"/>
                <a:cs typeface="FreesiaUPC"/>
              </a:rPr>
              <a:t>มูลค่า</a:t>
            </a:r>
            <a:r>
              <a:rPr b="1" lang="th-TH" sz="2800" spc="-1" strike="noStrike">
                <a:solidFill>
                  <a:srgbClr val="00ffff"/>
                </a:solidFill>
                <a:latin typeface="Arial"/>
                <a:ea typeface="Tahoma"/>
              </a:rPr>
              <a:t>100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FreesiaUPC"/>
              </a:rPr>
              <a:t>LC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62440" y="2622600"/>
            <a:ext cx="144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FreesiaUPC"/>
              </a:rPr>
              <a:t>ผู้ผลิ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FreesiaUPC"/>
              </a:rPr>
              <a:t>ประกอบเป็น   ยานยนต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30560" y="187956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ิงคโปร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9960" y="2352600"/>
            <a:ext cx="863640" cy="43200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2492280"/>
            <a:ext cx="863640" cy="43200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63640" y="2270160"/>
            <a:ext cx="863640" cy="4316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 rot="20151000">
            <a:off x="4874760" y="2287080"/>
            <a:ext cx="358920" cy="3002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36440" y="1758960"/>
            <a:ext cx="127944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ffcc00">
                      <a:alpha val="80000"/>
                    </a:srgbClr>
                  </a:outerShdw>
                </a:effectLst>
                <a:latin typeface="Impact"/>
              </a:rPr>
              <a:t>Partial</a:t>
            </a:r>
            <a:endParaRPr b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ffcc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886440" y="1916280"/>
            <a:ext cx="1656000" cy="3068640"/>
            <a:chOff x="6886440" y="1916280"/>
            <a:chExt cx="1656000" cy="3068640"/>
          </a:xfrm>
        </p:grpSpPr>
        <p:sp>
          <p:nvSpPr>
            <p:cNvPr id="291" name=""/>
            <p:cNvSpPr/>
            <p:nvPr/>
          </p:nvSpPr>
          <p:spPr>
            <a:xfrm>
              <a:off x="6886440" y="2394000"/>
              <a:ext cx="1656000" cy="2590920"/>
            </a:xfrm>
            <a:prstGeom prst="ellipse">
              <a:avLst/>
            </a:prstGeom>
            <a:solidFill>
              <a:srgbClr val="80808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32680" y="1916280"/>
              <a:ext cx="113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ีน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 rot="19725000">
              <a:off x="7011720" y="2344320"/>
              <a:ext cx="37440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7020000" y="2852640"/>
              <a:ext cx="144144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นำเข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ินค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จากไท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664080" y="1774800"/>
            <a:ext cx="16207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0000"/>
                </a:solidFill>
                <a:latin typeface="Arial"/>
                <a:cs typeface="FreesiaUPC"/>
              </a:rPr>
              <a:t>ไม่ได้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ภาษ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FreesiaUPC"/>
              </a:rPr>
              <a:t>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95280" y="5083200"/>
            <a:ext cx="5402160" cy="1916280"/>
            <a:chOff x="395280" y="5083200"/>
            <a:chExt cx="5402160" cy="1916280"/>
          </a:xfrm>
        </p:grpSpPr>
        <p:sp>
          <p:nvSpPr>
            <p:cNvPr id="297" name=""/>
            <p:cNvSpPr/>
            <p:nvPr/>
          </p:nvSpPr>
          <p:spPr>
            <a:xfrm>
              <a:off x="395280" y="5083200"/>
              <a:ext cx="5184720" cy="1560600"/>
            </a:xfrm>
            <a:prstGeom prst="wedgeEllipseCallout">
              <a:avLst>
                <a:gd name="adj1" fmla="val 37629"/>
                <a:gd name="adj2" fmla="val -8865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5520" y="5199120"/>
              <a:ext cx="53719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สามารถนำมูลค่า 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0                          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ที่ซื้อจากสิงคโปร์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20% 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ของ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00)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มาสะสมรวม                เป็นต้นทุนของไทยได้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เนื่องจาก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LC&gt;2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 flipV="1">
            <a:off x="4176360" y="2087640"/>
            <a:ext cx="158760" cy="2476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62520" y="1790640"/>
            <a:ext cx="1527120" cy="691920"/>
            <a:chOff x="5762520" y="1790640"/>
            <a:chExt cx="1527120" cy="691920"/>
          </a:xfrm>
        </p:grpSpPr>
        <p:sp>
          <p:nvSpPr>
            <p:cNvPr id="301" name=""/>
            <p:cNvSpPr/>
            <p:nvPr/>
          </p:nvSpPr>
          <p:spPr>
            <a:xfrm>
              <a:off x="5762520" y="1790640"/>
              <a:ext cx="15271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ACFTA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6430680" y="2130120"/>
              <a:ext cx="166680" cy="352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713840" y="4076640"/>
            <a:ext cx="147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FreesiaUPC"/>
              </a:rPr>
              <a:t>LC 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  <a:ea typeface="Tahoma"/>
              </a:rPr>
              <a:t>4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651640" y="4375080"/>
            <a:ext cx="4098960" cy="2594160"/>
            <a:chOff x="5651640" y="4375080"/>
            <a:chExt cx="4098960" cy="2594160"/>
          </a:xfrm>
        </p:grpSpPr>
        <p:sp>
          <p:nvSpPr>
            <p:cNvPr id="305" name=""/>
            <p:cNvSpPr/>
            <p:nvPr/>
          </p:nvSpPr>
          <p:spPr>
            <a:xfrm>
              <a:off x="8453520" y="4375080"/>
              <a:ext cx="129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0000"/>
                  </a:solidFill>
                  <a:latin typeface="바탕"/>
                  <a:ea typeface="바탕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51640" y="5516640"/>
              <a:ext cx="360360" cy="5763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50000" y="5322960"/>
              <a:ext cx="345600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เป็นทางเลือกให้             ผู้ประกอบยานยนต์เลือกนำเข้าชิ้นส่วนจากอาเซีย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rot="21085800">
            <a:off x="371160" y="1268280"/>
            <a:ext cx="8275680" cy="360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 rot="21055200">
            <a:off x="650520" y="1742760"/>
            <a:ext cx="7948440" cy="25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ผู้ผลิต </a:t>
            </a: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SMEs </a:t>
            </a: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ชิ้นส่วนยานยนต์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จะต้องปรับตัวอย่างไร 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เพื่อให้ได้ประโยชน์สูงสุดจาก </a:t>
            </a: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FTA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FreesiaUPC"/>
              <a:ea typeface="FreesiaUPC"/>
            </a:endParaRPr>
          </a:p>
        </p:txBody>
      </p:sp>
      <p:sp>
        <p:nvSpPr>
          <p:cNvPr id="310" name=""/>
          <p:cNvSpPr/>
          <p:nvPr/>
        </p:nvSpPr>
        <p:spPr>
          <a:xfrm rot="520200">
            <a:off x="5724000" y="4149360"/>
            <a:ext cx="129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바탕"/>
                <a:ea typeface="바탕"/>
              </a:rPr>
              <a:t>?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148360" y="5445000"/>
          <a:ext cx="792000" cy="10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5445000"/>
                    <a:ext cx="7920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480" y="0"/>
            <a:ext cx="9083520" cy="68230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1200" y="925560"/>
            <a:ext cx="169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8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9360" y="650880"/>
            <a:ext cx="9144000" cy="2859120"/>
          </a:xfrm>
          <a:custGeom>
            <a:avLst/>
            <a:gdLst>
              <a:gd name="textAreaLeft" fmla="*/ 159480 w 9144000"/>
              <a:gd name="textAreaRight" fmla="*/ 8984520 w 9144000"/>
              <a:gd name="textAreaTop" fmla="*/ 159480 h 2859120"/>
              <a:gd name="textAreaBottom" fmla="*/ 2699640 h 2859120"/>
            </a:gdLst>
            <a:ahLst/>
            <a:rect l="textAreaLeft" t="textAreaTop" r="textAreaRight" b="textAreaBottom"/>
            <a:pathLst>
              <a:path w="69075" h="21600">
                <a:moveTo>
                  <a:pt x="0" y="0"/>
                </a:moveTo>
                <a:lnTo>
                  <a:pt x="0" y="21600"/>
                </a:lnTo>
                <a:lnTo>
                  <a:pt x="69075" y="21600"/>
                </a:lnTo>
                <a:lnTo>
                  <a:pt x="69075" y="0"/>
                </a:lnTo>
                <a:close/>
                <a:moveTo>
                  <a:pt x="1205" y="1205"/>
                </a:moveTo>
                <a:lnTo>
                  <a:pt x="1205" y="20395"/>
                </a:lnTo>
                <a:lnTo>
                  <a:pt x="67870" y="20395"/>
                </a:lnTo>
                <a:lnTo>
                  <a:pt x="67870" y="120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9560" y="1509840"/>
            <a:ext cx="933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การได้สิทธิประโยชน์ทางภาษ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-873720" y="3973680"/>
            <a:ext cx="99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FreesiaUPC"/>
              </a:rPr>
              <a:t>SM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ผู้ผลิตชิ้นส่วนยานยนต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จะได้รับสิทธิพิเศษทางภาษีภายใต้กรอบ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อย่างไ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900360" y="5427720"/>
            <a:ext cx="110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FreesiaUPC"/>
              </a:rPr>
              <a:t>SM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ผู้ผลิตชิ้นส่วนยานยนต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จะได้รับสิทธิพิเศษทางภาษี ถ้าผลิตได้แหล่งกำเนิดสินค้าที่ถูกต้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89000" y="2513160"/>
          <a:ext cx="8663040" cy="4184640"/>
        </p:xfrm>
        <a:graphic>
          <a:graphicData uri="http://schemas.openxmlformats.org/drawingml/2006/table">
            <a:tbl>
              <a:tblPr/>
              <a:tblGrid>
                <a:gridCol w="1113120"/>
                <a:gridCol w="1380960"/>
                <a:gridCol w="936720"/>
                <a:gridCol w="1152360"/>
                <a:gridCol w="1224000"/>
                <a:gridCol w="1349280"/>
                <a:gridCol w="1506600"/>
              </a:tblGrid>
              <a:tr h="16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พิก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สินค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ภาษีผูกพัน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W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ภาษีทั่วไ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(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เก็บจริ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ภาษีโครงสร้า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TAF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TH-N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87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แชสซีส์ที่มีเครื่องยนต์ติดตั้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(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ยังไม่    เริ่มใช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%          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ในป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8714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เบรกและส่วนประกอบ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(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ก้ามเบร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,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มือเบร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(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ใช้แล้ว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%           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ในป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%           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ในป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0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12574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68120" y="1422360"/>
            <a:ext cx="1857600" cy="439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-1194480" y="1852560"/>
            <a:ext cx="10961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Arial"/>
                <a:cs typeface="FreesiaUPC"/>
              </a:rPr>
              <a:t>อัตราภาษีที่แตกต่างกันของประเทศไทยในแต่ละกรอบการค้า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2720" y="13762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FreesiaUPC"/>
              </a:rPr>
              <a:t>ตัวอย่า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791640" y="263520"/>
            <a:ext cx="10377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FreesiaUPC"/>
              </a:rPr>
              <a:t>SM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FreesiaUPC"/>
              </a:rPr>
              <a:t>ผู้ผลิตชิ้นส่วนยานยนต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FreesiaUPC"/>
              </a:rPr>
              <a:t>จะได้รับสิทธิพิเศษทางภาษีภายใต้กรอบ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FreesiaUPC"/>
              </a:rPr>
              <a:t>FTA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FreesiaUPC"/>
              </a:rPr>
              <a:t>อย่างไ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1120" y="682560"/>
            <a:ext cx="4040280" cy="29275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479840" y="747720"/>
            <a:ext cx="3929040" cy="2847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54160" y="114480"/>
            <a:ext cx="88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FreesiaUPC"/>
              </a:rPr>
              <a:t>WEBSI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เกี่ยวกับภาษีของไทยในแต่กรอบการค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2709720" y="3970440"/>
            <a:ext cx="3918240" cy="28400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397880" y="5911920"/>
            <a:ext cx="6090840" cy="8863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กรมศุลกาก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FreesiaUPC"/>
              </a:rPr>
              <a:t>WW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FreesiaUPC"/>
              </a:rPr>
              <a:t>.customs.go.th/Tariff/TariffIndex.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21240" y="2965320"/>
            <a:ext cx="3887640" cy="13129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กรมเจรจาการค้าระหว่างประเท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FreesiaUPC"/>
              </a:rPr>
              <a:t>WW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FreesiaUPC"/>
              </a:rPr>
              <a:t>.dtn.moc.go.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8520" y="3135240"/>
            <a:ext cx="4029120" cy="1373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สำนักงานเศรษฐกิจการคลั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FreesiaUPC"/>
              </a:rPr>
              <a:t>http://e-fpo.fpo.go.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87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78600" y="-57240"/>
            <a:ext cx="79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99"/>
                </a:solidFill>
                <a:latin typeface="Tahoma"/>
                <a:cs typeface="FreesiaUPC"/>
              </a:rPr>
              <a:t>แหล่งกำเนิดสินค้า คือ อะไร </a:t>
            </a:r>
            <a:r>
              <a:rPr b="1" lang="en-US" sz="7200" spc="-1" strike="noStrike">
                <a:solidFill>
                  <a:srgbClr val="000099"/>
                </a:solidFill>
                <a:latin typeface="Tahoma"/>
                <a:ea typeface="FreesiaUPC"/>
              </a:rPr>
              <a:t>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0320" y="1690560"/>
            <a:ext cx="77900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ได้รับ</a:t>
            </a:r>
            <a:r>
              <a:rPr b="1" lang="th-TH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  <a:ea typeface="FreesiaUPC"/>
              </a:rPr>
              <a:t>“</a:t>
            </a:r>
            <a:r>
              <a:rPr b="1" lang="th-TH" sz="6000" spc="-1" strike="noStrike">
                <a:solidFill>
                  <a:srgbClr val="000000"/>
                </a:solidFill>
                <a:latin typeface="Tahoma"/>
                <a:ea typeface="FreesiaUPC"/>
              </a:rPr>
              <a:t>         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  <a:ea typeface="FreesiaUPC"/>
              </a:rPr>
              <a:t>”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Tahoma"/>
                <a:cs typeface="FreesiaUPC"/>
              </a:rPr>
              <a:t>ตามประเทศที่</a:t>
            </a:r>
            <a:r>
              <a:rPr b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ผลิตสินค้า</a:t>
            </a:r>
            <a:r>
              <a:rPr b="1" lang="th-TH" sz="5400" spc="-1" strike="noStrike">
                <a:solidFill>
                  <a:srgbClr val="000000"/>
                </a:solidFill>
                <a:latin typeface="Tahoma"/>
                <a:cs typeface="FreesiaUPC"/>
              </a:rPr>
              <a:t>นั้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Tahoma"/>
                <a:cs typeface="FreesiaUPC"/>
              </a:rPr>
              <a:t>อย่าง</a:t>
            </a:r>
            <a:r>
              <a:rPr b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มากเพียงพ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746600" y="2073240"/>
            <a:ext cx="1636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FreesiaUPC"/>
              </a:rPr>
              <a:t>สัญชาติ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FreesiaUPC"/>
              <a:ea typeface="FreesiaUPC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5148360" y="4500720"/>
            <a:ext cx="4008240" cy="225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895480" y="1235160"/>
            <a:ext cx="5421600" cy="5165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403280" y="836640"/>
            <a:ext cx="7056360" cy="5792760"/>
          </a:xfrm>
          <a:prstGeom prst="ellipse">
            <a:avLst/>
          </a:prstGeom>
          <a:solidFill>
            <a:srgbClr val="abd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49320" y="2413080"/>
            <a:ext cx="7686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ประเทศที่</a:t>
            </a:r>
            <a:r>
              <a:rPr b="1" i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ได้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แหล่งกำเนิดสินค้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3399"/>
                </a:solidFill>
                <a:latin typeface="Tahoma"/>
                <a:ea typeface="FreesiaUPC"/>
              </a:rPr>
              <a:t> 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จะ</a:t>
            </a:r>
            <a:r>
              <a:rPr b="1" i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ได้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สิทธิประโยชน์ทางด้านภาษ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ตามที่ตกลงกั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5146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c0c0c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352680"/>
            <a:ext cx="3352680" cy="2057400"/>
          </a:xfrm>
          <a:prstGeom prst="flowChartAlternateProcess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562680" y="1819440"/>
            <a:ext cx="1058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00000"/>
                </a:solidFill>
                <a:uFillTx/>
                <a:latin typeface="Tahoma"/>
                <a:cs typeface="FreesiaUPC"/>
              </a:rPr>
              <a:t>สมมติ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FreesiaUPC"/>
              </a:rPr>
              <a:t>กำหนดให้ต้องผลิตสินค้าโดยใช้สัดส่วนวัตถุดิบในประเทศ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Local Content 40%</a:t>
            </a:r>
            <a:r>
              <a:rPr b="1" lang="th-TH" sz="24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08000" y="5468760"/>
            <a:ext cx="190512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100400" y="3411360"/>
            <a:ext cx="1295280" cy="914400"/>
            <a:chOff x="4100400" y="3411360"/>
            <a:chExt cx="1295280" cy="914400"/>
          </a:xfrm>
        </p:grpSpPr>
        <p:sp>
          <p:nvSpPr>
            <p:cNvPr id="348" name=""/>
            <p:cNvSpPr/>
            <p:nvPr/>
          </p:nvSpPr>
          <p:spPr>
            <a:xfrm>
              <a:off x="4100400" y="341136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ffffff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20000" y="356400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361200" y="5450040"/>
            <a:ext cx="190476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975120" y="4357800"/>
            <a:ext cx="1301400" cy="914400"/>
            <a:chOff x="3975120" y="4357800"/>
            <a:chExt cx="1301400" cy="914400"/>
          </a:xfrm>
        </p:grpSpPr>
        <p:sp>
          <p:nvSpPr>
            <p:cNvPr id="352" name=""/>
            <p:cNvSpPr/>
            <p:nvPr/>
          </p:nvSpPr>
          <p:spPr>
            <a:xfrm rot="10800000">
              <a:off x="3975120" y="435780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70400" y="4591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2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41880" y="3479760"/>
            <a:ext cx="230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ทำโช้กอั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FreesiaUPC"/>
              </a:rPr>
              <a:t>8708.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ได้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LC &gt;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6280" y="3367080"/>
            <a:ext cx="3352680" cy="2057400"/>
          </a:xfrm>
          <a:prstGeom prst="flowChartAlternateProcess">
            <a:avLst/>
          </a:prstGeom>
          <a:solidFill>
            <a:srgbClr val="969696">
              <a:alpha val="39000"/>
            </a:srgbClr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5840" y="3919680"/>
            <a:ext cx="23018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ทำกันช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FreesiaUPC"/>
              </a:rPr>
              <a:t>8708.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ได้</a:t>
            </a:r>
            <a:r>
              <a:rPr b="1" lang="th-TH" sz="40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LC</a:t>
            </a:r>
            <a:r>
              <a:rPr b="1" lang="en-US" sz="2800" spc="-1" strike="noStrike">
                <a:solidFill>
                  <a:srgbClr val="66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&gt;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561960" y="3440160"/>
            <a:ext cx="390600" cy="2998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5692680" y="3444840"/>
            <a:ext cx="352440" cy="225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8028000" y="3500280"/>
            <a:ext cx="779400" cy="8812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934440" y="52135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(WTO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4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02840" y="31291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(WTO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5603760" cy="5896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42960" y="0"/>
            <a:ext cx="7891560" cy="6858000"/>
          </a:xfrm>
          <a:prstGeom prst="ellipse">
            <a:avLst/>
          </a:prstGeom>
          <a:solidFill>
            <a:srgbClr val="abd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32040" y="2041560"/>
            <a:ext cx="933192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ประเทศที่</a:t>
            </a:r>
            <a:r>
              <a:rPr b="1" i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ไม่ได้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แหล่งกำเนิดสินค้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3399"/>
                </a:solidFill>
                <a:latin typeface="Tahoma"/>
                <a:ea typeface="FreesiaUPC"/>
              </a:rPr>
              <a:t> 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จะ</a:t>
            </a:r>
            <a:r>
              <a:rPr b="1" i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เสีย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สิทธิประโยชน์ทางด้านภาษ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3399"/>
                </a:solidFill>
                <a:latin typeface="Tahoma"/>
                <a:ea typeface="FreesiaUPC"/>
              </a:rPr>
              <a:t> 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ตามที่ได้ตกลงกั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35146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c0c0c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729480" y="3022560"/>
            <a:ext cx="1342800" cy="825480"/>
            <a:chOff x="6729480" y="3022560"/>
            <a:chExt cx="1342800" cy="825480"/>
          </a:xfrm>
        </p:grpSpPr>
        <p:sp>
          <p:nvSpPr>
            <p:cNvPr id="372" name=""/>
            <p:cNvSpPr/>
            <p:nvPr/>
          </p:nvSpPr>
          <p:spPr>
            <a:xfrm>
              <a:off x="6729480" y="3024360"/>
              <a:ext cx="1339920" cy="785520"/>
            </a:xfrm>
            <a:prstGeom prst="downArrow">
              <a:avLst>
                <a:gd name="adj1" fmla="val 58435"/>
                <a:gd name="adj2" fmla="val 35745"/>
              </a:avLst>
            </a:prstGeom>
            <a:gradFill rotWithShape="0">
              <a:gsLst>
                <a:gs pos="0">
                  <a:srgbClr val="006600"/>
                </a:gs>
                <a:gs pos="50000">
                  <a:srgbClr val="000000"/>
                </a:gs>
                <a:gs pos="100000">
                  <a:srgbClr val="006600"/>
                </a:gs>
              </a:gsLst>
              <a:lin ang="13500000"/>
            </a:gradFill>
            <a:ln cap="sq"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77000" y="30225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-489600" y="1168560"/>
            <a:ext cx="105714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FreesiaUPC"/>
              </a:rPr>
              <a:t>สมมติกำหนดให้ต้องผลิตสินค้าโดยใช้สัดส่วนวัตถุดิบในประเทศ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Freesia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Local Content 40%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880240" y="2124000"/>
            <a:ext cx="3001320" cy="970200"/>
            <a:chOff x="5880240" y="2124000"/>
            <a:chExt cx="3001320" cy="970200"/>
          </a:xfrm>
        </p:grpSpPr>
        <p:grpSp>
          <p:nvGrpSpPr>
            <p:cNvPr id="376" name=""/>
            <p:cNvGrpSpPr/>
            <p:nvPr/>
          </p:nvGrpSpPr>
          <p:grpSpPr>
            <a:xfrm>
              <a:off x="5880240" y="2276640"/>
              <a:ext cx="923040" cy="761760"/>
              <a:chOff x="5880240" y="2276640"/>
              <a:chExt cx="923040" cy="761760"/>
            </a:xfrm>
          </p:grpSpPr>
          <p:sp>
            <p:nvSpPr>
              <p:cNvPr id="377" name=""/>
              <p:cNvSpPr/>
              <p:nvPr/>
            </p:nvSpPr>
            <p:spPr>
              <a:xfrm>
                <a:off x="5937120" y="2276640"/>
                <a:ext cx="803160" cy="761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80240" y="2403360"/>
                <a:ext cx="9230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Tahoma"/>
                    <a:ea typeface="FreesiaUPC"/>
                  </a:rPr>
                  <a:t>WT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909120" y="2124000"/>
              <a:ext cx="923040" cy="762120"/>
              <a:chOff x="6909120" y="2124000"/>
              <a:chExt cx="923040" cy="762120"/>
            </a:xfrm>
          </p:grpSpPr>
          <p:sp>
            <p:nvSpPr>
              <p:cNvPr id="380" name=""/>
              <p:cNvSpPr/>
              <p:nvPr/>
            </p:nvSpPr>
            <p:spPr>
              <a:xfrm>
                <a:off x="6966000" y="2124000"/>
                <a:ext cx="803160" cy="7621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909120" y="2251080"/>
                <a:ext cx="9230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Tahoma"/>
                    <a:ea typeface="FreesiaUPC"/>
                  </a:rPr>
                  <a:t>WT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958520" y="2332080"/>
              <a:ext cx="923040" cy="762120"/>
              <a:chOff x="7958520" y="2332080"/>
              <a:chExt cx="923040" cy="762120"/>
            </a:xfrm>
          </p:grpSpPr>
          <p:sp>
            <p:nvSpPr>
              <p:cNvPr id="383" name=""/>
              <p:cNvSpPr/>
              <p:nvPr/>
            </p:nvSpPr>
            <p:spPr>
              <a:xfrm>
                <a:off x="8015400" y="2332080"/>
                <a:ext cx="803160" cy="7621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58520" y="2459160"/>
                <a:ext cx="9230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Tahoma"/>
                    <a:ea typeface="FreesiaUPC"/>
                  </a:rPr>
                  <a:t>WT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6372360" y="5950080"/>
            <a:ext cx="1904760" cy="69048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030320" y="5967360"/>
            <a:ext cx="1905120" cy="784080"/>
            <a:chOff x="1030320" y="5967360"/>
            <a:chExt cx="1905120" cy="784080"/>
          </a:xfrm>
        </p:grpSpPr>
        <p:sp>
          <p:nvSpPr>
            <p:cNvPr id="387" name=""/>
            <p:cNvSpPr/>
            <p:nvPr/>
          </p:nvSpPr>
          <p:spPr>
            <a:xfrm rot="10800000">
              <a:off x="1030320" y="6060960"/>
              <a:ext cx="1905120" cy="690480"/>
            </a:xfrm>
            <a:prstGeom prst="flowChartExtra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65120" y="5967360"/>
              <a:ext cx="129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Orig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538280" y="6021000"/>
              <a:ext cx="958680" cy="587160"/>
              <a:chOff x="1538280" y="6021000"/>
              <a:chExt cx="958680" cy="587160"/>
            </a:xfrm>
          </p:grpSpPr>
          <p:sp>
            <p:nvSpPr>
              <p:cNvPr id="390" name=""/>
              <p:cNvSpPr/>
              <p:nvPr/>
            </p:nvSpPr>
            <p:spPr>
              <a:xfrm>
                <a:off x="1538280" y="6086160"/>
                <a:ext cx="798480" cy="522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1538280" y="6021000"/>
                <a:ext cx="958680" cy="587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2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3640" y="3862440"/>
            <a:ext cx="3352680" cy="2057400"/>
          </a:xfrm>
          <a:prstGeom prst="flowChartAlternateProcess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946680" y="4878360"/>
            <a:ext cx="1301400" cy="914400"/>
            <a:chOff x="3946680" y="4878360"/>
            <a:chExt cx="1301400" cy="914400"/>
          </a:xfrm>
        </p:grpSpPr>
        <p:sp>
          <p:nvSpPr>
            <p:cNvPr id="396" name=""/>
            <p:cNvSpPr/>
            <p:nvPr/>
          </p:nvSpPr>
          <p:spPr>
            <a:xfrm rot="10800000">
              <a:off x="3946680" y="487836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41960" y="511164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2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059360" y="3848040"/>
            <a:ext cx="1295280" cy="914400"/>
            <a:chOff x="4059360" y="3848040"/>
            <a:chExt cx="1295280" cy="914400"/>
          </a:xfrm>
        </p:grpSpPr>
        <p:sp>
          <p:nvSpPr>
            <p:cNvPr id="399" name=""/>
            <p:cNvSpPr/>
            <p:nvPr/>
          </p:nvSpPr>
          <p:spPr>
            <a:xfrm>
              <a:off x="4059360" y="384804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ffffff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1200" y="40006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1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14360" y="3840120"/>
            <a:ext cx="3352680" cy="2057400"/>
            <a:chOff x="414360" y="3840120"/>
            <a:chExt cx="3352680" cy="2057400"/>
          </a:xfrm>
        </p:grpSpPr>
        <p:sp>
          <p:nvSpPr>
            <p:cNvPr id="402" name=""/>
            <p:cNvSpPr/>
            <p:nvPr/>
          </p:nvSpPr>
          <p:spPr>
            <a:xfrm>
              <a:off x="414360" y="3840120"/>
              <a:ext cx="3352680" cy="2057400"/>
            </a:xfrm>
            <a:prstGeom prst="flowChartAlternateProcess">
              <a:avLst/>
            </a:prstGeom>
            <a:solidFill>
              <a:srgbClr val="969696">
                <a:alpha val="32000"/>
              </a:srgbClr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99360" y="4295520"/>
              <a:ext cx="230544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ทำกันช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8708.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ได้</a:t>
              </a:r>
              <a:r>
                <a:rPr b="1" lang="th-TH" sz="32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LC </a:t>
              </a:r>
              <a:r>
                <a:rPr b="1" lang="en-US" sz="32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&lt;</a:t>
              </a:r>
              <a:r>
                <a:rPr b="1" lang="th-TH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4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3"/>
            <a:stretch/>
          </p:blipFill>
          <p:spPr>
            <a:xfrm>
              <a:off x="518760" y="3895560"/>
              <a:ext cx="390240" cy="3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"/>
          <p:cNvSpPr/>
          <p:nvPr/>
        </p:nvSpPr>
        <p:spPr>
          <a:xfrm>
            <a:off x="6114960" y="3716280"/>
            <a:ext cx="230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ทำโช้กอั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FreesiaUPC"/>
              </a:rPr>
              <a:t>8708.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ได้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LC &gt;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5724360" y="4005360"/>
            <a:ext cx="352440" cy="225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883680" y="570708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(W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74480" y="3473280"/>
            <a:ext cx="12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(FT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0520" y="4552920"/>
            <a:ext cx="9144000" cy="227952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3240" y="2262240"/>
            <a:ext cx="9144000" cy="220500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40" y="-11160"/>
            <a:ext cx="9144000" cy="21970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3920" y="2541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4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548280" y="2765520"/>
            <a:ext cx="1027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การได้สิทธิประโยชน์ทางภาษี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3256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4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7040" y="4765680"/>
            <a:ext cx="1592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 </a:t>
            </a:r>
            <a:r>
              <a:rPr b="1" lang="th-TH" sz="2800" spc="-1" strike="noStrike">
                <a:solidFill>
                  <a:srgbClr val="ffcc00"/>
                </a:solidFill>
                <a:latin typeface="Tahoma"/>
                <a:ea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476280"/>
            <a:ext cx="67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7760" y="573120"/>
            <a:ext cx="700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FreesiaUPC"/>
              </a:rPr>
              <a:t>ผู้ผลิต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SM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FreesiaUPC"/>
              </a:rPr>
              <a:t>ชิ้นส่วนยานยนต์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ea typeface="FreesiaUPC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FreesiaUPC"/>
              </a:rPr>
              <a:t>สิ่งท้าทายในโลกการค้าปัจจุบั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5880" y="5173560"/>
            <a:ext cx="7843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เตรียมตัวของผู้ผลิต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SME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ชิ้นส่วนยานยนต์ ในโลกการค้าปัจจุบั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633840" y="1447920"/>
            <a:ext cx="5045040" cy="7162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08000" y="108000"/>
            <a:ext cx="8870760" cy="659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96880" y="1413000"/>
            <a:ext cx="61502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ถ้าอัตราภาษีนำเข้าเหลือ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  <a:ea typeface="Tahoma"/>
              </a:rPr>
              <a:t>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0000"/>
                </a:solidFill>
                <a:latin typeface="Tahoma"/>
                <a:cs typeface="FreesiaUPC"/>
              </a:rPr>
              <a:t>สำหรับสินค้าชิ้นส่วนยานยนต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7680" y="4721400"/>
            <a:ext cx="8837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จะ</a:t>
            </a:r>
            <a:r>
              <a:rPr b="1" lang="hi-IN" sz="4000" spc="-1" strike="noStrike">
                <a:solidFill>
                  <a:srgbClr val="cc0000"/>
                </a:solidFill>
                <a:latin typeface="Tahoma"/>
                <a:cs typeface="FreesiaUPC"/>
              </a:rPr>
              <a:t>ไม่มี</a:t>
            </a: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ความสำคั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0000" y="3357720"/>
            <a:ext cx="1422360" cy="1144440"/>
          </a:xfrm>
          <a:prstGeom prst="downArrow">
            <a:avLst>
              <a:gd name="adj1" fmla="val 52380"/>
              <a:gd name="adj2" fmla="val 46296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8920" y="4349880"/>
            <a:ext cx="3162240" cy="2146320"/>
          </a:xfrm>
          <a:prstGeom prst="rect">
            <a:avLst/>
          </a:prstGeom>
          <a:solidFill>
            <a:srgbClr val="99cc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5680" y="4349880"/>
            <a:ext cx="3163680" cy="504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00000" y="1557360"/>
            <a:ext cx="76564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533520" indent="-533520" algn="ctr">
              <a:lnSpc>
                <a:spcPct val="120000"/>
              </a:lnSpc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วิธีการผลิตแบบใช้วัตถุดิบในประเทศทั้งหมด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  <a:ea typeface="FreesiaUPC"/>
              </a:rPr>
              <a:t>“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  <a:ea typeface="FreesiaUPC"/>
              </a:rPr>
              <a:t>Wholly Obtain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2133720"/>
            <a:ext cx="2438280" cy="934920"/>
          </a:xfrm>
          <a:prstGeom prst="ellipse">
            <a:avLst/>
          </a:prstGeom>
          <a:solidFill>
            <a:srgbClr val="c0c0c0">
              <a:alpha val="50000"/>
            </a:srgbClr>
          </a:solidFill>
          <a:ln cap="sq"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163600"/>
            <a:ext cx="379440" cy="330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00080" y="2506680"/>
            <a:ext cx="27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การเกิด การเลี้ย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024440" y="1128600"/>
            <a:ext cx="1152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WO</a:t>
            </a:r>
            <a:endParaRPr b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2602080"/>
            <a:ext cx="2768760" cy="769680"/>
          </a:xfrm>
          <a:prstGeom prst="ellipse">
            <a:avLst/>
          </a:prstGeom>
          <a:solidFill>
            <a:srgbClr val="c0c0c0">
              <a:alpha val="37000"/>
            </a:srgbClr>
          </a:solidFill>
          <a:ln cap="sq"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67720" y="2781360"/>
            <a:ext cx="203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เก็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รวบรว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2935440" y="2730600"/>
            <a:ext cx="556920" cy="411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796000" y="2349360"/>
            <a:ext cx="3124080" cy="863640"/>
          </a:xfrm>
          <a:prstGeom prst="ellipse">
            <a:avLst/>
          </a:prstGeom>
          <a:solidFill>
            <a:srgbClr val="c0c0c0">
              <a:alpha val="50000"/>
            </a:srgbClr>
          </a:solidFill>
          <a:ln cap="sq"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23200" y="2357280"/>
            <a:ext cx="2241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การดัก จั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รวบรวม เพาะเลี้ย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5940360" y="2492280"/>
            <a:ext cx="649440" cy="4003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6372360" y="2421000"/>
            <a:ext cx="360360" cy="2998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>
            <a:alphaModFix amt="80000"/>
          </a:blip>
          <a:stretch/>
        </p:blipFill>
        <p:spPr>
          <a:xfrm>
            <a:off x="23760" y="34920"/>
            <a:ext cx="9077400" cy="987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-732600" y="54000"/>
            <a:ext cx="107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ahoma"/>
                <a:cs typeface="FreesiaUPC"/>
              </a:rPr>
              <a:t>วิธีผลิตเพื่อให้ได้แหล่งกำเนิดสินค้ามีวิธีอะไรบ้าง </a:t>
            </a:r>
            <a:r>
              <a:rPr b="1" lang="en-US" sz="6000" spc="-1" strike="noStrike">
                <a:solidFill>
                  <a:srgbClr val="000099"/>
                </a:solidFill>
                <a:latin typeface="Tahoma"/>
                <a:ea typeface="FreesiaUPC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30120" y="4329000"/>
            <a:ext cx="1656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โรงงาน </a:t>
            </a: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1200" y="4937040"/>
            <a:ext cx="3414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ใช้เหล็กเส้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หนัง โฟม ในประเทศ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มาตัด อัด ขึ้นรูป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2080" y="3700440"/>
            <a:ext cx="308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ตัวอย่าง เบาะรถยนต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9"/>
          <a:stretch/>
        </p:blipFill>
        <p:spPr>
          <a:xfrm>
            <a:off x="1173240" y="4505400"/>
            <a:ext cx="317520" cy="24444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3606840" y="4307040"/>
            <a:ext cx="2665440" cy="2179440"/>
            <a:chOff x="3606840" y="4307040"/>
            <a:chExt cx="2665440" cy="2179440"/>
          </a:xfrm>
        </p:grpSpPr>
        <p:sp>
          <p:nvSpPr>
            <p:cNvPr id="438" name=""/>
            <p:cNvSpPr/>
            <p:nvPr/>
          </p:nvSpPr>
          <p:spPr>
            <a:xfrm>
              <a:off x="4008600" y="4340160"/>
              <a:ext cx="2185920" cy="2146320"/>
            </a:xfrm>
            <a:prstGeom prst="rect">
              <a:avLst/>
            </a:prstGeom>
            <a:solidFill>
              <a:srgbClr val="99cc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05360" y="4340160"/>
              <a:ext cx="2187360" cy="504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5040" y="4307040"/>
              <a:ext cx="16423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โรงงาน </a:t>
              </a:r>
              <a:r>
                <a:rPr b="1" lang="hi-IN" sz="36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48400" y="4854600"/>
              <a:ext cx="242388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นำมา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ประกอบย่อย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เย็บ ขึ้นรูป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10"/>
            <a:stretch/>
          </p:blipFill>
          <p:spPr>
            <a:xfrm>
              <a:off x="4300560" y="4467240"/>
              <a:ext cx="3175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06840" y="5062680"/>
              <a:ext cx="36036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259680" y="4317840"/>
            <a:ext cx="2682720" cy="2187720"/>
            <a:chOff x="6259680" y="4317840"/>
            <a:chExt cx="2682720" cy="2187720"/>
          </a:xfrm>
        </p:grpSpPr>
        <p:grpSp>
          <p:nvGrpSpPr>
            <p:cNvPr id="445" name=""/>
            <p:cNvGrpSpPr/>
            <p:nvPr/>
          </p:nvGrpSpPr>
          <p:grpSpPr>
            <a:xfrm>
              <a:off x="6551640" y="4317840"/>
              <a:ext cx="2390760" cy="2187720"/>
              <a:chOff x="6551640" y="4317840"/>
              <a:chExt cx="2390760" cy="2187720"/>
            </a:xfrm>
          </p:grpSpPr>
          <p:sp>
            <p:nvSpPr>
              <p:cNvPr id="446" name=""/>
              <p:cNvSpPr/>
              <p:nvPr/>
            </p:nvSpPr>
            <p:spPr>
              <a:xfrm>
                <a:off x="6705720" y="4359240"/>
                <a:ext cx="2236680" cy="2146320"/>
              </a:xfrm>
              <a:prstGeom prst="rect">
                <a:avLst/>
              </a:prstGeom>
              <a:solidFill>
                <a:srgbClr val="99ccff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716880" y="4359240"/>
                <a:ext cx="2224080" cy="504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888600" y="4317840"/>
                <a:ext cx="166644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800" spc="-1" strike="noStrike">
                    <a:solidFill>
                      <a:srgbClr val="ffffff"/>
                    </a:solidFill>
                    <a:latin typeface="Tahoma"/>
                    <a:cs typeface="FreesiaUPC"/>
                  </a:rPr>
                  <a:t>โรงงาน </a:t>
                </a:r>
                <a:r>
                  <a:rPr b="1" lang="hi-IN" sz="3600" spc="-1" strike="noStrike">
                    <a:solidFill>
                      <a:srgbClr val="ffffff"/>
                    </a:solidFill>
                    <a:latin typeface="Tahoma"/>
                    <a:cs typeface="FreesiaUPC"/>
                  </a:rPr>
                  <a:t>ค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551640" y="4962600"/>
                <a:ext cx="2332440" cy="14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3400" spc="-1" strike="noStrike">
                    <a:solidFill>
                      <a:srgbClr val="000000"/>
                    </a:solidFill>
                    <a:latin typeface="Tahoma"/>
                    <a:cs typeface="FreesiaUPC"/>
                  </a:rPr>
                  <a:t>ขึ้นรูป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3400" spc="-1" strike="noStrike">
                    <a:solidFill>
                      <a:srgbClr val="000000"/>
                    </a:solidFill>
                    <a:latin typeface="Tahoma"/>
                    <a:cs typeface="FreesiaUPC"/>
                  </a:rPr>
                  <a:t>ประกอบเป็น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3400" spc="-1" strike="noStrike">
                    <a:solidFill>
                      <a:srgbClr val="000000"/>
                    </a:solidFill>
                    <a:latin typeface="Tahoma"/>
                    <a:cs typeface="FreesiaUPC"/>
                  </a:rPr>
                  <a:t>เบาะรถยนต์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4760" y="4494240"/>
                <a:ext cx="317520" cy="244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1" name=""/>
            <p:cNvSpPr/>
            <p:nvPr/>
          </p:nvSpPr>
          <p:spPr>
            <a:xfrm>
              <a:off x="6259680" y="5081760"/>
              <a:ext cx="36036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ffffff">
              <a:alpha val="1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0080" y="1380960"/>
            <a:ext cx="9015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วิธีการผลิตแบบ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Tahoma"/>
                <a:ea typeface="FreesiaUPC"/>
              </a:rPr>
              <a:t>Substantial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3840" y="3043080"/>
            <a:ext cx="48387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  การเปลี่ยนพิกัดแบบ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2 </a:t>
            </a: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ตั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000" y="2114640"/>
            <a:ext cx="8537400" cy="1752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5751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760" y="2060640"/>
            <a:ext cx="84643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ารเปลี่ยนพิกัดอัตราศุลกากร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FreesiaUPC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Change of Tariff Classification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: CTC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FreesiaUPC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FreesiaUPC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3762360"/>
            <a:ext cx="3681360" cy="1817640"/>
          </a:xfrm>
          <a:prstGeom prst="rect">
            <a:avLst/>
          </a:prstGeom>
          <a:solidFill>
            <a:srgbClr val="99ccff">
              <a:alpha val="79000"/>
            </a:srgbClr>
          </a:solidFill>
          <a:ln cap="sq" w="1080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08720" y="3747960"/>
            <a:ext cx="3124080" cy="1820880"/>
          </a:xfrm>
          <a:prstGeom prst="rect">
            <a:avLst/>
          </a:prstGeom>
          <a:solidFill>
            <a:srgbClr val="ffffff">
              <a:alpha val="27000"/>
            </a:srgbClr>
          </a:solidFill>
          <a:ln cap="sq" w="1080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46800" y="3898800"/>
            <a:ext cx="3222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ชิ้นส่วนพลาสติ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กอบรถยนต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  <a:ea typeface="FreesiaUPC"/>
              </a:rPr>
              <a:t>87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08.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-641160" y="5975280"/>
            <a:ext cx="6813360" cy="82548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0000"/>
                </a:solidFill>
                <a:latin typeface="Tahoma"/>
                <a:cs typeface="FreesiaUPC"/>
              </a:rPr>
              <a:t>กฎ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FreesiaUPC"/>
              </a:rPr>
              <a:t>ST </a:t>
            </a:r>
            <a:r>
              <a:rPr b="1" lang="th-TH" sz="2400" spc="-1" strike="noStrike">
                <a:solidFill>
                  <a:srgbClr val="cc0000"/>
                </a:solidFill>
                <a:latin typeface="Tahoma"/>
                <a:cs typeface="FreesiaUPC"/>
              </a:rPr>
              <a:t>สนับสนุนให้นำเข้าวัตถุดิบจากทุกประเทศในโล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0000"/>
                </a:solidFill>
                <a:latin typeface="Tahoma"/>
                <a:cs typeface="FreesiaUPC"/>
              </a:rPr>
              <a:t>มาผ่านกระบวนการผลิตและแปรสภาพในประเทศไท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874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-732600" y="54000"/>
            <a:ext cx="107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ahoma"/>
                <a:cs typeface="FreesiaUPC"/>
              </a:rPr>
              <a:t>วิธีผลิตเพื่อให้ได้แหล่งกำเนิดสินค้ามีวิธีอะไรบ้าง </a:t>
            </a:r>
            <a:r>
              <a:rPr b="1" lang="en-US" sz="6000" spc="-1" strike="noStrike">
                <a:solidFill>
                  <a:srgbClr val="000099"/>
                </a:solidFill>
                <a:latin typeface="Tahoma"/>
                <a:ea typeface="FreesiaUPC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9280" y="1096920"/>
            <a:ext cx="9954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ST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4421160" y="4076640"/>
            <a:ext cx="723960" cy="984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1600" y="4035600"/>
            <a:ext cx="44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เม็ดพลาสติก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  <a:ea typeface="FreesiaUPC"/>
              </a:rPr>
              <a:t>39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02.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โพลิอีเทอร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  <a:ea typeface="FreesiaUPC"/>
              </a:rPr>
              <a:t>39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07.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18000" y="4417920"/>
            <a:ext cx="50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CC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10684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0" y="1600200"/>
            <a:ext cx="9144000" cy="1752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400" y="3390840"/>
            <a:ext cx="9144000" cy="17528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5195880"/>
            <a:ext cx="9144000" cy="17524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09840" y="157320"/>
            <a:ext cx="65530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FreesiaUPC"/>
              </a:rPr>
              <a:t>การเปลี่ยนแปลงพิกัดศุลกาก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99"/>
                </a:solidFill>
                <a:latin typeface="Tahoma"/>
                <a:ea typeface="FreesiaUPC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FreesiaUPC"/>
              </a:rPr>
              <a:t>Change of Tariff Classification:C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4120" y="1852560"/>
            <a:ext cx="765360" cy="2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CC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1280880" y="1781280"/>
            <a:ext cx="344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FreesiaUPC"/>
              </a:rPr>
              <a:t>(Change of chap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6440" y="2457360"/>
            <a:ext cx="327672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เม็ดพลาสติก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2400" spc="-1" strike="noStrike">
                <a:solidFill>
                  <a:srgbClr val="cc0000"/>
                </a:solidFill>
                <a:latin typeface="Tahoma"/>
                <a:ea typeface="Tahoma"/>
              </a:rPr>
              <a:t>39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02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42080" y="2349360"/>
            <a:ext cx="3209760" cy="646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ชิ้นส่วนพลาสติก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ahoma"/>
              </a:rPr>
              <a:t>87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08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78120" y="2311560"/>
            <a:ext cx="1963800" cy="914400"/>
          </a:xfrm>
          <a:prstGeom prst="rightArrow">
            <a:avLst>
              <a:gd name="adj1" fmla="val 57981"/>
              <a:gd name="adj2" fmla="val 647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Process (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16280" y="4037040"/>
            <a:ext cx="1963800" cy="914400"/>
          </a:xfrm>
          <a:prstGeom prst="rightArrow">
            <a:avLst>
              <a:gd name="adj1" fmla="val 57981"/>
              <a:gd name="adj2" fmla="val 647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Process (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00040" y="3624120"/>
            <a:ext cx="1060560" cy="2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CTH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1680480" y="3522600"/>
            <a:ext cx="452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FreesiaUPC"/>
              </a:rPr>
              <a:t>(Change of Tariff Head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2080" y="5830920"/>
            <a:ext cx="2977920" cy="88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ชิ้นส่วนโช้คอั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8708.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FreesiaUPC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46600" y="5662440"/>
            <a:ext cx="3368880" cy="105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โช้คอัพ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8708.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FreesiaUPC"/>
              </a:rPr>
              <a:t>80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41760" y="5780160"/>
            <a:ext cx="1963800" cy="914400"/>
          </a:xfrm>
          <a:prstGeom prst="rightArrow">
            <a:avLst>
              <a:gd name="adj1" fmla="val 57981"/>
              <a:gd name="adj2" fmla="val 647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Process (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44600" y="5348160"/>
            <a:ext cx="1400040" cy="2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CTSH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1928160" y="5246640"/>
            <a:ext cx="452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FreesiaUPC"/>
              </a:rPr>
              <a:t>(Change of Tariff Head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480" y="4162320"/>
            <a:ext cx="32763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หลอดไฟ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85</a:t>
            </a:r>
            <a:r>
              <a:rPr b="1" lang="th-TH" sz="2400" spc="-1" strike="noStrike">
                <a:solidFill>
                  <a:srgbClr val="cc0000"/>
                </a:solidFill>
                <a:latin typeface="Tahoma"/>
                <a:ea typeface="Tahoma"/>
              </a:rPr>
              <a:t>39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767560" y="3998880"/>
            <a:ext cx="3276360" cy="1205280"/>
            <a:chOff x="5767560" y="3998880"/>
            <a:chExt cx="3276360" cy="1205280"/>
          </a:xfrm>
        </p:grpSpPr>
        <p:sp>
          <p:nvSpPr>
            <p:cNvPr id="487" name=""/>
            <p:cNvSpPr/>
            <p:nvPr/>
          </p:nvSpPr>
          <p:spPr>
            <a:xfrm>
              <a:off x="5767560" y="3998880"/>
              <a:ext cx="3276360" cy="99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05600" y="42386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ahoma"/>
                </a:rPr>
                <a:t>85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94280" y="4151160"/>
              <a:ext cx="224784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  </a:t>
              </a: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มไ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</a:t>
              </a: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ส่องป้ายทะเบีย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495520" y="1873080"/>
            <a:ext cx="4176720" cy="6732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057400" y="38088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-1409760" y="3567240"/>
          <a:ext cx="8559720" cy="230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09760" y="3567240"/>
                    <a:ext cx="855972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541440" y="3990960"/>
            <a:ext cx="1936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วัตถุดิบ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นำเข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X%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81240" y="4168800"/>
            <a:ext cx="3809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ประเทศไท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Y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>
            <a:alphaModFix amt="80000"/>
          </a:blip>
          <a:stretch/>
        </p:blipFill>
        <p:spPr>
          <a:xfrm>
            <a:off x="23760" y="34920"/>
            <a:ext cx="9077400" cy="9874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-732600" y="54000"/>
            <a:ext cx="107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ahoma"/>
                <a:cs typeface="FreesiaUPC"/>
              </a:rPr>
              <a:t>วิธีผลิตเพื่อให้ได้แหล่งกำเนิดสินค้ามีวิธีอะไรบ้าง </a:t>
            </a:r>
            <a:r>
              <a:rPr b="1" lang="en-US" sz="6000" spc="-1" strike="noStrike">
                <a:solidFill>
                  <a:srgbClr val="000099"/>
                </a:solidFill>
                <a:latin typeface="Tahoma"/>
                <a:ea typeface="FreesiaUPC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160" y="1473120"/>
            <a:ext cx="9015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533520" indent="-5335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3.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วิธีการผลิตแบบใช้สัดส่วนวัตถุดิบในประเทศ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FreesiaUPC"/>
              </a:rPr>
              <a:t>Local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13760" y="587700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LC % = Y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84720" y="2060640"/>
            <a:ext cx="2808360" cy="14396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81680" y="2095560"/>
            <a:ext cx="3105000" cy="3657600"/>
          </a:xfrm>
          <a:prstGeom prst="wedgeEllipseCallout">
            <a:avLst>
              <a:gd name="adj1" fmla="val -91768"/>
              <a:gd name="adj2" fmla="val 30384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58280" y="2421000"/>
            <a:ext cx="343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วัตถุดิ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ค่าแรง กำไ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ต้นทุนการผลิ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ค่าขนส่งมาท่าเรื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Tahoma"/>
                <a:cs typeface="FreesiaUPC"/>
              </a:rPr>
              <a:t>ขึ้นกับการเจรจ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15560" y="260280"/>
            <a:ext cx="9328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rial"/>
                <a:cs typeface="FreesiaUPC"/>
              </a:rPr>
              <a:t>สูตรการคำนวณ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  <a:ea typeface="FreesiaUPC"/>
              </a:rPr>
              <a:t>Local Content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FreesiaUPC"/>
              </a:rPr>
              <a:t> </a:t>
            </a:r>
            <a:r>
              <a:rPr b="1" lang="th-TH" sz="3400" spc="-1" strike="noStrike">
                <a:solidFill>
                  <a:srgbClr val="cc0000"/>
                </a:solidFill>
                <a:latin typeface="Arial"/>
                <a:cs typeface="FreesiaUPC"/>
              </a:rPr>
              <a:t>ของอาเซียน</a:t>
            </a:r>
            <a:r>
              <a:rPr b="1" lang="th-TH" sz="3400" spc="-1" strike="noStrike">
                <a:solidFill>
                  <a:srgbClr val="000000"/>
                </a:solidFill>
                <a:latin typeface="Arial"/>
                <a:cs typeface="FreesiaUPC"/>
              </a:rPr>
              <a:t>ในปัจจุบั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600" y="981000"/>
            <a:ext cx="9144000" cy="2860920"/>
          </a:xfrm>
          <a:prstGeom prst="rect">
            <a:avLst/>
          </a:prstGeom>
          <a:solidFill>
            <a:srgbClr val="000080">
              <a:alpha val="39000"/>
            </a:srgbClr>
          </a:solid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-441720" y="1231920"/>
            <a:ext cx="56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คำนวณทางตรง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FreesiaUPC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Direct w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8080" y="2023920"/>
            <a:ext cx="8732880" cy="20440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FreesiaUPC"/>
              </a:rPr>
              <a:t>   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มูลค่าวัตถุดิบในประเทศ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+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ต้นทุ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FreesiaUPC"/>
              </a:rPr>
              <a:t>=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FreesiaUPC"/>
              </a:rPr>
              <a:t>+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กำไร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+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ค่าขนส่ง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(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มาที่ท่าเรือ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)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FreesiaUPC"/>
              </a:rPr>
              <a:t>       x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100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&gt;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FreesiaUPC"/>
              </a:rPr>
              <a:t>40%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            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ราคา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FreesiaUPC"/>
              </a:rPr>
              <a:t>FO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6280" y="3152880"/>
            <a:ext cx="4168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-351000" y="398952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การคำนวณทางอ้อม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FreesiaUPC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FreesiaUPC"/>
              </a:rPr>
              <a:t>Indirect w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920" y="4729320"/>
            <a:ext cx="744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=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มูลค่าวัตถุดิบนำเข้า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x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FreesiaUPC"/>
              </a:rPr>
              <a:t> 100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  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ราคา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F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25760" y="536904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98560" y="6243480"/>
            <a:ext cx="35892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44760" y="613404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Tahoma"/>
                <a:cs typeface="FreesiaUPC"/>
              </a:rPr>
              <a:t>ใช้เป็นท่าทีของไทยในการเจรจา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F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332000" y="261144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-1121760" y="225360"/>
            <a:ext cx="1185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</a:t>
            </a:r>
            <a:r>
              <a:rPr b="1" lang="hi-IN" sz="3600" spc="-1" strike="noStrike">
                <a:solidFill>
                  <a:srgbClr val="cc0000"/>
                </a:solidFill>
                <a:latin typeface="Arial"/>
                <a:cs typeface="FreesiaUPC"/>
              </a:rPr>
              <a:t>ลิ้นไอดีไอเสีย สำหรับเครื่องยนต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FreesiaUPC"/>
              </a:rPr>
              <a:t>..84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9280" y="1844640"/>
            <a:ext cx="2287800" cy="3519360"/>
          </a:xfrm>
          <a:prstGeom prst="rect">
            <a:avLst/>
          </a:prstGeom>
          <a:solidFill>
            <a:srgbClr val="3366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87640" y="1844640"/>
            <a:ext cx="3325680" cy="3519360"/>
          </a:xfrm>
          <a:prstGeom prst="rect">
            <a:avLst/>
          </a:prstGeom>
          <a:solidFill>
            <a:srgbClr val="4d4d4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7680" y="114156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5280" y="1905120"/>
            <a:ext cx="2681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654360" y="114624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17640" y="1480320"/>
            <a:ext cx="317988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กำไร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ขนส่ง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2385000" y="3481920"/>
            <a:ext cx="7192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77080" y="2708280"/>
            <a:ext cx="25779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ลิ้นไอดีไอเสีย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FreesiaUPC"/>
              </a:rPr>
              <a:t>        </a:t>
            </a:r>
            <a:r>
              <a:rPr b="1" lang="en-US" sz="2600" spc="-1" strike="noStrike">
                <a:solidFill>
                  <a:srgbClr val="cc0000"/>
                </a:solidFill>
                <a:latin typeface="Tahoma"/>
                <a:ea typeface="FreesiaUPC"/>
              </a:rPr>
              <a:t>LC ~8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42000" y="4869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08720" y="2060640"/>
            <a:ext cx="215640" cy="1915920"/>
          </a:xfrm>
          <a:custGeom>
            <a:avLst/>
            <a:gdLst>
              <a:gd name="textAreaLeft" fmla="*/ 0 w 215640"/>
              <a:gd name="textAreaRight" fmla="*/ 77760 w 215640"/>
              <a:gd name="textAreaTop" fmla="*/ 49680 h 1915920"/>
              <a:gd name="textAreaBottom" fmla="*/ 186624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2990880" y="1557360"/>
            <a:ext cx="390600" cy="2998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-279360" y="1941480"/>
            <a:ext cx="31798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Tahoma"/>
                <a:cs typeface="FreesiaUPC"/>
              </a:rPr>
              <a:t>เหล็กแท่ง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7228.5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(</a:t>
            </a:r>
            <a:r>
              <a:rPr b="1" lang="th-TH" sz="3000" spc="-1" strike="noStrike">
                <a:solidFill>
                  <a:srgbClr val="ffffff"/>
                </a:solidFill>
                <a:latin typeface="Tahoma"/>
                <a:cs typeface="FreesiaUPC"/>
              </a:rPr>
              <a:t>อิตาลี</a:t>
            </a: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286704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6160" y="406080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19840" y="4437000"/>
            <a:ext cx="378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0320" y="4902120"/>
            <a:ext cx="6285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FreesiaUPC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524720" y="364500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1080" y="4170240"/>
            <a:ext cx="386568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4d4d4d"/>
                </a:solidFill>
                <a:latin typeface="Tahoma"/>
                <a:cs typeface="FreesiaUPC"/>
              </a:rPr>
              <a:t>ได้ </a:t>
            </a:r>
            <a:r>
              <a:rPr b="1" lang="en-US" sz="2600" spc="-1" strike="noStrike">
                <a:solidFill>
                  <a:srgbClr val="0000ff"/>
                </a:solidFill>
                <a:latin typeface="Tahoma"/>
                <a:ea typeface="FreesiaUPC"/>
              </a:rPr>
              <a:t>Local             Content</a:t>
            </a:r>
            <a:r>
              <a:rPr b="1" lang="th-TH" sz="3400" spc="-1" strike="noStrike">
                <a:solidFill>
                  <a:srgbClr val="4d4d4d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4d4d4d"/>
                </a:solidFill>
                <a:latin typeface="Tahoma"/>
                <a:cs typeface="FreesiaUPC"/>
              </a:rPr>
              <a:t>สูง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6192000" y="2888640"/>
            <a:ext cx="71928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03600" y="3309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2708280"/>
            <a:ext cx="9144000" cy="197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>
                  <a:alpha val="83137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503360" y="1819440"/>
            <a:ext cx="6548400" cy="6728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057400" y="38088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547640" y="2852640"/>
          <a:ext cx="6624720" cy="172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852640"/>
                    <a:ext cx="66247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2916720" y="32846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15960" y="393372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0920" y="4797360"/>
            <a:ext cx="45068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FTA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FreesiaUPC"/>
              </a:rPr>
              <a:t> : </a:t>
            </a:r>
            <a:r>
              <a:rPr b="1" lang="th-TH" sz="3600" spc="-1" strike="noStrike">
                <a:solidFill>
                  <a:srgbClr val="cc0000"/>
                </a:solidFill>
                <a:latin typeface="Tahoma"/>
                <a:cs typeface="FreesiaUPC"/>
              </a:rPr>
              <a:t>ประเทศ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A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cc0000"/>
                </a:solidFill>
                <a:latin typeface="Tahoma"/>
                <a:cs typeface="FreesiaUPC"/>
              </a:rPr>
              <a:t>และ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640" y="5589720"/>
            <a:ext cx="921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LC %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= </a:t>
            </a:r>
            <a:r>
              <a:rPr b="1" lang="th-TH" sz="3600" spc="-1" strike="noStrike">
                <a:solidFill>
                  <a:srgbClr val="0000cc"/>
                </a:solidFill>
                <a:latin typeface="Tahoma"/>
                <a:cs typeface="FreesiaUPC"/>
              </a:rPr>
              <a:t>วัตถุดิบในประเทศ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A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+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cc"/>
                </a:solidFill>
                <a:latin typeface="Tahoma"/>
                <a:cs typeface="FreesiaUPC"/>
              </a:rPr>
              <a:t>วัตถุดิบในประเทศ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ahoma"/>
                <a:ea typeface="FreesiaUPC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+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cc"/>
                </a:solidFill>
                <a:latin typeface="Tahoma"/>
                <a:cs typeface="FreesiaUPC"/>
              </a:rPr>
              <a:t>ต้นทุนการผลิตในประเทศตนเอ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22560" y="314172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อื่น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4">
            <a:alphaModFix amt="80000"/>
          </a:blip>
          <a:stretch/>
        </p:blipFill>
        <p:spPr>
          <a:xfrm>
            <a:off x="23760" y="34920"/>
            <a:ext cx="9077400" cy="9874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-732600" y="54000"/>
            <a:ext cx="107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ahoma"/>
                <a:cs typeface="FreesiaUPC"/>
              </a:rPr>
              <a:t>วิธีผลิตเพื่อให้ได้แหล่งกำเนิดสินค้ามีวิธีอะไรบ้าง </a:t>
            </a:r>
            <a:r>
              <a:rPr b="1" lang="en-US" sz="6000" spc="-1" strike="noStrike">
                <a:solidFill>
                  <a:srgbClr val="000099"/>
                </a:solidFill>
                <a:latin typeface="Tahoma"/>
                <a:ea typeface="FreesiaUPC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1033560"/>
            <a:ext cx="90154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4.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ารผลิตแบบ</a:t>
            </a:r>
            <a:r>
              <a:rPr b="1" lang="th-TH" sz="3400" spc="-1" strike="noStrike">
                <a:solidFill>
                  <a:srgbClr val="cc0000"/>
                </a:solidFill>
                <a:latin typeface="Tahoma"/>
                <a:cs typeface="FreesiaUPC"/>
              </a:rPr>
              <a:t>สะสมวัตถุดิบ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ระหว่างประเทศภาคี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FreesiaUPC"/>
              </a:rPr>
              <a:t>FTA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ด้วยกั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22240" y="1865160"/>
            <a:ext cx="4167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FreesiaUPC"/>
              </a:rPr>
              <a:t>Regional Value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28680" y="5415120"/>
            <a:ext cx="1251000" cy="493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332000" y="205272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-3240" y="-6480"/>
            <a:ext cx="9077400" cy="8496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-457200" y="112680"/>
            <a:ext cx="99774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</a:t>
            </a:r>
            <a:r>
              <a:rPr b="1" lang="th-TH" sz="2800" spc="-1" strike="noStrike">
                <a:solidFill>
                  <a:srgbClr val="cc0000"/>
                </a:solidFill>
                <a:latin typeface="Tahoma"/>
                <a:ea typeface="FreesiaUPC"/>
              </a:rPr>
              <a:t>.</a:t>
            </a:r>
            <a:r>
              <a:rPr b="1" lang="th-TH" sz="2800" spc="-1" strike="noStrike">
                <a:solidFill>
                  <a:srgbClr val="cc0000"/>
                </a:solidFill>
                <a:latin typeface="Tahoma"/>
                <a:cs typeface="FreesiaUPC"/>
              </a:rPr>
              <a:t>สวิตซ์ไฟเตือนประตูหน้า</a:t>
            </a:r>
            <a:r>
              <a:rPr b="1" lang="th-TH" sz="2800" spc="-1" strike="noStrike">
                <a:solidFill>
                  <a:srgbClr val="cc0000"/>
                </a:solidFill>
                <a:latin typeface="Arial"/>
                <a:ea typeface="FreesiaUPC"/>
              </a:rPr>
              <a:t>.8708.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เพื่อส่งออกไปประเทศ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FT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9280" y="1285920"/>
            <a:ext cx="2287800" cy="3591000"/>
          </a:xfrm>
          <a:prstGeom prst="rect">
            <a:avLst/>
          </a:prstGeom>
          <a:solidFill>
            <a:srgbClr val="3366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87640" y="1268280"/>
            <a:ext cx="3325680" cy="3565800"/>
          </a:xfrm>
          <a:prstGeom prst="rect">
            <a:avLst/>
          </a:prstGeom>
          <a:solidFill>
            <a:srgbClr val="4d4d4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6520" y="78912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5280" y="1346040"/>
            <a:ext cx="2681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24120" y="82224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43280" y="793080"/>
            <a:ext cx="317952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กำไร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ขนส่ง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2385000" y="2923200"/>
            <a:ext cx="7192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51360" y="4278240"/>
            <a:ext cx="5050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35720" y="1373040"/>
            <a:ext cx="215640" cy="1916280"/>
          </a:xfrm>
          <a:custGeom>
            <a:avLst/>
            <a:gdLst>
              <a:gd name="textAreaLeft" fmla="*/ 0 w 215640"/>
              <a:gd name="textAreaRight" fmla="*/ 77760 w 215640"/>
              <a:gd name="textAreaTop" fmla="*/ 49680 h 1916280"/>
              <a:gd name="textAreaBottom" fmla="*/ 1866600 h 191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2990880" y="998640"/>
            <a:ext cx="390600" cy="299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-254160" y="1460880"/>
            <a:ext cx="317988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  <a:ea typeface="FreesiaUPC"/>
              </a:rPr>
              <a:t>Finished C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Tahoma"/>
                <a:ea typeface="FreesiaUPC"/>
              </a:rPr>
              <a:t>4016.9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ffff"/>
                </a:solidFill>
                <a:latin typeface="Tahoma"/>
                <a:ea typeface="FreesiaUPC"/>
              </a:rPr>
              <a:t>(</a:t>
            </a:r>
            <a:r>
              <a:rPr b="1" lang="th-TH" sz="3000" spc="-1" strike="noStrike">
                <a:solidFill>
                  <a:srgbClr val="00ffff"/>
                </a:solidFill>
                <a:latin typeface="Tahoma"/>
                <a:cs typeface="FreesiaUPC"/>
              </a:rPr>
              <a:t>ญี่ปุ่น</a:t>
            </a:r>
            <a:r>
              <a:rPr b="1" lang="th-TH" sz="3000" spc="-1" strike="noStrike">
                <a:solidFill>
                  <a:srgbClr val="00ffff"/>
                </a:solidFill>
                <a:latin typeface="Tahoma"/>
                <a:ea typeface="FreesiaUPC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42360" y="217188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07360" y="4343400"/>
            <a:ext cx="646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ahoma"/>
                <a:ea typeface="Tahoma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4400" y="3429000"/>
            <a:ext cx="378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722920" y="3879720"/>
            <a:ext cx="6285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360" y="4919760"/>
            <a:ext cx="8340840" cy="31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0" indent="-9828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ea typeface="FreesiaUPC"/>
              </a:rPr>
              <a:t>     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ได้</a:t>
            </a:r>
            <a:r>
              <a:rPr b="1" lang="th-TH" sz="2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ahoma"/>
                <a:ea typeface="FreesiaUPC"/>
              </a:rPr>
              <a:t>Local Content</a:t>
            </a:r>
            <a:r>
              <a:rPr b="1" lang="th-TH" sz="3000" spc="-1" strike="noStrike">
                <a:solidFill>
                  <a:srgbClr val="4d4d4d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ไม่สูง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982800" indent="-9828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82800" indent="-9828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ดังนั้น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ea typeface="FreesiaUPC"/>
              </a:rPr>
              <a:t> การได้แหล่งกำเนิดสินค้า อาจใช้วิธีเปลี่ยนการพิกัด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982800" indent="-9828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ea typeface="FreesiaUPC"/>
              </a:rPr>
              <a:t>       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หรือ ในกรอบ </a:t>
            </a:r>
            <a:r>
              <a:rPr b="1" lang="en-US" sz="2600" spc="-1" strike="noStrike">
                <a:solidFill>
                  <a:srgbClr val="ff6600"/>
                </a:solidFill>
                <a:latin typeface="Tahoma"/>
                <a:ea typeface="FreesiaUPC"/>
              </a:rPr>
              <a:t>FTA</a:t>
            </a:r>
            <a:r>
              <a:rPr b="1" lang="en-US" sz="3400" spc="-1" strike="noStrike">
                <a:solidFill>
                  <a:srgbClr val="ff6600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ff6600"/>
                </a:solidFill>
                <a:latin typeface="Tahoma"/>
                <a:cs typeface="FreesiaUPC"/>
              </a:rPr>
              <a:t>ไทย</a:t>
            </a:r>
            <a:r>
              <a:rPr b="1" lang="th-TH" sz="3400" spc="-1" strike="noStrike">
                <a:solidFill>
                  <a:srgbClr val="ff6600"/>
                </a:solidFill>
                <a:latin typeface="Tahoma"/>
                <a:ea typeface="FreesiaUPC"/>
              </a:rPr>
              <a:t>-</a:t>
            </a:r>
            <a:r>
              <a:rPr b="1" lang="th-TH" sz="3400" spc="-1" strike="noStrike">
                <a:solidFill>
                  <a:srgbClr val="ff6600"/>
                </a:solidFill>
                <a:latin typeface="Tahoma"/>
                <a:cs typeface="FreesiaUPC"/>
              </a:rPr>
              <a:t>ญี่ปุ่น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ea typeface="FreesiaUPC"/>
              </a:rPr>
              <a:t> มูลค่า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FreesiaUPC"/>
              </a:rPr>
              <a:t>Finished Case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ea typeface="FreesiaUPC"/>
              </a:rPr>
              <a:t>   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ที่นำเข้า ให้นำมารวมในการคิด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FreesiaUPC"/>
              </a:rPr>
              <a:t>Content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ของไทยได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982800" indent="-9828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16200000">
            <a:off x="6219000" y="2834640"/>
            <a:ext cx="71928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86040" y="2990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89360" y="2460600"/>
            <a:ext cx="277308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วิตซ์ไฟเตือ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ประตูหน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FreesiaUPC"/>
              </a:rPr>
              <a:t>LC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~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FreesiaUPC"/>
              </a:rPr>
              <a:t>4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6200000">
            <a:off x="948240" y="5031000"/>
            <a:ext cx="36036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01880" y="458640"/>
            <a:ext cx="19728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Tahoma"/>
                <a:cs typeface="FreesiaUPC"/>
              </a:rPr>
              <a:t>ยกเว้น ญี่ปุ่น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6842160" y="1773360"/>
            <a:ext cx="2301840" cy="3546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32000" y="261144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-1316520" y="290520"/>
            <a:ext cx="11707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1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</a:t>
            </a:r>
            <a:r>
              <a:rPr b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..</a:t>
            </a:r>
            <a:r>
              <a:rPr b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หม้อน้ำรถยนต์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FreesiaUPC"/>
              </a:rPr>
              <a:t>..8708.91..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FreesiaUPC"/>
              </a:rPr>
              <a:t>เพื่อส่งออกไปญี่ปุ่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5240" y="1695600"/>
            <a:ext cx="2287440" cy="4022640"/>
          </a:xfrm>
          <a:prstGeom prst="rect">
            <a:avLst/>
          </a:prstGeom>
          <a:solidFill>
            <a:srgbClr val="3366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73240" y="1695600"/>
            <a:ext cx="3326040" cy="4022640"/>
          </a:xfrm>
          <a:prstGeom prst="rect">
            <a:avLst/>
          </a:prstGeom>
          <a:solidFill>
            <a:srgbClr val="4d4d4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3280" y="99216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5280" y="1905120"/>
            <a:ext cx="2681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39960" y="99684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30600" y="1262880"/>
            <a:ext cx="317952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วัตถุดิบ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กำไร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ขนส่ง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6200000">
            <a:off x="2370960" y="3332520"/>
            <a:ext cx="71892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62680" y="2558880"/>
            <a:ext cx="25783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หม้อน้ำรถยนต์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FreesiaUPC"/>
              </a:rPr>
              <a:t>        </a:t>
            </a:r>
            <a:r>
              <a:rPr b="1" lang="en-US" sz="2600" spc="-1" strike="noStrike">
                <a:solidFill>
                  <a:srgbClr val="cc0000"/>
                </a:solidFill>
                <a:latin typeface="Tahoma"/>
                <a:ea typeface="FreesiaUPC"/>
              </a:rPr>
              <a:t>LC ~6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10320" y="51516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94320" y="2416320"/>
            <a:ext cx="155520" cy="1760400"/>
          </a:xfrm>
          <a:custGeom>
            <a:avLst/>
            <a:gdLst>
              <a:gd name="textAreaLeft" fmla="*/ 0 w 155520"/>
              <a:gd name="textAreaRight" fmla="*/ 56160 w 155520"/>
              <a:gd name="textAreaTop" fmla="*/ 45720 h 1760400"/>
              <a:gd name="textAreaBottom" fmla="*/ 1714680 h 176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76480" y="1407960"/>
            <a:ext cx="390600" cy="3002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-268200" y="1653840"/>
            <a:ext cx="3179520" cy="26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  <a:ea typeface="FreesiaUPC"/>
              </a:rPr>
              <a:t>Tube Wa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cs typeface="FreesiaUPC"/>
              </a:rPr>
              <a:t>ท่อทำด้วย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cs typeface="FreesiaUPC"/>
              </a:rPr>
              <a:t>อะลูมิเนีย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7608.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ffff"/>
                </a:solidFill>
                <a:latin typeface="Arial"/>
                <a:ea typeface="FreesiaUPC"/>
              </a:rPr>
              <a:t>(</a:t>
            </a:r>
            <a:r>
              <a:rPr b="1" lang="th-TH" sz="4000" spc="-1" strike="noStrike">
                <a:solidFill>
                  <a:srgbClr val="00ffff"/>
                </a:solidFill>
                <a:latin typeface="Arial"/>
                <a:cs typeface="FreesiaUPC"/>
              </a:rPr>
              <a:t>ญี่ปุ่น</a:t>
            </a:r>
            <a:r>
              <a:rPr b="1" lang="th-TH" sz="4000" spc="-1" strike="noStrike">
                <a:solidFill>
                  <a:srgbClr val="00ffff"/>
                </a:solidFill>
                <a:latin typeface="Arial"/>
                <a:ea typeface="FreesiaUP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727960" y="315432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99440" y="5232240"/>
            <a:ext cx="646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ahoma"/>
                <a:ea typeface="Tahoma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39120" y="430200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37320" y="4767120"/>
            <a:ext cx="6285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83320" y="3535200"/>
            <a:ext cx="43200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48480" y="3886200"/>
            <a:ext cx="386532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ได้</a:t>
            </a:r>
            <a:r>
              <a:rPr b="1" lang="th-TH" sz="26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ahoma"/>
                <a:ea typeface="FreesiaUPC"/>
              </a:rPr>
              <a:t>Local             Content</a:t>
            </a:r>
            <a:r>
              <a:rPr b="1" lang="th-TH" sz="3400" spc="-1" strike="noStrike">
                <a:solidFill>
                  <a:srgbClr val="4d4d4d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สูง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6177600" y="2738880"/>
            <a:ext cx="7192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79840" y="3857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10400" y="1839960"/>
            <a:ext cx="378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15920" y="6039000"/>
            <a:ext cx="2452680" cy="47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ไท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ญี่ปุ่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08280" y="6110280"/>
            <a:ext cx="35892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96040" y="5851440"/>
            <a:ext cx="578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มูลค่า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FreesiaUPC"/>
              </a:rPr>
              <a:t>Tube Water</a:t>
            </a:r>
            <a:r>
              <a:rPr b="1" lang="en-US" sz="35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นำเข้าจากญี่ปุ่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นับรวมเป็น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FreesiaUPC"/>
              </a:rPr>
              <a:t>Content</a:t>
            </a:r>
            <a:r>
              <a:rPr b="1" lang="en-US" sz="35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ของไทยได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3200" y="6014880"/>
            <a:ext cx="1008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กรณ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29600" cy="68580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2120" y="2038320"/>
            <a:ext cx="169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8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52480"/>
            <a:ext cx="9144000" cy="2914920"/>
          </a:xfrm>
          <a:custGeom>
            <a:avLst/>
            <a:gdLst>
              <a:gd name="textAreaLeft" fmla="*/ 72720 w 9144000"/>
              <a:gd name="textAreaRight" fmla="*/ 9071280 w 9144000"/>
              <a:gd name="textAreaTop" fmla="*/ 72720 h 2914920"/>
              <a:gd name="textAreaBottom" fmla="*/ 2842200 h 2914920"/>
            </a:gdLst>
            <a:ahLst/>
            <a:rect l="textAreaLeft" t="textAreaTop" r="textAreaRight" b="textAreaBottom"/>
            <a:pathLst>
              <a:path w="67753" h="21600">
                <a:moveTo>
                  <a:pt x="0" y="0"/>
                </a:moveTo>
                <a:lnTo>
                  <a:pt x="0" y="21600"/>
                </a:lnTo>
                <a:lnTo>
                  <a:pt x="67753" y="21600"/>
                </a:lnTo>
                <a:lnTo>
                  <a:pt x="67753" y="0"/>
                </a:lnTo>
                <a:close/>
                <a:moveTo>
                  <a:pt x="541" y="541"/>
                </a:moveTo>
                <a:lnTo>
                  <a:pt x="541" y="21059"/>
                </a:lnTo>
                <a:lnTo>
                  <a:pt x="67212" y="21059"/>
                </a:lnTo>
                <a:lnTo>
                  <a:pt x="67212" y="54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59280" y="2405160"/>
            <a:ext cx="1843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01680" y="2500200"/>
            <a:ext cx="5967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FreesiaUPC"/>
              </a:rPr>
              <a:t>ผู้ผลิต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FreesiaUPC"/>
              </a:rPr>
              <a:t>SME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FreesiaUPC"/>
              </a:rPr>
              <a:t>ชิ้นส่วนยานยนต์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  <a:ea typeface="FreesiaUPC"/>
              </a:rPr>
              <a:t>.. 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FreesiaUPC"/>
              </a:rPr>
              <a:t>สิ่งท้าทายในโลกการค้าปัจจุบั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1609560" y="1681200"/>
          <a:ext cx="592488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81200"/>
                    <a:ext cx="59248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109440" y="1297080"/>
          <a:ext cx="8874360" cy="533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440" y="1297080"/>
                    <a:ext cx="887436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4168800" y="5611680"/>
            <a:ext cx="22510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รวมกำไร  ค่าขนส่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23120" y="5032440"/>
            <a:ext cx="2971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TAF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ITF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2043000" y="5762520"/>
          <a:ext cx="64296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43000" y="5762520"/>
                    <a:ext cx="6429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389320" y="5210280"/>
            <a:ext cx="18223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FreesiaUPC"/>
              </a:rPr>
              <a:t>&gt;=45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26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r>
              <a:rPr b="1" lang="th-TH" sz="2600" spc="-1" strike="noStrike">
                <a:solidFill>
                  <a:srgbClr val="000000"/>
                </a:solidFill>
                <a:latin typeface="Tahoma"/>
                <a:ea typeface="FreesiaUPC"/>
              </a:rPr>
              <a:t>(</a:t>
            </a:r>
            <a:r>
              <a:rPr b="1" lang="th-TH" sz="2600" spc="-1" strike="noStrike">
                <a:solidFill>
                  <a:srgbClr val="000000"/>
                </a:solidFill>
                <a:latin typeface="Tahoma"/>
                <a:cs typeface="FreesiaUPC"/>
              </a:rPr>
              <a:t>เป็นข้อเสน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Tahoma"/>
                <a:cs typeface="FreesiaUPC"/>
              </a:rPr>
              <a:t>ยังไม่สรุปผล</a:t>
            </a:r>
            <a:r>
              <a:rPr b="1" lang="th-TH" sz="2600" spc="-1" strike="noStrike">
                <a:solidFill>
                  <a:srgbClr val="000000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556000" y="1413000"/>
          <a:ext cx="811080" cy="60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1413000"/>
                    <a:ext cx="81108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6" name="" descr=""/>
          <p:cNvPicPr/>
          <p:nvPr/>
        </p:nvPicPr>
        <p:blipFill>
          <a:blip r:embed="rId9"/>
          <a:stretch/>
        </p:blipFill>
        <p:spPr>
          <a:xfrm>
            <a:off x="5148360" y="3933720"/>
            <a:ext cx="482400" cy="503280"/>
          </a:xfrm>
          <a:prstGeom prst="rect">
            <a:avLst/>
          </a:prstGeom>
          <a:ln w="0">
            <a:noFill/>
          </a:ln>
        </p:spPr>
      </p:pic>
      <p:grpSp>
        <p:nvGrpSpPr>
          <p:cNvPr id="617" name=""/>
          <p:cNvGrpSpPr/>
          <p:nvPr/>
        </p:nvGrpSpPr>
        <p:grpSpPr>
          <a:xfrm>
            <a:off x="4000680" y="3222720"/>
            <a:ext cx="1143000" cy="412560"/>
            <a:chOff x="4000680" y="3222720"/>
            <a:chExt cx="1143000" cy="412560"/>
          </a:xfrm>
        </p:grpSpPr>
        <p:sp>
          <p:nvSpPr>
            <p:cNvPr id="618" name=""/>
            <p:cNvSpPr/>
            <p:nvPr/>
          </p:nvSpPr>
          <p:spPr>
            <a:xfrm>
              <a:off x="4000680" y="322272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00680" y="3222720"/>
              <a:ext cx="11430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0" name="" descr="Association of SouthEast Asian Nation"/>
          <p:cNvPicPr/>
          <p:nvPr/>
        </p:nvPicPr>
        <p:blipFill>
          <a:blip r:embed="rId10"/>
          <a:stretch/>
        </p:blipFill>
        <p:spPr>
          <a:xfrm>
            <a:off x="5003640" y="1413000"/>
            <a:ext cx="360360" cy="2314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1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888840" y="18900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ฎว่าด้วยแหล่งกำเนิดสินค้าในปัจจุบ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2"/>
          <a:stretch/>
        </p:blipFill>
        <p:spPr>
          <a:xfrm>
            <a:off x="2627280" y="2852640"/>
            <a:ext cx="563760" cy="2700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13"/>
          <a:stretch/>
        </p:blipFill>
        <p:spPr>
          <a:xfrm>
            <a:off x="4140360" y="4941720"/>
            <a:ext cx="563400" cy="27000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14"/>
          <a:stretch/>
        </p:blipFill>
        <p:spPr>
          <a:xfrm>
            <a:off x="7380360" y="2852640"/>
            <a:ext cx="563400" cy="2700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5"/>
          <a:stretch/>
        </p:blipFill>
        <p:spPr>
          <a:xfrm>
            <a:off x="7380360" y="3933720"/>
            <a:ext cx="563400" cy="2700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6"/>
          <a:stretch/>
        </p:blipFill>
        <p:spPr>
          <a:xfrm>
            <a:off x="2627280" y="3933720"/>
            <a:ext cx="563760" cy="2700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7"/>
          <a:stretch/>
        </p:blipFill>
        <p:spPr>
          <a:xfrm>
            <a:off x="2050920" y="4941720"/>
            <a:ext cx="563760" cy="2700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8"/>
          <a:stretch/>
        </p:blipFill>
        <p:spPr>
          <a:xfrm>
            <a:off x="6613560" y="4946760"/>
            <a:ext cx="563400" cy="26964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9"/>
          <a:stretch/>
        </p:blipFill>
        <p:spPr>
          <a:xfrm>
            <a:off x="4932360" y="2852640"/>
            <a:ext cx="563400" cy="27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00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162000" y="2013120"/>
          <a:ext cx="8721720" cy="4165560"/>
        </p:xfrm>
        <a:graphic>
          <a:graphicData uri="http://schemas.openxmlformats.org/drawingml/2006/table">
            <a:tbl>
              <a:tblPr/>
              <a:tblGrid>
                <a:gridCol w="3576600"/>
                <a:gridCol w="51451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ahoma"/>
                          <a:ea typeface="FreesiaUPC"/>
                        </a:rPr>
                        <a:t>   </a:t>
                      </a: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Tahoma"/>
                          <a:cs typeface="FreesiaUPC"/>
                        </a:rPr>
                        <a:t>กรอบการเจรจ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487be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ahoma"/>
                          <a:ea typeface="FreesiaUPC"/>
                        </a:rPr>
                        <a:t>       </a:t>
                      </a: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Tahoma"/>
                          <a:cs typeface="FreesiaUPC"/>
                        </a:rPr>
                        <a:t>เกณฑ์การได้แหล่งกำเนิดสินค้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487be0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W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2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or LC 45%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3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except or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LC 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4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TSH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5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 ex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ไทย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ออสเตรเลี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2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or LC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40%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3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+LC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4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5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+ LC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40%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6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 ex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7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or CTSH +LC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40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8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or CTSH except +LC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40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ไทย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นิวซีแลนด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2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ข้อเสนอไทยในกรอบไทย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เปร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2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3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79704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700360" y="1197000"/>
            <a:ext cx="3543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ff33"/>
                </a:solidFill>
                <a:latin typeface="Tahoma"/>
                <a:cs typeface="FreesiaUPC"/>
              </a:rPr>
              <a:t>สินค้าชิ้นส่วนยานยนต์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-239400" y="285840"/>
            <a:ext cx="93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เกณฑ์การได้แหล่งกำเนิดสินค้า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FreesiaUPC"/>
              </a:rPr>
              <a:t>WTO-FTA</a:t>
            </a:r>
            <a:r>
              <a:rPr b="1" lang="th-TH" sz="27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th-TH" sz="35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73520" y="1011240"/>
            <a:ext cx="3558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ff33"/>
                </a:solidFill>
                <a:latin typeface="Tahoma"/>
                <a:cs typeface="FreesiaUPC"/>
              </a:rPr>
              <a:t>สินค้าชิ้นส่วนยานยนต์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28520" y="1595520"/>
          <a:ext cx="8892720" cy="5181480"/>
        </p:xfrm>
        <a:graphic>
          <a:graphicData uri="http://schemas.openxmlformats.org/drawingml/2006/table">
            <a:tbl>
              <a:tblPr/>
              <a:tblGrid>
                <a:gridCol w="2750040"/>
                <a:gridCol w="614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ahoma"/>
                          <a:ea typeface="FreesiaUPC"/>
                        </a:rPr>
                        <a:t>   </a:t>
                      </a: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Tahoma"/>
                          <a:cs typeface="FreesiaUPC"/>
                        </a:rPr>
                        <a:t>กรอบการเจรจ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ahoma"/>
                          <a:ea typeface="FreesiaUPC"/>
                        </a:rPr>
                        <a:t>       </a:t>
                      </a: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Tahoma"/>
                          <a:cs typeface="FreesiaUPC"/>
                        </a:rPr>
                        <a:t>เกณฑ์การได้แหล่งกำเนิดสินค้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ข้อเสนอไทย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       ในกรอบไทย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ญี่ปุ่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 C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. CT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ข้อเสนอญี่ปุ่น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        ในกรอบไทย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ญี่ปุ่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 LOCAL CONTENT 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*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กรณีส่งออกสินค้าพิกัด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ลักเดียวกัน สามารถนำต้นทุน ราคา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FOB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มาเฉลี่ยกัน เพื่อคำนวณ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Local Content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ได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*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กรณีซื้อวัตถุดิบจากผู้ผลิตในประเทศ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(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โรงงานที่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)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ซึ่งไม่ผ่านเกณฑ์แหล่งกำเนิด ให้สามารถนำมูลค่าวัตถุดิบในประเทศและต้นทุนที่เกิดขึ้นจริงจากโรงงาน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มารวมได้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(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ักออกเฉพาะวัตถุดิบนำเข้าที่โรงงานที่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นำเข้ามา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สหรัฐ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ออสเตรเลี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 LC 50%  2. CTH 3. CT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4.CTH or CTSH+ LC 45%(bulid down) or 35%(build u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. CTSH or LC 50% (net co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สหรัฐ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สิงคโปร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 CTH  2. CTSH  3.CTSH ex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4. CTH or LC 30%(build up) or LC 45%(bulid down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. CTH or CTSH+LC 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9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66600" y="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-48600" y="298440"/>
            <a:ext cx="9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เกณฑ์การได้แหล่งกำเนิดสินค้า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FreesiaUPC"/>
              </a:rPr>
              <a:t>WTO-FTA</a:t>
            </a:r>
            <a:r>
              <a:rPr b="1" lang="th-TH" sz="27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r>
              <a:rPr b="1" lang="th-TH" sz="35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0480" y="0"/>
            <a:ext cx="9083520" cy="682308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5040" y="2048040"/>
            <a:ext cx="1415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 </a:t>
            </a:r>
            <a:r>
              <a:rPr b="1" lang="th-TH" sz="4000" spc="-1" strike="noStrike">
                <a:solidFill>
                  <a:srgbClr val="ffcc00"/>
                </a:solidFill>
                <a:latin typeface="Tahoma"/>
                <a:ea typeface="FreesiaUPC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680" y="1720800"/>
            <a:ext cx="9144000" cy="3216240"/>
          </a:xfrm>
          <a:custGeom>
            <a:avLst/>
            <a:gdLst>
              <a:gd name="textAreaLeft" fmla="*/ 207720 w 9144000"/>
              <a:gd name="textAreaRight" fmla="*/ 8936280 w 9144000"/>
              <a:gd name="textAreaTop" fmla="*/ 207720 h 3216240"/>
              <a:gd name="textAreaBottom" fmla="*/ 3008520 h 3216240"/>
            </a:gdLst>
            <a:ahLst/>
            <a:rect l="textAreaLeft" t="textAreaTop" r="textAreaRight" b="textAreaBottom"/>
            <a:pathLst>
              <a:path w="61406" h="21600">
                <a:moveTo>
                  <a:pt x="0" y="0"/>
                </a:moveTo>
                <a:lnTo>
                  <a:pt x="0" y="21600"/>
                </a:lnTo>
                <a:lnTo>
                  <a:pt x="61406" y="21600"/>
                </a:lnTo>
                <a:lnTo>
                  <a:pt x="61406" y="0"/>
                </a:lnTo>
                <a:close/>
                <a:moveTo>
                  <a:pt x="1397" y="1397"/>
                </a:moveTo>
                <a:lnTo>
                  <a:pt x="1397" y="20203"/>
                </a:lnTo>
                <a:lnTo>
                  <a:pt x="60009" y="20203"/>
                </a:lnTo>
                <a:lnTo>
                  <a:pt x="60009" y="139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85880" y="2641680"/>
            <a:ext cx="7843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เตรียมตัวของผู้ผลิต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SME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ชิ้นส่วนยานยนต์ ในโลกการค้าปัจจุบั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730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1203120" y="193680"/>
            <a:ext cx="67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ผู้ผลิตชิ้นส่วนยานยนต์ไทย </a:t>
            </a:r>
            <a:r>
              <a:rPr b="1" lang="th-TH" sz="3600" spc="-1" strike="noStrike">
                <a:solidFill>
                  <a:srgbClr val="cc0000"/>
                </a:solidFill>
                <a:latin typeface="Tahoma"/>
                <a:ea typeface="Tahoma"/>
              </a:rPr>
              <a:t>(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ahoma"/>
              </a:rPr>
              <a:t>SM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5640" y="2565360"/>
            <a:ext cx="766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FreesiaUPC"/>
              </a:rPr>
              <a:t>1. </a:t>
            </a: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FreesiaUPC"/>
              </a:rPr>
              <a:t>ต้องแข่งขันกัน ทั้งด้านราคา คุณภาพ   และมาตรฐานระดับโล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09680" y="4514760"/>
            <a:ext cx="695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FreesiaUPC"/>
              </a:rPr>
              <a:t>2. </a:t>
            </a: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FreesiaUPC"/>
              </a:rPr>
              <a:t>ต้องผลิตให้ได้แหล่งกำเนิดสินค้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11280" y="5373720"/>
            <a:ext cx="5256360" cy="1295280"/>
          </a:xfrm>
          <a:prstGeom prst="flowChartMagneticDrum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 rot="225000">
            <a:off x="1852200" y="1204920"/>
            <a:ext cx="216072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FreesiaUPC"/>
              </a:rPr>
              <a:t>ปัจจุบัน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FreesiaUPC"/>
              <a:ea typeface="FreesiaUPC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424480" y="1422360"/>
            <a:ext cx="216072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FreesiaUPC"/>
              </a:rPr>
              <a:t>อนาคต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FreesiaUPC"/>
              <a:ea typeface="FreesiaUPC"/>
            </a:endParaRPr>
          </a:p>
        </p:txBody>
      </p:sp>
      <p:sp>
        <p:nvSpPr>
          <p:cNvPr id="653" name=""/>
          <p:cNvSpPr/>
          <p:nvPr/>
        </p:nvSpPr>
        <p:spPr>
          <a:xfrm>
            <a:off x="539640" y="4508640"/>
            <a:ext cx="50328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49600" y="1506600"/>
            <a:ext cx="50508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2440" y="2946240"/>
            <a:ext cx="7999200" cy="1582920"/>
          </a:xfrm>
          <a:prstGeom prst="roundRect">
            <a:avLst>
              <a:gd name="adj" fmla="val 16667"/>
            </a:avLst>
          </a:prstGeom>
          <a:solidFill>
            <a:srgbClr val="99ccff">
              <a:alpha val="43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9360" y="-6480"/>
            <a:ext cx="9133200" cy="9334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-1249200" y="195120"/>
            <a:ext cx="115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ผู้ผลิตชิ้นส่วนยานยนต์ไท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FreesiaUPC"/>
              </a:rPr>
              <a:t>...</a:t>
            </a:r>
            <a:r>
              <a:rPr b="1" lang="hi-IN" sz="3600" spc="-1" strike="noStrike">
                <a:solidFill>
                  <a:srgbClr val="cc0000"/>
                </a:solidFill>
                <a:latin typeface="Arial"/>
                <a:cs typeface="FreesiaUPC"/>
              </a:rPr>
              <a:t>ต้องผลิตให้ได้แหล่งกำเนิดสินค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11280" y="4062240"/>
            <a:ext cx="5256360" cy="1295640"/>
          </a:xfrm>
          <a:prstGeom prst="flowChartMagneticDrum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6620040" y="3019320"/>
            <a:ext cx="1512720" cy="2282760"/>
            <a:chOff x="6620040" y="3019320"/>
            <a:chExt cx="1512720" cy="2282760"/>
          </a:xfrm>
        </p:grpSpPr>
        <p:sp>
          <p:nvSpPr>
            <p:cNvPr id="661" name=""/>
            <p:cNvSpPr/>
            <p:nvPr/>
          </p:nvSpPr>
          <p:spPr>
            <a:xfrm>
              <a:off x="6620040" y="301932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>
                    <a:alpha val="24313"/>
                  </a:srgbClr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51800" y="3452760"/>
              <a:ext cx="121896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ผู้ผลิต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รถยนต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3" name="" descr="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6980400" y="301932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"/>
          <p:cNvGrpSpPr/>
          <p:nvPr/>
        </p:nvGrpSpPr>
        <p:grpSpPr>
          <a:xfrm>
            <a:off x="3987720" y="3049560"/>
            <a:ext cx="1656000" cy="1359000"/>
            <a:chOff x="3987720" y="3049560"/>
            <a:chExt cx="1656000" cy="1359000"/>
          </a:xfrm>
        </p:grpSpPr>
        <p:sp>
          <p:nvSpPr>
            <p:cNvPr id="665" name=""/>
            <p:cNvSpPr/>
            <p:nvPr/>
          </p:nvSpPr>
          <p:spPr>
            <a:xfrm>
              <a:off x="4040280" y="3049560"/>
              <a:ext cx="1525320" cy="135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>
                    <a:alpha val="19215"/>
                  </a:srgbClr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987720" y="3441600"/>
              <a:ext cx="1656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ผู้ผลิตชิ้นส่ว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(</a:t>
              </a:r>
              <a:r>
                <a:rPr b="1" lang="en-US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Tier 1</a:t>
              </a: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378080" y="3033720"/>
            <a:ext cx="1655640" cy="1450800"/>
            <a:chOff x="1378080" y="3033720"/>
            <a:chExt cx="1655640" cy="1450800"/>
          </a:xfrm>
        </p:grpSpPr>
        <p:sp>
          <p:nvSpPr>
            <p:cNvPr id="668" name=""/>
            <p:cNvSpPr/>
            <p:nvPr/>
          </p:nvSpPr>
          <p:spPr>
            <a:xfrm>
              <a:off x="1407960" y="3033720"/>
              <a:ext cx="1525680" cy="135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>
                    <a:alpha val="19215"/>
                  </a:srgbClr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78080" y="3522600"/>
              <a:ext cx="1655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ผู้ผลิตชิ้นส่ว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(</a:t>
              </a:r>
              <a:r>
                <a:rPr b="1" lang="en-US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Tier 2</a:t>
              </a: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02440" y="305280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S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5873760" y="3413160"/>
            <a:ext cx="431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81400" y="3413160"/>
            <a:ext cx="431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722680" y="1193760"/>
            <a:ext cx="1909800" cy="1440000"/>
            <a:chOff x="2722680" y="1193760"/>
            <a:chExt cx="1909800" cy="1440000"/>
          </a:xfrm>
        </p:grpSpPr>
        <p:sp>
          <p:nvSpPr>
            <p:cNvPr id="674" name=""/>
            <p:cNvSpPr/>
            <p:nvPr/>
          </p:nvSpPr>
          <p:spPr>
            <a:xfrm>
              <a:off x="2722680" y="1193760"/>
              <a:ext cx="19098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>
                    <a:alpha val="19215"/>
                  </a:srgbClr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92600" y="1339920"/>
              <a:ext cx="1655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ผู้ผลิตชิ้นส่ว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(</a:t>
              </a:r>
              <a:r>
                <a:rPr b="1" lang="en-US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Tier 2</a:t>
              </a: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57960" y="1846440"/>
              <a:ext cx="1873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00"/>
                  </a:solidFill>
                  <a:latin typeface="Arial"/>
                  <a:cs typeface="FreesiaUPC"/>
                </a:rPr>
                <a:t>นอ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00"/>
                  </a:solidFill>
                  <a:latin typeface="Arial"/>
                  <a:cs typeface="FreesiaUPC"/>
                </a:rPr>
                <a:t>ประเทศไท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3220200">
            <a:off x="3982680" y="2573280"/>
            <a:ext cx="431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003640" y="1197000"/>
            <a:ext cx="4604040" cy="1819440"/>
            <a:chOff x="5003640" y="1197000"/>
            <a:chExt cx="4604040" cy="1819440"/>
          </a:xfrm>
        </p:grpSpPr>
        <p:sp>
          <p:nvSpPr>
            <p:cNvPr id="679" name=""/>
            <p:cNvSpPr/>
            <p:nvPr/>
          </p:nvSpPr>
          <p:spPr>
            <a:xfrm>
              <a:off x="5003640" y="1197000"/>
              <a:ext cx="3961080" cy="1511280"/>
            </a:xfrm>
            <a:prstGeom prst="wedgeEllipseCallout">
              <a:avLst>
                <a:gd name="adj1" fmla="val -42583"/>
                <a:gd name="adj2" fmla="val 7899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148360" y="1557360"/>
              <a:ext cx="445932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1.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ามารถนำเข้าจากต่างประเท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2.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ามารถเลือกซื้อจาก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Tier 2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      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ในประเท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-1266480" y="4869000"/>
            <a:ext cx="11777040" cy="1828800"/>
            <a:chOff x="-1266480" y="4869000"/>
            <a:chExt cx="11777040" cy="1828800"/>
          </a:xfrm>
        </p:grpSpPr>
        <p:sp>
          <p:nvSpPr>
            <p:cNvPr id="682" name=""/>
            <p:cNvSpPr/>
            <p:nvPr/>
          </p:nvSpPr>
          <p:spPr>
            <a:xfrm>
              <a:off x="-1266480" y="5194440"/>
              <a:ext cx="1177704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ต้องผลิตให้ได้แหล่งกำเนิดสินค้าให้มี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FreesiaUPC"/>
                </a:rPr>
                <a:t>Local Content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FreesiaUPC"/>
                </a:rPr>
                <a:t> </a:t>
              </a:r>
              <a:r>
                <a:rPr b="1" lang="th-TH" sz="3600" spc="-1" strike="noStrike">
                  <a:solidFill>
                    <a:srgbClr val="ffff00"/>
                  </a:solidFill>
                  <a:latin typeface="Arial"/>
                  <a:cs typeface="FreesiaUPC"/>
                </a:rPr>
                <a:t>สูงๆ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เพื่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1. 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ขายให้</a:t>
              </a:r>
              <a:r>
                <a:rPr b="1" lang="th-TH" sz="20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Tier 1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ามารถนำมูลค่าไปสะสมได้ กรณีต้องการส่งออ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2. 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ามารถส่งออกไปต่างประเทศด้วยตนเองโดยได้แหล่งกำเนิดสินค้าไท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2680" y="4869000"/>
              <a:ext cx="8852040" cy="1828800"/>
            </a:xfrm>
            <a:prstGeom prst="wedgeEllipseCallout">
              <a:avLst>
                <a:gd name="adj1" fmla="val -26953"/>
                <a:gd name="adj2" fmla="val -804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4" name="" descr=""/>
          <p:cNvPicPr/>
          <p:nvPr/>
        </p:nvPicPr>
        <p:blipFill>
          <a:blip r:embed="rId4"/>
          <a:stretch/>
        </p:blipFill>
        <p:spPr>
          <a:xfrm rot="20534400">
            <a:off x="755280" y="2997360"/>
            <a:ext cx="539640" cy="40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86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94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2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344600" y="217476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2320" y="7920"/>
            <a:ext cx="9077400" cy="7113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-507240" y="120600"/>
            <a:ext cx="10158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</a:t>
            </a:r>
            <a:r>
              <a:rPr b="1" lang="hi-IN" sz="3500" spc="-1" strike="noStrike">
                <a:solidFill>
                  <a:srgbClr val="cc0000"/>
                </a:solidFill>
                <a:latin typeface="Tahoma"/>
                <a:cs typeface="FreesiaUPC"/>
              </a:rPr>
              <a:t>สวิตซ์ไฟเตือนประตูหน้า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FreesiaUPC"/>
              </a:rPr>
              <a:t>..87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2240" y="1407960"/>
            <a:ext cx="2287440" cy="3932280"/>
          </a:xfrm>
          <a:prstGeom prst="rect">
            <a:avLst/>
          </a:prstGeom>
          <a:solidFill>
            <a:srgbClr val="3366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00240" y="1407960"/>
            <a:ext cx="3326040" cy="3905280"/>
          </a:xfrm>
          <a:prstGeom prst="rect">
            <a:avLst/>
          </a:prstGeom>
          <a:solidFill>
            <a:srgbClr val="4d4d4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2240" y="82692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38240" y="1468440"/>
            <a:ext cx="2681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790800" y="87480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55880" y="915120"/>
            <a:ext cx="317988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กำไร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ขนส่ง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16200000">
            <a:off x="2397960" y="3045240"/>
            <a:ext cx="71892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49920" y="466092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548320" y="1495440"/>
            <a:ext cx="216000" cy="191592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15920"/>
              <a:gd name="textAreaBottom" fmla="*/ 186624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3003480" y="1120680"/>
            <a:ext cx="390600" cy="3002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-241200" y="1140120"/>
            <a:ext cx="3179520" cy="25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  <a:ea typeface="FreesiaUPC"/>
              </a:rPr>
              <a:t>KNO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ปุ่มพลาสติก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Tahoma"/>
                <a:ea typeface="FreesiaUPC"/>
              </a:rPr>
              <a:t>3926.9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(</a:t>
            </a:r>
            <a:r>
              <a:rPr b="1" lang="th-TH" sz="3000" spc="-1" strike="noStrike">
                <a:solidFill>
                  <a:srgbClr val="ffffff"/>
                </a:solidFill>
                <a:latin typeface="Tahoma"/>
                <a:cs typeface="FreesiaUPC"/>
              </a:rPr>
              <a:t>ญี่ปุ่น</a:t>
            </a: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54960" y="229392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619960" y="4792680"/>
            <a:ext cx="646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ahoma"/>
                <a:ea typeface="Tahoma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7000" y="3551400"/>
            <a:ext cx="378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35520" y="4002120"/>
            <a:ext cx="6289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6200000">
            <a:off x="6219000" y="3134520"/>
            <a:ext cx="71928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11600" y="3424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03320" y="2639880"/>
            <a:ext cx="277308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วิตซ์ไฟเตือ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ประตูหน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FreesiaUPC"/>
              </a:rPr>
              <a:t>LC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~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FreesiaUPC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2600" y="5584680"/>
            <a:ext cx="7020000" cy="64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41240" y="5506920"/>
            <a:ext cx="770256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ได้</a:t>
            </a:r>
            <a:r>
              <a:rPr b="1" lang="th-TH" sz="2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ahoma"/>
                <a:ea typeface="FreesiaUPC"/>
              </a:rPr>
              <a:t>Local Content</a:t>
            </a:r>
            <a:r>
              <a:rPr b="1" lang="th-TH" sz="3000" spc="-1" strike="noStrike">
                <a:solidFill>
                  <a:srgbClr val="4d4d4d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ไม่สูง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ดังนั้น การได้แหล่งกำเนิดสินค้า อาจใช้วิธีเปลี่ยนการพิกัด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3480" y="907920"/>
            <a:ext cx="9083520" cy="5915160"/>
          </a:xfrm>
          <a:prstGeom prst="rect">
            <a:avLst/>
          </a:prstGeom>
          <a:solidFill>
            <a:srgbClr val="3333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42920" y="1413000"/>
            <a:ext cx="7058160" cy="5184720"/>
          </a:xfrm>
          <a:prstGeom prst="ellipse">
            <a:avLst/>
          </a:prstGeom>
          <a:solidFill>
            <a:srgbClr val="3366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73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203120" y="193680"/>
            <a:ext cx="67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ผู้ผลิตชิ้นส่วนยานยนต์ไทย </a:t>
            </a:r>
            <a:r>
              <a:rPr b="1" lang="th-TH" sz="3600" spc="-1" strike="noStrike">
                <a:solidFill>
                  <a:srgbClr val="cc0000"/>
                </a:solidFill>
                <a:latin typeface="Tahoma"/>
                <a:ea typeface="Tahoma"/>
              </a:rPr>
              <a:t>(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ahoma"/>
              </a:rPr>
              <a:t>SM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11280" y="5373720"/>
            <a:ext cx="5256360" cy="1295280"/>
          </a:xfrm>
          <a:prstGeom prst="flowChartMagneticDrum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39640" y="4508640"/>
            <a:ext cx="50328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932480" y="1297080"/>
            <a:ext cx="5269680" cy="5269680"/>
            <a:chOff x="1932480" y="1297080"/>
            <a:chExt cx="5269680" cy="5269680"/>
          </a:xfrm>
        </p:grpSpPr>
        <p:sp>
          <p:nvSpPr>
            <p:cNvPr id="715" name="_s473104"/>
            <p:cNvSpPr/>
            <p:nvPr/>
          </p:nvSpPr>
          <p:spPr>
            <a:xfrm>
              <a:off x="2638440" y="2003400"/>
              <a:ext cx="3857760" cy="38574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_s473105"/>
            <p:cNvSpPr/>
            <p:nvPr/>
          </p:nvSpPr>
          <p:spPr>
            <a:xfrm rot="7200000">
              <a:off x="2638440" y="2003040"/>
              <a:ext cx="385740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_s473107"/>
            <p:cNvSpPr/>
            <p:nvPr/>
          </p:nvSpPr>
          <p:spPr>
            <a:xfrm rot="14400000">
              <a:off x="2638080" y="2002680"/>
              <a:ext cx="385740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bfd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_s473102"/>
            <p:cNvSpPr/>
            <p:nvPr/>
          </p:nvSpPr>
          <p:spPr>
            <a:xfrm>
              <a:off x="5370480" y="2541600"/>
              <a:ext cx="117648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ผลิตให้ได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 </a:t>
              </a: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มาตรฐา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สาก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_s473103"/>
            <p:cNvSpPr/>
            <p:nvPr/>
          </p:nvSpPr>
          <p:spPr>
            <a:xfrm>
              <a:off x="3979800" y="4949640"/>
              <a:ext cx="11764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ผลิตให้ได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แหล่งกำเนิดสินค้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โดยมี</a:t>
              </a:r>
              <a:r>
                <a:rPr b="1" lang="en-US" sz="28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 </a:t>
              </a:r>
              <a:r>
                <a:rPr b="1" lang="en-US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Content</a:t>
              </a:r>
              <a:r>
                <a:rPr b="1" lang="en-US" sz="28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 </a:t>
              </a:r>
              <a:r>
                <a:rPr b="1" lang="th-TH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สูง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_s473106"/>
            <p:cNvSpPr/>
            <p:nvPr/>
          </p:nvSpPr>
          <p:spPr>
            <a:xfrm>
              <a:off x="2589120" y="2541600"/>
              <a:ext cx="117648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ผลิตโด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คำนึงถึ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สิ่งแวดล้อ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 txBox="1"/>
          <p:nvPr/>
        </p:nvSpPr>
        <p:spPr>
          <a:xfrm>
            <a:off x="4151160" y="3591000"/>
            <a:ext cx="113832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FreesiaUPC"/>
              </a:rPr>
              <a:t>ผู้ผลิต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FreesiaUPC"/>
              </a:rPr>
              <a:t>ชิ้นส่วน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FreesiaUPC"/>
              <a:ea typeface="FreesiaUPC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1807560" y="90360"/>
            <a:ext cx="5099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Website </a:t>
            </a:r>
            <a:r>
              <a:rPr b="1" lang="th-TH" sz="3700" spc="-1" strike="noStrike">
                <a:solidFill>
                  <a:srgbClr val="000000"/>
                </a:solidFill>
                <a:latin typeface="Tahoma"/>
                <a:cs typeface="FreesiaUPC"/>
              </a:rPr>
              <a:t>ความคืบหน้า 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FTA</a:t>
            </a: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33320" y="868320"/>
            <a:ext cx="61988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000000"/>
                </a:solidFill>
                <a:latin typeface="Tahoma"/>
                <a:cs typeface="FreesiaUPC"/>
              </a:rPr>
              <a:t>สภาหอการค้าแห่งประเทศไทย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  <a:ea typeface="FreesiaUPC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	</a:t>
            </a: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      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www.thaiechamber.co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-394560" y="1913040"/>
            <a:ext cx="4586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0000"/>
                </a:solidFill>
                <a:latin typeface="Tahoma"/>
                <a:cs typeface="FreesiaUPC"/>
              </a:rPr>
              <a:t>คลิกที่ ศูนย์ข้อมูลธุรกิจ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4038480" y="2065320"/>
            <a:ext cx="4842000" cy="343224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5438880" y="3760920"/>
            <a:ext cx="2590560" cy="57456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6818400">
            <a:off x="7167240" y="3382560"/>
            <a:ext cx="4190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0800" y="5289480"/>
            <a:ext cx="3961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ahoma"/>
                <a:ea typeface="FreesiaUPC"/>
                <a:hlinkClick r:id="rId3"/>
              </a:rPr>
              <a:t>www.dtn.moc.go.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ahoma"/>
                <a:ea typeface="FreesiaUPC"/>
                <a:hlinkClick r:id="rId4"/>
              </a:rPr>
              <a:t>www.thaifta.c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FreesiaUPC"/>
              </a:rPr>
              <a:t>www.ftamonitoring.or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-158760" y="2743200"/>
            <a:ext cx="4586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0000"/>
                </a:solidFill>
                <a:latin typeface="Tahoma"/>
                <a:cs typeface="FreesiaUPC"/>
              </a:rPr>
              <a:t>โทร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. 0-2622-111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0000"/>
                </a:solidFill>
                <a:latin typeface="Tahoma"/>
                <a:cs typeface="FreesiaUPC"/>
              </a:rPr>
              <a:t>ต่อ 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146,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659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hi-IN" sz="3300" spc="-1" strike="noStrike">
                <a:solidFill>
                  <a:srgbClr val="000000"/>
                </a:solidFill>
                <a:latin typeface="Tahoma"/>
                <a:cs typeface="FreesiaUPC"/>
              </a:rPr>
              <a:t>และ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639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 txBox="1"/>
          <p:nvPr/>
        </p:nvSpPr>
        <p:spPr>
          <a:xfrm>
            <a:off x="1219320" y="2438280"/>
            <a:ext cx="320040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66ff">
                        <a:alpha val="86274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reesiaUPC"/>
              </a:rPr>
              <a:t>ขอบคุณ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0066ff">
                      <a:alpha val="86274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66ff">
                        <a:alpha val="86274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reesiaUPC"/>
              </a:rPr>
              <a:t>และสวัสดี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0066ff">
                      <a:alpha val="86274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FreesiaUPC"/>
              <a:ea typeface="FreesiaUPC"/>
            </a:endParaRPr>
          </a:p>
        </p:txBody>
      </p:sp>
      <p:pic>
        <p:nvPicPr>
          <p:cNvPr id="733" name="" descr="butterfly_2.gif - (19K)"/>
          <p:cNvPicPr/>
          <p:nvPr/>
        </p:nvPicPr>
        <p:blipFill>
          <a:blip r:embed="rId2"/>
          <a:stretch/>
        </p:blipFill>
        <p:spPr>
          <a:xfrm>
            <a:off x="6248520" y="9907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9737640" y="209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63360" y="1447920"/>
            <a:ext cx="8852040" cy="5351760"/>
            <a:chOff x="63360" y="1447920"/>
            <a:chExt cx="8852040" cy="5351760"/>
          </a:xfrm>
        </p:grpSpPr>
        <p:sp>
          <p:nvSpPr>
            <p:cNvPr id="132" name=""/>
            <p:cNvSpPr/>
            <p:nvPr/>
          </p:nvSpPr>
          <p:spPr>
            <a:xfrm>
              <a:off x="2438280" y="1447920"/>
              <a:ext cx="3733920" cy="1380960"/>
            </a:xfrm>
            <a:prstGeom prst="rect">
              <a:avLst/>
            </a:prstGeom>
            <a:solidFill>
              <a:srgbClr val="3333cc"/>
            </a:solidFill>
            <a:ln cap="sq"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จำนวนโรงงานในอุตสาหกรรมยานยนต์ที่ขึ้นทะเบียนกรมโรง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2,242 </a:t>
              </a: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โรงงาน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(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880" y="3200400"/>
              <a:ext cx="3429000" cy="72288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โรงงานขนาดใหญ่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(LS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82 </a:t>
              </a:r>
              <a:r>
                <a:rPr b="1" lang="th-TH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โรงงาน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(4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8320" y="3200400"/>
              <a:ext cx="4267080" cy="96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  <a:cs typeface="FreesiaUPC"/>
                </a:rPr>
                <a:t>โรงงานขนาดกลางและขนาดย่อม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FreesiaUPC"/>
                </a:rPr>
                <a:t>(SM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FreesiaUPC"/>
                </a:rPr>
                <a:t>2,160 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  <a:cs typeface="FreesiaUPC"/>
                </a:rPr>
                <a:t>โรงงาน 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  <a:ea typeface="FreesiaUPC"/>
                </a:rPr>
                <a:t>(96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360" y="4572000"/>
              <a:ext cx="2070360" cy="101556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ผลิตชิ้นส่วนยานยนต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AngsanaUPC"/>
                </a:rPr>
                <a:t>62 </a:t>
              </a: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โรง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4572000"/>
              <a:ext cx="1904760" cy="101556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ประกอบรถยนต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AngsanaUPC"/>
                </a:rPr>
                <a:t>15 </a:t>
              </a: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โรง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8480" y="4572000"/>
              <a:ext cx="1524240" cy="74556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ประกอ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รถจักรยานยนต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AngsanaUPC"/>
                </a:rPr>
                <a:t>5 </a:t>
              </a:r>
              <a:r>
                <a:rPr b="1" lang="hi-IN" sz="20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โรงงา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4572000"/>
              <a:ext cx="1600200" cy="1088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cap="sq"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Times New Roman"/>
                  <a:cs typeface="FreesiaUPC"/>
                </a:rPr>
                <a:t>ผลิตชิ้นส่ว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FreesiaUPC"/>
                </a:rPr>
                <a:t>2,160 </a:t>
              </a:r>
              <a:r>
                <a:rPr b="1" lang="hi-IN" sz="2400" spc="-1" strike="noStrike">
                  <a:solidFill>
                    <a:srgbClr val="000000"/>
                  </a:solidFill>
                  <a:latin typeface="Times New Roman"/>
                  <a:cs typeface="FreesiaUPC"/>
                </a:rPr>
                <a:t>โรง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880" y="5715000"/>
              <a:ext cx="7391520" cy="10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หมายเหตุ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: </a:t>
              </a:r>
              <a:r>
                <a:rPr b="1" lang="th-TH" sz="20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ไม่รวมอุตสาหกรรมสนับสนุนอื่น อาทิ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Mould, Die, Tooling, Jig &amp; D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SMEs </a:t>
              </a:r>
              <a:r>
                <a:rPr b="1" lang="th-TH" sz="20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แบ่งตามเกณฑ์ จำนวนคนงาน </a:t>
              </a:r>
              <a:r>
                <a:rPr b="1" lang="th-TH" sz="2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50-200 </a:t>
              </a:r>
              <a:r>
                <a:rPr b="1" lang="th-TH" sz="20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ค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ที่มา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: </a:t>
              </a:r>
              <a:r>
                <a:rPr b="1" lang="th-TH" sz="12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กรมโรงงานอุตสาหกรรม</a:t>
              </a:r>
              <a:r>
                <a:rPr b="1" lang="th-TH" sz="1200" spc="-1" strike="noStrike">
                  <a:solidFill>
                    <a:srgbClr val="000000"/>
                  </a:solidFill>
                  <a:latin typeface="Angsana New"/>
                </a:rPr>
                <a:t>  ปี </a:t>
              </a:r>
              <a:r>
                <a:rPr b="1" lang="th-TH" sz="1200" spc="-1" strike="noStrike">
                  <a:solidFill>
                    <a:srgbClr val="000000"/>
                  </a:solidFill>
                  <a:latin typeface="Angsana New"/>
                </a:rPr>
                <a:t>25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828800" y="2514600"/>
              <a:ext cx="5105520" cy="685080"/>
              <a:chOff x="1828800" y="2514600"/>
              <a:chExt cx="5105520" cy="685080"/>
            </a:xfrm>
          </p:grpSpPr>
          <p:sp>
            <p:nvSpPr>
              <p:cNvPr id="141" name=""/>
              <p:cNvSpPr/>
              <p:nvPr/>
            </p:nvSpPr>
            <p:spPr>
              <a:xfrm>
                <a:off x="4267080" y="2514600"/>
                <a:ext cx="0" cy="342720"/>
              </a:xfrm>
              <a:prstGeom prst="line">
                <a:avLst/>
              </a:prstGeom>
              <a:ln cap="sq"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828800" y="2857320"/>
                <a:ext cx="5105520" cy="342360"/>
                <a:chOff x="1828800" y="2857320"/>
                <a:chExt cx="5105520" cy="3423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828800" y="2857320"/>
                  <a:ext cx="5105520" cy="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28800" y="2857320"/>
                  <a:ext cx="0" cy="34236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934320" y="2857320"/>
                  <a:ext cx="0" cy="34236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990720" y="3962520"/>
              <a:ext cx="3657600" cy="608760"/>
              <a:chOff x="990720" y="3962520"/>
              <a:chExt cx="3657600" cy="608760"/>
            </a:xfrm>
          </p:grpSpPr>
          <p:sp>
            <p:nvSpPr>
              <p:cNvPr id="147" name=""/>
              <p:cNvSpPr/>
              <p:nvPr/>
            </p:nvSpPr>
            <p:spPr>
              <a:xfrm>
                <a:off x="1905120" y="3962520"/>
                <a:ext cx="0" cy="261000"/>
              </a:xfrm>
              <a:prstGeom prst="line">
                <a:avLst/>
              </a:prstGeom>
              <a:ln cap="sq"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990720" y="4223520"/>
                <a:ext cx="3657600" cy="347760"/>
                <a:chOff x="990720" y="4223520"/>
                <a:chExt cx="3657600" cy="3477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990720" y="4223520"/>
                  <a:ext cx="3657600" cy="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90720" y="4223520"/>
                  <a:ext cx="0" cy="34776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048120" y="4223520"/>
                  <a:ext cx="0" cy="34776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648320" y="4223520"/>
                  <a:ext cx="0" cy="34776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7238880" y="3962520"/>
              <a:ext cx="0" cy="609480"/>
            </a:xfrm>
            <a:prstGeom prst="line">
              <a:avLst/>
            </a:prstGeom>
            <a:ln cap="sq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1120" y="69840"/>
            <a:ext cx="592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Tahoma"/>
                <a:cs typeface="FreesiaUPC"/>
              </a:rPr>
              <a:t>จำนวนโรงงานอุตสาหกรรมยานยนต์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38120" y="69642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57360" y="5499000"/>
            <a:ext cx="3733920" cy="796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7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51120" y="42840"/>
            <a:ext cx="592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99"/>
                </a:solidFill>
                <a:latin typeface="Tahoma"/>
                <a:cs typeface="FreesiaUPC"/>
              </a:rPr>
              <a:t>การเชื่อมโยงของอุตสาหกรรม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564240" y="4797360"/>
            <a:ext cx="2305080" cy="7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-28440" y="1844640"/>
            <a:ext cx="9172440" cy="5013360"/>
            <a:chOff x="-28440" y="1844640"/>
            <a:chExt cx="9172440" cy="5013360"/>
          </a:xfrm>
        </p:grpSpPr>
        <p:sp>
          <p:nvSpPr>
            <p:cNvPr id="162" name=""/>
            <p:cNvSpPr/>
            <p:nvPr/>
          </p:nvSpPr>
          <p:spPr>
            <a:xfrm>
              <a:off x="0" y="1844640"/>
              <a:ext cx="9144000" cy="1557360"/>
            </a:xfrm>
            <a:prstGeom prst="rect">
              <a:avLst/>
            </a:prstGeom>
            <a:solidFill>
              <a:srgbClr val="80008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28440" y="3429000"/>
              <a:ext cx="4384440" cy="1197000"/>
            </a:xfrm>
            <a:prstGeom prst="rect">
              <a:avLst/>
            </a:prstGeom>
            <a:solidFill>
              <a:srgbClr val="80008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4653000"/>
              <a:ext cx="9144000" cy="2205000"/>
            </a:xfrm>
            <a:prstGeom prst="rect">
              <a:avLst/>
            </a:prstGeom>
            <a:solidFill>
              <a:srgbClr val="0000ff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56000" y="3429000"/>
              <a:ext cx="4788000" cy="1197000"/>
            </a:xfrm>
            <a:prstGeom prst="rect">
              <a:avLst/>
            </a:prstGeom>
            <a:solidFill>
              <a:srgbClr val="0000ff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79680" y="1935000"/>
              <a:ext cx="1797120" cy="1447920"/>
            </a:xfrm>
            <a:prstGeom prst="triangle">
              <a:avLst>
                <a:gd name="adj" fmla="val 4875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75000" y="2759040"/>
              <a:ext cx="188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บริษัทผู้ผลิต    ยานยนต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39840" y="2473200"/>
              <a:ext cx="2133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semb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61320" y="2087640"/>
              <a:ext cx="228600" cy="182880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75960 h 1828800"/>
                <a:gd name="textAreaBottom" fmla="*/ 175284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45280" y="1897200"/>
              <a:ext cx="1333440" cy="26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3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บริษัทขนาดกลางใหญ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037280" y="4221000"/>
              <a:ext cx="1600200" cy="1828800"/>
              <a:chOff x="7037280" y="4221000"/>
              <a:chExt cx="1600200" cy="1828800"/>
            </a:xfrm>
          </p:grpSpPr>
          <p:sp>
            <p:nvSpPr>
              <p:cNvPr id="172" name=""/>
              <p:cNvSpPr/>
              <p:nvPr/>
            </p:nvSpPr>
            <p:spPr>
              <a:xfrm>
                <a:off x="7113240" y="4754520"/>
                <a:ext cx="1524240" cy="12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3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ahoma"/>
                    <a:ea typeface="Tahoma"/>
                  </a:rPr>
                  <a:t>SM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037280" y="4221000"/>
                <a:ext cx="152280" cy="1828800"/>
              </a:xfrm>
              <a:custGeom>
                <a:avLst/>
                <a:gdLst>
                  <a:gd name="textAreaLeft" fmla="*/ 0 w 152280"/>
                  <a:gd name="textAreaRight" fmla="*/ 106920 w 152280"/>
                  <a:gd name="textAreaTop" fmla="*/ 75960 h 1828800"/>
                  <a:gd name="textAreaBottom" fmla="*/ 175284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93680" y="5072040"/>
              <a:ext cx="190512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ahoma"/>
                  <a:ea typeface="Tahoma"/>
                </a:rPr>
                <a:t>Tier 2, 3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ahoma"/>
                  <a:ea typeface="Tahoma"/>
                </a:rPr>
                <a:t>low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55800" y="4759200"/>
              <a:ext cx="4724280" cy="1290600"/>
            </a:xfrm>
            <a:custGeom>
              <a:avLst/>
              <a:gdLst/>
              <a:ahLst/>
              <a:rect l="l" t="t" r="r" b="b"/>
              <a:pathLst>
                <a:path w="2688" h="768">
                  <a:moveTo>
                    <a:pt x="432" y="0"/>
                  </a:moveTo>
                  <a:lnTo>
                    <a:pt x="2256" y="0"/>
                  </a:lnTo>
                  <a:lnTo>
                    <a:pt x="2688" y="768"/>
                  </a:lnTo>
                  <a:lnTo>
                    <a:pt x="0" y="768"/>
                  </a:lnTo>
                  <a:lnTo>
                    <a:pt x="43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0200" y="5065560"/>
              <a:ext cx="243828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ผู้ผลิตชิ้นส่ว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ในประเท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17920" y="3535200"/>
              <a:ext cx="1888920" cy="106704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384" y="0"/>
                  </a:moveTo>
                  <a:lnTo>
                    <a:pt x="960" y="0"/>
                  </a:lnTo>
                  <a:lnTo>
                    <a:pt x="960" y="624"/>
                  </a:lnTo>
                  <a:lnTo>
                    <a:pt x="0" y="624"/>
                  </a:lnTo>
                  <a:lnTo>
                    <a:pt x="38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41960" y="3538440"/>
              <a:ext cx="1481040" cy="1067040"/>
            </a:xfrm>
            <a:custGeom>
              <a:avLst/>
              <a:gdLst/>
              <a:ahLst/>
              <a:rect l="l" t="t" r="r" b="b"/>
              <a:pathLst>
                <a:path w="768" h="624">
                  <a:moveTo>
                    <a:pt x="0" y="0"/>
                  </a:moveTo>
                  <a:lnTo>
                    <a:pt x="0" y="624"/>
                  </a:lnTo>
                  <a:lnTo>
                    <a:pt x="768" y="624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79480" y="3768840"/>
              <a:ext cx="18860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ier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4360" y="3922560"/>
              <a:ext cx="24386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ผู้ผลิตชิ้นส่ว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ในประเท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14520" y="3898800"/>
              <a:ext cx="24386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ผู้ผลิตชิ้นส่ว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ต่างประเท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24600" y="4797360"/>
              <a:ext cx="1800360" cy="7923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 rot="20886600">
              <a:off x="3995640" y="2204640"/>
              <a:ext cx="612720" cy="399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42920" y="1268280"/>
            <a:ext cx="6624720" cy="1440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770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rot="21276000">
            <a:off x="1213200" y="1339920"/>
            <a:ext cx="65232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  <a:cs typeface="FreesiaUPC"/>
              </a:rPr>
              <a:t>การยกเลิกนโยบายการบังคับใช้ชิ้นส่วนภายในประเทศ ตั้งแต่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FreesiaUPC"/>
              </a:rPr>
              <a:t>1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  <a:cs typeface="FreesiaUPC"/>
              </a:rPr>
              <a:t>มกราคม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FreesiaUPC"/>
              </a:rPr>
              <a:t>254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6200" y="3274920"/>
            <a:ext cx="339408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  <a:cs typeface="FreesiaUPC"/>
              </a:rPr>
              <a:t>การให้ความช่วยเหลือพัฒนากลุ่มผู้ผลิตชิ้นส่วนให้สามารถผลิตสินค้าให้ได้คุณภาพตามความต้องการของ      ผู้ประกอ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7840" y="3338640"/>
            <a:ext cx="403380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  <a:cs typeface="FreesiaUPC"/>
              </a:rPr>
              <a:t>ให้ผู้ผลิตชิ้นส่วนทำตามความต้องการ โดยกำหนดคุณลักษณะสินค้าให้ผู้ผลิตชิ้นส่วนทำหน้าที่ออกแบบและพัฒนาผลิตภัณฑ์เอ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08600" y="3979800"/>
            <a:ext cx="792000" cy="1079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1054440" y="171360"/>
            <a:ext cx="112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FreesiaUPC"/>
              </a:rPr>
              <a:t>S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ผู้ผลิตชิ้นส่วนยานยนต์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ea typeface="FreesiaUPC"/>
              </a:rPr>
              <a:t>..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ิ่งท้าทายในโลกการค้าปัจจุบ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770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-1054440" y="171360"/>
            <a:ext cx="112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FreesiaUPC"/>
              </a:rPr>
              <a:t>S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ผู้ผลิตชิ้นส่วนยานยนต์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ea typeface="FreesiaUPC"/>
              </a:rPr>
              <a:t>..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ิ่งท้าทายในโลกการค้าปัจจุบ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400" y="2882880"/>
            <a:ext cx="2880000" cy="22906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000000"/>
              </a:gs>
              <a:gs pos="100000">
                <a:srgbClr val="3366ff"/>
              </a:gs>
            </a:gsLst>
            <a:lin ang="81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92840" y="2884320"/>
            <a:ext cx="2879640" cy="23450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0000"/>
              </a:gs>
              <a:gs pos="100000">
                <a:srgbClr val="0000ff"/>
              </a:gs>
            </a:gsLst>
            <a:lin ang="135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8080" y="3079800"/>
            <a:ext cx="3565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FreesiaUPC"/>
              </a:rPr>
              <a:t>นโยบา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FreesiaUPC"/>
              </a:rPr>
              <a:t>Global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2400" spc="-1" strike="noStrike">
                <a:solidFill>
                  <a:srgbClr val="00ffff"/>
                </a:solidFill>
                <a:latin typeface="Arial"/>
                <a:cs typeface="FreesiaUPC"/>
              </a:rPr>
              <a:t>เกิดการประหยัดจากขนา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  <a:cs typeface="FreesiaUPC"/>
              </a:rPr>
              <a:t>เกิดการลดต้นทุ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3008160"/>
            <a:ext cx="182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99"/>
                </a:solidFill>
                <a:latin typeface="Arial"/>
                <a:cs typeface="FreesiaUPC"/>
              </a:rPr>
              <a:t>ผู้ประกอ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99"/>
                </a:solidFill>
                <a:latin typeface="Arial"/>
                <a:cs typeface="FreesiaUPC"/>
              </a:rPr>
              <a:t>รถยนต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46840" y="3332160"/>
            <a:ext cx="465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FreesiaUPC"/>
              </a:rPr>
              <a:t>นโยบา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FreesiaUPC"/>
              </a:rPr>
              <a:t>Global Sou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9188000">
            <a:off x="5490720" y="2680920"/>
            <a:ext cx="1157400" cy="549360"/>
          </a:xfrm>
          <a:custGeom>
            <a:avLst/>
            <a:gdLst>
              <a:gd name="textAreaLeft" fmla="*/ 202320 w 1157400"/>
              <a:gd name="textAreaRight" fmla="*/ 839160 w 115740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5373720"/>
            <a:ext cx="1944720" cy="79200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rot="2313600">
            <a:off x="2715480" y="2734920"/>
            <a:ext cx="1150920" cy="549360"/>
          </a:xfrm>
          <a:custGeom>
            <a:avLst/>
            <a:gdLst>
              <a:gd name="textAreaLeft" fmla="*/ 201240 w 1150920"/>
              <a:gd name="textAreaRight" fmla="*/ 834480 w 115092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rot="19120200">
            <a:off x="25560" y="2844720"/>
            <a:ext cx="1239840" cy="549360"/>
          </a:xfrm>
          <a:custGeom>
            <a:avLst/>
            <a:gdLst>
              <a:gd name="textAreaLeft" fmla="*/ 217080 w 1239840"/>
              <a:gd name="textAreaRight" fmla="*/ 899280 w 123984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69400">
            <a:off x="8027640" y="2706840"/>
            <a:ext cx="1144440" cy="549000"/>
          </a:xfrm>
          <a:custGeom>
            <a:avLst/>
            <a:gdLst>
              <a:gd name="textAreaLeft" fmla="*/ 200160 w 1144440"/>
              <a:gd name="textAreaRight" fmla="*/ 829800 w 114444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181080" y="896760"/>
            <a:ext cx="4464000" cy="1987560"/>
            <a:chOff x="-181080" y="896760"/>
            <a:chExt cx="4464000" cy="1987560"/>
          </a:xfrm>
        </p:grpSpPr>
        <p:sp>
          <p:nvSpPr>
            <p:cNvPr id="204" name=""/>
            <p:cNvSpPr/>
            <p:nvPr/>
          </p:nvSpPr>
          <p:spPr>
            <a:xfrm>
              <a:off x="85680" y="896760"/>
              <a:ext cx="3952800" cy="133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-181080" y="982800"/>
              <a:ext cx="4464000" cy="13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ออกแบบให้มี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Platform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r>
                <a:rPr b="1" lang="th-TH" sz="36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        </a:t>
              </a: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หรือ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Line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การผลิ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แบบเดียวกันทั่วโล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0920" y="1844640"/>
              <a:ext cx="1676160" cy="10396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025360" y="1827360"/>
              <a:ext cx="1886040" cy="1056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03320" y="5175360"/>
            <a:ext cx="3952800" cy="1595160"/>
            <a:chOff x="103320" y="5175360"/>
            <a:chExt cx="3952800" cy="1595160"/>
          </a:xfrm>
        </p:grpSpPr>
        <p:sp>
          <p:nvSpPr>
            <p:cNvPr id="209" name=""/>
            <p:cNvSpPr/>
            <p:nvPr/>
          </p:nvSpPr>
          <p:spPr>
            <a:xfrm>
              <a:off x="103320" y="5724360"/>
              <a:ext cx="3952800" cy="10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520" y="5883120"/>
              <a:ext cx="360036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ใช้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Common Parts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ร่วมกัน ให้มากที่สุ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17880" y="5175360"/>
              <a:ext cx="1650960" cy="7794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74680" y="5175360"/>
              <a:ext cx="1781280" cy="8557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816440" y="966960"/>
            <a:ext cx="4572000" cy="1941480"/>
            <a:chOff x="4816440" y="966960"/>
            <a:chExt cx="4572000" cy="1941480"/>
          </a:xfrm>
        </p:grpSpPr>
        <p:sp>
          <p:nvSpPr>
            <p:cNvPr id="214" name=""/>
            <p:cNvSpPr/>
            <p:nvPr/>
          </p:nvSpPr>
          <p:spPr>
            <a:xfrm>
              <a:off x="5059440" y="966960"/>
              <a:ext cx="3952800" cy="129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16440" y="1028880"/>
              <a:ext cx="457200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คัดเลือก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ที่ผลิตชิ้นส่วนถูกที่สุด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และคุณภาพดีที่สุ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49960" y="1957320"/>
              <a:ext cx="1979640" cy="951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291080" y="1887480"/>
              <a:ext cx="1547640" cy="9889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H="1" rot="14173200">
            <a:off x="-28080" y="4647240"/>
            <a:ext cx="1239840" cy="549360"/>
          </a:xfrm>
          <a:custGeom>
            <a:avLst/>
            <a:gdLst>
              <a:gd name="textAreaLeft" fmla="*/ 217080 w 1239840"/>
              <a:gd name="textAreaRight" fmla="*/ 899280 w 123984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rot="7912800">
            <a:off x="2790000" y="4609080"/>
            <a:ext cx="1239840" cy="549360"/>
          </a:xfrm>
          <a:custGeom>
            <a:avLst/>
            <a:gdLst>
              <a:gd name="textAreaLeft" fmla="*/ 217080 w 1239840"/>
              <a:gd name="textAreaRight" fmla="*/ 899280 w 123984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1054080" cy="798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93080" y="4365720"/>
            <a:ext cx="571320" cy="761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8209200">
            <a:off x="7998840" y="4868640"/>
            <a:ext cx="1144440" cy="549000"/>
          </a:xfrm>
          <a:custGeom>
            <a:avLst/>
            <a:gdLst>
              <a:gd name="textAreaLeft" fmla="*/ 200160 w 1144440"/>
              <a:gd name="textAreaRight" fmla="*/ 829800 w 114444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2477600">
            <a:off x="5768640" y="4987440"/>
            <a:ext cx="1144440" cy="549360"/>
          </a:xfrm>
          <a:custGeom>
            <a:avLst/>
            <a:gdLst>
              <a:gd name="textAreaLeft" fmla="*/ 200160 w 1144440"/>
              <a:gd name="textAreaRight" fmla="*/ 829800 w 114444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solidFill>
            <a:srgbClr val="33339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-190800" y="144360"/>
            <a:ext cx="95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กฎว่าด้วยแหล่งกำเนิดสินค้าของอาเซียนในปัจจุบ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0040" y="2075040"/>
            <a:ext cx="347760" cy="607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11120" y="2014560"/>
            <a:ext cx="7124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6400" indent="-170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แบบเดิม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ea typeface="FreesiaUPC"/>
              </a:rPr>
              <a:t>...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 40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นับ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100 (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สะสมได้เต็มมูลค่า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)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โดยประเทศที่ส่งออกวัตถุดิบมาให้สะสม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จะได้ภาษ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FreesiaUPC"/>
              </a:rPr>
              <a:t>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1200" y="4378320"/>
            <a:ext cx="347760" cy="608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41360" y="4275000"/>
            <a:ext cx="74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6400" indent="-170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แบบใหม่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ea typeface="FreesiaUPC"/>
              </a:rPr>
              <a:t>...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สะสมโดยนับมูลค่าตามสัดส่วนที่เป็นจริง ซึ่งประเทศที่ส่งออกวัตถุดิบมาให้สะสม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จะไม่ได้ภาษ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FreesiaUPC"/>
              </a:rPr>
              <a:t>CEP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เนื่องจากได้</a:t>
            </a:r>
            <a:r>
              <a:rPr b="1" lang="th-TH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FreesiaUPC"/>
              </a:rPr>
              <a:t>Local Content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ไม่ถึง</a:t>
            </a:r>
            <a:r>
              <a:rPr b="1" lang="th-TH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40% (20-39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1020600"/>
            <a:ext cx="8353800" cy="642600"/>
            <a:chOff x="0" y="1020600"/>
            <a:chExt cx="8353800" cy="642600"/>
          </a:xfrm>
        </p:grpSpPr>
        <p:sp>
          <p:nvSpPr>
            <p:cNvPr id="232" name=""/>
            <p:cNvSpPr/>
            <p:nvPr/>
          </p:nvSpPr>
          <p:spPr>
            <a:xfrm>
              <a:off x="0" y="1020600"/>
              <a:ext cx="83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วัตถุดิบใช้สะสมระหว่างกันในอาเซียน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151680" y="1139760"/>
              <a:ext cx="1038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Impact"/>
                </a:rPr>
                <a:t>CRO</a:t>
              </a:r>
              <a:endPara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1467000" y="2570040"/>
            <a:ext cx="103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Full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78080" y="4862520"/>
            <a:ext cx="127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Partial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1680" y="1025640"/>
            <a:ext cx="88394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ชิ้นส่วนยานยนต์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รณีส่งออกไปจี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1680" y="1589040"/>
            <a:ext cx="8661240" cy="84240"/>
          </a:xfrm>
          <a:prstGeom prst="flowChartOnlineStorage">
            <a:avLst/>
          </a:prstGeom>
          <a:gradFill rotWithShape="0">
            <a:gsLst>
              <a:gs pos="0">
                <a:srgbClr val="ffffff"/>
              </a:gs>
              <a:gs pos="50000">
                <a:srgbClr val="33333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12880" y="149400"/>
            <a:ext cx="7265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กฎแหล่งกำเนิดสินค้าสะสมของอาเซีย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6600"/>
                </a:solidFill>
                <a:latin typeface="Tahoma"/>
                <a:ea typeface="FreesiaUPC"/>
              </a:rPr>
              <a:t>(</a:t>
            </a:r>
            <a:r>
              <a:rPr b="1" lang="en-US" sz="1900" spc="-1" strike="noStrike">
                <a:solidFill>
                  <a:srgbClr val="006600"/>
                </a:solidFill>
                <a:latin typeface="Tahoma"/>
                <a:ea typeface="FreesiaUPC"/>
              </a:rPr>
              <a:t>CRO : Cumulative Rules of Origin</a:t>
            </a:r>
            <a:r>
              <a:rPr b="1" lang="th-TH" sz="1900" spc="-1" strike="noStrike">
                <a:solidFill>
                  <a:srgbClr val="006600"/>
                </a:solidFill>
                <a:latin typeface="Tahoma"/>
                <a:ea typeface="FreesiaUPC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4040" y="2305080"/>
            <a:ext cx="1656000" cy="3319920"/>
            <a:chOff x="284040" y="2305080"/>
            <a:chExt cx="1656000" cy="3319920"/>
          </a:xfrm>
        </p:grpSpPr>
        <p:sp>
          <p:nvSpPr>
            <p:cNvPr id="241" name=""/>
            <p:cNvSpPr/>
            <p:nvPr/>
          </p:nvSpPr>
          <p:spPr>
            <a:xfrm>
              <a:off x="284040" y="2305080"/>
              <a:ext cx="1656000" cy="2722680"/>
            </a:xfrm>
            <a:prstGeom prst="ellipse">
              <a:avLst/>
            </a:prstGeom>
            <a:solidFill>
              <a:srgbClr val="008080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4120" y="2733840"/>
              <a:ext cx="142416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เม็ดพลาสติ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ccff33"/>
                  </a:solidFill>
                  <a:latin typeface="Arial"/>
                  <a:cs typeface="FreesiaUPC"/>
                </a:rPr>
                <a:t>นอกอาเซีย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270160" y="1852560"/>
            <a:ext cx="1727280" cy="3727080"/>
            <a:chOff x="2270160" y="1852560"/>
            <a:chExt cx="1727280" cy="3727080"/>
          </a:xfrm>
        </p:grpSpPr>
        <p:sp>
          <p:nvSpPr>
            <p:cNvPr id="244" name=""/>
            <p:cNvSpPr/>
            <p:nvPr/>
          </p:nvSpPr>
          <p:spPr>
            <a:xfrm>
              <a:off x="2341440" y="2343240"/>
              <a:ext cx="1656000" cy="2685960"/>
            </a:xfrm>
            <a:prstGeom prst="ellipse">
              <a:avLst/>
            </a:prstGeom>
            <a:solidFill>
              <a:srgbClr val="3366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90760" y="2743200"/>
              <a:ext cx="1566720" cy="28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ทำชิ้นส่วนพลาสติ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มูลค่า</a:t>
              </a:r>
              <a:r>
                <a:rPr b="1" lang="th-TH" sz="2800" spc="-1" strike="noStrike">
                  <a:solidFill>
                    <a:srgbClr val="00ffff"/>
                  </a:solidFill>
                  <a:latin typeface="Arial"/>
                  <a:ea typeface="Tahoma"/>
                </a:rPr>
                <a:t>100</a:t>
              </a:r>
              <a:r>
                <a:rPr b="1" lang="th-TH" sz="40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LC 2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70160" y="1852560"/>
              <a:ext cx="17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สิงคโปร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922560" y="2313000"/>
            <a:ext cx="863640" cy="4316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43760" y="2359080"/>
            <a:ext cx="863640" cy="4316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49600" y="2228760"/>
            <a:ext cx="863280" cy="432000"/>
          </a:xfrm>
          <a:custGeom>
            <a:avLst/>
            <a:gdLst>
              <a:gd name="textAreaLeft" fmla="*/ 150840 w 863280"/>
              <a:gd name="textAreaRight" fmla="*/ 626040 w 8632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621320" y="1905120"/>
            <a:ext cx="1655640" cy="3127320"/>
            <a:chOff x="4621320" y="1905120"/>
            <a:chExt cx="1655640" cy="3127320"/>
          </a:xfrm>
        </p:grpSpPr>
        <p:sp>
          <p:nvSpPr>
            <p:cNvPr id="251" name=""/>
            <p:cNvSpPr/>
            <p:nvPr/>
          </p:nvSpPr>
          <p:spPr>
            <a:xfrm>
              <a:off x="5036040" y="190512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21320" y="2397240"/>
              <a:ext cx="1655640" cy="2635200"/>
            </a:xfrm>
            <a:prstGeom prst="ellipse">
              <a:avLst/>
            </a:prstGeom>
            <a:solidFill>
              <a:srgbClr val="a50021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2440" y="2744640"/>
              <a:ext cx="14414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ประกอบเป็น   ยานยนต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FreesiaUPC"/>
                </a:rPr>
                <a:t>LC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 rot="20151000">
              <a:off x="4889520" y="2273040"/>
              <a:ext cx="345960" cy="2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6886440" y="1916280"/>
            <a:ext cx="1656000" cy="3136680"/>
            <a:chOff x="6886440" y="1916280"/>
            <a:chExt cx="1656000" cy="3136680"/>
          </a:xfrm>
        </p:grpSpPr>
        <p:sp>
          <p:nvSpPr>
            <p:cNvPr id="256" name=""/>
            <p:cNvSpPr/>
            <p:nvPr/>
          </p:nvSpPr>
          <p:spPr>
            <a:xfrm>
              <a:off x="6886440" y="2394000"/>
              <a:ext cx="1656000" cy="2658960"/>
            </a:xfrm>
            <a:prstGeom prst="ellipse">
              <a:avLst/>
            </a:prstGeom>
            <a:solidFill>
              <a:srgbClr val="80808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32680" y="1916280"/>
              <a:ext cx="113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ีน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 rot="19725000">
              <a:off x="7068960" y="2338200"/>
              <a:ext cx="34308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020000" y="2852640"/>
              <a:ext cx="144144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นำเข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ินค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จากไท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24000" y="5118120"/>
            <a:ext cx="5653080" cy="1874880"/>
            <a:chOff x="324000" y="5118120"/>
            <a:chExt cx="5653080" cy="1874880"/>
          </a:xfrm>
        </p:grpSpPr>
        <p:sp>
          <p:nvSpPr>
            <p:cNvPr id="261" name=""/>
            <p:cNvSpPr/>
            <p:nvPr/>
          </p:nvSpPr>
          <p:spPr>
            <a:xfrm>
              <a:off x="324000" y="5118120"/>
              <a:ext cx="5653080" cy="1614600"/>
            </a:xfrm>
            <a:prstGeom prst="wedgeEllipseCallout">
              <a:avLst>
                <a:gd name="adj1" fmla="val 32365"/>
                <a:gd name="adj2" fmla="val -9965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9640" y="5300640"/>
              <a:ext cx="537228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</a:t>
              </a:r>
              <a:r>
                <a:rPr b="1" lang="th-TH" sz="2800" spc="-1" strike="noStrike" u="sng">
                  <a:solidFill>
                    <a:srgbClr val="cc0000"/>
                  </a:solidFill>
                  <a:uFillTx/>
                  <a:latin typeface="Arial"/>
                  <a:cs typeface="FreesiaUPC"/>
                </a:rPr>
                <a:t>ไม่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สามารถนำมูลค่าที่ซื้อจากสิงคโปร์                     มาสะสมเป็นต้นทุนของไทยได้เลย          เนื่องจาก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LC&lt;40%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</a:t>
              </a:r>
              <a:r>
                <a:rPr b="1" lang="th-TH" sz="28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ให้ถือว่า                 ชิ้นส่วนพลาสติกมาจากนอกอาเซีย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 txBox="1"/>
          <p:nvPr/>
        </p:nvSpPr>
        <p:spPr>
          <a:xfrm>
            <a:off x="182520" y="1730520"/>
            <a:ext cx="103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ffcc00">
                      <a:alpha val="80000"/>
                    </a:srgbClr>
                  </a:outerShdw>
                </a:effectLst>
                <a:latin typeface="Impact"/>
              </a:rPr>
              <a:t>Full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ffcc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708360" y="1700280"/>
            <a:ext cx="1620720" cy="588960"/>
            <a:chOff x="3708360" y="1700280"/>
            <a:chExt cx="1620720" cy="588960"/>
          </a:xfrm>
        </p:grpSpPr>
        <p:sp>
          <p:nvSpPr>
            <p:cNvPr id="265" name=""/>
            <p:cNvSpPr/>
            <p:nvPr/>
          </p:nvSpPr>
          <p:spPr>
            <a:xfrm>
              <a:off x="3708360" y="1700280"/>
              <a:ext cx="1620720" cy="31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ม่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4262040" y="2000520"/>
              <a:ext cx="144360" cy="288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580000" y="1773360"/>
            <a:ext cx="1709640" cy="576000"/>
            <a:chOff x="5580000" y="1773360"/>
            <a:chExt cx="1709640" cy="576000"/>
          </a:xfrm>
        </p:grpSpPr>
        <p:sp>
          <p:nvSpPr>
            <p:cNvPr id="268" name=""/>
            <p:cNvSpPr/>
            <p:nvPr/>
          </p:nvSpPr>
          <p:spPr>
            <a:xfrm>
              <a:off x="5580000" y="1773360"/>
              <a:ext cx="17096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ม่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ACFTA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6227640" y="2060640"/>
              <a:ext cx="144720" cy="288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856120" y="5322960"/>
            <a:ext cx="3273480" cy="1646280"/>
            <a:chOff x="5856120" y="5322960"/>
            <a:chExt cx="3273480" cy="1646280"/>
          </a:xfrm>
        </p:grpSpPr>
        <p:sp>
          <p:nvSpPr>
            <p:cNvPr id="271" name=""/>
            <p:cNvSpPr/>
            <p:nvPr/>
          </p:nvSpPr>
          <p:spPr>
            <a:xfrm>
              <a:off x="6230880" y="5322960"/>
              <a:ext cx="28987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ผู้ผลิตยานยนต์อาจเลือกซื้อชิ้นส่วนจากผู้ผลิตชิ้นส่วนในไทย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56120" y="5584680"/>
              <a:ext cx="360360" cy="5763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9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4:53:13Z</dcterms:created>
  <dc:creator>Computer Center</dc:creator>
  <dc:description/>
  <dc:language>en-US</dc:language>
  <cp:lastModifiedBy>Your User Name</cp:lastModifiedBy>
  <dcterms:modified xsi:type="dcterms:W3CDTF">2005-03-16T11:21:19Z</dcterms:modified>
  <cp:revision>1330</cp:revision>
  <dc:subject/>
  <dc:title>PowerPoint Presentation</dc:title>
</cp:coreProperties>
</file>