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52E-2628-4449-8F64-F6120043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58C-A368-4AEC-88C2-5B97F3D8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B0C-7AEF-4712-9301-E21942B4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B47-1AB9-453C-8936-AEEE5D87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C578-81DB-492F-820F-6F0A91EB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B528-3B3A-4480-832D-56C36548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BC19-D268-4345-A81C-D869811F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8C36-49F9-4DAA-884E-D1D74017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2E6E-BA1C-471D-8B76-2C58F0B4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E0EA-5FAF-47B4-A1C0-540695A7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4F7A-7DD2-4ADA-A8D0-CE28AA4F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EB4-9C79-40E8-9DB3-9BAFF292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85B2-5C80-4A0A-AF3F-CAD2D55B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F7D1-C5B8-44CB-BC67-1C9DEAA5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BDBA-5041-4ABB-9B2C-BB9CE09B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D838-A358-4797-A31B-8C80FA8B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4F06-9325-4938-9061-B830DD91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B47-17B2-48F9-9EDF-B3F090F8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05E-6A2B-44B3-B627-AF110074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A84-2B7E-452F-A64D-BFF44B80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7BD-4B12-47A4-A262-E47D76D3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D33-4B51-4C26-92E8-7EF28A5A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A70-4B0D-4485-B28A-9EF8E0C1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610-9A19-4C59-A2B0-31AFEDC9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FB91-294B-4533-8D97-74C66F55CA5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56EB-5609-4DA9-ADC4-4990C6B0E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5044-7093-470F-B5FD-ED2CBCB0C14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4C1A-974D-40B9-A029-8A22113639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2624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3333ff"/>
                </a:solidFill>
                <a:latin typeface="Angsana New"/>
                <a:cs typeface="Angsana New"/>
              </a:rPr>
              <a:t>เครื่องจักรกล เครื่องใช้ไฟฟ้า รถยนต์และชิ้นส่วนยานยนต์ เรือ เครื่องบิน รถไฟ และอุปกรณ์เครื่องมือต่าง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3352680"/>
            <a:ext cx="6400800" cy="10130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cec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S CHAPTERS 84 –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292640"/>
            <a:ext cx="741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ดร</a:t>
            </a:r>
            <a:r>
              <a:rPr b="1" lang="th-TH" sz="4000" spc="-1" strike="noStrike">
                <a:solidFill>
                  <a:srgbClr val="990033"/>
                </a:solidFill>
                <a:latin typeface="Times New Roman"/>
                <a:ea typeface="Angsana New"/>
              </a:rPr>
              <a:t>. </a:t>
            </a:r>
            <a:r>
              <a:rPr b="1" lang="th-TH" sz="40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นิลสุวรรณ ลีลารัศม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ประธานคณะกรรมการ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และมาตรการกีดกันทางการค้าที่มิใช่ภาษ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990033"/>
                </a:solidFill>
                <a:latin typeface="Times New Roman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990033"/>
                </a:solidFill>
                <a:latin typeface="Times New Roman"/>
                <a:cs typeface="Angsana New"/>
              </a:rPr>
              <a:t>สภาอุตสาหกรรมแห่งประเทศไท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077320" y="3284640"/>
            <a:ext cx="10666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4360" y="0"/>
            <a:ext cx="7772400" cy="133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0000"/>
                </a:solidFill>
                <a:latin typeface="Angsana New"/>
                <a:cs typeface="Angsana New"/>
              </a:rPr>
              <a:t>เกณฑ์ที่ไม่ให้แหล่งกำเนิ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84280"/>
            <a:ext cx="78469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6224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ถอดสินค้ามาเป็นชิ้นส่วน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MS PGothic"/>
              </a:rPr>
              <a:t>Disassembly)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้วนำมาประกอบใหม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นำชิ้นส่วนมารวมไว้ด้วยกัน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MS PGothic"/>
              </a:rPr>
              <a:t>Collection of part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ทดสอบสินค้า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MS PGothic"/>
              </a:rPr>
              <a:t>Recertification or retesting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6224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ผลิตที่ง่ายเกินไป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MS PGothic"/>
              </a:rPr>
              <a:t>(Minimal Operatio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241-5592-4C81-895C-8C1E409D187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24DED-48DA-452A-A02F-63E6F960DF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600200" y="76320"/>
            <a:ext cx="6019920" cy="480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8038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S Phetchaburi"/>
              </a:rPr>
              <a:t>คำถามครับ</a:t>
            </a:r>
            <a:endParaRPr b="1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S Phetchaburi"/>
              <a:ea typeface="TS Phetchaburi"/>
            </a:endParaRPr>
          </a:p>
        </p:txBody>
      </p:sp>
      <p:sp>
        <p:nvSpPr>
          <p:cNvPr id="135" name=""/>
          <p:cNvSpPr/>
          <p:nvPr/>
        </p:nvSpPr>
        <p:spPr>
          <a:xfrm rot="20212800">
            <a:off x="837720" y="1828440"/>
            <a:ext cx="762120" cy="68580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461600">
            <a:off x="7543440" y="1904760"/>
            <a:ext cx="762120" cy="68580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067280" y="981000"/>
            <a:ext cx="1066680" cy="101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BB2-7F30-409C-B7F0-D2BC9964599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045B3-81F1-4E21-A4D7-655418C08E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380880"/>
            <a:ext cx="77724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  <a:ea typeface="MS PGothic"/>
              </a:rPr>
              <a:t>Goods of Chapters 84 to 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066680"/>
            <a:ext cx="8153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4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MS PGothic"/>
              </a:rPr>
              <a:t>Heavy machines or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5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MS PGothic"/>
              </a:rPr>
              <a:t>Electric or electronics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6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como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7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MS PGothic"/>
              </a:rPr>
              <a:t>Veh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8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89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h. 90: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ptical goods or medical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33B-5A29-4C27-A44D-1B92F778F1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672F6-2961-4A77-A459-DACE5D8AC8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89000"/>
            <a:ext cx="8497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ff"/>
                </a:solidFill>
                <a:latin typeface="Angsana New"/>
                <a:cs typeface="AngsanaUPC"/>
              </a:rPr>
              <a:t>ลักษณะเด่นของการผลิตสินค้าตอนที่ </a:t>
            </a: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84 – 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ngsana New"/>
                <a:ea typeface="MS PGothic"/>
              </a:rPr>
              <a:t>CTSH</a:t>
            </a:r>
            <a:r>
              <a:rPr b="1" lang="th-TH" sz="5400" spc="-1" strike="noStrike">
                <a:solidFill>
                  <a:srgbClr val="0000ff"/>
                </a:solidFill>
                <a:latin typeface="Angsana New"/>
                <a:ea typeface="AngsanaUP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828800"/>
            <a:ext cx="784692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ินค้ามิได้ผลิตมาจากการแปรรูปวัตถุดิบโดยตรง แต่ประกอบ </a:t>
            </a:r>
            <a:r>
              <a:rPr b="1" lang="en-US" sz="4000" spc="-1" strike="noStrike">
                <a:solidFill>
                  <a:srgbClr val="990033"/>
                </a:solidFill>
                <a:latin typeface="Angsana New"/>
                <a:ea typeface="MS PGothic"/>
              </a:rPr>
              <a:t>(Assembly)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ึ้นมาจากชิ้นส่วนเป็นหลัก และมีการเปลี่ยนพิกัดอัตราศุลกากรในระดับ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6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องใช้ชิ้นส่วนนับพันหมื่นชิ้นมาประกอบเพื่อให้ได้เครื่องจักรหรือสินค้าเพียง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1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ิ้นเท่านั้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ิ้นค้ามีขนาดหลากหลายและหลากชนิ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5D1-C0E7-4621-BF6C-C05D247B61D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8647B-869A-42DE-88E0-BDF826830065}" type="datetime1">
              <a:rPr lang="en-US"/>
              <a:t>07/29/26</a:t>
            </a:fld>
          </a:p>
        </p:txBody>
      </p:sp>
    </p:spTree>
  </p:cSld>
  <p:transition spd="slow"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89000"/>
            <a:ext cx="843912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5400" spc="-1" strike="noStrike">
                <a:solidFill>
                  <a:srgbClr val="660033"/>
                </a:solidFill>
                <a:latin typeface="AngsanaUPC"/>
                <a:cs typeface="AngsanaUPC"/>
              </a:rPr>
              <a:t>ประกอบชิ้นส่วนหลักจากชิ้นส่วนย่อย</a:t>
            </a:r>
            <a:br>
              <a:rPr sz="5400"/>
            </a:br>
            <a:r>
              <a:rPr b="1" lang="en-US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Subassemb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752480"/>
            <a:ext cx="871380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b3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ชิ้นส่วนหลัก</a:t>
            </a:r>
            <a:r>
              <a:rPr b="1" lang="en-US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[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C</a:t>
            </a:r>
            <a:r>
              <a:rPr b="1" lang="en-US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omponent]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ไม่ได้ส่งออกเสมอไ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844640"/>
            <a:ext cx="638280" cy="685800"/>
          </a:xfrm>
          <a:custGeom>
            <a:avLst/>
            <a:gdLst>
              <a:gd name="textAreaLeft" fmla="*/ 145440 w 638280"/>
              <a:gd name="textAreaRight" fmla="*/ 492840 w 638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852640"/>
            <a:ext cx="8713800" cy="1625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5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ประกอบชิ้นส่วนแบบ </a:t>
            </a:r>
            <a:r>
              <a:rPr b="1" lang="en-US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Subassembly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อาจไม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มีการเปลี่ยนพิกัด และไม่ได้แหล่งกำเนิดสินค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2924280"/>
            <a:ext cx="638280" cy="685800"/>
          </a:xfrm>
          <a:custGeom>
            <a:avLst/>
            <a:gdLst>
              <a:gd name="textAreaLeft" fmla="*/ 145440 w 638280"/>
              <a:gd name="textAreaRight" fmla="*/ 492840 w 638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4724280"/>
            <a:ext cx="871380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f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เพื่อให้ได้แหล่งกำเนิด อาจมีเงื่อนไขบังคับจำนว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ชิ้นส่วนที่นำมาประกอบแบบ </a:t>
            </a:r>
            <a:r>
              <a:rPr b="1" lang="en-US" sz="4800" spc="-1" strike="noStrike">
                <a:solidFill>
                  <a:srgbClr val="000000"/>
                </a:solidFill>
                <a:latin typeface="AngsanaUPC"/>
                <a:ea typeface="AngsanaUPC"/>
              </a:rPr>
              <a:t>Subassemb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4869000"/>
            <a:ext cx="638280" cy="685800"/>
          </a:xfrm>
          <a:custGeom>
            <a:avLst/>
            <a:gdLst>
              <a:gd name="textAreaLeft" fmla="*/ 145440 w 638280"/>
              <a:gd name="textAreaRight" fmla="*/ 492840 w 6382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A8A-EAE4-4EC8-80F3-5332153552D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F3847-19CA-40A6-B033-FBED92E082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019920" cy="9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0812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 Narrow"/>
              </a:rPr>
              <a:t>Turbine Rotor:  HS No. 8411.99 for </a:t>
            </a:r>
            <a:br>
              <a:rPr sz="3200"/>
            </a:br>
            <a:r>
              <a:rPr b="1" lang="en-GB" sz="3200" spc="-1" strike="noStrike">
                <a:solidFill>
                  <a:srgbClr val="0000ff"/>
                </a:solidFill>
                <a:latin typeface="Arial Narrow"/>
              </a:rPr>
              <a:t>Gas Turb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143000"/>
          <a:ext cx="457200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4572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48520" y="2057040"/>
            <a:ext cx="2666880" cy="35053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 10 cm to 2 meters in leng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p to 100 kg in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66520" y="4495680"/>
            <a:ext cx="3581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7400" y="4952880"/>
            <a:ext cx="4191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2209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la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MS PGothic"/>
              </a:rPr>
              <a:t>a part of turbine ro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824-6F4D-4F7A-8E64-EC4A0A13B6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6D6AC-C876-4968-AAC3-0E21FDC1E4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9280" y="228600"/>
            <a:ext cx="878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ินค้าส่งออกในตอนที่ </a:t>
            </a:r>
            <a:r>
              <a:rPr b="1" lang="en-GB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84 &amp; 85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กอบจากชิ้นส่วน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MS PGothic"/>
              </a:rPr>
              <a:t>(Part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286000"/>
            <a:ext cx="1981080" cy="2025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 Narrow"/>
              </a:rPr>
              <a:t>Parts of mach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286000"/>
            <a:ext cx="6248520" cy="1556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Parts suitable for use solely or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MS PGothic"/>
              </a:rPr>
              <a:t>p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rincipally with a particular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962520"/>
            <a:ext cx="6324480" cy="253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rts of general use: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tubes, pipes, wire, ropes, chain, nails, etc.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everal excepted goods: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bobbins, spools, cops, drill pip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962520"/>
            <a:ext cx="1962000" cy="2731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Parts not in Chapters 84-8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907920"/>
            <a:ext cx="6248520" cy="11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emiconductor devic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electric mo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07920"/>
            <a:ext cx="2017440" cy="122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s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C30-B4AF-4B77-A162-92CAF798234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ECD58-20C3-4920-98FA-B0256CDCDB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89000"/>
            <a:ext cx="8424720" cy="1628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เกณฑ์ที่ได้แหล่งกำเนิดจากการประกอบชิ้นส่วน </a:t>
            </a:r>
            <a:r>
              <a:rPr b="1" lang="th-TH" sz="4800" spc="-1" strike="noStrike">
                <a:solidFill>
                  <a:srgbClr val="0000ff"/>
                </a:solidFill>
                <a:latin typeface="Angsana New"/>
                <a:ea typeface="Angsana New"/>
              </a:rPr>
              <a:t>(</a:t>
            </a:r>
            <a:r>
              <a:rPr b="1" lang="en-US" sz="4800" spc="-1" strike="noStrike">
                <a:solidFill>
                  <a:srgbClr val="0000ff"/>
                </a:solidFill>
                <a:latin typeface="Angsana New"/>
                <a:ea typeface="MS PGothic"/>
              </a:rPr>
              <a:t>Assembl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3816360" cy="159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90440"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ariff shift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เปลี่ยนพิกั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4267080"/>
            <a:ext cx="38876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MS P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ocal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h-TH" sz="40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คำนวณสัดส่วนเป็น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2133720"/>
            <a:ext cx="3456000" cy="2927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ปลี่ยนพิกัดและมี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  <a:ea typeface="MS PGothic"/>
              </a:rPr>
              <a:t>Content </a:t>
            </a:r>
            <a:r>
              <a:rPr b="1" lang="th-TH" sz="44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ช่น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4076640"/>
            <a:ext cx="3456000" cy="3780360"/>
          </a:xfrm>
          <a:prstGeom prst="rect">
            <a:avLst/>
          </a:prstGeom>
          <a:solidFill>
            <a:srgbClr val="99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rial Narrow"/>
                <a:cs typeface="Angsana New"/>
              </a:rPr>
              <a:t>เปลี่ยนพิกัดและมีเงื่อนไขการประกอบ ด้วยจำนวนชิ้นส่ว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2160" y="3141720"/>
            <a:ext cx="31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ssembl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880" y="537372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Value added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A61-F82C-4C30-AB03-2F51CB4F6B1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8916F-D600-446E-BF9D-E4AB21C5A8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rial"/>
                <a:cs typeface="Angsana New"/>
              </a:rPr>
              <a:t>การคิดคำนวณสัดส่วนอย่างง่า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04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ัตถุดิบนำเข้าจากต่างประเทศ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ff"/>
                </a:solidFill>
                <a:latin typeface="Angsana New"/>
                <a:cs typeface="Angsana New"/>
              </a:rPr>
              <a:t>วัตถุดิบในประเทศไทย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ff"/>
                </a:solidFill>
                <a:latin typeface="Angsana New"/>
                <a:cs typeface="Angsana New"/>
              </a:rPr>
              <a:t>ค่าแรงงาน เงินเดือน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ff"/>
                </a:solidFill>
                <a:latin typeface="Angsana New"/>
                <a:cs typeface="Angsana New"/>
              </a:rPr>
              <a:t>ค่าผลิตสินค้า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ff"/>
                </a:solidFill>
                <a:latin typeface="Angsana New"/>
                <a:cs typeface="Angsana New"/>
              </a:rPr>
              <a:t>กำไร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  <a:ea typeface="Angsana New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วมทั้งหมด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6327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ff"/>
                </a:solidFill>
                <a:latin typeface="Angsana New"/>
                <a:cs typeface="Angsana New"/>
              </a:rPr>
              <a:t>สัดส่วนคำนวณ </a:t>
            </a:r>
            <a:r>
              <a:rPr b="1" lang="th-TH" sz="4800" spc="-1" strike="noStrike">
                <a:solidFill>
                  <a:srgbClr val="0000ff"/>
                </a:solidFill>
                <a:latin typeface="Angsana New"/>
                <a:ea typeface="Angsana New"/>
              </a:rPr>
              <a:t>= 45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244-815F-4102-B8F3-AA950C3C2E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793D8-FCE8-4B17-BE5E-6B755FB3EF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80880" y="1341360"/>
          <a:ext cx="8763120" cy="48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1360"/>
                    <a:ext cx="8763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68360" y="457200"/>
            <a:ext cx="7991280" cy="143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ff"/>
                </a:solidFill>
                <a:latin typeface="Angsana New"/>
                <a:cs typeface="Angsana New"/>
              </a:rPr>
              <a:t>ตัวอย่าง แหล่งกำเนิดสินค้าพิกัด  </a:t>
            </a:r>
            <a:r>
              <a:rPr b="1" lang="en-GB" sz="4400" spc="-1" strike="noStrike">
                <a:solidFill>
                  <a:srgbClr val="0000ff"/>
                </a:solidFill>
                <a:latin typeface="Angsana New"/>
                <a:ea typeface="Angsana New"/>
              </a:rPr>
              <a:t>84.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80880" y="1341360"/>
            <a:ext cx="14400" cy="467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e WCO Secretaria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EC3-D344-46BB-9DEE-C432DCB31AC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C2871-6DA9-4C79-B9E3-3A78C71642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2:06:59Z</dcterms:created>
  <dc:creator>Hiroshi IMAGAWA</dc:creator>
  <dc:description/>
  <dc:language>en-US</dc:language>
  <cp:lastModifiedBy>Guest</cp:lastModifiedBy>
  <cp:lastPrinted>2002-04-22T15:17:34Z</cp:lastPrinted>
  <dcterms:modified xsi:type="dcterms:W3CDTF">2005-03-17T20:41:50Z</dcterms:modified>
  <cp:revision>94</cp:revision>
  <dc:subject/>
  <dc:title>ITEM 13  MACHINERY, TRANSPORT EQUIPMENT, OPTICAL GOODS, ETC </dc:title>
</cp:coreProperties>
</file>