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75201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632-3EB8-4769-8EEC-178A2B2F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3D3-73E7-4C4D-9D66-45A70760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D43-99A7-4D1B-ADF6-C6C300E8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283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997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9569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4283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8997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287-D90F-42ED-9A8B-CD236A62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8D2-5739-422F-B140-93129FAC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C199-2EB2-46F5-9A10-C132654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71EE-DB2F-4BDC-BBA7-7B86312C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4F77-DE51-4AA0-A08E-40EEB91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84D-AB23-4387-B16B-7D4F511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956960" y="298080"/>
            <a:ext cx="74502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53F3-6F98-41A3-92F3-D1EB057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930-0B94-4E06-9C5C-8D99BE78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163-B71E-49D1-97BC-1905E6E0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276A-25D7-48C3-BEEA-37A71A9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7481-B63E-4910-8530-315EC93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8D3-604F-4599-9A32-B77A812B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8E2-2375-4135-A103-E5B8B2FF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83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99760" y="1743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9569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4283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899760" y="4317120"/>
            <a:ext cx="23533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CCA7-9E61-4A5F-841E-53F495E5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7E1-98B1-4331-A64C-BCBF3EE8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240-51FC-4C45-9564-281CFF9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BEF-F9ED-41A3-B246-61997D21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56960" y="298080"/>
            <a:ext cx="74502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380-46EA-467F-BE0C-0273C01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095-6D0D-4295-8244-8AA8486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02040" y="4317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0C8-5BDA-4CD1-AD67-99A251D7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5696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02040" y="1743120"/>
            <a:ext cx="356652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56960" y="4317120"/>
            <a:ext cx="7309080" cy="235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BAC-64C8-4C3E-B264-CF89D34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06480" y="0"/>
            <a:ext cx="0" cy="746748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69160"/>
            <a:ext cx="9753480" cy="598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06480" y="0"/>
            <a:ext cx="7947000" cy="1225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56960" y="1743120"/>
            <a:ext cx="730908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8280" indent="-368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816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46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462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14720" indent="-2462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87080" y="6800760"/>
            <a:ext cx="227628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80D5EBB9-EB2D-4E4B-BB43-12A4855CF3BE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31800" y="6800760"/>
            <a:ext cx="308916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89760" y="6800760"/>
            <a:ext cx="227664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9C82C8A4-D73C-44E4-9885-11DE1444616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1225440"/>
            <a:ext cx="1806120" cy="5643360"/>
            <a:chOff x="0" y="1225440"/>
            <a:chExt cx="1806120" cy="5643360"/>
          </a:xfrm>
        </p:grpSpPr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0" y="1225440"/>
              <a:ext cx="1802880" cy="14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2713680"/>
              <a:ext cx="1806120" cy="4155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2373480"/>
              <a:ext cx="1806120" cy="392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0" y="0"/>
            <a:ext cx="1812600" cy="1225080"/>
            <a:chOff x="0" y="0"/>
            <a:chExt cx="1812600" cy="1225080"/>
          </a:xfrm>
        </p:grpSpPr>
        <p:sp>
          <p:nvSpPr>
            <p:cNvPr id="13" name=""/>
            <p:cNvSpPr/>
            <p:nvPr/>
          </p:nvSpPr>
          <p:spPr>
            <a:xfrm>
              <a:off x="0" y="0"/>
              <a:ext cx="1812600" cy="122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3"/>
            <a:stretch/>
          </p:blipFill>
          <p:spPr>
            <a:xfrm>
              <a:off x="199800" y="298800"/>
              <a:ext cx="138420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Base" hidden="1"/>
          <p:cNvSpPr/>
          <p:nvPr/>
        </p:nvSpPr>
        <p:spPr>
          <a:xfrm>
            <a:off x="1625760" y="1521000"/>
            <a:ext cx="650232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06480" y="0"/>
            <a:ext cx="7947000" cy="1225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6480" y="1225440"/>
            <a:ext cx="7947000" cy="2273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69160"/>
            <a:ext cx="9753480" cy="598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56960" y="1537920"/>
            <a:ext cx="7604280" cy="1600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87080" y="6800760"/>
            <a:ext cx="227628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19609BD2-02AE-4DEB-9C67-E745E51F03F3}" type="datetime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31800" y="6800760"/>
            <a:ext cx="308916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989760" y="6800760"/>
            <a:ext cx="2276640" cy="51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fld id="{CEC75F20-14B6-40D6-B5AE-B21CAC13B07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1225440"/>
            <a:ext cx="1806120" cy="5643360"/>
            <a:chOff x="0" y="1225440"/>
            <a:chExt cx="1806120" cy="564336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0" y="1225440"/>
              <a:ext cx="1806120" cy="14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2713680"/>
              <a:ext cx="1806120" cy="4155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23080"/>
              <a:ext cx="1806120" cy="392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0"/>
            <a:ext cx="1812600" cy="1225080"/>
            <a:chOff x="0" y="0"/>
            <a:chExt cx="1812600" cy="122508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1812600" cy="122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199800" y="298800"/>
              <a:ext cx="138420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92120" indent="0" algn="ctr">
              <a:spcBef>
                <a:spcPts val="649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424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76360" algn="ctr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848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68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68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overs@moc.go.th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การเชื่อมโยงข้อมูลต้นทุนการผลิตสินค้า</a:t>
            </a:r>
            <a:br>
              <a:rPr sz="4300"/>
            </a:b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รองรับการขยายเขตการค้าเสรี</a:t>
            </a:r>
            <a:br>
              <a:rPr sz="43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ngsana New"/>
              </a:rPr>
              <a:t>Rules of Origin Verification System (ROVERS)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36880" y="3968640"/>
            <a:ext cx="7294320" cy="243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ริษัท โนวา เทกนิคา จำกัด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17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นาคม </a:t>
            </a: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2548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AA4B-57EA-4B50-A80D-073907C2AB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ลงทะเบียนระบบ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6800" y="1693800"/>
            <a:ext cx="2419200" cy="125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ลงทะเบียนเพื่อใช้งานระบ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87720" y="3421080"/>
            <a:ext cx="2419200" cy="13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ยื่นเอกสารเพื่อขอรับชื่อผู้ใช้และรหัสผ่าน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ngsana New"/>
              </a:rPr>
              <a:t> </a:t>
            </a: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ณ กรมการค้าต่างประเท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6960" y="1693800"/>
            <a:ext cx="4149720" cy="109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Angsana New"/>
              </a:rPr>
              <a:t>https://rovers.moc.dft.go.th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6960" y="3263760"/>
            <a:ext cx="4149720" cy="305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หนังสือรับรองการจดทะเบียน</a:t>
            </a:r>
            <a:br>
              <a:rPr sz="2400"/>
            </a:b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นิติบุคค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ใบทะเบียนภาษีมูลค่าเพิ่ม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กรณีนิติบุคคล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บัตรประจำตัวผู้เสียภาษีอากร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กรณีบุคคลธรรมด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280" indent="-368280">
              <a:spcBef>
                <a:spcPts val="1199"/>
              </a:spcBef>
              <a:buClr>
                <a:srgbClr val="333399"/>
              </a:buClr>
              <a:buFont typeface="Arial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ngsana New"/>
              </a:rPr>
              <a:t>สำเนาใบอนุญาตประกอบกิจการโรง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2949480"/>
            <a:ext cx="0" cy="39204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87720" y="5302080"/>
            <a:ext cx="2419200" cy="13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รับชื่อผู้ใช้และรหัสผ่าน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  <a:ea typeface="Angsana New"/>
              </a:rPr>
              <a:t> </a:t>
            </a:r>
            <a:r>
              <a:rPr b="1" lang="th-TH" sz="2600" spc="-1" strike="noStrike">
                <a:solidFill>
                  <a:srgbClr val="ffff99"/>
                </a:solidFill>
                <a:latin typeface="Arial"/>
                <a:cs typeface="Angsana New"/>
              </a:rPr>
              <a:t>ณ กรมการค้าต่างประเท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401640" y="4753080"/>
            <a:ext cx="11160" cy="4618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5C1-6A8A-4A3D-9C5A-5D1349956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ธิตการลงทะเบียนเพื่อใช้ง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E032-1515-4EA4-A993-771506A08E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ยื่นคำขอตรวจสอบแหล่งกำเนิดสินค้า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การป้อนคำขอแบบอิเล็กโทรนิกส์จึงทำให้ลดภาระด้านเอกสาร และการใช้กระดา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จัดเก็บคำขอที่ได้บันทึกไว้ในเครื่องคอมพิวเตอร์ของกรมการค้าต่างประเทศเพื่อช่วยอำนวยความสะดวกในการเรียกใช้ข้อมูลคำขอ และใช้เรียกดูเพื่อตรวจสอบในภายหลั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จะทำการคำนวณผลให้โดยอัตโนมัติ เช่นสัดส่วนของต้นทุนวัตถุดิบในประเทศ ทำให้ลดภาระของผู้นำเข้าข้อมู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จะทำการสืบค้นกฎตามพิกัดศุลกากรและประเทศให้โดยอัตโนม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B45-91E0-43F7-8DDD-F2B78E84E6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ยื่นคำขอตรวจสอบแหล่งกำเนิดสินค้า</a:t>
            </a:r>
            <a:endParaRPr b="1" lang="en-US" sz="39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มีความปลอดภัยของข้อมูล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ออกแบบให้สอดคล้องกับกระบวนการทำงานของผู้ส่งออก ทำให้ง่ายต่อการใช้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องรับการส่งผ่านข้อมูลที่มีปริมาณมา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ามารถทราบผลได้ทันที โดยมีรายละเอียดเงื่อนไขการพิจารณ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จำลองการยื่นคำขอ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Sim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1D1-1029-40FF-B84A-FC36B884B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ยื่นคำขอตรวจสอบแหล่งกำเนิดสินค้า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98960" y="1851120"/>
            <a:ext cx="205560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ใส่ชื่อผู้ใช้และรหัสผ่านเพื่อเข้าสู่ระบบ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98960" y="2949480"/>
            <a:ext cx="207648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เรียกคำขอที่ได้บันทึกไว้หรือยื่นคำขอใหม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4046400"/>
            <a:ext cx="207648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บันทึกหรือแก้ไขข้อมูลต้นทุ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57560" y="5222880"/>
            <a:ext cx="2076480" cy="78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บันทึกหรือแก้ไขข้อมูลกระบวนการผลิ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49600" y="2243160"/>
            <a:ext cx="384120" cy="9414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49600" y="3497400"/>
            <a:ext cx="384120" cy="9396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160 h 939600"/>
              <a:gd name="textAreaBottom" fmla="*/ 681120 h 93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9600" y="4673520"/>
            <a:ext cx="384120" cy="941400"/>
          </a:xfrm>
          <a:custGeom>
            <a:avLst/>
            <a:gdLst>
              <a:gd name="textAreaLeft" fmla="*/ 51480 w 384120"/>
              <a:gd name="textAreaRight" fmla="*/ 332640 w 3841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48440" y="5222880"/>
            <a:ext cx="2073240" cy="78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ส่งคำขอทางอิเล็กทรอนิกส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42000" y="6164280"/>
            <a:ext cx="2226960" cy="549360"/>
          </a:xfrm>
          <a:custGeom>
            <a:avLst/>
            <a:gdLst>
              <a:gd name="textAreaLeft" fmla="*/ 389520 w 2226960"/>
              <a:gd name="textAreaRight" fmla="*/ 1614240 w 222696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2" hR="21600" stAng="10800000" swAng="-5400000"/>
                <a:lnTo>
                  <a:pt x="11876" y="21600"/>
                </a:lnTo>
                <a:arcTo wR="7562" hR="21600" stAng="5400000" swAng="-2254792"/>
                <a:lnTo>
                  <a:pt x="20921" y="8944"/>
                </a:lnTo>
                <a:lnTo>
                  <a:pt x="17280" y="0"/>
                </a:lnTo>
                <a:lnTo>
                  <a:pt x="12281" y="8944"/>
                </a:lnTo>
                <a:lnTo>
                  <a:pt x="14444" y="8944"/>
                </a:lnTo>
                <a:arcTo wR="7562" hR="21600" stAng="3145208" swAng="1897901"/>
                <a:lnTo>
                  <a:pt x="9719" y="20703"/>
                </a:lnTo>
                <a:arcTo wR="7562" hR="21600" stAng="5756892" swAng="5043108"/>
                <a:close/>
              </a:path>
              <a:path fill="darkenLess" w="21600" h="21600">
                <a:moveTo>
                  <a:pt x="0" y="0"/>
                </a:moveTo>
                <a:arcTo wR="7562" hR="21600" stAng="10800000" swAng="-5400000"/>
                <a:lnTo>
                  <a:pt x="11876" y="21600"/>
                </a:lnTo>
                <a:arcTo wR="7562" hR="21600" stAng="5400000" swAng="356892"/>
                <a:lnTo>
                  <a:pt x="9719" y="20703"/>
                </a:lnTo>
                <a:arcTo wR="7562" hR="21600" stAng="5756892" swAng="5043108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8440" y="4046400"/>
            <a:ext cx="207324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rial"/>
                <a:cs typeface="Angsana New"/>
              </a:rPr>
              <a:t>ระบบ</a:t>
            </a:r>
            <a:r>
              <a:rPr b="1" lang="th-TH" sz="22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ngsana New"/>
                <a:ea typeface="Angsana New"/>
              </a:rPr>
              <a:t>ROVERS </a:t>
            </a: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แจ้งผลการตรวจสอ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8440" y="2949480"/>
            <a:ext cx="2073240" cy="78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ิมพ์และลงนามแบบรับรองตนเอ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8440" y="1851120"/>
            <a:ext cx="207324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Angsana New"/>
                <a:cs typeface="Angsana New"/>
              </a:rPr>
              <a:t>ยื่นแบบรับรองตนเอง และขอรับใบรับรอ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8451720" y="4438440"/>
            <a:ext cx="385920" cy="94140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8451720" y="3341160"/>
            <a:ext cx="385920" cy="93996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39960"/>
              <a:gd name="textAreaBottom" fmla="*/ 681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8451720" y="2163240"/>
            <a:ext cx="385920" cy="941400"/>
          </a:xfrm>
          <a:custGeom>
            <a:avLst/>
            <a:gdLst>
              <a:gd name="textAreaLeft" fmla="*/ 51480 w 385920"/>
              <a:gd name="textAreaRight" fmla="*/ 334440 w 385920"/>
              <a:gd name="textAreaTop" fmla="*/ 164520 h 941400"/>
              <a:gd name="textAreaBottom" fmla="*/ 682560 h 94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07D-3E2E-4ED7-B9B6-7731678B8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ที่ใช้ในกระบวนการยื่นคำขอ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616040"/>
            <a:ext cx="7872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ผู้ขอจากระบบลงทะเบีย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สินค้าที่ขอใช้สิทธ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ละเอียดกระบวนการผล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ายละเอียดต้นทุนการผล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166-AAA3-4A70-9CF6-140E2EAEAD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้อมูลที่สำคัญ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81360" y="1380960"/>
            <a:ext cx="7872120" cy="4938840"/>
          </a:xfrm>
          <a:prstGeom prst="rect">
            <a:avLst/>
          </a:prstGeom>
          <a:noFill/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698400" indent="-57312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1     Email Contact: </a:t>
            </a:r>
            <a:r>
              <a:rPr b="0" lang="en-US" sz="3900" spc="-1" strike="noStrike" u="sng">
                <a:solidFill>
                  <a:srgbClr val="009999"/>
                </a:solidFill>
                <a:uFillTx/>
                <a:latin typeface="Angsana New"/>
                <a:ea typeface="Angsana New"/>
                <a:hlinkClick r:id="rId1"/>
              </a:rPr>
              <a:t>rovers@moc.go.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98400" indent="-57312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2    DFT Help Desk: Hot line 1385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่อ </a:t>
            </a:r>
            <a:r>
              <a:rPr b="0" lang="th-TH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4808-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th-TH" sz="3000" spc="-1" strike="noStrike">
                <a:solidFill>
                  <a:srgbClr val="000000"/>
                </a:solidFill>
                <a:latin typeface="Arial"/>
                <a:cs typeface="Angsana New"/>
              </a:rPr>
              <a:t>สายตรง </a:t>
            </a:r>
            <a:r>
              <a:rPr b="0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0-2547-5090, 0-2547-480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294-1620-4B88-97E2-44D17AADB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ลงทะเบียนและยื่นคำขอ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696-FE51-4C7E-A83E-43B92FDED0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925560"/>
            <a:ext cx="9753120" cy="6541560"/>
            <a:chOff x="0" y="925560"/>
            <a:chExt cx="9753120" cy="65415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0" y="925560"/>
              <a:ext cx="9753120" cy="65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999560" y="4279320"/>
              <a:ext cx="1510920" cy="67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90320" y="3776760"/>
              <a:ext cx="2962800" cy="523080"/>
            </a:xfrm>
            <a:prstGeom prst="wedgeRectCallout">
              <a:avLst>
                <a:gd name="adj1" fmla="val 10847"/>
                <a:gd name="adj2" fmla="val 793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คลิ๊กเลือก </a:t>
              </a:r>
              <a:r>
                <a:rPr b="0" lang="en-US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Banner </a:t>
              </a:r>
              <a:r>
                <a:rPr b="0" lang="th-TH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“</a:t>
              </a:r>
              <a:r>
                <a:rPr b="1" lang="th-TH" sz="1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รวจแหล่งกำเนิดสินค้า</a:t>
              </a:r>
              <a:r>
                <a:rPr b="1" lang="en-US" sz="14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81280" y="33120"/>
            <a:ext cx="78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ว็บไซต์ของ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มการค้าต่างประเทศ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www.dft.moc.go.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0808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0808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954-041B-4FD4-AAA7-B4D8AE7B50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97534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131-1917-428A-BA64-16A9CFDFEA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การตรวจสอบแหล่งกำเนิดสินค้าผ่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FC7D-2626-4995-8396-2A6B778BEA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81280" y="61920"/>
            <a:ext cx="7972200" cy="746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341-1F57-4B3B-8A88-E456864F48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925560"/>
            <a:ext cx="97534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A25-B355-4C8E-A744-CA74271EAC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C74-AC66-481E-B3F1-0A50D89E3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4120" y="1239840"/>
            <a:ext cx="7929360" cy="2273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ยื่นคำขอผ่านระบบ </a:t>
            </a:r>
            <a:r>
              <a:rPr b="1" lang="en-US" sz="39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3A9-91CD-460F-8E50-9D6179CF81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48920" y="173880"/>
            <a:ext cx="68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ันทึก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User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Name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779480"/>
            <a:ext cx="476280" cy="20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979640"/>
            <a:ext cx="9753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F96-0218-4EDE-8624-D7C5092CCE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996840"/>
          <a:ext cx="975348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75348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0D3-51B2-4897-9A97-46FB7275F1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1285920"/>
          <a:ext cx="9753480" cy="61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5920"/>
                    <a:ext cx="9753480" cy="61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427-A7D9-4336-A6AA-CADECFFBA1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925560"/>
          <a:ext cx="9753480" cy="65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5560"/>
                    <a:ext cx="9753480" cy="65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5C5-B0ED-4533-BDCD-D2FE540391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01920"/>
            <a:ext cx="9753480" cy="53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550-5D91-46D8-8614-FB8DA922AC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81280" y="0"/>
          <a:ext cx="7972200" cy="74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0"/>
                    <a:ext cx="7972200" cy="74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68E-ED69-4F80-91BE-16A70D254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โยชน์ที่ผู้ส่งออกจะได้รับ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81360" y="1460520"/>
            <a:ext cx="78721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86000"/>
          </a:bodyPr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ส่งออกสามารถรับทราบผลการตรวจสอบเงื่อนไขได้โดยทันที ในกรณีที่สินค้าที่ยื่นขอคำรับรองไม่มีเงื่อนไขที่ต้องตรวจสอบโดยใช้เจ้าหน้าที่ โดยระบบจะให้ข้อมูลเงื่อนไขที่ทำให้ไม่ผ่านหรือขั้นตอนที่ต้องรอการตรวจสอ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ประมวลผลกฎแหล่งกำเนิดสินค้าซึ่งผู้ส่งออกสามารถใช้ในการตรวจสอบเงื่อนไขได้ด้วยตนเองตลอด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24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ั่วโมงทั่วประเทศ ซึ่งจะอำนวยความสะดวกและเพิ่มประสิทธิภาพในการดำเนินการของผู้ส่งออ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480" indent="-492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จัดเก็บกฎแหล่งกำเนิดสินค้าที่เผยแพร่ผ่านระบ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net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นำไปใช้ประมวลผลการอนุมัติคำขอรับรองกฎแหล่งกำเนิดสินค้า ซึ่งจะทำให้ลดความผิดพลาดจากการตรวจสอบ และสามารถรองรับการเปลี่ยนแปล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ยายตัวของเขตการค้าเสรีได้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23B-B67F-4343-B929-0AE94D3D1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1069920"/>
          <a:ext cx="9753480" cy="63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9920"/>
                    <a:ext cx="9753480" cy="63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D8E-4EBF-4A49-B65B-FA9A46D8ED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996840"/>
          <a:ext cx="9753480" cy="64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75348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E11-B110-40A7-A558-EADBC61B89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9753480" cy="647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DAF-5B37-44F6-9510-7A9D8CD13F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โยชน์ที่ผู้ส่งออกจะได้รับ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81360" y="1460520"/>
            <a:ext cx="78721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82000"/>
          </a:bodyPr>
          <a:p>
            <a:pPr marL="572400" indent="-469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ประมวลผลซึ่งสามารถเชื่อมโยงข้อมูลกับผู้ส่งออก และหน่วยราชการอื่นๆเพื่อใช้ในการตรวจสอบข้อมูล จึงทำให้เพิ่มประสิทธิภาพและความโปร่งใสจากการลดความซ้ำซ้อนในการนำเข้าข้อมูลจากแหล่งต่างๆ  อีกทั้งเพิ่มความชัดเจนของข้อมูลและความสามารถในการตรวจสอบข้อมูลของทางกรม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0" indent="-4698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ส่งออกสามารถยื่นคำขอรับรองกฎแหล่งกำเนิดสินค้าจากระบบคอมพิวเตอร์ผ่านทางเครือข่ายอินเตอร์เน็ต โดยใช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Web Browser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Interactive Mode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รือส่งข้อมูลแบ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Batch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่านทา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ใช้โปรแกรมที่ผู้ส่งออกได้พัฒนาเองหรือมีอยู่เดิม เพื่อเพิ่มความรวดเร็วในการยื่นคำข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0" indent="-469800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005-DB22-4A2C-93E7-57A02C045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การเชื่อมโยงข้อมูลต้นทุนการผลิตสินค้า</a:t>
            </a:r>
            <a:br>
              <a:rPr sz="3400"/>
            </a:br>
            <a:r>
              <a:rPr b="1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รองรับการขยายเขตการค้าเสรี </a:t>
            </a:r>
            <a:r>
              <a:rPr b="1" lang="th-TH" sz="3400" spc="-1" strike="noStrike">
                <a:solidFill>
                  <a:srgbClr val="000000"/>
                </a:solidFill>
                <a:latin typeface="Angsana New"/>
                <a:ea typeface="Angsana New"/>
              </a:rPr>
              <a:t>(ROVERS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933A-F205-4985-91A8-131090D85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ของระบบ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1360" y="1538280"/>
            <a:ext cx="78721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0000"/>
          </a:bodyPr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ระบบเครือข่ายอินเตอร์เน็ตเป็นช่องทางสื่อสารโดยมีการเข้ารหัสผ่านทาง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Secured Socket Layer (SSL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นระดั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128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ิท ซึ่งทำให้การรับส่งข้อมูลในการตรวจสอบมีความปลอดภัยสู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ะมวลผลจะถูกดำเนินการบนเครื่องคอมพิวเตอร์ของกรมการค้าต่างประเทศ ทำให้ผู้ส่งออกไม่จำเป็นต้องใช้อุปกรณ์ราคาสูงเกินความจำเป็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000" indent="-336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Web Service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ผู้ส่งออกสามารถส่งข้อมูลคำขอในมาตรฐา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เชื่อมโยงระบบโปรแกรมประยุกต์ของผู้ส่งออกกับระบบ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ดยตรง โดยกรมการค้าต่างประเทศได้กำหนด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XML Schema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ห้แก่ผู้ส่งออ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78E-DB71-481C-99AB-5ADC3C594E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81000" y="1225080"/>
            <a:ext cx="7872120" cy="227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39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ใช้งานของผู้ส่งออก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10B-4850-4FFE-BF48-CA08E6036D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การใช้งาน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ngsana New"/>
                <a:ea typeface="Angsana New"/>
              </a:rPr>
              <a:t>ROVERS 2 </a:t>
            </a: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ั้นตอน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81360" y="2008080"/>
            <a:ext cx="7872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698400" indent="-57312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งทะเบียนเพื่อใช้งานระบ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98400" indent="-57312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34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ื่นคำขอตรวจสอบกฎแหล่งกำเนิด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FB1-2896-456A-853A-719B19ADE3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56960" y="298080"/>
            <a:ext cx="7450200" cy="770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th-TH" sz="43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ุณลักษณะระบบลงทะเบียน</a:t>
            </a:r>
            <a:endParaRPr b="1" lang="en-US" sz="4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81360" y="1380960"/>
            <a:ext cx="78721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ระบบลงทะเบียนล่วงหน้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Pre Regist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เชื่อมโยงข้อมูลกับหน่วยงานภายนอก ได้แก่กรมโรงงานฯ และกรมพัฒนาธุรกิจการค้าทำให้ระบบสามารถแก้ไขข้อมูลจากหน่วยราชการอื่นได้โดยอัตโนม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ที่ให้ผู้ส่งออกไม่ต้องยื่นต่อทะเบีย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ระบบบริหารชื่อผู้ใช้และรหัสผ่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20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ngsana New"/>
              <a:buChar char="•"/>
              <a:tabLst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knic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EFE-807E-41AC-A7CE-D33ED4460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29:11Z</dcterms:created>
  <dc:creator>Chatchai Dusadenoad</dc:creator>
  <dc:description/>
  <dc:language>en-US</dc:language>
  <cp:lastModifiedBy>Piyada Parawong</cp:lastModifiedBy>
  <dcterms:modified xsi:type="dcterms:W3CDTF">2005-03-17T05:32:32Z</dcterms:modified>
  <cp:revision>88</cp:revision>
  <dc:subject/>
  <dc:title>การประชุมกำหนดวิธีการเก็บข้อมูลโครงการ F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9259841</vt:r8>
  </property>
  <property fmtid="{D5CDD505-2E9C-101B-9397-08002B2CF9AE}" pid="3" name="_AuthorEmail">
    <vt:lpwstr>chatchai@novateknica.com</vt:lpwstr>
  </property>
  <property fmtid="{D5CDD505-2E9C-101B-9397-08002B2CF9AE}" pid="4" name="_AuthorEmailDisplayName">
    <vt:lpwstr>Chatchai Dusadenoad</vt:lpwstr>
  </property>
  <property fmtid="{D5CDD505-2E9C-101B-9397-08002B2CF9AE}" pid="5" name="_EmailSubject">
    <vt:lpwstr>Presentation on Dec 15</vt:lpwstr>
  </property>
  <property fmtid="{D5CDD505-2E9C-101B-9397-08002B2CF9AE}" pid="6" name="_ReviewingToolsShownOnce">
    <vt:lpwstr/>
  </property>
</Properties>
</file>