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16A-42BB-410E-AB95-57D2602F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980-F0C0-4C96-8649-C0EF8760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A5F-8A20-40BC-BC4D-314B22A7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FD6-2816-4858-BD58-2238966B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6576-9789-4345-B811-6350ECB5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1388-E54A-473A-AD25-C9842BC6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679B-1534-4C8D-9D44-067E2517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1691-A7A6-4B56-AE98-13FEC2D5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6D09-DCEF-4DB4-8064-607807FD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65C7-1400-4F07-909A-30F3CA25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EED5-F232-4AF9-99BC-710C44C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2BF-9488-46B0-A7E2-1C93DF96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83D0-C802-4F15-BE44-F144B1CD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90D6-CBE7-4616-A09C-6825FE1A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5F04-C1ED-42A5-8236-C256FA1F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1DD8-335E-45C1-8536-D2187F7C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32E-08C5-4A7B-B407-1577C474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F9A-40BF-4F7D-AE27-3021120F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E66-9AF7-4CF5-AF66-4A93BBBB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037-8016-48EB-9DE4-D28923BB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9C5-D96F-4BCA-A002-9C1BC9B3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C1D-279E-4AE2-8597-083C02F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8FC-C841-42F2-BA9A-E019AC3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DA0-532D-4EB5-8E0F-F3B0ED29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A66D-7D43-4665-B4FC-5729AE6EB58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873080"/>
            <a:ext cx="84200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BE0C-6F1F-4850-96D8-791EF21B84F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6360" y="476280"/>
            <a:ext cx="89852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7200" spc="-1" strike="noStrike">
                <a:solidFill>
                  <a:srgbClr val="ffcc66"/>
                </a:solidFill>
                <a:latin typeface="IrisUPC"/>
                <a:cs typeface="IrisUPC"/>
              </a:rPr>
              <a:t>การตรวจสอบคุณสมบัติทางด้านแหล่งกำเนิดสินค้าที่จะขอรับ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7200" spc="-1" strike="noStrike">
                <a:solidFill>
                  <a:srgbClr val="ffcc66"/>
                </a:solidFill>
                <a:latin typeface="IrisUPC"/>
              </a:rPr>
              <a:t>สิทธิพิเศษทางภาษีศุลกากร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4413240"/>
            <a:ext cx="313668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19720" y="457200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โดย  สำนักป้องกันการแอบอ้างสิทธิ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กรมการค้าต่าง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3356-7D75-4A79-A2D8-B91BA244D8EF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20800" y="270000"/>
            <a:ext cx="5740920" cy="10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lang="en-US" sz="6600" spc="-1" strike="noStrike">
                <a:solidFill>
                  <a:srgbClr val="ff7c80"/>
                </a:solidFill>
                <a:latin typeface="IrisUPC"/>
              </a:rPr>
              <a:t>GST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05240" y="447840"/>
            <a:ext cx="2889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(48 </a:t>
            </a:r>
            <a:r>
              <a:rPr b="1" lang="hi-IN" sz="4600" spc="-1" strike="noStrike">
                <a:solidFill>
                  <a:srgbClr val="ff7c80"/>
                </a:solidFill>
                <a:latin typeface="IrisUPC"/>
              </a:rPr>
              <a:t>ประเทศ</a:t>
            </a: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792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อล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ังคลาเทศ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บลี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ค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รู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คิวบ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อกวาดอ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ย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โด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ีรั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มาเล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ซัมบิ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น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าร์เจนติ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บนิ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ราซิล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ชิล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กาหลีเหนือ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ียิปต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ิน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เด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หร่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ลิ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็กซิ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ิการากั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ปากีสถ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1204920"/>
            <a:ext cx="1816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ปรู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กาหลีใต้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สิงคโป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ซูด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ทนซ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ยูโกสลา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ังโก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ไฮ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ิ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ตา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เนซูเอ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ฟิลิปปินส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รม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ศรีลังก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7512120" y="2408400"/>
            <a:ext cx="2057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รินิแดด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   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ละโตเบ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ู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ียดนาม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ิมบับเ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คลัม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ร๊อก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ุรุกวั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าอี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024-D2E9-4084-B740-DD12D7944BF9}" type="slidenum">
              <a:t>10</a:t>
            </a:fld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54560" y="525960"/>
            <a:ext cx="29970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900" spc="-1" strike="noStrike">
                <a:solidFill>
                  <a:srgbClr val="ffcc66"/>
                </a:solidFill>
                <a:latin typeface="IrisUPC"/>
              </a:rPr>
              <a:t>FTAs</a:t>
            </a:r>
            <a:endParaRPr b="0" lang="en-US" sz="12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27240" y="1916280"/>
            <a:ext cx="7974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ระบบสิทธิพิเศษทางภาษีศุลกากรที่ไทย</a:t>
            </a:r>
            <a:br>
              <a:rPr sz="5400"/>
            </a:b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ตกลงกับประเทศคู่ค้าที่มีศักยภาพใน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ขยายตลาดส่งออกเพื่อลดหย่อนภาษีขาเข้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ระหว่างกันสำหรับสินค้าบางราย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ACA-EC19-42E8-AB2F-DD88CE91FAB5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89920" y="374040"/>
            <a:ext cx="5901840" cy="103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cc66"/>
                </a:solidFill>
                <a:latin typeface="IrisUPC"/>
              </a:rPr>
              <a:t>FTAs  </a:t>
            </a:r>
            <a:r>
              <a:rPr b="1" i="1" lang="en-US" sz="5400" spc="-1" strike="noStrike">
                <a:solidFill>
                  <a:srgbClr val="ffcc66"/>
                </a:solidFill>
                <a:latin typeface="IrisUPC"/>
              </a:rPr>
              <a:t>ของไทยในปัจจุบัน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4880" y="1412640"/>
            <a:ext cx="820908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ินเดีย  เริ่มตั้งแต่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กันยายน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54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อสเตรเลีย  เริ่มตั้งแต่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มกราคม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54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าเซียน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จี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4880" y="3716280"/>
            <a:ext cx="8772480" cy="25923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603440" indent="-1603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IrisUPC"/>
                <a:cs typeface="Angsana New"/>
              </a:rPr>
              <a:t>อนาคต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 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USA 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นิวซีแลนด์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บาห์เร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br>
              <a:rPr sz="5400"/>
            </a:b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ญี่ปุ่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เปรู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าเซียน –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BIMSTEC 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าเซีย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-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ินเดีย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209-9109-4ECE-A545-5D3740352E2D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5800" y="793800"/>
            <a:ext cx="92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IrisUPC"/>
                <a:cs typeface="IrisUPC"/>
              </a:rPr>
              <a:t>คุณสมบัติของ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</a:rPr>
              <a:t>สินค้า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  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(Origin Criterion)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920880" y="1766880"/>
            <a:ext cx="885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ภายในประเทศทั้งหมด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Wholly  Obtained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นำเข้าจากต่างประเทศ  ต้องได้รับกา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แปรสภาพอย่างเพียงพ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Substantial  Transformation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1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พิกัดศุลกาก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2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สัดส่วนการใช้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/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าคา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88E-4CB8-430F-90C1-E006D50AED80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1471680"/>
            <a:ext cx="9448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72000"/>
          </a:bodyPr>
          <a:p>
            <a:pPr lvl="1" marL="139320" indent="-216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European Unio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Switzerland/Norway/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ุรก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Japa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%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U.S.A.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ของวัตถุดิบภาย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+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้นทุนการผลิตทางตรงไม่น้อยกว่า</a:t>
            </a:r>
            <a:br>
              <a:rPr sz="3000"/>
            </a:b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35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anad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0">
              <a:lnSpc>
                <a:spcPct val="9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2880" y="1413000"/>
            <a:ext cx="0" cy="527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43352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484280"/>
            <a:ext cx="41400" cy="518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1433520"/>
            <a:ext cx="38160" cy="516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632880" y="1433520"/>
            <a:ext cx="44640" cy="523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208116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2922480" y="3429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2922480" y="4365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2922480" y="5661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258840" y="6669000"/>
            <a:ext cx="9447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128520" y="6228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D21-1A72-4BB0-BF19-25AB82CEF149}" type="slidenum">
              <a:t>14</a:t>
            </a:fld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460520"/>
            <a:ext cx="9677520" cy="66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Russian Federation/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 Bulgar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factory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EPT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ASEAN countries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และต้นทุนการผลิต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D Certificate)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ASEAN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ประเทศสมาชิก         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GSTP)              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43820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314172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0858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533556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9753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200160" y="458136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62006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EA6-1821-4C4B-9B91-95DE4D454622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420840" y="1460520"/>
            <a:ext cx="8901000" cy="69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  <a:ea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- India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2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</a:t>
            </a:r>
            <a:br>
              <a:rPr sz="3000"/>
            </a:b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เปลี่ยนแปลง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-  Austral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-55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เปลี่ยนแปลง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4160" y="1438200"/>
            <a:ext cx="468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349200" y="143820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" y="20858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3849840" y="1438200"/>
            <a:ext cx="2376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9416520" y="1438200"/>
            <a:ext cx="4932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>
            <a:off x="349200" y="408456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>
            <a:off x="344520" y="587700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478-2A0C-46A2-BB76-B6264346FCCD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22400" y="44280"/>
            <a:ext cx="8683560" cy="9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โครงสร้างต้นทุนการผลิตสินค้า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1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หน่วย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1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ใน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ข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นำเข้าจากต่างประเทศ หรือไม่ทราบแหล่งที่ม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2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อื่น ๆ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production cost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โสหุ้ยโ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บบพิมพ์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ทดสอบ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R &amp; D,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น้ำค่าไฟฟ้า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บริหาร ฯลฯ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3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ต่อหน่วย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4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5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ขนส่งสินค้าเพื่อการส่งออก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ท่าอากาศย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ด่านชายแด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6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สินค้า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FOB  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ชจ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ในการขนส่ง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7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ารคำนวณอัตราส่วน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B7F-8D3F-48E2-B594-AC38C9289633}" type="slidenum">
              <a:t>17</a:t>
            </a:fld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60240" y="533520"/>
            <a:ext cx="657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ภายในประเทศ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80180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้องเป็นวัตถุดิบที่ผลิตขึ้นภายในประเทศและถูกต้อง</a:t>
            </a:r>
            <a:br>
              <a:rPr sz="4500"/>
            </a:b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ามหลักเกณฑ์แหล่งกำเนิดของประเทศผู้ให้สิทธิพิเศษ</a:t>
            </a:r>
            <a:endParaRPr b="0" lang="en-US" sz="45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9" name=""/>
          <p:cNvSpPr/>
          <p:nvPr/>
        </p:nvSpPr>
        <p:spPr>
          <a:xfrm>
            <a:off x="725400" y="3465360"/>
            <a:ext cx="9104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กรณีใช้ </a:t>
            </a: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CUMULATION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ต้องแสดงหลักฐานรับรองตามที่ประเทศผู้ให้สิทธิกำหนด เช่น สหภาพยุโรป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EUR1,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อาเซียน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Form D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FTA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ไทย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-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= Form FT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D3A-AE16-4957-B595-F3C7293F90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85800"/>
            <a:ext cx="53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นำเข้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1" name=""/>
          <p:cNvSpPr/>
          <p:nvPr/>
        </p:nvSpPr>
        <p:spPr>
          <a:xfrm>
            <a:off x="2330280" y="1704960"/>
            <a:ext cx="5747040" cy="77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วัตถุดิบที่ใช้ในการผลิตที่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นำเข้าจากต่างประเทศ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C.I.F.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นการคำนวณต้นทุน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ซื้อจากผู้นำเข้า  หรือ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ไม่ทราบแหล่งที่ม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IrisUPC"/>
              </a:rPr>
              <a:t>    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ตาม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Invoice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ที่ซื้อขายจริ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23B-5EEB-480B-B5E5-30FB41F50E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5400" y="2637000"/>
            <a:ext cx="8034480" cy="417672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992160" y="152280"/>
            <a:ext cx="8034480" cy="234000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1282680" y="320760"/>
            <a:ext cx="7485120" cy="34286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P (Generalized System of Preference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CEPT (Common Effective Preferential Tariff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TP (The Global System of Trade Preference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cs typeface="IrisUPC"/>
              </a:rPr>
              <a:t>ข้อตกลงการค้าเสรี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3333600" y="2757600"/>
            <a:ext cx="3410280" cy="57132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99"/>
                </a:solidFill>
                <a:latin typeface="IrisUPC"/>
              </a:rPr>
              <a:t>กฎ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1284120" y="3456000"/>
            <a:ext cx="7485120" cy="14288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1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หลักเกณฑ์ว่าด้วยแหล่งกำเนิดสินค้า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(Rules of Origin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ภายในประเทศทั้งหมด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นำเข้าจาก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3067200" y="5037120"/>
            <a:ext cx="3838320" cy="52236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2. </a:t>
            </a: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เงื่อนไขการส่งมอบสิน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1257480" y="5675400"/>
            <a:ext cx="7467480" cy="9936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3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เอกสารที่ใช้เป็นหลักฐานออกโดยกรมการค้า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A    - Form D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GSTP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   - Form FT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870440" y="32083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47815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4835520" y="54421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2276640"/>
            <a:ext cx="330120" cy="436320"/>
          </a:xfrm>
          <a:prstGeom prst="downArrow">
            <a:avLst>
              <a:gd name="adj1" fmla="val 50000"/>
              <a:gd name="adj2" fmla="val 454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D0E-42AD-4761-94D2-25B59A78285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533520"/>
            <a:ext cx="462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การผลิตอื่นๆ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3" name=""/>
          <p:cNvSpPr/>
          <p:nvPr/>
        </p:nvSpPr>
        <p:spPr>
          <a:xfrm>
            <a:off x="5349960" y="2795760"/>
            <a:ext cx="457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จ้างในการบริหาร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เงินเดือนพนักงาน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ใช้จ่ายในการอบรม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   พนักงาน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ขนส่งวัตถุดิบ  ฯลฯ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41300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ต้นทุนอื่นที่เกิดจากการผลิต ทั้งทางตรงและทางอ้อม เช่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299736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แรงในการผลิต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เสื่อมราคาเครื่องจักร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ตรวจสอบ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ออกแบบผลิตภัณฑ์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D41-4A3A-47A5-B0B2-74EEB2AE53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93760" y="685800"/>
            <a:ext cx="231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ค่าขนส่ง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2075040" y="2077920"/>
            <a:ext cx="528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ค่าขนส่งสินค้า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1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หน่วย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 หรือ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ท่าอากาศยาน ที่จะส่งออก 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D0D-DD6E-4048-B12A-C9EC6F15CA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04880" y="105264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การขอรับ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CERTIFICATE :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Form FTA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865080" y="2133720"/>
            <a:ext cx="8120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1-08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ได้เล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9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ึ้นไป </a:t>
            </a:r>
            <a:r>
              <a:rPr b="1" lang="en-US" sz="4000" spc="-1" strike="noStrike" u="sng">
                <a:solidFill>
                  <a:srgbClr val="ff9966"/>
                </a:solidFill>
                <a:uFillTx/>
                <a:latin typeface="IrisUPC"/>
                <a:cs typeface="IrisUPC"/>
              </a:rPr>
              <a:t>ต้อง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รับการตรวจสอบ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แหล่งกำเนิดสินค้าถูกต้องตามหลักเกณฑ์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IrisUPC"/>
                <a:cs typeface="IrisUPC"/>
              </a:rPr>
              <a:t>ก่อ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3DB-603C-4AD2-B674-1097C85153EA}" type="slidenum">
              <a:t>22</a:t>
            </a:fld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09600" y="333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เอกสารประกอบการพิจารณ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920880" y="1268280"/>
            <a:ext cx="82087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1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แบบคำขอให้ตรวจ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รับรองแหล่งกำเนิด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2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คำรับรองและรายละเอียดต้นทุนการผลิต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3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หนังสือรับรองการจดทะเบียนเป็นนิติบุคคล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4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ทะเบียนภาษีมูลค่าเพิ่ม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ภ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พ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20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5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อนุญาตประกอบกิจการโรงงา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6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ยื่นและรับ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7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บัตรประจำตัวผู้ลงนามและผู้ยื่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-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ับ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8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ลงนามแทน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ถ้ามี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3B7-2113-4EA2-90C2-8D0E6B7AAFFE}" type="slidenum">
              <a:t>23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898640" y="1981080"/>
            <a:ext cx="3189240" cy="4191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457880" y="914400"/>
            <a:ext cx="3466800" cy="1371600"/>
          </a:xfrm>
          <a:prstGeom prst="wedgeEllipseCallout">
            <a:avLst>
              <a:gd name="adj1" fmla="val -58629"/>
              <a:gd name="adj2" fmla="val 71412"/>
            </a:avLst>
          </a:prstGeom>
          <a:solidFill>
            <a:srgbClr val="ffffdd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990033"/>
                </a:solidFill>
                <a:latin typeface="JasmineUPC"/>
              </a:rPr>
              <a:t>จบแล้วครับ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FD1-F2FB-4387-AAF0-A28E33098033}" type="slidenum">
              <a:t>24</a:t>
            </a:fld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29600" y="4248000"/>
            <a:ext cx="0" cy="28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7329600" y="5002200"/>
            <a:ext cx="0" cy="76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3728880" y="423864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1352520" y="422280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7329600" y="335772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2505240" y="1789200"/>
            <a:ext cx="0" cy="1162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7329600" y="25765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2938320" y="144360"/>
            <a:ext cx="4102200" cy="4762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488880" y="3813120"/>
            <a:ext cx="41036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488880" y="2952720"/>
            <a:ext cx="892800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หลักเกณฑ์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แหล่ง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กำเนิดสินค้า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ด้านการผลิต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) :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Rules of Origin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Origin Criteria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>
            <a:off x="488880" y="4394160"/>
            <a:ext cx="17305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487440" y="5780160"/>
            <a:ext cx="89294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ขั้นตอนการตรวจสอบย้อนหลัง 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Post Administrative Control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487440" y="1185840"/>
            <a:ext cx="4113000" cy="10080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สิทธิพิเศษ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เป็นการทั่วไป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CEPT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T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5311800" y="1185840"/>
            <a:ext cx="4113360" cy="15130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ภายใต้ข้อตกลงการค้าเสรี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ก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7)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ม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ค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8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สหรัฐอเมริก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นิวซีแลนด์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cxnSp>
        <p:nvCxnSpPr>
          <p:cNvPr id="126" name=""/>
          <p:cNvCxnSpPr>
            <a:stCxn id="125" idx="0"/>
            <a:endCxn id="124" idx="0"/>
          </p:cNvCxnSpPr>
          <p:nvPr/>
        </p:nvCxnSpPr>
        <p:spPr>
          <a:xfrm rot="5400000">
            <a:off x="4955400" y="-1235160"/>
            <a:ext cx="2160" cy="4825080"/>
          </a:xfrm>
          <a:prstGeom prst="bentConnector3">
            <a:avLst>
              <a:gd name="adj1" fmla="val -1380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H="1">
            <a:off x="4985640" y="556920"/>
            <a:ext cx="3960" cy="402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311800" y="3813120"/>
            <a:ext cx="410508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2865600" y="4394160"/>
            <a:ext cx="17287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HS 84-97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2505240" y="3375000"/>
            <a:ext cx="0" cy="430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250524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2643120" y="3452760"/>
            <a:ext cx="23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A / Form D / Form GSTP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3430440"/>
            <a:ext cx="1806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FTAs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732960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5097600" y="654120"/>
            <a:ext cx="2663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ลดหย่อน หรือยกเว้น อากรขาเข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4991040" y="776160"/>
            <a:ext cx="2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7761240" y="1379520"/>
            <a:ext cx="180036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บาห์เรน</a:t>
            </a:r>
            <a:r>
              <a:rPr b="1" lang="en-US" sz="2400" spc="-1" strike="noStrike">
                <a:solidFill>
                  <a:srgbClr val="bc3700"/>
                </a:solidFill>
                <a:latin typeface="Times New Roman"/>
                <a:ea typeface="IrisUP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เปรู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ญี่ปุ่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จี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BIMSTEC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5530680" y="4332240"/>
            <a:ext cx="3598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 ชี้แจงข้อมูลการผลิต มีความถูกต้องตาม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   หลักเกณฑ์แหล่งกำเนิดสินค้า และผูกพันกับภาครัฐ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2720880" y="494172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ส่งออก พิสูจน์ความถูกต้องตามหลักเกณฑ์แหล่งกำเนิดสินค้า โดยแสดงเอกสาร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หลักฐานการใช้วัตถุดิบ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374004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200160" y="4946760"/>
            <a:ext cx="25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ขอรับหนังสือรับรองฯ ชี้แจงข้อมูลการผลิต มีความถูกต้องตามหลักเกณฑ์และผูกพันกับภาครัฐ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135252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1281240" y="6281640"/>
            <a:ext cx="73436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ตามคำขอให้ดำเนินการของศุลกากรประเทศผู้นำเข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มีข้อสงสัยเกี่ยวกับขอ้มูลที่ผูกพันกับภาครัฐ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สุ่มตรวจสอบ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(Random Check)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C45-F456-4C23-B6E6-87B7EAB6220E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72600" y="303120"/>
            <a:ext cx="913932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3399ff"/>
                </a:solidFill>
                <a:latin typeface="IrisUPC"/>
              </a:rPr>
              <a:t>ระบบสิทธิพิเศษทางภาษีศุลกากร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6816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P   (Generalized System of Preferenc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CEPT (Common Effective Preferential Tariff </a:t>
            </a:r>
            <a:br>
              <a:rPr sz="5400"/>
            </a:b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       Schem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TP (Global System of Trade Preference</a:t>
            </a:r>
            <a:br>
              <a:rPr sz="5400"/>
            </a:b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        Among Developing Countri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Free Trade Agreements (FTA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B61-FBA8-4384-8628-2F02188A1922}" type="slidenum">
              <a:t>4</a:t>
            </a:fld>
          </a:p>
        </p:txBody>
      </p:sp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7200" y="40320"/>
            <a:ext cx="8076600" cy="183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P 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Generalized System of Preference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31800" y="1873080"/>
            <a:ext cx="8858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บบสิทธิพิเศษทางภาษีศุลกากรเป็นการทั่วไป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ประเทศพัฒนาแล้ว ให้สิทธิพิเศษทางภาษีศุลกากร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แก่สินค้าที่มีแหล่งกำเนิดจากประเทศกำลังพัฒนา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ลดหย่อนหรือยกเว้นภาษีศุลกากรให้แก่สินค้าที่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อยู่ในข่ายได้รับสิทธิฯ    ทั้งนี้ ประเทศผู้ให้สิทธิฯ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จะเป็นผู้ให้ฝ่ายเดียวโดยไม่หวังผลตอบแทน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771-A6FF-4E27-B36F-2D8C0898891C}" type="slidenum">
              <a:t>5</a:t>
            </a:fld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48560" y="507240"/>
            <a:ext cx="902664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99ff"/>
                </a:solidFill>
                <a:latin typeface="IrisUPC"/>
              </a:rPr>
              <a:t>ประเทศที่ให้สิทธิพิเศษ </a:t>
            </a:r>
            <a:r>
              <a:rPr b="1" lang="en-US" sz="6600" spc="-1" strike="noStrike">
                <a:solidFill>
                  <a:srgbClr val="3399ff"/>
                </a:solidFill>
                <a:latin typeface="IrisUPC"/>
              </a:rPr>
              <a:t>GS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80600" y="1628640"/>
            <a:ext cx="5200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ัจจุบัน มี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3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4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ระเทศ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แบ่งได้เป็น 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10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ระบบ คือ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59120" y="3276720"/>
            <a:ext cx="407340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รัฐอเมริก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ภาพยุโรป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ea typeface="IrisUPC"/>
              </a:rPr>
              <a:t>2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5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นอรเว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ย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วิตเซอร์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ญี่ปุ่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6681960" y="3463920"/>
            <a:ext cx="192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Angsana New"/>
              </a:rPr>
              <a:t>แคนาด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บัลแกเร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รัสเซ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ตุรกี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02B-E5FE-4F8B-B003-B962EC52503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12960" y="1080"/>
            <a:ext cx="8570880" cy="19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CEPT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Common Effective Preferential Tariff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5200" y="2209680"/>
            <a:ext cx="85104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ข้อตกลงว่าด้วยอัตราภาษีศุลกากรพิเศษ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เท่ากันภายใต้เขตการค้าเสรีอาเซียน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มีเป้าหมายเพื่อลดอัตราภาษีนำเข้า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หว่างประเทศสมาชิกอาเซียน ให้เหลือ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0-5 %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ภายในระยะเวลา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10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ปี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(2536-2546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399-1606-4BC2-8B6C-3193534D1322}" type="slidenum">
              <a:t>7</a:t>
            </a:fld>
          </a:p>
        </p:txBody>
      </p:sp>
    </p:spTree>
  </p:cSld>
  <p:transition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491480" y="507240"/>
            <a:ext cx="658008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ASEAN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172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อินโดนี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มาเล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ฟิลิปปินส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สิงคโปร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บรูไ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528336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เวียดนาม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ลาว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พม่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กัมพูช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ไท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5C3-0D3A-4AB2-945E-7E594075ADA4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78280" y="-34200"/>
            <a:ext cx="8277480" cy="26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TP</a:t>
            </a:r>
            <a:br>
              <a:rPr sz="8800"/>
            </a:br>
            <a:r>
              <a:rPr b="1" lang="en-US" sz="5400" spc="-1" strike="noStrike">
                <a:solidFill>
                  <a:srgbClr val="99b1ff"/>
                </a:solidFill>
                <a:latin typeface="IrisUPC"/>
              </a:rPr>
              <a:t>The Global System of Trade Preferences Among Developing Countrie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71560" y="2666520"/>
            <a:ext cx="8618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ระบบสิทธิพิเศษทางการค้าระหว่างประเทศ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ที่กำลังพัฒนา ที่ตกลงจะลดหย่อนภาษีแก่สินค้า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บางรายการระหว่างกั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558-B850-4304-81A1-838A760F51EE}" type="slidenum">
              <a:t>9</a:t>
            </a:fld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1:47:50Z</dcterms:created>
  <dc:creator>กองสิทธิประโยชน์ทางการค้า</dc:creator>
  <dc:description/>
  <dc:language>en-US</dc:language>
  <cp:lastModifiedBy>Piyada Parawong</cp:lastModifiedBy>
  <cp:lastPrinted>2004-06-08T04:42:39Z</cp:lastPrinted>
  <dcterms:modified xsi:type="dcterms:W3CDTF">2005-03-17T05:20:56Z</dcterms:modified>
  <cp:revision>90</cp:revision>
  <dc:subject/>
  <dc:title>ROO3</dc:title>
</cp:coreProperties>
</file>