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8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9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D924-E383-407D-917B-4DED192FF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การค้าสินค้าระหว่างไทยกับออสเตรเลีย ตั้งแต่เริ่มเปิดเสรีในเดือนมกราคม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ที่ผ่านมา สรุปได้ดังนี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การส่งออก ไทยส่งออกสินค้าทุกชนิดไปยังออสเตรเลีย ในเดือนมกราคม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7,642.6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เมื่อเทียบกับช่วงเดียวกันของปีก่อน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6,518.4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มีการขยายตัวเพิ่มขึ้น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17.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เป็นการส่งออกสินค้าชิ้นส่วนยานยนต์ไปยังออสเตรเลีย ในเดือนมกราคม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173.4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เมื่อเทียบกับช่วงเดียวกันของปีก่อน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174.9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มีการขยายตัวลดลงเล็กน้อย คิดเป็น การส่งออกสินค้าชิ้นส่วนยานยนต์ ในสัดส่วน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ของมูลค่าการส่งออกสินค้าทุกชนิดไปยังออสเตรเลีย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การนำเข้า ไทยนำเข้าสินค้าทุกชนิดจากออสเตรเลีย ในเดือนมกราคม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11,057.1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เมื่อเทียบกับช่วงเดียวกันของปีก่อน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5,923.4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มีการขยายตัวเพิ่มขึ้น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86.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เป็นการนำเข้าสินค้าชิ้นส่วนยานยนต์จากออสเตรเลีย ในเดือนมกราคม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7.7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เมื่อเทียบกับช่วงเดียวกันของปีก่อน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8.5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มีการขยายตัวเพิ่มขึ้นถึง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25.9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คิดเป็น การนำเข้าสินค้าชิ้นส่วนยานยนต์ ในสัดส่วนเพียงแค่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0.3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ของมูลค่าการนำเข้าสินค้าทุกชนิดจากออสเตรเลี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E8F8-45A1-4E97-954D-20B33BA76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91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•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ในการประชุมผู้นำเขตเศรษฐกิกเอเปคที่ประเทศไทย เมื่อวันที่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ตุลาคม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546 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นายกรัฐมนตรีไทยและนิวซีแลนด์ได้เห็นชอบให้ทำการศึกษาความเป็นไปได้ในการทำ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CEP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ระหว่างสองประเท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•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ารเจรจาใช้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TAFTA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ป็นพื้นฐาน  โดยทั้งสองฝ่ายสามารถสรุปผลการเจรจาเบื้องต้นได้ในระดับเจ้าหน้าที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•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คณะรัฐมนตรีให้ความเห็นชอบผลการเจรจาแล้ว และนายกรัฐมนตรีทั้งสองฝ่ายได้ประกาศสรุปผลการเจรจาเมื่อ วันที่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3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พฤศจิกายน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4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ณ กรุงเวียงจันทน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•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โดยคาดว่าจะมีการลงนามความตกลงในเดือนเมษายน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5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ละมีผลบังคับใช้ในวันที่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1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รกฎาคม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D738-7E1F-4A44-867B-9660552D0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91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รุปสาระสำดัญ ดังนี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๏ การค้าสินค้า  สามารถตกลงกันได้ในเรื่องการเปิดตลาดและการลดภาษ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-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โดยไทยลดภาษีให้นิวซีแลนด์ทันทีที่ความตกลงมีผลบังคับใช้ ร้อยละ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49.2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ของมูลค่าการนำเข้าจากนิวซีแลนด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-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นิวซีแลนด์ลดภาษีให้ไทยทันทีที่ความตกลงมีผลบังคับใช้ ร้อยละ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84.9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ของมูลค่าการนำเข้าจากไท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 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-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โดยไทยยังมีใช้มาตรการโควตาภาษีและมาตรการปกป้องพิเศษในบางสินค้า เช่น เนื้อ นม หัวหอม นฝรั่ง ทั้งนี้ไทยได้ปรับเพิ่มระดับของจำนวนนำเข้าสำหรับมาตรการปกป้องพิเศษ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Triger Volume)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ำหรับสินค้าเกษตรให้แก่นิวซีแลนด์ ได้แก่ เนื้อวัว นมผงเต็มมันเนย เครื่องในวัว และเฟรนช์ฟรายส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๏ การค้าบริการ จะเริ่มเจรจาเปิดตลาดการค้าบริการภายใน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3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ีหลังจากที่ความตกลงมีผลบังคับใช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ขณะนี้ ทั้งสองฝ่ายสามารถตกลงร่วมกันในร่างข้อบทอื่นๆ ในเบื้องต้น เช่น การลงทุน กฎแหล่งกำเนิดสินค้า พิธีการ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JasmineUPC"/>
              </a:rPr>
              <a:t>/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JasmineUPC"/>
              </a:rPr>
              <a:t>ความร่วมมือทางศุลกากร  มาตรฐานสินค้า  มาตรการเยียวยาทางการค้า ทั้งนี้ จะได้มีการพิจารณาร่างความตกลงร่วมกันอีกครั้งในเดือนธันวาคม ศกนี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F06C-2861-4C58-8714-1B8483B73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66280" y="4664160"/>
            <a:ext cx="5683320" cy="52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อาเซียน – จีน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• 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ลงนามในกรอบความตกลง   เมื่อวันที่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4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พฤศจิกายน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2002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ณ ประเทศกัมพูชา โดยจะมีการลดภาษีสินค้ากลุ่มแรกภายใต้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Early Harvest Programme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ในพิกัด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01-08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ได้แก่  สัตว์มีชีวิต เนื้อสัตว์ ปลาและอาหารทะเล นมและผลิตภัณฑ์ ผลิตภัณฑ์จากพืชและสัตว์ ผักและผลไม้  ตั้งแต่วันที่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1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มกราคม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2004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ละภาษีจะลดลงเหลือ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0%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ภายในปี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•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รัฐมนตรีการค้า ได้การลงนามความตกลงเปิดเสรีทางการค้าสินค้า และความตกลงว่าด้วยกลไกการระงับข้อพิพาทระหว่างอาเซียน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-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จีน ในการประชุมสุดยอดอาเซียน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-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จีน ในเดือนพฤศจิกายน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2547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ที่ประเทศลาว ส่วนเรื่อง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ารค้าบริการ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 อาเซียน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-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จีนยังไม่สามารถตกลงกันได้ในประเด็นหลักๆ เช่น คำนิยามของบุคลธรรมดา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Natural Person)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ว่าครอบคลุมถึงผู้มีถิ่นพำนักถาวร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Permanent Resident)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หรือไม่  โดยจีนไม่ต้องการให้ครอบคลุมถึง ขณะที่สิงคโปร์ถือเป็นองค์ประกอบสำคัญ ส่วนไทยยังสงวนสิทธิที่จะให้คำนิยามของบุคคลธรรมดา จึงยังไม่มีการลงนามความตกลงด้านการค้าบริการ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•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ความตกลงทางการค้าสินค้าดังกล่าวจะครอบคลุมการเปิดเสรีสินค้าทั้งหมด  โดยจะเริ่มมีผลบังคับใช้ตั้งแต่วันที่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1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มกราคม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ละจะเริ่มลดภาษีสินค้าตั้งแต่วันที่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1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รกฎาคม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รุปสาระสำคัญ ดังนี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800" spc="-1" strike="noStrike" u="sng">
                <a:solidFill>
                  <a:srgbClr val="000000"/>
                </a:solidFill>
                <a:uFillTx/>
                <a:latin typeface="Angsana New"/>
                <a:cs typeface="JasmineUPC"/>
              </a:rPr>
              <a:t>รูปแบบการลดภาษีสินค้า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         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- 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ินค้าปกติ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Normal Track)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โดยจะลดภาษีเหลือไม่เกินร้อยละ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ในวันที่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1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รกฎาคม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75000"/>
              </a:lnSpc>
              <a:spcBef>
                <a:spcPts val="125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ินค้าอ่อนไหว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จะคงภาษีไว้และลดเหลือร้อยละ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20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JasmineUPC"/>
              </a:rPr>
              <a:t>ในวันที่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1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JasmineUPC"/>
              </a:rPr>
              <a:t>ม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.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JasmineUPC"/>
              </a:rPr>
              <a:t>ค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. 2012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JasmineUPC"/>
              </a:rPr>
              <a:t>โดยกำหนดเพดานรายการสินค้าอ่อนไหวไม่เกิน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400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JasmineUPC"/>
              </a:rPr>
              <a:t>รายการ และมูลค่านำเข้าสินค้า   ร้อยละ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      </a:t>
            </a:r>
            <a:r>
              <a:rPr b="1" lang="th-TH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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1" lang="th-TH" sz="2000" spc="-1" strike="noStrike" u="sng">
                <a:solidFill>
                  <a:srgbClr val="000000"/>
                </a:solidFill>
                <a:uFillTx/>
                <a:latin typeface="Angsana New"/>
                <a:cs typeface="JasmineUPC"/>
              </a:rPr>
              <a:t>ไทย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ได้แก่ ชุดสายไฟรถยนต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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1" lang="th-TH" sz="2000" spc="-1" strike="noStrike" u="sng">
                <a:solidFill>
                  <a:srgbClr val="000000"/>
                </a:solidFill>
                <a:uFillTx/>
                <a:latin typeface="Angsana New"/>
                <a:cs typeface="JasmineUPC"/>
              </a:rPr>
              <a:t>จีน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ได้แก่ หลอดไฟรถยนต์ แตร ไซเรน เครื่องปัดน้ำฝน เครื่องกำจัดฝ้า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/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JasmineUPC"/>
              </a:rPr>
              <a:t>ละลายน้ำแข็ง ชุดสายไฟรถยนต์ แชสซีส์ ส่วนประกอบรถ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บรก กระปุกเกียร์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5000"/>
              </a:lnSpc>
              <a:spcBef>
                <a:spcPts val="125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ินค้าอ่อนไหวสูง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จะคงภาษีไว้และลดลงเหลือร้อยละ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50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JasmineUPC"/>
              </a:rPr>
              <a:t>ในวันที่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1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JasmineUPC"/>
              </a:rPr>
              <a:t>ม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.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JasmineUPC"/>
              </a:rPr>
              <a:t>ค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.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     </a:t>
            </a:r>
            <a:r>
              <a:rPr b="1" lang="th-TH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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1" lang="th-TH" sz="2000" spc="-1" strike="noStrike" u="sng">
                <a:solidFill>
                  <a:srgbClr val="000000"/>
                </a:solidFill>
                <a:uFillTx/>
                <a:latin typeface="Angsana New"/>
                <a:cs typeface="JasmineUPC"/>
              </a:rPr>
              <a:t>ไทย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ได้แก่ สินค้าที่มีโควตาภาษ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     </a:t>
            </a:r>
            <a:r>
              <a:rPr b="1" lang="th-TH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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1" lang="th-TH" sz="2000" spc="-1" strike="noStrike" u="sng">
                <a:solidFill>
                  <a:srgbClr val="000000"/>
                </a:solidFill>
                <a:uFillTx/>
                <a:latin typeface="Angsana New"/>
                <a:cs typeface="JasmineUPC"/>
              </a:rPr>
              <a:t>จีน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 ได้แก่ ส่วนประกอบรถ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JasmineUPC"/>
              </a:rPr>
              <a:t>รถยนต์นั่ง รถตู้ รถบัส รถบรรทุก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C0CC-CAF1-4E0B-A38A-AD10694DC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91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นำรายการสินค้า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ร่งลดภาษีบางส่วนก่อน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Early Harvest)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ภายใต้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รอบอาเซียน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จีนมาเร่งลดภาษีเร็วขึ้น   โด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ขั้นแรกนำผักและผลไม้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HS.07-08)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ทุกรายการ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116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รายการ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ตามพิกัดศุลกากร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6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หลัก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มาลดอัตราภาษีเหลือ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0% 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ตั้งแต่วันที่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ตุลาคม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- 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หล่งกำเนิดสินค้า </a:t>
            </a:r>
            <a:r>
              <a:rPr b="0" lang="en-US" sz="1800" spc="-1" strike="noStrike">
                <a:solidFill>
                  <a:srgbClr val="ffff66"/>
                </a:solidFill>
                <a:latin typeface="Angsana New"/>
                <a:ea typeface="JasmineUP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ินค้าที่จะได้รับสิทธิด้านภาษีต้องผ่านกระบวนการผลิตในประเทศ  โดยใช้วัตถุดิบในประเทศทั้งหมด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Wholly Obtain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3602-F80C-4816-A93A-54B078DFB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87400" y="4681080"/>
            <a:ext cx="4890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ริ่มต้น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มื่อวันที่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9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ตุลาคม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3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ไทย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-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อินเดีย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ลงนามกรอบควา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ตก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ลง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FTA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ครอบคลุมการเปิดเสรีการค้าสินค้า  การค้าบริการและการ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ล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งทุน จะลดภาษีเหลือ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%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ภายใน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ินค้าเร่งลด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ภาษี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E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ินค้า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82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รายการ    เช่น ผลไม้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งาะ  มังคุด  ลำไย  ทุเรียน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) 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อาหารทะเลกระป๋อง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คมีภัณฑ์ พลาสติกและผลิตภัณฑ์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อัญมณี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 ไม้อัดพลายวูด เหล็กและเหล็กกล้า อลูมิเนียม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ครื่องใช้ไฟฟ้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ครื่องจักรกล บอลล์แบริ่ง และกระปุกเกียร์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ฯล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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ทะยอยลดภาษีเหลือ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0 % 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ภายใน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ี 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1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ย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.2004-1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ย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.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ขตการค้าเสรี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FTA)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คืออะไร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FTA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ป็นความตกลงระหว่างประเทศประเภทหนึ่ง การเจรจาอาจจะเป็นการเจรจาระหว่าง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ระเทศ เช่น ระหว่างไทยกับสหรัฐอเมริกา ไทยกับญี่ปุ่น ไทยกับออสเตรเลีย หรือเจรจาเป็นกลุ่มประเทศก็ได้ เช่น ระหว่างอาเซียนกับอินเดีย อาเซียนกับญี่ปุ่น อาเซียนกับ 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  <a:ea typeface="SimSun"/>
              </a:rPr>
              <a:t>CER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โดยมีวัตถุประสงค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-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พื่อจะลดอุปสรรคทางการค้าระหว่างกันให้เหลือน้อยที่สุด เพื่อให้เกิดการค้าเสรีระหว่างประเทศคู่เจรจา  ปัจจุบันประเทศต่างๆได้ขยายขอบเขตของ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FTA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ให้ครอบคลุมทั้งด้านสินค้า  การลงทุน การคุ้มครองทรัพย์สินทางปัญญา รวมทั้งการลดอุปสรรคในด้านการค้าบริการ เช่น บริการท่องเที่ยว การรักษาพยาบาล การสื่อสาร การขนส่ง ฯลฯ ด้ว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-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FTA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ยังเป็นเครื่องมือการค้าที่ประเทศต่างๆใช้เพื่อขยายโอกาสในการค้า สร้างพันธมิตรทางเศรษฐกิจ พร้อมๆกับเพิ่มความสามารถในการแข่งขันด้านราคาให้แก่สินค้าของต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การค้าสินค้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Harvest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จำนวน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82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รายการ ระหว่างไทยกับอินเดีย ในช่วงตั้งแต่ เดือนกันยายน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ธันวาคม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ที่ผ่านมา สรุปได้ดังนี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การส่งออก ไทยส่งออกสินค้าจำนวน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82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รายการไปยังอินเดีย ในช่วงเดือนกันยายน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ธันวาคม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,603.3 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เมื่อเทียบกับช่วงเดียวกันของปีก่อน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1,231.9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มีการขยายตัวเพิ่มขึ้นถึง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111.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เป็นการส่งออกสินค้าบอลล์แบริ่งไปยังอินเดีย ในช่วงเดือนกันยายน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ธันวาคม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11.3 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เมื่อเทียบกับช่วงเดียวกันของปีก่อน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7.7 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มีการขยายตัเพิ่มขึ้น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46.7 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คิดเป็น การส่งออกบอลล์แบริ่งในสัดส่วน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0.4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ของมูลค่าการส่งออกสินค้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Harvest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จำนวน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82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รายการ ไปยังอินเดี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การนำเข้า ไทยนำเข้าสินค้าสินค้าจำนวน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82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รายการจากอินเดีย ในช่วงเดือนกันยายน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ธันวาคม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674.0 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เมื่อเทียบกับช่วงเดียวกันของปีก่อน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896.8 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มีการขยายตัวลดลง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4.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เป็นการนำเข้าสินค้าชิ้นส่วนยานยนต์จากอินเดีย ในช่วงเดือนกันยายน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ธันวาคม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ประมาณ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170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แบ่งเป็น นำเข้าบอลล์แบริ่ง มูลค่าเล็กน้อย และกระปุกเกียร์ มูลค่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165.9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ล้านบาท หรือคิดเป็นสัดส่วนสูงถึง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24.6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ของมูลค่านำเข้าสินค้า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82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รายการจากอินเดี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การเจรจาการค้ารอบใหม่ของ 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WTO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ชะงัก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JasmineUPC"/>
              </a:rPr>
              <a:t> ทั้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การประชุมระดับรัฐมนตรี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ครั้งที่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เมื่อปลาย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2542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ณ นครซีแอตเติล สหรัฐอเมริกา ประเทศสมาชิกไม่สามารถตกลงกันได้ จึงไม่มีผลการประชุมหรือปฎิญญารัฐมนตรีใดๆ ออกมาเล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การประชุมระดับรัฐมนตรี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TO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ครั้งที่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5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เมื่อเดือนกันยายน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2546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ณ เมืองแคนคูน เม็กซิโก ที่ประชุมไม่สามารถหาข้อยุติได้เนื่องจากสมาชิกมีความเห็นขัดแย้งกันอย่างมากใน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เรื่องสำคัญ คือ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1)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การเปิดเสรีสินค้าเกษตร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2)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การอุดหนุนการส่งออกฝ้าย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3)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ingapore Iss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และ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4)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cs typeface="JasmineUPC"/>
              </a:rPr>
              <a:t>การเปิดตลาดสินค้าอุตสาหกรร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“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มังกรตื่นจากหลับไหล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buClr>
                <a:srgbClr val="000000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จีนเข้าเป็นสมาชิกของ </a:t>
            </a: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WTO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ทำให้ประเทศต่างๆ เกิดความหวั่นเกรงต่อศักยภาพด้านการแข่งขันของจี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buClr>
                <a:srgbClr val="000000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ขยายอำนาจทางเศรษฐกิจในอนาค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buClr>
                <a:srgbClr val="000000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ความได้เปรียบจา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  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+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ตลาดบริโภคขนาดใหญ่ มีประชากรมากถึง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1,300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ล้านค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  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+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รงงานราคาถูก รองรับการผลิต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  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+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มีศักยภาพในการส่งออกสู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WTO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ได้ตระหนักถึงประเด็นนี้ และได้มีการรวบรวมข้อมูลเกี่ยวกับการทำ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FTA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ของประเทศต่างๆ ซึ่งชี้ให้เห็นว่า ตั้งแต่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1999 (2543)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ารประชุม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WTO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ที่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Seattl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ล้มเหลว ประเทศสมาชิกเริ่มหันไปให้ความสนใจการทำ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FTA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ป็นอีกทางเลือกหนึ่งในการแข่งขันกันเปิดเสร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ใน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3 (2546) WTO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รายงานว่ามีการทำ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FTA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ที่แจ้งต่อ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WTO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รวม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15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ฉบับ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ำหรับประเทศกำลังพัฒนาที่เริ่มเจรจ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FTA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ซึ่งยังอยู่ระหว่างการเจรจา จึงยังไม่มีการแจ้งต่อ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WTO)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ละในจำนวน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15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ความตกลงเป็นความตกลง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ฝ่าย หรือ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Bilateral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Agreement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ว่าร้อยละ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ไทยได้มีการจัดทำ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FTA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ับ 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8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ระเทศ และ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ลุ่มเศรษฐกิ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-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ระเทศที่เจรจาเสร็จแล้ว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2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ระเทศ 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: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ออสเตรเลีย นิวซีแลนด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-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อยู่ระหว่างการเจรจากับ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6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ระเทศ และ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 </a:t>
            </a: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กลุ่มเศรษฐกิ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หรัฐ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ญี่ปุ่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จี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บาห์เร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อินเดี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ปร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BIMSTEC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บังคลาเทศ อินเดีย พม่า ศรีลังกา ไทย เนปาล และ ภูฎาน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EFTA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วิตเซอร์แลนด์ นอร์เวย์ ไอซ์แลนด์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ละลิกเตนสไตน์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JasmineUP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3B91-9E48-41C7-9F0F-FDE4572A6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69360" y="4746600"/>
            <a:ext cx="5929560" cy="42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0000"/>
                </a:solidFill>
                <a:uFillTx/>
                <a:latin typeface="Angsana New"/>
              </a:rPr>
              <a:t>เขตการค้าเสรีไทย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ngsana New"/>
              </a:rPr>
              <a:t>-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ngsana New"/>
              </a:rPr>
              <a:t>ออสเตรเลี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0000"/>
                </a:solidFill>
                <a:uFillTx/>
                <a:latin typeface="Angsana New"/>
              </a:rPr>
              <a:t>ผลการเจรจาลดภาษีสินค้า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ไทยใช้เวลาการลดภาษีที่ยาวกว่าออสเตรเลีย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ไทย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20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ปี  ออสเตรเลีย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10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ปี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0000"/>
                </a:solidFill>
                <a:uFillTx/>
                <a:latin typeface="Angsana New"/>
              </a:rPr>
              <a:t>การลดภาษีของไท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จะทยอยลดภาษีสินค้าจนเหลือ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0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ทุกรายการภายใน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20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ป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--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สินค้าที่ไทยมีความต้องการนำเข้าจะลดภาษีเหลือ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</a:rPr>
              <a:t>%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ทันที่ในวันแรกที่ความตกลงฯ มีผลบังคับใช้ คือ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มกราคม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2005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จำนวน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2,724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รายการ หรือ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49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ของรายการสินค้าทั้งหมด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</a:rPr>
              <a:t>5,505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รายการ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ซึ่งส่วนใหญ่เป็นวัตถุดิบที่ไทยไม่มีศักยภาพในการผลิตหรือเป็นสินค้าที่นำเข้ามา แล้วจะไม่กระทบการแข่งขันกับสินค้าในประเทศ เช่น ธัญพืช เส้นใยใช้ในการทอ โกโก้ สินแร่ อัญมณี  เชื้อเพลิง เคมีภัณฑ์ รถยนต์นั่งขนาดเกิน 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</a:rPr>
              <a:t>3,000 c.c.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เป็นต้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- -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สินค้าที่เหลือประมาณร้อยละ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51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ซึ่งเป็นสินค้าอ่อนไหวของไทย จะค่อยๆ ทยอยลดภาษีเป็นศูนย์ ภายใน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5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ปี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2010 (2553),  10 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ปี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2015 (2558),  15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ปี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2020 (2563), 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และ</a:t>
            </a:r>
            <a:r>
              <a:rPr b="0" lang="en-US" sz="1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20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ปี 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2025 (25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C1F2-DE8C-425A-B86F-DB43C4EEA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91320" cy="52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0000"/>
                </a:solidFill>
                <a:uFillTx/>
                <a:latin typeface="Angsana New"/>
                <a:cs typeface="JasmineUPC"/>
              </a:rPr>
              <a:t>แผนการลดภาษีของออสเตรเลี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ระมาณร้อยละ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83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ของสินค้าทั้งหมด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6,108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รายการ จะลดภาษีเป็นศูนย์ทันที ณ วันที่ความตกลงฯ มีผลบังคับใช้ คิดเป็นมูลค่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,522.98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ล้านเหรียญออสเตรเลีย ได้แก่ สินค้าเกษตรทุกรายการ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ยกเว้น ปลาทูน่ากระป๋อง 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5-2006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ลดเหลือร้อยละ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.5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ละเป็น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ใน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7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ละสินค้าอุตสาหกรรมทุกรายการ ที่ลดเป็น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ทันท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ยกเว้น พลาสติก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ม็ดพลาสติก 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5,2008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ผลิตภัณฑ์พลาสติก 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5,2008,201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ละ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15 )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ครื่องหนัง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5,2010)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ชิ้นส่วนยานยนต์บางประเภท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10)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หล็ก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5,2010)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ิ่งทอ เครื่องนุ่งห่ม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ผ้าผืน 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1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สื้อผ้าสำเร็จรูป 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15)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ละรองเท้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009-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สินค้าที่เหลืออีกร้อยละ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13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ภาษีจะเป็นศูนย์ใน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553 (5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ี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)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และร้อยละ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4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เป็นศูนย์ในปี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2558 (1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JasmineUPC"/>
              </a:rPr>
              <a:t>ปี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JasmineUP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1B9A6-FCDD-4AF1-AF22-C2DD24C6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1B2DF-187D-44C1-9E6C-CDDBF64A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C276-0462-4142-996D-DA14945C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B9233-2F5B-4D35-A385-076A9605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9EC7-E9A4-4D37-93E3-63F283B0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99C4-0326-4647-9292-7CDB83B8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EF37-E3DA-42F8-B0F8-8634043C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7768-3A10-4850-AB16-D97E3BA3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B64A-3243-4EB8-9CBF-AEF2A435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254B-A5B3-40B4-884C-71DB57E1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2417-76AD-4439-9077-EE8EAD95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90B72-7880-4585-B511-D6FFE011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69D0-FE29-43ED-AFEE-360325E5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4B61-10AA-4837-9A65-6A2E8B73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3855-5641-4AE8-8EA6-65519864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24A5-3FD7-4FEC-A76E-811F8E9A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0A85-FBB4-4648-8F7F-F9FBB706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F3626-9B67-4AEA-A92F-5174F758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54AEA-904E-44C2-9EA8-09E3F231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5B6BB-36AF-4547-9066-C0E7BF48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5D9DF-046C-4898-B3BC-E2700A82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7C1DB-1419-4AF6-A229-54C91090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BD9FF-F06C-47FD-912E-45ABBB58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8F3A4-AC43-42DA-B1BC-1E7A3FB8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44F1-15D2-47F3-8923-06B56A4B8C4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6623-8029-408E-AB7B-35B48D1C6DA6}" type="slidenum"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ia.gov/cia/publications/factbook/flags/th-flag.html" TargetMode="External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758520"/>
            <a:ext cx="838224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600" spc="-1" strike="noStrike">
                <a:solidFill>
                  <a:srgbClr val="ffff00"/>
                </a:solidFill>
                <a:latin typeface="Tahoma"/>
                <a:cs typeface="JasmineUPC"/>
              </a:rPr>
              <a:t>ความคืบหน้าการทำความตกลง</a:t>
            </a:r>
            <a:br>
              <a:rPr sz="5600"/>
            </a:br>
            <a:r>
              <a:rPr b="1" lang="th-TH" sz="5600" spc="-1" strike="noStrike">
                <a:solidFill>
                  <a:srgbClr val="ffff00"/>
                </a:solidFill>
                <a:latin typeface="Tahoma"/>
                <a:cs typeface="JasmineUPC"/>
              </a:rPr>
              <a:t>เขตการค้าเสรีของประเทศไทย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โดย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นายณัฐวัชร์ จันทร์วิเมลือ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กรมเจรจาการค้าระหว่างประเท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วันพฤหัสบดีที่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7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มีนาคม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548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JasmineUPC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ณ โรงแรม มิราเคิล แกรนด์ คอนเวนชั่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059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ffffff"/>
                </a:solidFill>
                <a:latin typeface="Tahoma"/>
                <a:cs typeface="JasmineUPC"/>
              </a:rPr>
              <a:t>การลดภาษีชิ้นส่วนยานยนต์</a:t>
            </a:r>
            <a:br>
              <a:rPr sz="5000"/>
            </a:br>
            <a:r>
              <a:rPr b="1" lang="th-TH" sz="5000" spc="-1" strike="noStrike">
                <a:solidFill>
                  <a:srgbClr val="ffffff"/>
                </a:solidFill>
                <a:latin typeface="Tahoma"/>
                <a:cs typeface="JasmineUPC"/>
              </a:rPr>
              <a:t>ของไทยและออสเตรเลีย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Tahoma"/>
                <a:cs typeface="JasmineUPC"/>
              </a:rPr>
              <a:t>ไท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ดเป็น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0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ทันที ได้แก่ แชสซีส์ ชิ้นส่วนรถตู้ ชิ้นส่วนรถบรรทุ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ดเหลือเหลือภายในปี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2010 (5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ปี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)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ได้แก่ ตัวถังรถ หลอดไฟ แตรและไซเรน  เครื่องปัดน้ำฝน เครื่องกำจัดฝ้า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/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ะลายน้ำแข็ง ชิ้นส่วนรถแทรกเตอร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Tahoma"/>
                <a:cs typeface="JasmineUPC"/>
              </a:rPr>
              <a:t>ออสเตรเลี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ดเป็น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0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ทันที ได้แก่ แชสซีส์ ตัวถังรถ ชิ้นส่วนรถ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รถยนต์นั่ง รถตู้ รถบรรทุก รถแทรกเตอร์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ดเหลือเหลือภายในปี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2010 (5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ปี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)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ได้แก่ ชุดสายไฟรถยนต์ หลอดไฟ แตรและไซเรน เครื่องปัดน้ำฝน เครื่องกำจัดฝ้า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/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ะลายน้ำแข็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200" spc="-1" strike="noStrike">
                <a:solidFill>
                  <a:srgbClr val="ffffff"/>
                </a:solidFill>
                <a:latin typeface="Tahoma"/>
                <a:cs typeface="JasmineUPC"/>
              </a:rPr>
              <a:t>การค้าสินค้าระหว่างไทย</a:t>
            </a:r>
            <a:r>
              <a:rPr b="1" lang="th-TH" sz="4200" spc="-1" strike="noStrike">
                <a:solidFill>
                  <a:srgbClr val="ffffff"/>
                </a:solidFill>
                <a:latin typeface="Angsana New"/>
              </a:rPr>
              <a:t>-</a:t>
            </a:r>
            <a:r>
              <a:rPr b="1" lang="th-TH" sz="4200" spc="-1" strike="noStrike">
                <a:solidFill>
                  <a:srgbClr val="ffffff"/>
                </a:solidFill>
                <a:latin typeface="Tahoma"/>
                <a:cs typeface="JasmineUPC"/>
              </a:rPr>
              <a:t>ออสเตรเลีย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994040"/>
          <a:ext cx="8229600" cy="4298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4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รายการ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4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มค</a:t>
                      </a:r>
                      <a:r>
                        <a:rPr b="1" lang="th-TH" sz="34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4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4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มค</a:t>
                      </a:r>
                      <a:r>
                        <a:rPr b="1" lang="th-TH" sz="34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5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4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ขยายตัว </a:t>
                      </a:r>
                      <a:r>
                        <a:rPr b="1" lang="th-TH" sz="3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%)</a:t>
                      </a:r>
                      <a:r>
                        <a:rPr b="1" lang="th-TH" sz="34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 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ส่งออ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6,518.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7,642.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7.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ebf25a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ชิ้นส่วน    ยานยนต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74.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73.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0.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นำเข้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5,923.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1,057.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86.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ชิ้นส่วน    ยานยนต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8.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7.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25.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6653160" y="957960"/>
            <a:ext cx="21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หน่วย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้า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200" spc="-1" strike="noStrike">
                <a:solidFill>
                  <a:srgbClr val="ffff00"/>
                </a:solidFill>
                <a:latin typeface="Tahoma"/>
                <a:cs typeface="JasmineUPC"/>
              </a:rPr>
              <a:t>ไทย </a:t>
            </a:r>
            <a:r>
              <a:rPr b="1" lang="th-TH" sz="6200" spc="-1" strike="noStrike">
                <a:solidFill>
                  <a:srgbClr val="ffff00"/>
                </a:solidFill>
                <a:latin typeface="Tahoma"/>
                <a:ea typeface="JasmineUPC"/>
              </a:rPr>
              <a:t>- </a:t>
            </a:r>
            <a:r>
              <a:rPr b="1" lang="th-TH" sz="6200" spc="-1" strike="noStrike">
                <a:solidFill>
                  <a:srgbClr val="ffff00"/>
                </a:solidFill>
                <a:latin typeface="Tahoma"/>
                <a:cs typeface="JasmineUPC"/>
              </a:rPr>
              <a:t>นิวซีแลนด์</a:t>
            </a:r>
            <a:endParaRPr b="0" lang="en-US" sz="6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การเจรจา ใช้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TAFTA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เป็นพื้นฐาน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คณะรัฐมนตรีให้ความเห็นชอบผลการเจรจาแล้ว  รวมทั้งนายกรัฐมนตรีทั้งสองฝ่ายได้ประกาศสรุปผลการเจรจา เมื่อวันที่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30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พฤศจิกายน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2004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ณ กรุงเวียงจันทน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โดยคาดว่าจะมีการลงนามความตกลงในเดือนเมษายน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005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และมีผลบังคับใช้ในวันที่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กรกฎาคม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00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200" spc="-1" strike="noStrike">
                <a:solidFill>
                  <a:srgbClr val="ffff00"/>
                </a:solidFill>
                <a:latin typeface="Tahoma"/>
                <a:cs typeface="JasmineUPC"/>
              </a:rPr>
              <a:t>ไทย </a:t>
            </a:r>
            <a:r>
              <a:rPr b="1" lang="th-TH" sz="6200" spc="-1" strike="noStrike">
                <a:solidFill>
                  <a:srgbClr val="ffff00"/>
                </a:solidFill>
                <a:latin typeface="Tahoma"/>
                <a:ea typeface="JasmineUPC"/>
              </a:rPr>
              <a:t>- </a:t>
            </a:r>
            <a:r>
              <a:rPr b="1" lang="th-TH" sz="6200" spc="-1" strike="noStrike">
                <a:solidFill>
                  <a:srgbClr val="ffff00"/>
                </a:solidFill>
                <a:latin typeface="Tahoma"/>
                <a:cs typeface="JasmineUPC"/>
              </a:rPr>
              <a:t>นิวซีแลนด์</a:t>
            </a:r>
            <a:endParaRPr b="0" lang="en-US" sz="6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สรุปสาระสำคัญ ดังนี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๏ </a:t>
            </a:r>
            <a:r>
              <a:rPr b="1" lang="th-TH" sz="3600" spc="-1" strike="noStrike">
                <a:solidFill>
                  <a:srgbClr val="ffff00"/>
                </a:solidFill>
                <a:latin typeface="Tahoma"/>
                <a:cs typeface="JasmineUPC"/>
              </a:rPr>
              <a:t>การค้าสินค้า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ในเรื่องการเปิดตลาดและการลดภาษี ทันทีที่ความตกลงมีผลบังคับใช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ไทยลดภาษีเหลือ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0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ประมาณ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54%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ของรายการสินค้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นิวซีแลนด์ลดภาษีเหลือ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0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ประมาณ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79%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ของรายการสินค้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ไทยยังมีใช้มาตรการโควตาภาษีและมาตรการปกป้องพิเศษในบางสินค้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๏ </a:t>
            </a:r>
            <a:r>
              <a:rPr b="1" lang="th-TH" sz="3600" spc="-1" strike="noStrike">
                <a:solidFill>
                  <a:srgbClr val="ffff00"/>
                </a:solidFill>
                <a:latin typeface="Tahoma"/>
                <a:cs typeface="JasmineUPC"/>
              </a:rPr>
              <a:t>การค้าบริการ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จะเริ่มเจรจาใน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3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ปีหลังจากที่ความตกลงมีผลบังคับใช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362320" y="304920"/>
            <a:ext cx="4419360" cy="106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</a:t>
            </a:r>
            <a:r>
              <a:rPr b="1" lang="th-TH" sz="4800" spc="-1" strike="noStrike">
                <a:solidFill>
                  <a:srgbClr val="0000ff"/>
                </a:solidFill>
                <a:latin typeface="Tahoma"/>
                <a:cs typeface="JasmineUPC"/>
              </a:rPr>
              <a:t>อาเซียน </a:t>
            </a:r>
            <a:r>
              <a:rPr b="1" lang="th-TH" sz="4800" spc="-1" strike="noStrike">
                <a:solidFill>
                  <a:srgbClr val="0000ff"/>
                </a:solidFill>
                <a:latin typeface="Tahoma"/>
                <a:ea typeface="JasmineUPC"/>
              </a:rPr>
              <a:t>- </a:t>
            </a:r>
            <a:r>
              <a:rPr b="1" lang="th-TH" sz="4800" spc="-1" strike="noStrike">
                <a:solidFill>
                  <a:srgbClr val="0000ff"/>
                </a:solidFill>
                <a:latin typeface="Tahoma"/>
                <a:cs typeface="JasmineUPC"/>
              </a:rPr>
              <a:t>จี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447920"/>
            <a:ext cx="89154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4200" indent="-484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600200"/>
            <a:ext cx="8153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ebf25a"/>
                </a:solidFill>
                <a:latin typeface="Angsana New"/>
                <a:cs typeface="JasmineUPC"/>
              </a:rPr>
              <a:t>สิ่งที่ไทยคาดหวัง</a:t>
            </a:r>
            <a:r>
              <a:rPr b="0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คือ เข้าตลาดจีนและขยายการค้าและการลงทุน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(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ั้งจากจีนและจากทั่วโลก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)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ห้จีนใช้ไทยเป็นฐานเชื่อมโยงกับอาเซียน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/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อเชียใต้</a:t>
            </a:r>
            <a:r>
              <a:rPr b="1" lang="th-TH" sz="1800" spc="-1" strike="noStrike">
                <a:solidFill>
                  <a:srgbClr val="ffffff"/>
                </a:solidFill>
                <a:latin typeface="Arial Black"/>
                <a:ea typeface="JasmineUPC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ff00"/>
                </a:solidFill>
                <a:latin typeface="Angsana New"/>
                <a:cs typeface="JasmineUPC"/>
              </a:rPr>
              <a:t>อาเซียน</a:t>
            </a:r>
            <a:r>
              <a:rPr b="1" lang="th-TH" sz="3400" spc="-1" strike="noStrike">
                <a:solidFill>
                  <a:srgbClr val="00ff00"/>
                </a:solidFill>
                <a:latin typeface="Angsana New"/>
                <a:ea typeface="JasmineUPC"/>
              </a:rPr>
              <a:t>-</a:t>
            </a:r>
            <a:r>
              <a:rPr b="1" lang="th-TH" sz="3400" spc="-1" strike="noStrike">
                <a:solidFill>
                  <a:srgbClr val="00ff00"/>
                </a:solidFill>
                <a:latin typeface="Angsana New"/>
                <a:cs typeface="JasmineUPC"/>
              </a:rPr>
              <a:t>จีน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ลงนามใน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รอบความตกลงเร่ง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ภาษีสินค้า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บางส่วนก่อน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(Early Harvest Programme)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พิกัดศุลกากรตอนที่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01-08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ตั้งแต่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1 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ค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. 2004 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และภาษีจะลดลงเหลือ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ภายในปี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2006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ff00"/>
                </a:solidFill>
                <a:latin typeface="Angsana New"/>
                <a:cs typeface="JasmineUPC"/>
              </a:rPr>
              <a:t>ความคืบหน้า</a:t>
            </a:r>
            <a:r>
              <a:rPr b="1" lang="en-US" sz="3400" spc="-1" strike="noStrike">
                <a:solidFill>
                  <a:srgbClr val="ebf25a"/>
                </a:solidFill>
                <a:latin typeface="Angsana New"/>
                <a:ea typeface="JasmineUPC"/>
              </a:rPr>
              <a:t>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ีการลงนามความตกลงเปิดเสรีการค้าสินค้าและความตกลงว่าด้วยกลไกระงับข้อพิพาท เมื่อวันที่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9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พย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. 2004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ระหว่าง อาเซียน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-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จีน ที่ประเทศลาว เริ่มมีผลบังคับใช้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ค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. 2005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และเริ่มลดภาษี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ค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. 2005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200" spc="-1" strike="noStrike">
                <a:solidFill>
                  <a:srgbClr val="ffff00"/>
                </a:solidFill>
                <a:latin typeface="Tahoma"/>
                <a:cs typeface="JasmineUPC"/>
              </a:rPr>
              <a:t>รูปแบบการลด</a:t>
            </a:r>
            <a:r>
              <a:rPr b="1" lang="th-TH" sz="4200" spc="-1" strike="noStrike">
                <a:solidFill>
                  <a:srgbClr val="ffff00"/>
                </a:solidFill>
                <a:latin typeface="Tahoma"/>
                <a:ea typeface="JasmineUPC"/>
              </a:rPr>
              <a:t>/</a:t>
            </a:r>
            <a:r>
              <a:rPr b="1" lang="th-TH" sz="4200" spc="-1" strike="noStrike">
                <a:solidFill>
                  <a:srgbClr val="ffff00"/>
                </a:solidFill>
                <a:latin typeface="Tahoma"/>
                <a:cs typeface="JasmineUPC"/>
              </a:rPr>
              <a:t>เลิกภาษีของสินค้าปกต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68440" y="1828800"/>
          <a:ext cx="8194680" cy="4361040"/>
        </p:xfrm>
        <a:graphic>
          <a:graphicData uri="http://schemas.openxmlformats.org/drawingml/2006/table">
            <a:tbl>
              <a:tblPr/>
              <a:tblGrid>
                <a:gridCol w="2743200"/>
                <a:gridCol w="1354320"/>
                <a:gridCol w="1365120"/>
                <a:gridCol w="1366920"/>
                <a:gridCol w="136512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X=MFN Applied r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(</a:t>
                      </a:r>
                      <a:r>
                        <a:rPr b="1" lang="th-TH" sz="32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1 </a:t>
                      </a:r>
                      <a:r>
                        <a:rPr b="1" lang="th-TH" sz="32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กค</a:t>
                      </a:r>
                      <a:r>
                        <a:rPr b="1" lang="th-TH" sz="32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. 2003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อัตราภาษี </a:t>
                      </a:r>
                      <a:r>
                        <a:rPr b="1" lang="th-TH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(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0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0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X </a:t>
                      </a:r>
                      <a:r>
                        <a:rPr b="1" lang="en-US" sz="3600" spc="-1" strike="noStrike" u="sng">
                          <a:solidFill>
                            <a:srgbClr val="ffff00"/>
                          </a:solidFill>
                          <a:uFillTx/>
                          <a:latin typeface="Angsana New"/>
                        </a:rPr>
                        <a:t>&gt;</a:t>
                      </a:r>
                      <a:r>
                        <a:rPr b="1" lang="th-TH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 20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%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15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% </a:t>
                      </a:r>
                      <a:r>
                        <a:rPr b="1" lang="en-US" sz="3600" spc="-1" strike="noStrike" u="sng">
                          <a:solidFill>
                            <a:srgbClr val="ffff00"/>
                          </a:solidFill>
                          <a:uFillTx/>
                          <a:latin typeface="Angsana New"/>
                        </a:rPr>
                        <a:t>&lt;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  X 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  <a:ea typeface="Arial"/>
                        </a:rPr>
                        <a:t>&lt; 20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%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10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% </a:t>
                      </a:r>
                      <a:r>
                        <a:rPr b="1" lang="en-US" sz="3600" spc="-1" strike="noStrike" u="sng">
                          <a:solidFill>
                            <a:srgbClr val="ffff00"/>
                          </a:solidFill>
                          <a:uFillTx/>
                          <a:latin typeface="Angsana New"/>
                        </a:rPr>
                        <a:t>&lt;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  X 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  <a:ea typeface="Arial"/>
                        </a:rPr>
                        <a:t>&lt; 15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%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5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% &lt; X 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  <a:ea typeface="Arial"/>
                        </a:rPr>
                        <a:t>&lt; 10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%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X </a:t>
                      </a:r>
                      <a:r>
                        <a:rPr b="1" lang="en-US" sz="3600" spc="-1" strike="noStrike" u="sng">
                          <a:solidFill>
                            <a:srgbClr val="ffff00"/>
                          </a:solidFill>
                          <a:uFillTx/>
                          <a:latin typeface="Angsana New"/>
                          <a:ea typeface="Arial"/>
                        </a:rPr>
                        <a:t>&lt;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  <a:ea typeface="Arial"/>
                        </a:rPr>
                        <a:t> </a:t>
                      </a:r>
                      <a:r>
                        <a:rPr b="1" lang="th-TH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5</a:t>
                      </a: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ngsana New"/>
                        </a:rPr>
                        <a:t>%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คงอัตราภาษ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200" spc="-1" strike="noStrike">
                <a:solidFill>
                  <a:srgbClr val="ffff00"/>
                </a:solidFill>
                <a:latin typeface="Tahoma"/>
                <a:cs typeface="JasmineUPC"/>
              </a:rPr>
              <a:t>รูปแบบการลด</a:t>
            </a:r>
            <a:r>
              <a:rPr b="1" lang="th-TH" sz="4200" spc="-1" strike="noStrike">
                <a:solidFill>
                  <a:srgbClr val="ffff00"/>
                </a:solidFill>
                <a:latin typeface="Tahoma"/>
                <a:ea typeface="JasmineUPC"/>
              </a:rPr>
              <a:t>/</a:t>
            </a:r>
            <a:r>
              <a:rPr b="1" lang="th-TH" sz="4200" spc="-1" strike="noStrike">
                <a:solidFill>
                  <a:srgbClr val="ffff00"/>
                </a:solidFill>
                <a:latin typeface="Tahoma"/>
                <a:cs typeface="JasmineUPC"/>
              </a:rPr>
              <a:t>เลิกภาษีของสินค้าอ่อนไหว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1606680"/>
            <a:ext cx="8077320" cy="59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75000"/>
              </a:lnSpc>
              <a:spcBef>
                <a:spcPts val="201"/>
              </a:spcBef>
              <a:buClr>
                <a:srgbClr val="5cff2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5cff29"/>
                </a:solidFill>
                <a:latin typeface="Angsana New"/>
                <a:cs typeface="JasmineUPC"/>
              </a:rPr>
              <a:t>สินค้าอ่อนไหว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จะคงภาษีไว้และลดเหลือร้อยละ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วันที่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ม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ค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. 2012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โดยกำหนดเพดานรายการสินค้าอ่อนไหวไม่เกิน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40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รายการ และมูลค่านำเข้าสินค้า ร้อยละ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      </a:t>
            </a:r>
            <a:r>
              <a:rPr b="1" lang="th-TH" sz="3200" spc="-1" strike="noStrike">
                <a:solidFill>
                  <a:srgbClr val="ffff00"/>
                </a:solidFill>
                <a:latin typeface="Wingdings 2"/>
                <a:ea typeface="Wingdings 2"/>
              </a:rPr>
              <a:t>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 u="sng">
                <a:solidFill>
                  <a:srgbClr val="ffff00"/>
                </a:solidFill>
                <a:uFillTx/>
                <a:latin typeface="Angsana New"/>
                <a:cs typeface="JasmineUPC"/>
              </a:rPr>
              <a:t>ไทย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ได้แก่ ชุดสายไฟรถยนต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Wingdings 2"/>
                <a:ea typeface="Wingdings 2"/>
              </a:rPr>
              <a:t></a:t>
            </a:r>
            <a:r>
              <a:rPr b="1" lang="en-US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 u="sng">
                <a:solidFill>
                  <a:srgbClr val="ffff00"/>
                </a:solidFill>
                <a:uFillTx/>
                <a:latin typeface="Angsana New"/>
                <a:cs typeface="JasmineUPC"/>
              </a:rPr>
              <a:t>จีน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ได้แก่ หลอดไฟรถยนต์ แตร ไซเรน เครื่องปัดน้ำฝน เครื่องกำจัดฝ้า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/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cs typeface="JasmineUPC"/>
              </a:rPr>
              <a:t>ละลายน้ำแข็ง ชุดสายไฟรถยนต์ แชสซีส์ ส่วนประกอบรถ 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(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cs typeface="JasmineUPC"/>
              </a:rPr>
              <a:t>เบรก กระปุกเกียร์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5000"/>
              </a:lnSpc>
              <a:spcBef>
                <a:spcPts val="201"/>
              </a:spcBef>
              <a:buClr>
                <a:srgbClr val="5cff2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5cff29"/>
                </a:solidFill>
                <a:latin typeface="Angsana New"/>
                <a:cs typeface="JasmineUPC"/>
              </a:rPr>
              <a:t>สินค้าอ่อนไหวสูง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จะคงภาษีไว้และลดลงเหลือร้อยละ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5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วันที่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ม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.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ค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. 20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     </a:t>
            </a:r>
            <a:r>
              <a:rPr b="1" lang="th-TH" sz="3200" spc="-1" strike="noStrike">
                <a:solidFill>
                  <a:srgbClr val="ffff00"/>
                </a:solidFill>
                <a:latin typeface="Wingdings 2"/>
                <a:ea typeface="Wingdings 2"/>
              </a:rPr>
              <a:t>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 u="sng">
                <a:solidFill>
                  <a:srgbClr val="ffff00"/>
                </a:solidFill>
                <a:uFillTx/>
                <a:latin typeface="Angsana New"/>
                <a:cs typeface="JasmineUPC"/>
              </a:rPr>
              <a:t>ไทย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ได้แก่ สินค้าที่มีโควตาภาษ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     </a:t>
            </a:r>
            <a:r>
              <a:rPr b="1" lang="th-TH" sz="3200" spc="-1" strike="noStrike">
                <a:solidFill>
                  <a:srgbClr val="ffff00"/>
                </a:solidFill>
                <a:latin typeface="Wingdings 2"/>
                <a:ea typeface="Wingdings 2"/>
              </a:rPr>
              <a:t></a:t>
            </a:r>
            <a:r>
              <a:rPr b="1" lang="en-US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 u="sng">
                <a:solidFill>
                  <a:srgbClr val="ffff00"/>
                </a:solidFill>
                <a:uFillTx/>
                <a:latin typeface="Angsana New"/>
                <a:cs typeface="JasmineUPC"/>
              </a:rPr>
              <a:t>จีน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ได้แก่ ส่วนประกอบรถ 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(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cs typeface="JasmineUPC"/>
              </a:rPr>
              <a:t>รถยนต์นั่ง รถตู้ รถบัส รถบรรทุก</a:t>
            </a:r>
            <a:r>
              <a:rPr b="1" lang="th-TH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828800"/>
            <a:ext cx="838188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นำรายการสินค้า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ร่งลดภาษีบางส่วนก่อน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(Early Harvest)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ภายใต้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รอบอาเซียน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จีนมาเร่งลดภาษีเร็วขึ้น   โด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ั้นแรกนำผักและผลไม้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พิกัดศุลกากรตอนที่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07-08)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ุกรายการ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(116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รายการ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)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าลดอัตราภาษีเหลือ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0%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ตั้งแต่วันที่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1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ตุลาคม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200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ffff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ngsana New"/>
                <a:ea typeface="JasmineUPC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JasmineUPC"/>
              </a:rPr>
              <a:t>แหล่งกำเนิดสินค้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  <a:ea typeface="JasmineUPC"/>
              </a:rPr>
              <a:t>-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ที่จะได้รับสิทธิด้านภาษีต้องผ่านกระบวนการผลิตในประเทศทั้งหมด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(Wholly Obtaine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743200" y="380880"/>
            <a:ext cx="3504960" cy="1008360"/>
            <a:chOff x="2743200" y="380880"/>
            <a:chExt cx="3504960" cy="1008360"/>
          </a:xfrm>
        </p:grpSpPr>
        <p:grpSp>
          <p:nvGrpSpPr>
            <p:cNvPr id="178" name=""/>
            <p:cNvGrpSpPr/>
            <p:nvPr/>
          </p:nvGrpSpPr>
          <p:grpSpPr>
            <a:xfrm>
              <a:off x="2743200" y="380880"/>
              <a:ext cx="3504960" cy="990360"/>
              <a:chOff x="2743200" y="380880"/>
              <a:chExt cx="3504960" cy="990360"/>
            </a:xfrm>
          </p:grpSpPr>
          <p:pic>
            <p:nvPicPr>
              <p:cNvPr id="17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43200" y="380880"/>
                <a:ext cx="1752840" cy="99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320" y="380880"/>
                <a:ext cx="175284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1" name=""/>
            <p:cNvSpPr/>
            <p:nvPr/>
          </p:nvSpPr>
          <p:spPr>
            <a:xfrm>
              <a:off x="2848320" y="380880"/>
              <a:ext cx="329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6000" spc="-1" strike="noStrike">
                  <a:solidFill>
                    <a:srgbClr val="00cc66"/>
                  </a:solidFill>
                  <a:latin typeface="Angsana New"/>
                  <a:cs typeface="JasmineUPC"/>
                </a:rPr>
                <a:t>ไทย</a:t>
              </a:r>
              <a:r>
                <a:rPr b="1" lang="th-TH" sz="6000" spc="-1" strike="noStrike">
                  <a:solidFill>
                    <a:srgbClr val="00cc66"/>
                  </a:solidFill>
                  <a:latin typeface="Angsana New"/>
                  <a:ea typeface="JasmineUPC"/>
                </a:rPr>
                <a:t>-</a:t>
              </a:r>
              <a:r>
                <a:rPr b="1" lang="th-TH" sz="6000" spc="-1" strike="noStrike">
                  <a:solidFill>
                    <a:srgbClr val="000099"/>
                  </a:solidFill>
                  <a:latin typeface="Angsana New"/>
                  <a:cs typeface="JasmineUPC"/>
                </a:rPr>
                <a:t>จีน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958840" y="458280"/>
            <a:ext cx="3306600" cy="6620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300" spc="-1" strike="noStrike">
                <a:solidFill>
                  <a:srgbClr val="ffffff"/>
                </a:solidFill>
                <a:latin typeface="Cordia New"/>
                <a:ea typeface="Cordia New"/>
              </a:rPr>
              <a:t>  </a:t>
            </a:r>
            <a:r>
              <a:rPr b="1" lang="th-TH" sz="4600" spc="-1" strike="noStrike">
                <a:solidFill>
                  <a:srgbClr val="ffffff"/>
                </a:solidFill>
                <a:latin typeface="Cordia New"/>
                <a:cs typeface="JasmineUPC"/>
              </a:rPr>
              <a:t>ไทย </a:t>
            </a:r>
            <a:r>
              <a:rPr b="1" lang="th-TH" sz="4600" spc="-1" strike="noStrike">
                <a:solidFill>
                  <a:srgbClr val="ffffff"/>
                </a:solidFill>
                <a:latin typeface="Cordia New"/>
                <a:ea typeface="JasmineUPC"/>
              </a:rPr>
              <a:t>- </a:t>
            </a:r>
            <a:r>
              <a:rPr b="1" lang="th-TH" sz="4600" spc="-1" strike="noStrike">
                <a:solidFill>
                  <a:srgbClr val="ff3300"/>
                </a:solidFill>
                <a:latin typeface="Cordia New"/>
                <a:cs typeface="JasmineUPC"/>
              </a:rPr>
              <a:t>อินเดีย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371600"/>
            <a:ext cx="8534520" cy="61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00"/>
                </a:solidFill>
                <a:latin typeface="Arial Black"/>
                <a:cs typeface="JasmineUPC"/>
              </a:rPr>
              <a:t>สิ่งที่คาดหวัง</a:t>
            </a:r>
            <a:r>
              <a:rPr b="1" lang="th-TH" sz="3200" spc="-1" strike="noStrike">
                <a:solidFill>
                  <a:srgbClr val="ff9900"/>
                </a:solidFill>
                <a:latin typeface="Arial Black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 Black"/>
                <a:cs typeface="JasmineUPC"/>
              </a:rPr>
              <a:t>เข้าตลาดอินเดียซึ่งประชากรบางกลุ่มมีกำลังซื้อสูง             ดึงดูดการลงทุนเข้าไทย และใช้เป็นฐานเข้าเอเชียใต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Arial Black"/>
                <a:cs typeface="JasmineUPC"/>
              </a:rPr>
              <a:t>ไทย </a:t>
            </a:r>
            <a:r>
              <a:rPr b="1" lang="th-TH" sz="3200" spc="-1" strike="noStrike">
                <a:solidFill>
                  <a:srgbClr val="ffff00"/>
                </a:solidFill>
                <a:latin typeface="Arial Black"/>
                <a:ea typeface="JasmineUPC"/>
              </a:rPr>
              <a:t>- </a:t>
            </a:r>
            <a:r>
              <a:rPr b="1" lang="th-TH" sz="3200" spc="-1" strike="noStrike">
                <a:solidFill>
                  <a:srgbClr val="ffff00"/>
                </a:solidFill>
                <a:latin typeface="Arial Black"/>
                <a:cs typeface="JasmineUPC"/>
              </a:rPr>
              <a:t>อินเดีย</a:t>
            </a:r>
            <a:r>
              <a:rPr b="1" lang="th-TH" sz="3200" spc="-1" strike="noStrike">
                <a:solidFill>
                  <a:srgbClr val="ff3300"/>
                </a:solidFill>
                <a:latin typeface="Arial Black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 Black"/>
                <a:cs typeface="JasmineUPC"/>
              </a:rPr>
              <a:t>ได้มีการเร่งลดภาษีสินค้าบางส่วนทันที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82</a:t>
            </a:r>
            <a:r>
              <a:rPr b="1" lang="th-TH" sz="3200" spc="-1" strike="noStrike">
                <a:solidFill>
                  <a:srgbClr val="ffffff"/>
                </a:solidFill>
                <a:latin typeface="Arial Black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 Black"/>
                <a:cs typeface="JasmineUPC"/>
              </a:rPr>
              <a:t>รายการ  ตั้งแต่ วันที่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</a:t>
            </a:r>
            <a:r>
              <a:rPr b="1" lang="th-TH" sz="3200" spc="-1" strike="noStrike">
                <a:solidFill>
                  <a:srgbClr val="ffffff"/>
                </a:solidFill>
                <a:latin typeface="Arial Black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 Black"/>
                <a:cs typeface="JasmineUPC"/>
              </a:rPr>
              <a:t>กันยายน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2004</a:t>
            </a:r>
            <a:r>
              <a:rPr b="0" lang="th-TH" sz="3200" spc="-1" strike="noStrike">
                <a:solidFill>
                  <a:srgbClr val="ffffff"/>
                </a:solidFill>
                <a:latin typeface="Arial Black"/>
                <a:ea typeface="JasmineUP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cc"/>
                </a:solidFill>
                <a:latin typeface="Angsana New"/>
                <a:cs typeface="JasmineUPC"/>
              </a:rPr>
              <a:t>สินค้าเร่งลด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cs typeface="JasmineUPC"/>
              </a:rPr>
              <a:t>ภาษี 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JasmineUPC"/>
              </a:rPr>
              <a:t>EHS</a:t>
            </a:r>
            <a:r>
              <a:rPr b="1" lang="en-US" sz="3200" spc="-1" strike="noStrike">
                <a:solidFill>
                  <a:srgbClr val="ff9900"/>
                </a:solidFill>
                <a:latin typeface="Angsana New"/>
                <a:ea typeface="JasmineUP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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82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รายการ    เช่น ผลไม้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งาะ  มังคุด  ลำไย  ทุเรียน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)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อาหารทะเลกระป๋อง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คมีภัณฑ์ พลาสติกและผลิตภัณฑ์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อัญมณี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 ไม้อัดพลายวูด เหล็กและเหล็กกล้า อลูมิเนียม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ครื่องใช้ไฟฟ้า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ครื่องจักรกล บอลล์แบริ่ง และกระปุกเกียร์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ฯล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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ะยอยลดภาษีเหลือ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0 %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ภายใน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3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ี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(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ย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.2004-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ย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.2006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ffffff"/>
                </a:solidFill>
                <a:latin typeface="Tahoma"/>
                <a:cs typeface="JasmineUPC"/>
              </a:rPr>
              <a:t>การลดภาษีชิ้นส่วนยานยนต์</a:t>
            </a:r>
            <a:br>
              <a:rPr sz="5000"/>
            </a:br>
            <a:r>
              <a:rPr b="1" lang="th-TH" sz="5000" spc="-1" strike="noStrike">
                <a:solidFill>
                  <a:srgbClr val="ffffff"/>
                </a:solidFill>
                <a:latin typeface="Tahoma"/>
                <a:cs typeface="JasmineUPC"/>
              </a:rPr>
              <a:t>ของไทยและอินเดีย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600200"/>
          <a:ext cx="8229600" cy="4808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90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รายการ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 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  <a:cs typeface="JasmineUPC"/>
                        </a:rPr>
                        <a:t>กย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.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 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  <a:cs typeface="JasmineUPC"/>
                        </a:rPr>
                        <a:t>กย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.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 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  <a:cs typeface="JasmineUPC"/>
                        </a:rPr>
                        <a:t>กย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.</a:t>
                      </a: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-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บอลล์แบริ่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0.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0.2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-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กระปุกเกียร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7.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อินเดีย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-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บอลล์แบริ่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2.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-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กระปุกเกียร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2.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cc"/>
                </a:solidFill>
                <a:latin typeface="Angsana New"/>
                <a:ea typeface="JasmineUPC"/>
              </a:rPr>
              <a:t>FTA </a:t>
            </a:r>
            <a:r>
              <a:rPr b="1" lang="th-TH" sz="6900" spc="-1" strike="noStrike">
                <a:solidFill>
                  <a:srgbClr val="ffffcc"/>
                </a:solidFill>
                <a:latin typeface="Angsana New"/>
                <a:cs typeface="JasmineUPC"/>
              </a:rPr>
              <a:t>คืออะไร</a:t>
            </a:r>
            <a:endParaRPr b="0" lang="en-US" sz="6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040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เขตการค้าเสรี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JasmineUPC"/>
              </a:rPr>
              <a:t>(Free Trade Area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JasmineUPC"/>
              </a:rPr>
              <a:t>-FTA)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ประกอบด้ว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9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สองประเทศขึ้นไ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9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ตกลงจะขยายการค้าและการลงทุนระหว่างกั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9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พยายามจะลดอุปสรรคทั้งด้านภาษีและไม่ใช่ภาษีให้เหลือน้อยที่สุด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9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ครอบคลุมทั้งสินค้า บริการและการลงทุ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200" spc="-1" strike="noStrike">
                <a:solidFill>
                  <a:srgbClr val="ffffff"/>
                </a:solidFill>
                <a:latin typeface="Tahoma"/>
                <a:cs typeface="JasmineUPC"/>
              </a:rPr>
              <a:t>การค้าสินค้า </a:t>
            </a:r>
            <a:r>
              <a:rPr b="1" lang="th-TH" sz="4200" spc="-1" strike="noStrike">
                <a:solidFill>
                  <a:srgbClr val="ffffff"/>
                </a:solidFill>
                <a:latin typeface="Angsana New"/>
              </a:rPr>
              <a:t>82</a:t>
            </a:r>
            <a:r>
              <a:rPr b="1" lang="th-TH" sz="42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4200" spc="-1" strike="noStrike">
                <a:solidFill>
                  <a:srgbClr val="ffffff"/>
                </a:solidFill>
                <a:latin typeface="Tahoma"/>
                <a:cs typeface="JasmineUPC"/>
              </a:rPr>
              <a:t>รายการระหว่างไทย</a:t>
            </a:r>
            <a:r>
              <a:rPr b="1" lang="th-TH" sz="4200" spc="-1" strike="noStrike">
                <a:solidFill>
                  <a:srgbClr val="ffffff"/>
                </a:solidFill>
                <a:latin typeface="Angsana New"/>
              </a:rPr>
              <a:t>-</a:t>
            </a:r>
            <a:r>
              <a:rPr b="1" lang="th-TH" sz="4200" spc="-1" strike="noStrike">
                <a:solidFill>
                  <a:srgbClr val="ffffff"/>
                </a:solidFill>
                <a:latin typeface="Tahoma"/>
                <a:cs typeface="JasmineUPC"/>
              </a:rPr>
              <a:t>อินเดีย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600" cy="5210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รายการ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กย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ธ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กย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ธ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ขยายตัว 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%)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ส่งออ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,231.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,603.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11.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-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บอลล์แบริ่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7.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1.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46.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-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กระปุกเกียร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นำเข้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896.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674.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 24.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-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บอลล์แบริ่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7.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.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 71.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-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กระปุกเกียร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65.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4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-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6653160" y="729360"/>
            <a:ext cx="21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หน่วย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้า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200" spc="-1" strike="noStrike">
                <a:solidFill>
                  <a:srgbClr val="ffffff"/>
                </a:solidFill>
                <a:latin typeface="Tahoma"/>
                <a:cs typeface="JasmineUPC"/>
              </a:rPr>
              <a:t>ข้อมูลเพิ่มเติม</a:t>
            </a:r>
            <a:endParaRPr b="0" lang="en-US" sz="8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ngsana New"/>
                <a:ea typeface="JasmineUPC"/>
              </a:rPr>
              <a:t>www.dtn.moc.go.th</a:t>
            </a:r>
            <a:r>
              <a:rPr b="1" lang="th-TH" sz="7200" spc="-1" strike="noStrike">
                <a:solidFill>
                  <a:srgbClr val="ffffcc"/>
                </a:solidFill>
                <a:latin typeface="Angsana New"/>
                <a:ea typeface="JasmineUPC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ngsana New"/>
                <a:ea typeface="JasmineUPC"/>
              </a:rPr>
              <a:t>www.thaifta.com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JasmineUPC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JasmineUPC"/>
              </a:rPr>
              <a:t>FTA Unit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JasmineUPC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JasmineUPC"/>
              </a:rPr>
              <a:t>โทร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JasmineUPC"/>
              </a:rPr>
              <a:t>. 0 2507 7444      0 2507 7555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JasmineUPC"/>
              </a:rPr>
              <a:t>              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JasmineUPC"/>
              </a:rPr>
              <a:t>0 2507 7680       0 2507 7687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ารเจรจาการค้ารอบใหม่ของ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WTO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ชะงั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5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“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ังกรตื่นจากหลับไหล”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5000"/>
              </a:lnSpc>
              <a:spcBef>
                <a:spcPts val="825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300" spc="-1" strike="noStrike">
                <a:solidFill>
                  <a:srgbClr val="ffffff"/>
                </a:solidFill>
                <a:latin typeface="Angsana New"/>
                <a:cs typeface="JasmineUPC"/>
              </a:rPr>
              <a:t>จีนเข้าเป็นสมาชิกของ </a:t>
            </a:r>
            <a:r>
              <a:rPr b="1" lang="en-US" sz="3300" spc="-1" strike="noStrike">
                <a:solidFill>
                  <a:srgbClr val="ffffff"/>
                </a:solidFill>
                <a:latin typeface="Angsana New"/>
                <a:ea typeface="JasmineUPC"/>
              </a:rPr>
              <a:t>WTO </a:t>
            </a:r>
            <a:r>
              <a:rPr b="1" lang="th-TH" sz="33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ำให้ประเทศต่างๆ เกิดความหวั่นเกรงต่อศักยภาพด้านการแข่งขันของจีน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5000"/>
              </a:lnSpc>
              <a:spcBef>
                <a:spcPts val="825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3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ยายอำนาจทางเศรษฐกิจในอนาคต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5000"/>
              </a:lnSpc>
              <a:spcBef>
                <a:spcPts val="825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300" spc="-1" strike="noStrike">
                <a:solidFill>
                  <a:srgbClr val="ffffff"/>
                </a:solidFill>
                <a:latin typeface="Angsana New"/>
                <a:cs typeface="JasmineUPC"/>
              </a:rPr>
              <a:t>ความได้เปรียบจาก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85000"/>
              </a:lnSpc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ngsana New"/>
                <a:cs typeface="JasmineUPC"/>
              </a:rPr>
              <a:t>ตลาดบริโภคขนาดใหญ่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85000"/>
              </a:lnSpc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ngsana New"/>
                <a:cs typeface="JasmineUPC"/>
              </a:rPr>
              <a:t>แรงงานราคาถูก รองรับการผลิต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85000"/>
              </a:lnSpc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ีศักยภาพในการส่งออกสูง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41204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600" spc="-1" strike="noStrike">
                <a:solidFill>
                  <a:srgbClr val="ffffcc"/>
                </a:solidFill>
                <a:latin typeface="Angsana New"/>
                <a:cs typeface="JasmineUPC"/>
              </a:rPr>
              <a:t>ทำไมประเทศต่างๆ </a:t>
            </a:r>
            <a:br>
              <a:rPr sz="5600"/>
            </a:br>
            <a:r>
              <a:rPr b="1" lang="th-TH" sz="5600" spc="-1" strike="noStrike">
                <a:solidFill>
                  <a:srgbClr val="ffffcc"/>
                </a:solidFill>
                <a:latin typeface="Angsana New"/>
                <a:cs typeface="JasmineUPC"/>
              </a:rPr>
              <a:t>จึงสนใจทำ</a:t>
            </a:r>
            <a:r>
              <a:rPr b="1" lang="en-US" sz="5600" spc="-1" strike="noStrike">
                <a:solidFill>
                  <a:srgbClr val="ffffcc"/>
                </a:solidFill>
                <a:latin typeface="Angsana New"/>
                <a:ea typeface="JasmineUPC"/>
              </a:rPr>
              <a:t> </a:t>
            </a:r>
            <a:r>
              <a:rPr b="1" lang="en-US" sz="5600" spc="-1" strike="noStrike">
                <a:solidFill>
                  <a:srgbClr val="ffffcc"/>
                </a:solidFill>
                <a:latin typeface="Angsana New"/>
                <a:ea typeface="JasmineUPC"/>
              </a:rPr>
              <a:t>FTA </a:t>
            </a:r>
            <a:r>
              <a:rPr b="1" lang="th-TH" sz="5600" spc="-1" strike="noStrike">
                <a:solidFill>
                  <a:srgbClr val="ffffcc"/>
                </a:solidFill>
                <a:latin typeface="Angsana New"/>
                <a:cs typeface="JasmineUPC"/>
              </a:rPr>
              <a:t>กันมากขึ้น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80520" y="2362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ารให้สิทธิประโยชน์ระหว่างคู่ภาคีส่งผลกระทบต่อประเทศนอกกลุ่ม เกิดแรงกระตุ้นทั้งระบ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ช้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FTA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ป็นวิธีในกา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หาเพื่อน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ร้างพันธมิตรด้านเศรษฐกิจและการเมือง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หาตลาด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ยายการค้าและการลงทุนกับภูมิภาคอื่นๆ ที่อยู่ห่างไก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ระเทศที่มีพื้นที่ขนาดเล็กแต่มีระบบเศรษฐกิจที่เปิดเสรีเต็มที่อยู่แล้ว เช่น สิงคโปร์ และชิลี ได้ใช้ยุทธวิธีนี้อย่างแข็งขั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80880"/>
            <a:ext cx="741204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600" spc="-1" strike="noStrike">
                <a:solidFill>
                  <a:srgbClr val="ffffcc"/>
                </a:solidFill>
                <a:latin typeface="Angsana New"/>
                <a:cs typeface="JasmineUPC"/>
              </a:rPr>
              <a:t>ทำไมประเทศต่างๆ </a:t>
            </a:r>
            <a:br>
              <a:rPr sz="5600"/>
            </a:br>
            <a:r>
              <a:rPr b="1" lang="th-TH" sz="5600" spc="-1" strike="noStrike">
                <a:solidFill>
                  <a:srgbClr val="ffffcc"/>
                </a:solidFill>
                <a:latin typeface="Angsana New"/>
                <a:cs typeface="JasmineUPC"/>
              </a:rPr>
              <a:t>จึงสนใจทำ</a:t>
            </a:r>
            <a:r>
              <a:rPr b="1" lang="en-US" sz="5600" spc="-1" strike="noStrike">
                <a:solidFill>
                  <a:srgbClr val="ffffcc"/>
                </a:solidFill>
                <a:latin typeface="Angsana New"/>
                <a:ea typeface="JasmineUPC"/>
              </a:rPr>
              <a:t> </a:t>
            </a:r>
            <a:r>
              <a:rPr b="1" lang="en-US" sz="5600" spc="-1" strike="noStrike">
                <a:solidFill>
                  <a:srgbClr val="ffffcc"/>
                </a:solidFill>
                <a:latin typeface="Angsana New"/>
                <a:ea typeface="JasmineUPC"/>
              </a:rPr>
              <a:t>FTA </a:t>
            </a:r>
            <a:r>
              <a:rPr b="1" lang="th-TH" sz="5600" spc="-1" strike="noStrike">
                <a:solidFill>
                  <a:srgbClr val="ffffcc"/>
                </a:solidFill>
                <a:latin typeface="Angsana New"/>
                <a:cs typeface="JasmineUPC"/>
              </a:rPr>
              <a:t>กันมากขึ้น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0" y="0"/>
            <a:ext cx="9144000" cy="934920"/>
            <a:chOff x="0" y="0"/>
            <a:chExt cx="9144000" cy="934920"/>
          </a:xfrm>
        </p:grpSpPr>
        <p:sp>
          <p:nvSpPr>
            <p:cNvPr id="141" name=""/>
            <p:cNvSpPr/>
            <p:nvPr/>
          </p:nvSpPr>
          <p:spPr>
            <a:xfrm>
              <a:off x="1332000" y="27000"/>
              <a:ext cx="7812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863640"/>
              <a:ext cx="9144000" cy="71280"/>
            </a:xfrm>
            <a:prstGeom prst="rect">
              <a:avLst/>
            </a:prstGeom>
            <a:solidFill>
              <a:srgbClr val="71da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3" name="" descr="Flag of Thailand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332000" cy="909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44" name=""/>
          <p:cNvGraphicFramePr/>
          <p:nvPr/>
        </p:nvGraphicFramePr>
        <p:xfrm>
          <a:off x="914400" y="1143000"/>
          <a:ext cx="7634160" cy="5275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143000"/>
                    <a:ext cx="7634160" cy="52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812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600" spc="-1" strike="noStrike">
                <a:solidFill>
                  <a:srgbClr val="ffffff"/>
                </a:solidFill>
                <a:latin typeface="Californian FB"/>
                <a:cs typeface="JasmineUPC"/>
              </a:rPr>
              <a:t>แนวโน้มการทำเขตการค้าเสรี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2286000"/>
            <a:ext cx="6192720" cy="2768760"/>
          </a:xfrm>
          <a:custGeom>
            <a:avLst/>
            <a:gdLst/>
            <a:ahLst/>
            <a:rect l="l" t="t" r="r" b="b"/>
            <a:pathLst>
              <a:path w="4224" h="1880">
                <a:moveTo>
                  <a:pt x="0" y="1824"/>
                </a:moveTo>
                <a:cubicBezTo>
                  <a:pt x="236" y="1852"/>
                  <a:pt x="472" y="1880"/>
                  <a:pt x="1008" y="1824"/>
                </a:cubicBezTo>
                <a:cubicBezTo>
                  <a:pt x="1544" y="1768"/>
                  <a:pt x="2680" y="1792"/>
                  <a:pt x="3216" y="1488"/>
                </a:cubicBezTo>
                <a:cubicBezTo>
                  <a:pt x="3752" y="1184"/>
                  <a:pt x="4056" y="248"/>
                  <a:pt x="4224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10240" y="2357280"/>
            <a:ext cx="643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Californian FB"/>
                <a:cs typeface="JasmineUPC"/>
              </a:rPr>
              <a:t>โลกมีแนวโน้มทำเขตการค้าเสรีมากขึ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Californian FB"/>
                <a:ea typeface="JasmineUPC"/>
              </a:rPr>
              <a:t>70% </a:t>
            </a:r>
            <a:r>
              <a:rPr b="1" lang="th-TH" sz="3200" spc="-1" strike="noStrike">
                <a:solidFill>
                  <a:srgbClr val="000099"/>
                </a:solidFill>
                <a:latin typeface="Californian FB"/>
                <a:cs typeface="JasmineUPC"/>
              </a:rPr>
              <a:t>เป็น </a:t>
            </a:r>
            <a:r>
              <a:rPr b="1" lang="en-GB" sz="3200" spc="-1" strike="noStrike">
                <a:solidFill>
                  <a:srgbClr val="000099"/>
                </a:solidFill>
                <a:latin typeface="Californian FB"/>
                <a:ea typeface="JasmineUPC"/>
              </a:rPr>
              <a:t>Bilateral F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7320" y="627840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fornian FB"/>
                <a:ea typeface="JasmineUPC"/>
              </a:rPr>
              <a:t>Source : WTO</a:t>
            </a:r>
            <a:r>
              <a:rPr b="0" lang="en-GB" sz="3200" spc="-1" strike="noStrike">
                <a:solidFill>
                  <a:srgbClr val="000000"/>
                </a:solidFill>
                <a:latin typeface="Californian FB"/>
                <a:ea typeface="JasmineUP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3059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600" spc="-1" strike="noStrike">
                <a:solidFill>
                  <a:srgbClr val="ffffcc"/>
                </a:solidFill>
                <a:latin typeface="Angsana New"/>
                <a:cs typeface="JasmineUPC"/>
              </a:rPr>
              <a:t>ไทยได้มีการจัดทำ</a:t>
            </a:r>
            <a:r>
              <a:rPr b="1" lang="en-US" sz="5600" spc="-1" strike="noStrike">
                <a:solidFill>
                  <a:srgbClr val="ffffcc"/>
                </a:solidFill>
                <a:latin typeface="Angsana New"/>
                <a:ea typeface="JasmineUPC"/>
              </a:rPr>
              <a:t> </a:t>
            </a:r>
            <a:r>
              <a:rPr b="1" lang="en-US" sz="5600" spc="-1" strike="noStrike">
                <a:solidFill>
                  <a:srgbClr val="ffffcc"/>
                </a:solidFill>
                <a:latin typeface="Angsana New"/>
                <a:ea typeface="JasmineUPC"/>
              </a:rPr>
              <a:t>FTA </a:t>
            </a:r>
            <a:r>
              <a:rPr b="1" lang="th-TH" sz="5600" spc="-1" strike="noStrike">
                <a:solidFill>
                  <a:srgbClr val="ffffcc"/>
                </a:solidFill>
                <a:latin typeface="Angsana New"/>
                <a:cs typeface="JasmineUPC"/>
              </a:rPr>
              <a:t>กับประเทศใดบ้าง คืบหน้าอย่างไร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81169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65000"/>
              </a:lnSpc>
              <a:spcBef>
                <a:spcPts val="2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จรจาเสร็จแล้ว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2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ระเทศ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: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ออสเตรเลีย นิวซีแลนด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65000"/>
              </a:lnSpc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JasmineUPC"/>
              </a:rPr>
              <a:t>อยู่ระหว่างการเจรจา </a:t>
            </a:r>
            <a:r>
              <a:rPr b="1" lang="en-US" sz="4000" spc="-1" strike="noStrike">
                <a:solidFill>
                  <a:srgbClr val="ffffff"/>
                </a:solidFill>
                <a:latin typeface="Angsana New"/>
                <a:ea typeface="JasmineUPC"/>
              </a:rPr>
              <a:t>: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6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ระเทศ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+ 2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ลุ่มเศรษฐกิจ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JasmineUPC"/>
              </a:rPr>
              <a:t>โด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หรัฐ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ญี่ปุ่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จี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บาห์เร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อินเดี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ปร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65000"/>
              </a:lnSpc>
              <a:spcBef>
                <a:spcPts val="176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BIMSTEC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บังคลาเทศ อินเดีย พม่า ศรีลังกา ไทย เนปาล และ ภูฎาน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65000"/>
              </a:lnSpc>
              <a:spcBef>
                <a:spcPts val="176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EFTA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วิตเซอร์แลนด์ นอร์เวย์ ไอซ์แลนด์ และลิกเตนสไตน์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600" spc="-1" strike="noStrike">
                <a:solidFill>
                  <a:srgbClr val="ffffcc"/>
                </a:solidFill>
                <a:latin typeface="Angsana New"/>
                <a:cs typeface="JasmineUPC"/>
              </a:rPr>
              <a:t>ความคืบหน้าของ </a:t>
            </a:r>
            <a:r>
              <a:rPr b="1" lang="en-US" sz="5600" spc="-1" strike="noStrike">
                <a:solidFill>
                  <a:srgbClr val="ffffcc"/>
                </a:solidFill>
                <a:latin typeface="Angsana New"/>
                <a:ea typeface="JasmineUPC"/>
              </a:rPr>
              <a:t>FTA </a:t>
            </a:r>
            <a:r>
              <a:rPr b="1" lang="th-TH" sz="5600" spc="-1" strike="noStrike">
                <a:solidFill>
                  <a:srgbClr val="ffffcc"/>
                </a:solidFill>
                <a:latin typeface="Angsana New"/>
                <a:cs typeface="JasmineUPC"/>
              </a:rPr>
              <a:t>ในกรอบ 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66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ออสเตรเลี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นิวซีแลนด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จีน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อินเดี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1676520"/>
            <a:ext cx="8458200" cy="53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่งที่ไทยคาดหวัง คือ ลดมาตรการ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S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ารลดภาษี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องไท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ภาษีเหลือ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ันที ในปี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2005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ระมาณ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49%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องรายการสินค้า เช่น  ธัญพืช  เส้นใยใช้ในการทอ โกโก้ อัญมณี รถยนต์นั่งขนาดเกิน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,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000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c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   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ภาษีเหลือ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ี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2010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ช่น ผักผลไม้ พลาสติก กระดาษ สิ่งทอ เสื้อผ้า เหล็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อ่อนไห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ภาษีเหลือ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ปี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2020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ช่น เนื้อโค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นื้อสุกร นม เครื่องในสัตว์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 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ันฝรั่ง  กาแฟ  ชา  ข้าวโพ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ภาษีเหลือ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ปี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2025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ช่น นมและครี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533520"/>
            <a:ext cx="883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00"/>
                </a:solidFill>
                <a:latin typeface="Angsana New"/>
                <a:cs typeface="JasmineUPC"/>
              </a:rPr>
              <a:t>ไทย</a:t>
            </a:r>
            <a:r>
              <a:rPr b="1" lang="th-TH" sz="6000" spc="-1" strike="noStrike">
                <a:solidFill>
                  <a:srgbClr val="ffff00"/>
                </a:solidFill>
                <a:latin typeface="Angsana New"/>
                <a:ea typeface="JasmineUPC"/>
              </a:rPr>
              <a:t>-</a:t>
            </a:r>
            <a:r>
              <a:rPr b="1" lang="th-TH" sz="6000" spc="-1" strike="noStrike">
                <a:solidFill>
                  <a:srgbClr val="ffff00"/>
                </a:solidFill>
                <a:latin typeface="Angsana New"/>
                <a:cs typeface="JasmineUPC"/>
              </a:rPr>
              <a:t>ออสเตรเลีย</a:t>
            </a:r>
            <a:r>
              <a:rPr b="1" lang="en-US" sz="6000" spc="-1" strike="noStrike">
                <a:solidFill>
                  <a:srgbClr val="ffff00"/>
                </a:solidFill>
                <a:latin typeface="Angsana New"/>
                <a:ea typeface="JasmineUPC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Angsana New"/>
                <a:ea typeface="JasmineUPC"/>
              </a:rPr>
              <a:t>(TAFTA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315200" y="5359320"/>
            <a:ext cx="1452600" cy="14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1905120"/>
            <a:ext cx="807732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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ารลดภาษีของออสเตรเลี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เหลือ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ันที ในปี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05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ระมาณ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83%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องรายการสินค้า เช่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เกษตรทุกรายการ เช่น เนื้อสัตว์ ผัก ผลไม้  ยกเว้น ปลาทูน่ากระป๋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อุตสาหกรรมทุกรายการ เช่น อัญมณี ทองแดง ตะกั่ว ดีบุ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เหลือ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ภายในปี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1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ช่น สิ่งทอ รองเท้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อ่อนไหว ลดเหลือ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ภายในปี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15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ช่น เสื้อผ้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57200"/>
            <a:ext cx="799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00"/>
                </a:solidFill>
                <a:latin typeface="Angsana New"/>
                <a:cs typeface="JasmineUPC"/>
              </a:rPr>
              <a:t>ไทย</a:t>
            </a:r>
            <a:r>
              <a:rPr b="1" lang="th-TH" sz="6000" spc="-1" strike="noStrike">
                <a:solidFill>
                  <a:srgbClr val="ffff00"/>
                </a:solidFill>
                <a:latin typeface="Angsana New"/>
                <a:ea typeface="JasmineUPC"/>
              </a:rPr>
              <a:t>-</a:t>
            </a:r>
            <a:r>
              <a:rPr b="1" lang="th-TH" sz="6000" spc="-1" strike="noStrike">
                <a:solidFill>
                  <a:srgbClr val="ffff00"/>
                </a:solidFill>
                <a:latin typeface="Angsana New"/>
                <a:cs typeface="JasmineUPC"/>
              </a:rPr>
              <a:t>ออสเตรเลีย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7467480" y="762120"/>
            <a:ext cx="1452600" cy="149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5:19:35Z</dcterms:created>
  <dc:creator>MANIKA BURANASIN</dc:creator>
  <dc:description/>
  <dc:language>en-US</dc:language>
  <cp:lastModifiedBy>user</cp:lastModifiedBy>
  <dcterms:modified xsi:type="dcterms:W3CDTF">2005-03-17T02:12:26Z</dcterms:modified>
  <cp:revision>88</cp:revision>
  <dc:subject/>
  <dc:title>Slide 1</dc:title>
</cp:coreProperties>
</file>