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259056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ใช้สิทธิประโยชน์พิเศษ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ด้านอากรขาเข้า</a:t>
            </a:r>
            <a:br>
              <a:rPr sz="5400"/>
            </a:br>
            <a:r>
              <a:rPr b="1" lang="th-TH" sz="5400" spc="-1" strike="noStrike">
                <a:solidFill>
                  <a:srgbClr val="000000"/>
                </a:solidFill>
                <a:latin typeface="AngsanaUPC"/>
                <a:cs typeface="AngsanaUPC"/>
              </a:rPr>
              <a:t>ภายใต้ความตกลงเขต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ดร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.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นิลสุวรรณ ลีลารัศม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ประธานคณะกรรมการกฎว่าด้วยแหล่งกำเนิดสินค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  <a:cs typeface="AngsanaUPC"/>
              </a:rPr>
              <a:t>และมาตรการกีดกันทางการค้าที่มิใช่ภาษ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000000"/>
                </a:solidFill>
                <a:latin typeface="AngsanaUPC"/>
              </a:rPr>
              <a:t>สภาอุตสาหกรรมแห่งประเทศไท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1270080" cy="12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7008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1270080" y="141120"/>
            <a:ext cx="1612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33920" y="0"/>
          <a:ext cx="144756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0"/>
                    <a:ext cx="1447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238880" y="0"/>
            <a:ext cx="190512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0" spc="-1" strike="noStrike">
                <a:solidFill>
                  <a:srgbClr val="ffffff"/>
                </a:solidFill>
                <a:latin typeface="AngsanaUPC"/>
                <a:ea typeface="Cordia New"/>
              </a:rPr>
              <a:t>FTA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8077320" y="5845320"/>
            <a:ext cx="1066680" cy="101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0" y="2133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620120" y="2133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ขนาดตลาด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เมินจากประชากรไท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ASEA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53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8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6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US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28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.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8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China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35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0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00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FTA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ประชากร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UPC"/>
              </a:rPr>
              <a:t>    ประเมิน  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ea typeface="AngsanaUPC"/>
              </a:rPr>
              <a:t>% </a:t>
            </a:r>
            <a:r>
              <a:rPr b="1" lang="th-TH" sz="54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ำลังซื้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AUS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  15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0.23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4.6 %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2578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JPN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350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5.5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110 %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India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1000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16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่า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320 % </a:t>
            </a:r>
            <a:r>
              <a:rPr b="1" lang="th-TH" sz="66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ลาดส่งออกของไทย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2546 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ูลค่า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: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ล้า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 New"/>
              </a:rPr>
              <a:t>US$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057400"/>
            <a:ext cx="914400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. ASEAN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,53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0.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8954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. USA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3,618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6.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. EU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761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7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14400"/>
            <a:ext cx="91440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มูลค่า         สัดส่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  <a:ea typeface="Angsana New"/>
              </a:rPr>
              <a:t>(%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267080"/>
            <a:ext cx="91440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4. JPN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1,397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14.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952880"/>
            <a:ext cx="91440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Others (FTAs)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6,926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33.6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638680"/>
            <a:ext cx="9144000" cy="1067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รวม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80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,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  <a:ea typeface="Angsana New"/>
              </a:rPr>
              <a:t>239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      100 %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14400"/>
            <a:ext cx="4648320" cy="1143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เพิ่มมากว่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21,000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 New"/>
              </a:rPr>
              <a:t>ล้าน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 New"/>
              </a:rPr>
              <a:t>US$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ัจจัยการผลิตที่ต้องคำนึงใ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01124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1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ขนาดกำลังการผลิต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พิ่มหรือล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โรงงานใหม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0779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2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วัตถุดิบ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นำเข้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นประเทศ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ารจัดซื้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923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3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ครื่องจักร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เก่า ใหม่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จำนว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นำเข้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906720"/>
            <a:ext cx="914400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4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ทคโนโลยี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ใช้มากขึ้น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ซื้อ พัฒนา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?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21120"/>
            <a:ext cx="9144000" cy="97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5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เงินลงทุ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ต้องขยายมาก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กู้ หุ้นเพิ่มทุ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6.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บุคลากร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  <a:ea typeface="AngsanaUPC"/>
              </a:rPr>
              <a:t> 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แรงงาน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การตลาด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</a:t>
            </a:r>
            <a:r>
              <a:rPr b="1" lang="th-TH" sz="4800" spc="-1" strike="noStrike">
                <a:solidFill>
                  <a:srgbClr val="ffff00"/>
                </a:solidFill>
                <a:latin typeface="Angsana New"/>
                <a:cs typeface="AngsanaUPC"/>
              </a:rPr>
              <a:t>ภาษา</a:t>
            </a:r>
            <a:r>
              <a:rPr b="1" lang="en-US" sz="4800" spc="-1" strike="noStrike">
                <a:solidFill>
                  <a:srgbClr val="ffff00"/>
                </a:solidFill>
                <a:latin typeface="Angsana New"/>
                <a:ea typeface="AngsanaUPC"/>
              </a:rPr>
              <a:t>    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  <a:cs typeface="AngsanaUPC"/>
              </a:rPr>
              <a:t>ฝึกอบ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4960" y="3749760"/>
            <a:ext cx="5256360" cy="2590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62680" y="457200"/>
            <a:ext cx="2735280" cy="128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ngsana New"/>
              </a:rPr>
              <a:t>F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98900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057400"/>
            <a:ext cx="647064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Framework Agre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>
                <a:solidFill>
                  <a:srgbClr val="000000"/>
                </a:solidFill>
                <a:latin typeface="Arial"/>
                <a:cs typeface="Angsana New"/>
              </a:rPr>
              <a:t>เลือกเจรจาประเด็นตกลงเงื่อนไขที่ต้องกา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505320"/>
            <a:ext cx="8229600" cy="0"/>
          </a:xfrm>
          <a:prstGeom prst="line">
            <a:avLst/>
          </a:prstGeom>
          <a:ln w="63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897360"/>
            <a:ext cx="302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อินเดีย  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37080" y="3902040"/>
            <a:ext cx="192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66ff"/>
                </a:solidFill>
                <a:latin typeface="Angsana New"/>
                <a:ea typeface="Angsana New"/>
              </a:rPr>
              <a:t>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9 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cc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43600" y="3962520"/>
            <a:ext cx="287964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Angsana New"/>
              </a:rPr>
              <a:t>EHS 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ngsana New"/>
              </a:rPr>
              <a:t>Early Harvest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6483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อาเซียน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จีน  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07-0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4648320"/>
            <a:ext cx="18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ต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ff0000"/>
                </a:solidFill>
                <a:latin typeface="Angsana New"/>
                <a:ea typeface="Angsana New"/>
              </a:rPr>
              <a:t>. 4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54100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บาร์เรน 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62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5410080"/>
            <a:ext cx="1992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9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ธ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1676520"/>
            <a:ext cx="792360" cy="2057400"/>
          </a:xfrm>
          <a:prstGeom prst="upArrow">
            <a:avLst>
              <a:gd name="adj1" fmla="val 50000"/>
              <a:gd name="adj2" fmla="val 649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457200"/>
            <a:ext cx="532296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อสเตรเลีย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 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25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ไทย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-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นิวซีแลนด์ 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19 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ม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</a:t>
            </a:r>
            <a:r>
              <a:rPr b="1" i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1" i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2548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000000"/>
              </a:gs>
              <a:gs pos="100000">
                <a:srgbClr val="c0c0c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ff"/>
                </a:solidFill>
                <a:latin typeface="Angsana New"/>
                <a:cs typeface="Angsana New"/>
              </a:rPr>
              <a:t>ประเด็นหลักใน</a:t>
            </a:r>
            <a:r>
              <a:rPr b="1" lang="th-TH" sz="6600" spc="-1" strike="noStrike">
                <a:solidFill>
                  <a:srgbClr val="ffffff"/>
                </a:solidFill>
                <a:latin typeface="Angsana New"/>
              </a:rPr>
              <a:t>การเจรจาเปิดการค้าเสร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52480"/>
            <a:ext cx="9134640" cy="11271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ลดภาษีนำเข้าระหว่างกัน 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เลือกกลุ่มสินค้าได้ </a:t>
            </a:r>
            <a:r>
              <a:rPr b="1" i="1" lang="th-TH" sz="5400" spc="-1" strike="noStrike">
                <a:solidFill>
                  <a:srgbClr val="000000"/>
                </a:solidFill>
                <a:latin typeface="Angsana New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971800"/>
            <a:ext cx="9144000" cy="121932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efefe"/>
              </a:gs>
              <a:gs pos="100000">
                <a:srgbClr val="3333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มีเงื่อนไขแหล่งกำเนิดสินค้าที่ผลิตและส่งออ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2670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efefe"/>
              </a:gs>
              <a:gs pos="100000">
                <a:srgbClr val="ff33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อำนวยความสะดวก ขนผ่านด่านศุลกากร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4. </a:t>
            </a:r>
            <a:r>
              <a:rPr b="1" lang="th-TH" sz="5400" spc="-1" strike="noStrike">
                <a:solidFill>
                  <a:srgbClr val="000000"/>
                </a:solidFill>
                <a:latin typeface="AngsanaUPC"/>
              </a:rPr>
              <a:t>เพิ่ม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กรอบความร่วมมือด้านอื่น และลด </a:t>
            </a:r>
            <a:r>
              <a:rPr b="1" lang="en-US" sz="5400" spc="-1" strike="noStrike">
                <a:solidFill>
                  <a:srgbClr val="000000"/>
                </a:solidFill>
                <a:latin typeface="AngsanaUPC"/>
              </a:rPr>
              <a:t>NTB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การลดภาษีของไทยกับ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</a:rPr>
              <a:t>FT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Unilater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ฝ่ายเดียว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0%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ได้ทันท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81080"/>
            <a:ext cx="9144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85332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Reciprocal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ต่างตอบแทน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0%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49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19520"/>
            <a:ext cx="9144000" cy="1523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Normal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มีแผน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ลดภาษี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0% 2550 - 5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181480"/>
            <a:ext cx="9144000" cy="838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กลุ่ม 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Others</a:t>
            </a: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ระบุรายละเอียดและมีเหตุผ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343400"/>
            <a:ext cx="91440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19360"/>
                <a:tab algn="l" pos="4194000"/>
                <a:tab algn="l" pos="6481800"/>
                <a:tab algn="l" pos="771192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กลุ่ม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Sentitive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ยังขอภาษีคุ้มครอง  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2553-5 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IN, AUS, JPN, PERU,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USA</a:t>
            </a:r>
            <a:r>
              <a:rPr b="1" lang="en-US" sz="5400" spc="-1" strike="noStrike">
                <a:solidFill>
                  <a:srgbClr val="ffffff"/>
                </a:solidFill>
                <a:latin typeface="Angsana New"/>
              </a:rPr>
              <a:t>, CHN, N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A (RTA) Tariff Update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 IN CH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N PERU MEX CHILE 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051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ASEA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-5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7432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Bahrai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62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4197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Chin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CH. 07 – 08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19320"/>
            <a:ext cx="9144000" cy="6858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A (RTA)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4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th-TH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AUS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98% Tariff line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% Tariff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0% Tar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gotiation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PN  USA  Peru  BIMSTEC  EF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25780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India(Interim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82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0% Tariff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2209680"/>
            <a:ext cx="7086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เป็นความตกลงระหว่างประเทศคู่สัญญาที่เอื้อผลประโยชน์ระหว่างกันให้ดีกว่า หรือมากกว่าเงื่อนไขความตกลงของ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ไม่ว่าประเทศเหล่านั้นจะเป็นสมาชิก </a:t>
            </a:r>
            <a:r>
              <a:rPr b="1" lang="en-US" sz="4400" spc="-1" strike="noStrike">
                <a:solidFill>
                  <a:srgbClr val="000000"/>
                </a:solidFill>
                <a:latin typeface="AngsanaUPC"/>
              </a:rPr>
              <a:t>WTO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หรือไม่ก็ตา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295280"/>
          </a:xfrm>
          <a:prstGeom prst="bevel">
            <a:avLst>
              <a:gd name="adj" fmla="val 12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WTO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 “</a:t>
            </a:r>
            <a:r>
              <a:rPr b="1" lang="th-TH" sz="3600" spc="-1" strike="noStrike">
                <a:solidFill>
                  <a:srgbClr val="ffff00"/>
                </a:solidFill>
                <a:latin typeface="Tahoma"/>
              </a:rPr>
              <a:t>การรวมกลุ่มทางการค้า คือ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RTA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2209680"/>
          <a:ext cx="1600200" cy="15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16002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1401840"/>
            <a:ext cx="81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</a:rPr>
              <a:t>RTAs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= Regional Trad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88080"/>
            <a:ext cx="9144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Comic Sans MS"/>
              </a:rPr>
              <a:t>Bilateral Free Trade Agreemen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ngsana New"/>
              </a:rPr>
              <a:t>: BF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้าหมายของการเปิดการค้าเสร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ช้เงื่อนไขความพร้อมและมีกำหนดระยะเวลาให้เตรียมการก่อนเปิด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อบคลุมประเด็นที่เกี่ยวข้องกับการค้าทุกชนิด แบ่งออกได้เป็น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2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ลุ่ม คือ การค้าสินค้า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Goods)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และ บริการ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(Trade in Service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gsana New"/>
                <a:ea typeface="AngsanaUPC"/>
              </a:rPr>
              <a:t>~2553 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ทยจะเปิดการค้าเสรีเต็มรูปแบ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762120"/>
            <a:ext cx="84582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IrisUPC"/>
                <a:cs typeface="Angsana New"/>
              </a:rPr>
              <a:t>ประเด็นเจรจาการค้าเสร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3640" cy="51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92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F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3957480"/>
            <a:ext cx="211608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Textiles </a:t>
            </a:r>
            <a:r>
              <a:rPr b="1" lang="en-US" sz="2800" spc="-1" strike="noStrike">
                <a:solidFill>
                  <a:srgbClr val="ffffff"/>
                </a:solidFill>
                <a:latin typeface="AngsanaUPC"/>
                <a:ea typeface="IrisUPC"/>
              </a:rPr>
              <a:t>&amp;</a:t>
            </a:r>
            <a:r>
              <a:rPr b="1" lang="th-TH" sz="2800" spc="-1" strike="noStrike">
                <a:solidFill>
                  <a:srgbClr val="ffffff"/>
                </a:solidFill>
                <a:latin typeface="AngsanaUPC"/>
                <a:ea typeface="IrisUPC"/>
              </a:rPr>
              <a:t> Appa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929120"/>
            <a:ext cx="1981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-Co</a:t>
            </a:r>
            <a:r>
              <a:rPr b="1" lang="en-US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</a:t>
            </a: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me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0" y="395748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ustom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&amp;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7840" y="201456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ompetition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86584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Trade Reme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UPC"/>
                <a:ea typeface="IrisUPC"/>
              </a:rPr>
              <a:t>(SG, AD &amp; C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784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overnment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784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Cross Border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rv</a:t>
            </a: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78200" y="20145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ngsanaUPC"/>
                <a:ea typeface="IrisUPC"/>
              </a:rPr>
              <a:t>TB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P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64400" y="492912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Temporary Entry (Mobility)</a:t>
            </a:r>
            <a:br>
              <a:rPr sz="2000"/>
            </a:br>
            <a:r>
              <a:rPr b="1" lang="th-TH" sz="2000" spc="-1" strike="noStrike">
                <a:solidFill>
                  <a:srgbClr val="000000"/>
                </a:solidFill>
                <a:latin typeface="AngsanaUPC"/>
                <a:ea typeface="IrisUPC"/>
              </a:rPr>
              <a:t> of Business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64400" y="2014560"/>
            <a:ext cx="215892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cience &amp; Tech./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R &amp;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64400" y="2986200"/>
            <a:ext cx="215892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Dispute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Sett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943600"/>
            <a:ext cx="43178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General (Preamble, Definitions,</a:t>
            </a:r>
            <a:br>
              <a:rPr sz="2800"/>
            </a:br>
            <a:r>
              <a:rPr b="1" lang="th-TH" sz="2800" spc="-1" strike="noStrike">
                <a:solidFill>
                  <a:srgbClr val="000000"/>
                </a:solidFill>
                <a:latin typeface="AngsanaUPC"/>
                <a:ea typeface="IrisUPC"/>
              </a:rPr>
              <a:t> Exception, Final Prov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784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UPC"/>
                <a:ea typeface="IrisUPC"/>
              </a:rPr>
              <a:t>RO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78200" y="10796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0" y="1079640"/>
            <a:ext cx="180000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UPC"/>
                <a:ea typeface="IrisUPC"/>
              </a:rPr>
              <a:t>Trade 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8200" y="4929120"/>
            <a:ext cx="1800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Telec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492912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2986200"/>
            <a:ext cx="18000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Inves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7840" y="5865840"/>
            <a:ext cx="1800000" cy="719280"/>
          </a:xfrm>
          <a:prstGeom prst="roundRect">
            <a:avLst>
              <a:gd name="adj" fmla="val 1666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UPC"/>
                <a:ea typeface="IrisUPC"/>
              </a:rPr>
              <a:t>S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957480"/>
            <a:ext cx="180000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Envir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78200" y="298620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UPC"/>
                <a:ea typeface="IrisUPC"/>
              </a:rPr>
              <a:t>S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863640" cy="51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00"/>
                            </p:stCondLst>
                            <p:childTnLst>
                              <p:par>
                                <p:cTn id="7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500"/>
                            </p:stCondLst>
                            <p:childTnLst>
                              <p:par>
                                <p:cTn id="1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สินค้า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  <a:ea typeface="AngsanaUPC"/>
              </a:rPr>
              <a:t>(Trade in Good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80773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เปิดเสรี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ด้วยการลดอากรขาเข้า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Tariff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ระหว่างกัน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</a:rPr>
              <a:t>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จนในที่สุดมีอัตราร้อยละ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0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ุกรายกา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อุดหนุน 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Subsidy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ของรัฐ เพื่อไม่ให้มีการบิดเบือนราคาสินค้าส่งออกที่ต่ำกว่าความเป็นจริ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ลดและยกเลิกการกีดกันทางการค้า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(</a:t>
            </a:r>
            <a:r>
              <a:rPr b="1" lang="en-US" sz="4800" spc="-1" strike="noStrike">
                <a:solidFill>
                  <a:srgbClr val="333399"/>
                </a:solidFill>
                <a:latin typeface="AngsanaUPC"/>
                <a:ea typeface="AngsanaUPC"/>
              </a:rPr>
              <a:t>Non-Tariff Barrier: NTB) </a:t>
            </a:r>
            <a:r>
              <a:rPr b="1" lang="th-TH" sz="4800" spc="-1" strike="noStrike">
                <a:solidFill>
                  <a:srgbClr val="333399"/>
                </a:solidFill>
                <a:latin typeface="AngsanaUPC"/>
                <a:cs typeface="AngsanaUPC"/>
              </a:rPr>
              <a:t>ที่ไม่เป็นธรร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12840" y="3048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840" y="3048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535932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593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52280"/>
            <a:ext cx="77724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การค้าบริการ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ngsanaUPC"/>
              </a:rPr>
              <a:t>(Trade in Service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1932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ภัตตาคาร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แพทย์แผนไท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บริการธุรกิ</a:t>
            </a:r>
            <a:r>
              <a:rPr b="1" lang="th-TH" sz="4400" spc="-1" strike="noStrike">
                <a:solidFill>
                  <a:srgbClr val="339933"/>
                </a:solidFill>
                <a:latin typeface="AngsanaUPC"/>
              </a:rPr>
              <a:t>จ</a:t>
            </a:r>
            <a:r>
              <a:rPr b="1" lang="th-TH" sz="4400" spc="-1" strike="noStrike">
                <a:solidFill>
                  <a:srgbClr val="ffcc00"/>
                </a:solidFill>
                <a:latin typeface="AngsanaUPC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cs typeface="AngsanaUPC"/>
              </a:rPr>
              <a:t>ศึกษา ก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สื่อสาร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  <a:ea typeface="AngsanaUPC"/>
              </a:rPr>
              <a:t> 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การก่อสร้างและวิศวกรรม </a:t>
            </a:r>
            <a:r>
              <a:rPr b="1" lang="th-TH" sz="4400" spc="-1" strike="noStrike">
                <a:solidFill>
                  <a:srgbClr val="008000"/>
                </a:solidFill>
                <a:latin typeface="AngsanaUPC"/>
              </a:rPr>
              <a:t>สิ่งแวดล้อม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  การเงิน การจัดจำหน่าย นันทนาการ วัฒนธรรมและการกีฬา  การท่องเที่ยว และ</a:t>
            </a:r>
            <a:r>
              <a:rPr b="1" lang="th-TH" sz="4400" spc="-1" strike="noStrike">
                <a:solidFill>
                  <a:srgbClr val="ff0000"/>
                </a:solidFill>
                <a:latin typeface="AngsanaUPC"/>
              </a:rPr>
              <a:t>การขนส่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ไทยได้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เปิด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  <a:cs typeface="AngsanaUPC"/>
              </a:rPr>
              <a:t>เสร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 การเงิน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1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มี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ค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. 42)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และโทรคมนาคมขั้นพื้นฐาน  </a:t>
            </a:r>
            <a:r>
              <a:rPr b="1" lang="th-TH" sz="4400" spc="-1" strike="noStrike">
                <a:solidFill>
                  <a:srgbClr val="333399"/>
                </a:solidFill>
                <a:latin typeface="AngsanaUPC"/>
              </a:rPr>
              <a:t>(254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ผูกพันเท่าที่กฎหมาย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  <a:cs typeface="AngsanaUPC"/>
              </a:rPr>
              <a:t>ไทยใน</a:t>
            </a:r>
            <a:r>
              <a:rPr b="1" lang="th-TH" sz="4400" spc="-1" strike="noStrike">
                <a:solidFill>
                  <a:srgbClr val="000000"/>
                </a:solidFill>
                <a:latin typeface="AngsanaUPC"/>
              </a:rPr>
              <a:t>ปัจจุบันให้อำนาจไว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1295280"/>
          <a:ext cx="44136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44136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04920" y="4191120"/>
          <a:ext cx="4413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9112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12840" y="5842080"/>
          <a:ext cx="441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840" y="5842080"/>
                    <a:ext cx="441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52280"/>
            <a:ext cx="9144000" cy="137160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000000"/>
                </a:solidFill>
                <a:latin typeface="AngsanaUPC"/>
                <a:cs typeface="AngsanaUPC"/>
              </a:rPr>
              <a:t>การเปิดสาขาทรัพยสินทางปัญญาของ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54360"/>
            <a:ext cx="91440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</a:t>
            </a:r>
            <a:r>
              <a:rPr b="1" lang="en-US" sz="5400" spc="-1" strike="noStrike">
                <a:solidFill>
                  <a:srgbClr val="660033"/>
                </a:solidFill>
                <a:latin typeface="Times New Roman"/>
              </a:rPr>
              <a:t>®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      </a:t>
            </a:r>
            <a:r>
              <a:rPr b="1" lang="th-TH" sz="5400" spc="-1" strike="noStrike">
                <a:solidFill>
                  <a:srgbClr val="008000"/>
                </a:solidFill>
                <a:latin typeface="AngsanaUPC"/>
                <a:cs typeface="AngsanaUPC"/>
              </a:rPr>
              <a:t>เปิดตามกรอบความตกลงของ </a:t>
            </a:r>
            <a:r>
              <a:rPr b="1" lang="en-US" sz="5400" spc="-1" strike="noStrike">
                <a:solidFill>
                  <a:srgbClr val="008000"/>
                </a:solidFill>
                <a:latin typeface="AngsanaUPC"/>
                <a:ea typeface="AngsanaUPC"/>
              </a:rPr>
              <a:t>W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48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cs typeface="AngsanaUPC"/>
              </a:rPr>
              <a:t>เน้นความร่วมมือถ่ายทอดเทคโนโลยี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AngsanaUPC"/>
                <a:ea typeface="AngsanaUPC"/>
              </a:rPr>
              <a:t>     โดยเฉพาะอย่างยิ่งด้านสิทธิบัต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™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©   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cs typeface="Angsana New"/>
              </a:rPr>
              <a:t>เน้นการรักษาภูมิปัญญาท้องถิ่น พันธุ์พืช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	</a:t>
            </a:r>
            <a:r>
              <a:rPr b="1" lang="th-TH" sz="5400" spc="-1" strike="noStrike">
                <a:solidFill>
                  <a:srgbClr val="660033"/>
                </a:solidFill>
                <a:latin typeface="Times New Roman"/>
                <a:ea typeface="Angsana New"/>
              </a:rPr>
              <a:t>   และพันธุ์สัตว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2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UPC"/>
                <a:cs typeface="AngsanaUPC"/>
              </a:rPr>
              <a:t>แผนภูมิวงจรการส่งออก </a:t>
            </a:r>
            <a:r>
              <a:rPr b="1" lang="en-US" sz="6600" spc="-1" strike="noStrike">
                <a:solidFill>
                  <a:srgbClr val="000000"/>
                </a:solidFill>
                <a:latin typeface="Angsana New"/>
                <a:ea typeface="AngsanaUPC"/>
              </a:rPr>
              <a:t>F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5029200"/>
            <a:ext cx="6324480" cy="175248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@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ค่าบริหารจัดการ ขนส่ง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@ 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กำไรจากการขาย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ngsanaUPC"/>
                <a:ea typeface="AngsanaUPC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47920"/>
            <a:ext cx="3276720" cy="1828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สินค้าไท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ได้แหล่งกำเนิ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360" y="3581280"/>
            <a:ext cx="2095560" cy="12193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AngsanaUPC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UPC"/>
                <a:cs typeface="AngsanaUPC"/>
              </a:rPr>
              <a:t>ผู้ซื้อ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1447920"/>
            <a:ext cx="3733920" cy="182880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ศุลกากรจี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Comic Sans MS"/>
                <a:cs typeface="AngsanaUPC"/>
              </a:rPr>
              <a:t>อากรขาเข้า </a:t>
            </a:r>
            <a:r>
              <a:rPr b="1" lang="en-US" sz="6000" spc="-1" strike="noStrike">
                <a:solidFill>
                  <a:srgbClr val="ffffff"/>
                </a:solidFill>
                <a:latin typeface="Angsana New"/>
                <a:ea typeface="AngsanaUPC"/>
              </a:rPr>
              <a:t>0%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666880"/>
            <a:ext cx="1828800" cy="60984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14479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ส่งออ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4520" y="3429000"/>
            <a:ext cx="609480" cy="1600200"/>
          </a:xfrm>
          <a:prstGeom prst="downArrow">
            <a:avLst>
              <a:gd name="adj1" fmla="val 50000"/>
              <a:gd name="adj2" fmla="val 6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429000"/>
            <a:ext cx="1828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600200" y="5333760"/>
            <a:ext cx="1218960" cy="121932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334120"/>
            <a:ext cx="1600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Comic Sans MS"/>
                <a:cs typeface="Angsana New"/>
              </a:rPr>
              <a:t>ราคาเพิ่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Angsana New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66920" y="3581280"/>
            <a:ext cx="2286000" cy="1219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ราคาสุดท้า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962520"/>
            <a:ext cx="761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52720" y="4267080"/>
            <a:ext cx="914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3429000"/>
            <a:ext cx="3810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กำลังซื้อจีนเพิ่ม</a:t>
            </a:r>
            <a:r>
              <a:rPr b="1" lang="th-TH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7:1 (x20 </a:t>
            </a:r>
            <a:r>
              <a:rPr b="1" lang="th-TH" sz="5400" spc="-1" strike="noStrike">
                <a:solidFill>
                  <a:srgbClr val="000000"/>
                </a:solidFill>
                <a:latin typeface="Comic Sans MS"/>
                <a:cs typeface="Angsana New"/>
              </a:rPr>
              <a:t>เท่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07:49:00Z</dcterms:created>
  <dc:creator>Rey</dc:creator>
  <dc:description/>
  <dc:language>en-US</dc:language>
  <cp:lastModifiedBy>Nilsuwan</cp:lastModifiedBy>
  <cp:lastPrinted>2002-09-17T06:51:31Z</cp:lastPrinted>
  <dcterms:modified xsi:type="dcterms:W3CDTF">2005-06-04T10:30:20Z</dcterms:modified>
  <cp:revision>136</cp:revision>
  <dc:subject/>
  <dc:title>No Slide Title</dc:title>
</cp:coreProperties>
</file>