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3D6-875E-4C5C-99A4-757E930E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481-68EB-4387-A7EE-C7C9F98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98E-B02D-448E-81BC-B012148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893-6AD4-486F-8FC3-E83DC280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319-C523-441E-B67D-52548F6A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058-D104-43C8-9BB0-086FEC93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A65-8B4E-46D2-B3F7-E8F5627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1E3B-AC31-4225-89C9-AB0C0908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34A8-9E00-4D2F-8555-2C21CEC9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94B9-E0A7-4D36-9F56-B1F6A40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684C-19AE-4EE0-989F-D26496C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93C-A5B0-4B04-8058-9057074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444E-3F16-4709-AA70-C0459E6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071C-99D6-4754-A4AD-5AE5B2C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B06-D2F7-4D9D-BC74-A6AC1C63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90DB-2145-405D-AF2D-EEDCAF7F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49A-3070-407E-9D7A-4358E986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547-82CA-4056-95AC-DD39E10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E8C-5B78-424A-990E-CCBED71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4FF-E5F2-44E5-9860-03086FE2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4E9-3F6C-4940-9DE1-688E31C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F14-8BE2-45EF-9826-07BE2ED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0A0-7F47-49BC-B650-05FF2A9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B40-B6B4-477E-8876-1C3BC68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701-A024-4526-A81E-742F73E300E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B70E-E97D-4C08-AC5B-E2CC18F3A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8B7-0041-4130-8DD0-5E87E833D05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AF34-3C7F-4250-8DDB-D25A0CE68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33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อุตสากรรมอาหาร </a:t>
            </a:r>
            <a:r>
              <a:rPr b="1" lang="th-TH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(</a:t>
            </a: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แปรรูป</a:t>
            </a:r>
            <a:r>
              <a:rPr b="1" lang="th-TH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)</a:t>
            </a:r>
            <a:br>
              <a:rPr sz="6000"/>
            </a:br>
            <a:r>
              <a:rPr b="1" lang="th-TH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SME 93644</a:t>
            </a:r>
            <a:r>
              <a:rPr b="1" lang="th-TH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 S = 93292   M = 352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H.S. CHAPTERs 01-24 excerc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73360"/>
            <a:ext cx="914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ดร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.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นิลสุวรรณ ลีลารัศม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ประธานคณะกรรมการ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และมาตรการกีดกันทางการค้าที่มิใช่ภาษ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สภาอุตสาหกรรมแห่งประเทศไท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77320" y="328464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คิดคำนวณสัดส่วนอย่างง่า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ดิบนำเข้าจากต่างประเท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วัตถุดิบในประเทศไทย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ค่าแรงงาน เงินเดือน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ค่าผลิตสินค้า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  <a:cs typeface="Angsana New"/>
              </a:rPr>
              <a:t>กำไร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หมด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632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ัดส่วนคำนวณ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=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45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C2E-90F0-42C1-8F9F-51159D6EDA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F1554-2B66-46EA-ADE8-056B72859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กลุ่มอุตสาหกรรมอาหาร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ผลิต แปรรูปและเก็บถนอม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M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Total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5041800" cy="27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ngsana New"/>
                <a:ea typeface="Angsana New"/>
              </a:rPr>
              <a:t>1511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นื้อและผลิตภัณฑ์เนื้อสัตว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ngsana New"/>
                <a:ea typeface="Angsana New"/>
              </a:rPr>
              <a:t>1512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สัตว์น้ำและผลิตภัณฑ์สัตว์น้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ngsana New"/>
                <a:ea typeface="Angsana New"/>
              </a:rPr>
              <a:t>1513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ผลไม้และผ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1844640"/>
            <a:ext cx="370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3461       35       3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3408       66       34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587       33       2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4941720"/>
            <a:ext cx="59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9456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134       9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6AF-AF07-4A98-9850-33DEFFE79F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68E0A-A898-47D2-866D-18A3EE17F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กลุ่มอุตสาหกรรมอาหาร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และแปรรูปสินค้า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(1)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M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Total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18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14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มันและไขมันพืชและสัตว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20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31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ัญพืช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าว แป้งข้าว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32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ตาร์ชและผลิตภัณฑ์สตาร์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33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หารสัตว์สำเร็จรู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1557360"/>
            <a:ext cx="37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52        18          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848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7          8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68709      24      687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146        32          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58        20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661000"/>
            <a:ext cx="59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70213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 91     70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F84-455A-4D8E-ABF6-C6D2968B92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FC3EA-E32B-4330-A9F2-5AD1DEEC3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กลุ่มอุตสาหกรรมอาหาร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และแปรรูปสินค้า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(2)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M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Total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72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41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นมปั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42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ตา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43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กโก้ ช็อกโกแลต ขนมต่าง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44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ักกะโรนี ก๋วยเตี๋ยว บะหมี่ วุ้นเส้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49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หารอื่น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1557360"/>
            <a:ext cx="37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4700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21         4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345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6           3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901       17           9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4543       15         4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6866       103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68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5661000"/>
            <a:ext cx="59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17252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 162     17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62F-E786-4F5B-9455-D25FFD5129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3AC18-3BD2-4D1B-A843-7BDAF9E4ED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กลุ่มอุตสาหกรรมอาหาร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สุราและเครื่องดื่ม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M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Total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5400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51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ม กลั่น ผสม สุราจากการหม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52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ราผลไม้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วน์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53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อลต์ และสุราจากข้าวมอลต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554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่องดื่มไม่มีแอลกอฮอลล์ แล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แร่ต่าง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1557360"/>
            <a:ext cx="3708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10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--           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591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1          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3513         6        35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746       17        27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661000"/>
            <a:ext cx="59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SME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6860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 24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	</a:t>
            </a:r>
            <a:r>
              <a:rPr b="1" lang="en-US" sz="4400" spc="-1" strike="noStrike">
                <a:solidFill>
                  <a:srgbClr val="990033"/>
                </a:solidFill>
                <a:latin typeface="Angsana New"/>
                <a:ea typeface="Angsana New"/>
              </a:rPr>
              <a:t>  68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A4B-634E-490C-A245-18165BF04E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77438-27C9-4631-8783-A9CFCAF83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0"/>
            <a:ext cx="7773840" cy="12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ินค้าในกลุ่มอุตสาหกรรมอาห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s 01-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51000"/>
            <a:ext cx="4176720" cy="74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ัตว์มีชีว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2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นื้อสัตว์และส่วนของสัตว์ที่บริโภค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3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ลา กุ้ง ปู หอย และสตว์น้ำที่ไม่มีกระดูกสันหลังอื่น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4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ม ผลิตภัณฑ์นม ไข่สัตว์ปีก น้ำผึ้งธรรมชาติ และผลิตภัณฑ์สัตว์ที่บริโภค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5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ภัณฑ์สัตว์อื่น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268280"/>
            <a:ext cx="4427640" cy="78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6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นไม้และพืชอื่นๆ ที่มีชีว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7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ืชผัก รากและหัวที่บริโภค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8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ไม้ ลูกนัต และเปลือกไม้ที่บริโภค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9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แฟ ชา และเครื่องเท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าว ธัญพื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ภัณฑ์โม่สีเมล็ดัญพืช แป้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2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มล็ดพืชน้ำมัน พืชที่ใช้เป็นยา ฟาง หญ้าแห้งที่ใช้เป็นอาหารสัตว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0D1-D0EF-4A81-B662-4A0DD0C0993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DFA00-F573-4609-86FA-A66806EED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0"/>
            <a:ext cx="7773840" cy="12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ินค้าในกลุ่มอุตสาหกรรมอาห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s 01-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268280"/>
            <a:ext cx="4392720" cy="77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3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รั่ง กัม เรซิน น้ำเลี้ยง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(Sap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สิ่งสกัดอื่นๆ จากพื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4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จากพืชที่ใช้ถักสาน และผลิตผลจากพืชอื่น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5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ขมันและน้ำมันที่ได้จากพืชหรือสัตว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6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ภัณฑ์จากเนื้อสัตว์ ปลา กุ้ง ปู หอย และสัตว์น้ำอื่น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7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้ำตาลและขนมทำจากน้ำตา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1268280"/>
            <a:ext cx="4427640" cy="76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8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กโก้และของปรุงแต่งจากโกโก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19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ภัณฑ์จากธัญพืช แป้ง หรือน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20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ภัณฑ์จากพืชผักผลไม้ ลูกนัต และส่วนอื่นๆ ของพื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2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งปรุงแต่งเบ็ดเตล็ดที่บริโภ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2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่องดื่ม สุรา น้ำส้มสายช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23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ก เศษเหลือจากการผลิตอาหาร ผลิคภัณฑ์อาหารสัตว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24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าสูบและผลิตภัณฑ์ที่ใช้แทนยาสู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B5A-C858-4B1A-B2AA-C9671714116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E345B-6A55-4853-B6C8-6C0754692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18900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UPC"/>
              </a:rPr>
              <a:t>ลักษณะเด่นของการผลิตสินค้าตอนที่ </a:t>
            </a: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01 –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557360"/>
            <a:ext cx="8353440" cy="77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1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ผลิตจากสิ่งมีชีวิตในธรรมชาติ ด้วยการเลี้ยง ปลูก จับ หรือ สกัด ก่อนแปรรูปโดยตรง เนื่องจากเป็นอาหารจึงสามารถบริโภคได้ ทั้งโดนตรงหรือจะปรุงแต่งให้มีสี กลิ่น รส ตามความต้องการก็ได้ ผลจาการผลิตทำให้เลขพิกัดอัตราศุลกากรเปลี่ยนไปได้ในระดับ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2 4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้นค้ามีความหลากหลายในบรรจุภัณฑ์ที่เด่นสะดุดตา และดึงดูดความสนใจของผู้บริโภ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9F5-C0E2-4D45-819C-A09E3F0C163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47940-449E-4632-9BFD-B74B1A8D1D59}" type="datetime1">
              <a:rPr lang="en-US"/>
              <a:t>07/30/26</a:t>
            </a:fld>
          </a:p>
        </p:txBody>
      </p:sp>
    </p:spTree>
  </p:cSld>
  <p:transition spd="slow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4391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การนำเข้าส่งออกสินค้าอาหารตอนที่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01-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341360"/>
            <a:ext cx="896472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3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นื้อสัตว์ กุ้ง ปลา ไทยส่งออก ยกเว้นเนื้อและนมวั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2637000"/>
            <a:ext cx="896472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5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ผลิตภัณฑ์อาหารแปรรูป มีผลิตและส่งออกภายใต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ทคโนโลยีบรรจุภัณฑ์ที่ดีและน่าใช้ แต่ก็มีนำเข้าไม่น้อ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70828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653000"/>
            <a:ext cx="896472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f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นำเข้าปลาทูน่า ถั่วเหลือง นมผง สารแต่งกลิ่น ม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ป็นวัตถุดิบเพื่อแปรรูปเป็นผลิตภัณฑ์สำเร็จรูปส่งออ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869000"/>
            <a:ext cx="657360" cy="685800"/>
          </a:xfrm>
          <a:custGeom>
            <a:avLst/>
            <a:gdLst>
              <a:gd name="textAreaLeft" fmla="*/ 150120 w 657360"/>
              <a:gd name="textAreaRight" fmla="*/ 507240 w 6573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E37-4F34-4966-8397-0ABB36C19B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26F58-0000-4FC4-A7F6-6EC7E9380A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06:59Z</dcterms:created>
  <dc:creator>Hiroshi IMAGAWA</dc:creator>
  <dc:description/>
  <dc:language>en-US</dc:language>
  <cp:lastModifiedBy>Nilsuwan</cp:lastModifiedBy>
  <cp:lastPrinted>2002-04-22T15:17:34Z</cp:lastPrinted>
  <dcterms:modified xsi:type="dcterms:W3CDTF">2005-06-06T01:10:21Z</dcterms:modified>
  <cp:revision>106</cp:revision>
  <dc:subject/>
  <dc:title>ITEM 13  MACHINERY, TRANSPORT EQUIPMENT, OPTICAL GOODS, ETC </dc:title>
</cp:coreProperties>
</file>