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989-1E7F-4318-8F96-FCD4CBE6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E9D-7016-4289-9F20-987368B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46A-E8DA-4DE7-9E03-807FE949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939-1AE9-4C04-AAEC-6E2BD96D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845F-FCF7-46B0-8BD5-1C536E5C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E4EF-14EF-4A92-B0E4-0DC19678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FE03-C031-40A1-9C3B-4DB9362B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580-AEB7-49B7-970A-9169223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5DD2-032A-40AF-B472-7ECA93FA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E10-8EBD-4721-B4CE-50914C76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27A4-39E0-40F0-813C-987C233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16C-BC0A-4D22-B443-CDFD375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602F-91B9-4DA8-916F-0C793C8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0AF-80C1-460A-B92D-929DCAE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3BB2-33E8-45C0-8C5F-A0B4324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2D3-8088-4E9C-9C65-3CA02560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D403-9940-4D9B-9A44-3DC6193E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C3A-CF9B-458F-9680-3EFC9F0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A0C-E016-4F04-B2D0-92C7801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AA6-FE47-4AF6-A1EC-B26F73B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A9B-5AAA-4776-9A43-5B6E367A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4CF-EEF5-4FBF-8E23-31ABBCD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565-A0DE-4191-9208-E1AD0DA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E3A-3614-45D7-A324-86B368E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3BE-ACCA-4B96-96DC-5CB736F6B532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C71-F140-4F14-A5F3-7AEEEFFAC651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การลดอากรขาเข้าระหว่างประเทศสมาชิก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ASEAN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ommon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E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ffective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referential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T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ariff :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EP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สินค้าทั้งหมดมีอัตราอากรขาเข้าร้อยละ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0-5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ประเทศไทยมีทั้งหมด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911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รายการ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(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546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รายการหรือ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60%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254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กลุ่มอุตสาหกรรมจะมีอัตราภาษี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85%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ต่อกลุ่มสินค้า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) </a:t>
            </a:r>
            <a:r>
              <a:rPr b="1" i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Roadmap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53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ทั้งหมด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FTA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2563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เปิดเสรีทุกรูปแบบ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(</a:t>
            </a:r>
            <a:r>
              <a:rPr b="1" i="1" lang="th-TH" sz="4000" spc="-1" strike="noStrike">
                <a:solidFill>
                  <a:srgbClr val="660066"/>
                </a:solidFill>
                <a:latin typeface="AngsanaUPC"/>
              </a:rPr>
              <a:t>Hanoi Action Plan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96080" y="5410080"/>
          <a:ext cx="14479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41008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เงื่อนไข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</a:rPr>
              <a:t>AFTA (CEPT)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ใช้กับการลดภาษี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1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แหล่งกำเนิดสินค้า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WO or Content 40%</a:t>
            </a:r>
            <a:r>
              <a:rPr b="1" i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3828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2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ontent 2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ขึ้นไปมาสะสมใน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EP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จนถึง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4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(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ASEAN Cumulative Rule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of Origin: CRO)  </a:t>
            </a:r>
            <a:r>
              <a:rPr b="1" i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1 / 7 / 2548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3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เกณฑ์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Substantial Transformation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สำหรับสินค้าที่มี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Content &lt; 40% </a:t>
            </a:r>
            <a:r>
              <a:rPr b="1" i="1" lang="en-US" sz="5400" spc="-1" strike="noStrike">
                <a:solidFill>
                  <a:srgbClr val="ffff00"/>
                </a:solidFill>
                <a:latin typeface="Angsana New"/>
              </a:rPr>
              <a:t>2549RM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AngsanaUPC"/>
                <a:cs typeface="Cordia New"/>
              </a:rPr>
              <a:t>การคำนวณค่า </a:t>
            </a:r>
            <a:r>
              <a:rPr b="1" lang="th-TH" sz="4400" spc="-1" strike="noStrike">
                <a:solidFill>
                  <a:srgbClr val="ff3300"/>
                </a:solidFill>
                <a:latin typeface="AngsanaUPC"/>
                <a:ea typeface="Cordia New"/>
              </a:rPr>
              <a:t>% Local Content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76212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riginating Materials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 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วัตถุดิบ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Production Cost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การผลิต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ther Costs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        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ค่าใช้จ่าย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และ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อื่นๆ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66880"/>
            <a:ext cx="9144000" cy="4725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SUM =  Local Content    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cs typeface="Cordia New"/>
              </a:rPr>
              <a:t>ส่วนที่ใช้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%Local Content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=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Local Content  x  10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(40)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Cordia New"/>
              </a:rPr>
              <a:t>หรือ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=  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F.O.B. Price - Non-ASEAN Content x 100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  <a:ea typeface="Cordia New"/>
              </a:rPr>
              <a:t>Non-ASEAN Content</a:t>
            </a:r>
            <a:r>
              <a:rPr b="1" lang="th-TH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is calculated from the summation of C.I.F prices of non-ASEAN originating materials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UPC"/>
                <a:ea typeface="AngsanaUPC"/>
              </a:rPr>
              <a:t>ASEAN Roadmap 2549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UPC"/>
                <a:ea typeface="AngsanaUPC"/>
              </a:rPr>
              <a:t>Sector: </a:t>
            </a:r>
            <a:r>
              <a:rPr b="1" lang="th-TH" sz="6000" spc="-1" strike="noStrike">
                <a:solidFill>
                  <a:srgbClr val="ffff00"/>
                </a:solidFill>
                <a:latin typeface="AngsanaUPC"/>
                <a:cs typeface="AngsanaUPC"/>
              </a:rPr>
              <a:t>อาหาร </a:t>
            </a:r>
            <a:r>
              <a:rPr b="1" lang="en-US" sz="6000" spc="-1" strike="noStrike">
                <a:solidFill>
                  <a:srgbClr val="ffff00"/>
                </a:solidFill>
                <a:latin typeface="AngsanaUPC"/>
                <a:ea typeface="AngsanaUPC"/>
              </a:rPr>
              <a:t>Chapters 01 - 24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1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เมียนม่าร์เป็นผู้ร่างข้อกำหนดใน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Roadmap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38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2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อัตราอากร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นปี </a:t>
            </a:r>
            <a:r>
              <a:rPr b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2550 CLMV 2555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526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3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Substantial Transformation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เกณฑ์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ด้แหล่งกำเนิดร่วมกับ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Content 40% </a:t>
            </a:r>
            <a:r>
              <a:rPr b="1" i="1" lang="en-US" sz="5400" spc="-1" strike="noStrike">
                <a:solidFill>
                  <a:srgbClr val="ff3300"/>
                </a:solidFill>
                <a:latin typeface="Angsana New"/>
              </a:rPr>
              <a:t>2547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4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ตกลงให้มี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MRA: Mutual Recognition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Agreement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สำหรับ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Test Report    </a:t>
            </a:r>
            <a:r>
              <a:rPr b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1/</a:t>
            </a:r>
            <a:r>
              <a:rPr b="1" i="1" lang="en-US" sz="5400" spc="-1" strike="noStrike">
                <a:solidFill>
                  <a:srgbClr val="ffff00"/>
                </a:solidFill>
                <a:latin typeface="Angsana New"/>
              </a:rPr>
              <a:t>2548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>
                <a:solidFill>
                  <a:srgbClr val="ffffff"/>
                </a:solidFill>
                <a:latin typeface="AngsanaUPC"/>
              </a:rPr>
              <a:t>ASEAN and Other Regional Areas</a:t>
            </a:r>
            <a:endParaRPr b="1" lang="en-US" sz="60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124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1. A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SEAN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 CER (Australia &amp; New Zealand)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534960" y="39625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2. A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SEAN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</a:rPr>
              <a:t>+ 3 (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China, Japan, Korea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)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AngsanaUPC"/>
                <a:cs typeface="AngsanaUPC"/>
              </a:rPr>
              <a:t>อยู่ในระหว่างดำเนินการเจรจาเปิดการค้าเสรี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066680"/>
          <a:ext cx="4190760" cy="19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190760" cy="194652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33520" y="46483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ASEAN-China, ASEAN-India, ASEAN-Japan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1066680"/>
            <a:ext cx="3733920" cy="198144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ลดอากรขาเข้า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Sensitive Lis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ROO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ประเด็นพิจารณาโอกาสและอุปสรรคการเปิดการค้าเสรี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กลุ่มอุตสาหกรรม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อาหาร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288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1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วัตถุดิบ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นำเข้า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เช่น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แป้งสาลี ปลาทูน่า ถั่วเหลือง ปลาป่น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......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1952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2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ครื่องจักร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ใหญ่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-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ล็ก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)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อุปกรณ์อิเล็กทรอนิกส์ คอมพิวเตอร์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09880"/>
            <a:ext cx="91440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ngsanaUPC"/>
              </a:rPr>
              <a:t>3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. Technology 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</a:rPr>
              <a:t>“F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rom farm to table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”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บรรจุภัณฑ์  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CT ……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4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ความรู้ ความเชี่ยวชาญของบุคลากร การศึกษาและภาษา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5.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การปรับตัวของผู้บริหาร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เจ้าของกิจการ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3048120"/>
            <a:ext cx="57150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omic Sans MS"/>
              </a:rPr>
              <a:t>The End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153280" y="591660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5916600"/>
            <a:ext cx="990720" cy="94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66680" y="380880"/>
            <a:ext cx="7010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สอบถามข้อมูล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สภาอุตสาหกรรมแห่งประเทศไทย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www.fti.or.th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5:57:10Z</dcterms:created>
  <dc:creator>toshiba</dc:creator>
  <dc:description/>
  <dc:language>en-US</dc:language>
  <cp:lastModifiedBy>Nilsuwan</cp:lastModifiedBy>
  <dcterms:modified xsi:type="dcterms:W3CDTF">2005-06-05T22:43:33Z</dcterms:modified>
  <cp:revision>43</cp:revision>
  <dc:subject/>
  <dc:title>ASEAN = Association of Southeast Asian Nations (สมาคมอาเซียน)</dc:title>
</cp:coreProperties>
</file>