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EC5-24C4-477B-9511-9AA4284B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7CB-9BF8-4098-9FE6-7F3E1580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01E-97BF-4CFE-8D92-312FD817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D83-0C61-425C-892E-7D2D8621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6229-931A-4353-BA61-EAFED1EA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8F0C-31A9-485A-87B9-29249059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11F3-61E1-45E7-9871-C546F610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6C43-8B4F-4C50-B530-BA9CEBC9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623B-56A8-45AC-8B25-274916EE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E98E-D47A-44F3-B278-6940E680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B523-0076-4D21-91D8-ACB70134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105-9B0D-4502-AA26-8C6CD72C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D4DE-3BE6-45BA-A87D-4D3B58D9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4E47-9905-41EF-891B-F6D867CC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C6B3-9C37-46D4-8FFB-F8A678E6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F4AB-6742-49AD-A921-810A87EF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128E-81B8-46A5-A2CC-CA8189DA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8C9-DBF3-4EC3-B754-224BC9BB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B4F-DDBB-476F-B33E-4A3C3AF2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E71-A297-49A4-83FA-CCBD67B0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BE1-7FB5-48DD-9025-784F77AB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D0D-66FC-44C5-BC1C-2FDBCD17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A06-3D5D-4BCD-B9B0-24A0BF84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89D-42D8-4736-9DBF-828C8B23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6031-BB7F-4E2D-9D1F-59E6D762403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873080"/>
            <a:ext cx="84200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BB1E-1CB5-4D5C-8580-9C2A1123237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6360" y="476280"/>
            <a:ext cx="89852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ffcc66"/>
                </a:solidFill>
                <a:latin typeface="IrisUPC"/>
                <a:cs typeface="IrisUPC"/>
              </a:rPr>
              <a:t>การตรวจสอบคุณสมบัติทางด้านแหล่งกำเนิดสินค้าที่จะขอรับ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ffcc66"/>
                </a:solidFill>
                <a:latin typeface="IrisUPC"/>
              </a:rPr>
              <a:t>สิทธิพิเศษทางภาษีศุลกากร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4413240"/>
            <a:ext cx="313668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32160" y="4572000"/>
            <a:ext cx="548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โดย 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นายชาย  สังขะเวส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สำนักป้องกันการแอบอ้างสิทธิ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กรมการค้าต่าง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3FEE-2C00-46ED-8094-AA40B700F3D0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89920" y="374040"/>
            <a:ext cx="5901840" cy="103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cc66"/>
                </a:solidFill>
                <a:latin typeface="IrisUPC"/>
              </a:rPr>
              <a:t>FTAs  </a:t>
            </a:r>
            <a:r>
              <a:rPr b="1" i="1" lang="en-US" sz="5400" spc="-1" strike="noStrike">
                <a:solidFill>
                  <a:srgbClr val="ffcc66"/>
                </a:solidFill>
                <a:latin typeface="IrisUPC"/>
              </a:rPr>
              <a:t>ของไทยในปัจจุบัน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4880" y="1412640"/>
            <a:ext cx="820908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ินเดีย  เริ่มตั้งแต่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กันยายน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54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อสเตรเลีย  เริ่มตั้งแต่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มกราคม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54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าเซียน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จี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4880" y="3716280"/>
            <a:ext cx="8772480" cy="25923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603440" indent="-1603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IrisUPC"/>
                <a:cs typeface="Angsana New"/>
              </a:rPr>
              <a:t>อนาคต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 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USA 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นิวซีแลนด์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บาห์เร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br>
              <a:rPr sz="5400"/>
            </a:b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ญี่ปุ่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เปรู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าเซียน –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BIMSTEC 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าเซีย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-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ินเดีย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732-072E-400B-80B6-B4D482666694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5400" y="2637000"/>
            <a:ext cx="8034480" cy="4176720"/>
          </a:xfrm>
          <a:prstGeom prst="rect">
            <a:avLst/>
          </a:prstGeom>
          <a:solidFill>
            <a:srgbClr val="ffffe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>
            <a:off x="992160" y="152280"/>
            <a:ext cx="8034480" cy="2340000"/>
          </a:xfrm>
          <a:prstGeom prst="rect">
            <a:avLst/>
          </a:prstGeom>
          <a:solidFill>
            <a:srgbClr val="ffffe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1282680" y="320760"/>
            <a:ext cx="7485120" cy="342864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IrisUPC"/>
              </a:rPr>
              <a:t>ระบบสิทธิพิเศษทางการ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GSP (Generalized System of Preference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CEPT (Common Effective Preferential Tariff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GSTP (The Global System of Trade Preferences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cs typeface="IrisUPC"/>
              </a:rPr>
              <a:t>ข้อตกลงการค้าเสรี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(Free Trade Agreements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3333600" y="2757600"/>
            <a:ext cx="3410280" cy="57132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3399"/>
                </a:solidFill>
                <a:latin typeface="IrisUPC"/>
              </a:rPr>
              <a:t>กฎแหล่งกำเนิดสิน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1284120" y="3456000"/>
            <a:ext cx="7485120" cy="142884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1.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หลักเกณฑ์ว่าด้วยแหล่งกำเนิดสินค้า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(Rules of Origin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สินค้าผลิตด้วยวัตถุดิบภายในประเทศทั้งหมด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สินค้าผลิตด้วยวัตถุดิบนำเข้าจากต่า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3067200" y="5037120"/>
            <a:ext cx="3838320" cy="52236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2. </a:t>
            </a:r>
            <a:r>
              <a:rPr b="1" lang="hi-IN" sz="3200" spc="-1" strike="noStrike">
                <a:solidFill>
                  <a:srgbClr val="003399"/>
                </a:solidFill>
                <a:latin typeface="IrisUPC"/>
              </a:rPr>
              <a:t>เงื่อนไขการส่งมอบสินค้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1257480" y="5675400"/>
            <a:ext cx="7467480" cy="9936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3.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เอกสารที่ใช้เป็นหลักฐานออกโดยกรมการค้าต่า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Form A    - Form D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Form GSTP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    - Form FT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4870440" y="32083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4861080" y="47815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4835520" y="54421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276640"/>
            <a:ext cx="330120" cy="436320"/>
          </a:xfrm>
          <a:prstGeom prst="downArrow">
            <a:avLst>
              <a:gd name="adj1" fmla="val 50000"/>
              <a:gd name="adj2" fmla="val 4543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07A-20E6-40FE-8C06-8C8E5245C26E}" type="slidenum">
              <a:t>11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15800" y="189000"/>
            <a:ext cx="92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IrisUPC"/>
                <a:cs typeface="IrisUPC"/>
              </a:rPr>
              <a:t>คุณสมบัติของ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</a:rPr>
              <a:t>สินค้า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  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(Origin Criterion)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415800" y="981000"/>
            <a:ext cx="9361440" cy="89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ผลิตจากวัตถุดิบภายในประเทศทั้งหมด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Wholly  Obtained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cs typeface="IrisUPC"/>
              </a:rPr>
              <a:t>พืชผลที่เพาะปลูกในประเทศ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cs typeface="IrisUPC"/>
              </a:rPr>
              <a:t>การประมงโดยเรือขอ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IrisUPC"/>
              </a:rPr>
              <a:t>แร่ธาตุที่ขุดได้ภายในประเทศ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Iris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IrisUPC"/>
              </a:rPr>
              <a:t>     และจากน่านน้ำของประเทศส่งออก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IrisUPC"/>
              </a:rPr>
              <a:t>สัตว์ที่เลี้ยงและเติบโตในประเทศ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Iris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IrisUPC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IrisUPC"/>
              </a:rPr>
              <a:t>เศษวัสดุเหลือใช้ภายใน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cs typeface="IrisUPC"/>
              </a:rPr>
              <a:t>ผลผลิตปศุสัตว์ใน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ผลิตจากวัตถุดิบนำเข้าจากต่างประเทศ  ต้องได้รับการ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แปรสภาพอย่างเพียงพ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Substantial  Transformation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1.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จารณาจากพิกัดศุลกากร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2.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จารณาจากสัดส่วนการใช้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/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ราคา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4AB-0A62-42B8-9DC1-177243099FFB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1471680"/>
            <a:ext cx="9448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 fontScale="72000"/>
          </a:bodyPr>
          <a:p>
            <a:pPr lvl="1" marL="139320" indent="-216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ประเทศ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European Union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A Certificate)    Switzerland/Norway/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ตุรก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Japan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%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U.S.A.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ของวัตถุดิบภายในประเทศ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+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ต้นทุนการผลิตทางตรงไม่น้อยกว่า</a:t>
            </a:r>
            <a:br>
              <a:rPr sz="3000"/>
            </a:b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35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Canad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0">
              <a:lnSpc>
                <a:spcPct val="9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2880" y="1413000"/>
            <a:ext cx="0" cy="527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433520"/>
            <a:ext cx="944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1484280"/>
            <a:ext cx="41400" cy="518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433520"/>
            <a:ext cx="38160" cy="516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9632880" y="1433520"/>
            <a:ext cx="44640" cy="523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081160"/>
            <a:ext cx="944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2922480" y="342900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8" name=""/>
          <p:cNvSpPr/>
          <p:nvPr/>
        </p:nvSpPr>
        <p:spPr>
          <a:xfrm>
            <a:off x="2922480" y="4365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9" name=""/>
          <p:cNvSpPr/>
          <p:nvPr/>
        </p:nvSpPr>
        <p:spPr>
          <a:xfrm>
            <a:off x="2922480" y="566100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>
            <a:off x="258840" y="6669000"/>
            <a:ext cx="9447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128520" y="6228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62F-35B9-4D9F-B197-0F94C71BF613}" type="slidenum">
              <a:t>13</a:t>
            </a:fld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2680" y="333360"/>
            <a:ext cx="898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460520"/>
            <a:ext cx="9677520" cy="66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ประเทศ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Russian Federation/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 %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A Certificate)     Bulgari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factory price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CEPT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ASEAN countries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และต้นทุนการผลิต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D Certificate)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ในประเทศ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ASEAN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T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ประเทศสมาชิก         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 %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GSTP)              GST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43820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3141720"/>
            <a:ext cx="953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08584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9" name=""/>
          <p:cNvSpPr/>
          <p:nvPr/>
        </p:nvSpPr>
        <p:spPr>
          <a:xfrm>
            <a:off x="533556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975348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>
            <a:off x="200160" y="4581360"/>
            <a:ext cx="953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620064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128520" y="6732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51B-56DD-4BCA-9B90-80DE34B43405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2680" y="333360"/>
            <a:ext cx="898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>
            <a:off x="420840" y="1460520"/>
            <a:ext cx="914076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  <a:ea typeface="IrisUPC"/>
              </a:rPr>
              <a:t>   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cs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cs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TA  Thailand - India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มูลค่าต้นทุนในประเทศ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20 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40 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OB price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และ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/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มีการ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เปลี่ยนแปลงพิกัดวัตถุดิบนำเข้า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TA  Thailand – Australi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มูลค่าต้นทุนในประเทศ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40 </a:t>
            </a:r>
            <a:r>
              <a:rPr b="1" lang="th-TH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55%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OB Price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และ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/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มีการเปลี่ยนแปลง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พิกัดวัตถุดิบนำเข้า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44160" y="1438200"/>
            <a:ext cx="468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349200" y="1438200"/>
            <a:ext cx="921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349200" y="2085840"/>
            <a:ext cx="921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3800520" y="1438200"/>
            <a:ext cx="2376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9499680" y="1438200"/>
            <a:ext cx="4896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349200" y="408456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2" name=""/>
          <p:cNvSpPr/>
          <p:nvPr/>
        </p:nvSpPr>
        <p:spPr>
          <a:xfrm>
            <a:off x="344520" y="587700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3" name=""/>
          <p:cNvSpPr/>
          <p:nvPr/>
        </p:nvSpPr>
        <p:spPr>
          <a:xfrm>
            <a:off x="128520" y="6732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B92-624C-4B89-82DB-DC68D8FCC9A9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329600" y="4248000"/>
            <a:ext cx="0" cy="28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>
            <a:off x="7329600" y="5002200"/>
            <a:ext cx="0" cy="76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3728880" y="423864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1352520" y="422280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7329600" y="3357720"/>
            <a:ext cx="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2505240" y="1789200"/>
            <a:ext cx="0" cy="1162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>
            <a:off x="7329600" y="2576520"/>
            <a:ext cx="0" cy="368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>
            <a:off x="2938320" y="144360"/>
            <a:ext cx="4102200" cy="47628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99"/>
                </a:solidFill>
                <a:latin typeface="IrisUPC"/>
              </a:rPr>
              <a:t>ระบบสิทธิพิเศษทางการค้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488880" y="3813120"/>
            <a:ext cx="410364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กระบวนการตรวจสอบคุณสมบัติ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>
            <a:off x="488880" y="2952720"/>
            <a:ext cx="892800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หลักเกณฑ์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แหล่ง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กำเนิดสินค้า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ด้านการผลิต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) :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Rules of Origin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Origin Criteria)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4" name=""/>
          <p:cNvSpPr/>
          <p:nvPr/>
        </p:nvSpPr>
        <p:spPr>
          <a:xfrm>
            <a:off x="488880" y="4394160"/>
            <a:ext cx="173052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ทุกรายการสินค้า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487440" y="5780160"/>
            <a:ext cx="892944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ขั้นตอนการตรวจสอบย้อนหลัง 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Post Administrative Control)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487440" y="1185840"/>
            <a:ext cx="4113000" cy="10080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สิทธิพิเศษ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เป็นการทั่วไป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GSP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CEPT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GSTP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5311800" y="1185840"/>
            <a:ext cx="4113360" cy="151308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ภายใต้ข้อตกลงการค้าเสรี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Free Trade Agreements)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ินเดีย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1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ก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47)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อสเตรเลีย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1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ม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ค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48)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สหรัฐอเมริกา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นิวซีแลนด์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ินเดีย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cxnSp>
        <p:nvCxnSpPr>
          <p:cNvPr id="188" name=""/>
          <p:cNvCxnSpPr>
            <a:stCxn id="187" idx="0"/>
            <a:endCxn id="186" idx="0"/>
          </p:cNvCxnSpPr>
          <p:nvPr/>
        </p:nvCxnSpPr>
        <p:spPr>
          <a:xfrm rot="5400000">
            <a:off x="4955400" y="-1235160"/>
            <a:ext cx="2160" cy="4825080"/>
          </a:xfrm>
          <a:prstGeom prst="bentConnector3">
            <a:avLst>
              <a:gd name="adj1" fmla="val -13800000"/>
            </a:avLst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89" name=""/>
          <p:cNvCxnSpPr/>
          <p:nvPr/>
        </p:nvCxnSpPr>
        <p:spPr>
          <a:xfrm flipH="1">
            <a:off x="4985640" y="556920"/>
            <a:ext cx="3960" cy="402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5311800" y="3813120"/>
            <a:ext cx="410508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กระบวนการตรวจสอบคุณสมบัติ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2865600" y="4394160"/>
            <a:ext cx="172872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HS 84-97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2" name=""/>
          <p:cNvSpPr/>
          <p:nvPr/>
        </p:nvSpPr>
        <p:spPr>
          <a:xfrm>
            <a:off x="2505240" y="3375000"/>
            <a:ext cx="0" cy="430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2505240" y="3562200"/>
            <a:ext cx="21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2643120" y="3452760"/>
            <a:ext cx="2309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ขอรับหนังสือรับรองฯ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Form A / Form D / Form GSTP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430440"/>
            <a:ext cx="1806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ขอรับหนังสือรับรองฯ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Form FTAs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7329600" y="3562200"/>
            <a:ext cx="21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5097600" y="654120"/>
            <a:ext cx="2663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ลดหย่อน หรือยกเว้น อากรขาเข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4991040" y="776160"/>
            <a:ext cx="2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7761240" y="1379520"/>
            <a:ext cx="180036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บาห์เรน</a:t>
            </a:r>
            <a:r>
              <a:rPr b="1" lang="en-US" sz="2400" spc="-1" strike="noStrike">
                <a:solidFill>
                  <a:srgbClr val="bc3700"/>
                </a:solidFill>
                <a:latin typeface="Times New Roman"/>
                <a:ea typeface="IrisUP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เปรู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ญี่ปุ่น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จีน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BIMSTEC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5530680" y="4332240"/>
            <a:ext cx="3598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ทุกรายการสินค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ผลิต ชี้แจงข้อมูลการผลิต มีความถูกต้องตาม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   หลักเกณฑ์แหล่งกำเนิดสินค้า และผูกพันกับภาครัฐ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2720880" y="494172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ผลิต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/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ส่งออก พิสูจน์ความถูกต้องตามหลักเกณฑ์แหล่งกำเนิดสินค้า โดยแสดงเอกสาร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/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หลักฐานการใช้วัตถุดิบ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>
            <a:off x="3740040" y="5516640"/>
            <a:ext cx="0" cy="250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>
            <a:off x="200160" y="4946760"/>
            <a:ext cx="25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ขอรับหนังสือรับรองฯ ชี้แจงข้อมูลการผลิต มีความถูกต้องตามหลักเกณฑ์และผูกพันกับภาครัฐ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4" name=""/>
          <p:cNvSpPr/>
          <p:nvPr/>
        </p:nvSpPr>
        <p:spPr>
          <a:xfrm>
            <a:off x="1352520" y="5516640"/>
            <a:ext cx="0" cy="250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>
            <a:off x="1281240" y="6281640"/>
            <a:ext cx="7775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ตามคำขอให้ดำเนินการของศุลกากรประเทศผู้นำเข้า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18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มีข้อสงสัยว่าแสดงเอกสารเท็จ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มีข้อสงสัยเกี่ยวกับข</a:t>
            </a:r>
            <a:r>
              <a:rPr b="1" lang="th-TH" sz="1800" spc="-1" strike="noStrike">
                <a:solidFill>
                  <a:srgbClr val="ffffff"/>
                </a:solidFill>
                <a:latin typeface="IrisUPC"/>
                <a:cs typeface="IrisUPC"/>
              </a:rPr>
              <a:t>้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อมูลที่ผูกพันกับภาครัฐ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สุ่มตรวจสอบ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(Random Check)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86A-21F2-47A2-90E1-8AA2A5DD6E0C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22400" y="44280"/>
            <a:ext cx="8683560" cy="9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โครงสร้างต้นทุนการผลิตสินค้า </a:t>
            </a: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1 </a:t>
            </a: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หน่วย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1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วัตถุดิบ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วัตถุดิบใน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ข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วัตถุดิบนำเข้าจากต่างประเทศ หรือไม่ทราบแหล่งที่ม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2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การผลิตอื่น ๆ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production cost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โสหุ้ยโรงง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แบบพิมพ์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ทดสอบ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แรงง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R &amp; D,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น้ำค่าไฟฟ้า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ใช้จ่ายในการบริหาร ฯลฯ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3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ำไรต่อหน่วย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4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โรงงาน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=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วัตถุดิบ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การผลิต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ำไร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5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ใช้จ่ายในการขนส่งสินค้าเพื่อการส่งออก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จากโรงงานไปยังท่าเรือ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/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ท่าอากาศย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ด่านชายแด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6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สินค้า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FOB  (=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โรงงาน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ชจ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ในการขนส่ง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7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ารคำนวณอัตราส่วน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57C-00A3-46DE-BE03-3E7382D360F8}" type="slidenum">
              <a:t>17</a:t>
            </a:fld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60240" y="533520"/>
            <a:ext cx="657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วัตถุดิบภายในประเทศ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80180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500" spc="-1" strike="noStrike">
                <a:solidFill>
                  <a:srgbClr val="ffff99"/>
                </a:solidFill>
                <a:latin typeface="IrisUPC"/>
              </a:rPr>
              <a:t>ต้องเป็นวัตถุดิบที่ผลิตขึ้นภายในประเทศและถูกต้อง</a:t>
            </a:r>
            <a:br>
              <a:rPr sz="4500"/>
            </a:br>
            <a:r>
              <a:rPr b="1" lang="hi-IN" sz="4500" spc="-1" strike="noStrike">
                <a:solidFill>
                  <a:srgbClr val="ffff99"/>
                </a:solidFill>
                <a:latin typeface="IrisUPC"/>
              </a:rPr>
              <a:t>ตามหลักเกณฑ์แหล่งกำเนิดของประเทศผู้ให้สิทธิพิเศษ</a:t>
            </a:r>
            <a:endParaRPr b="0" lang="en-US" sz="45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9" name=""/>
          <p:cNvSpPr/>
          <p:nvPr/>
        </p:nvSpPr>
        <p:spPr>
          <a:xfrm>
            <a:off x="725400" y="3465360"/>
            <a:ext cx="9104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ef"/>
                </a:solidFill>
                <a:latin typeface="IrisUPC"/>
              </a:rPr>
              <a:t>กรณีใช้ </a:t>
            </a:r>
            <a:r>
              <a:rPr b="1" i="1" lang="en-US" sz="4400" spc="-1" strike="noStrike">
                <a:solidFill>
                  <a:srgbClr val="ffffef"/>
                </a:solidFill>
                <a:latin typeface="IrisUPC"/>
              </a:rPr>
              <a:t>CUMULATION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ต้องแสดงหลักฐานรับรองตามที่ประเทศผู้ให้สิทธิกำหนด เช่น สหภาพยุโรป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= EUR1, 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อาเซียน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= Form D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FTA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cs typeface="IrisUPC"/>
              </a:rPr>
              <a:t>ไทย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-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cs typeface="IrisUPC"/>
              </a:rPr>
              <a:t>ออสเตรเลีย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= Form FTA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C36-6AFF-42EB-B318-6FBE44CC4A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85800"/>
            <a:ext cx="536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วัตถุดิบนำเข้า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1" name=""/>
          <p:cNvSpPr/>
          <p:nvPr/>
        </p:nvSpPr>
        <p:spPr>
          <a:xfrm>
            <a:off x="2330280" y="1704960"/>
            <a:ext cx="5747040" cy="77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วัตถุดิบที่ใช้ในการผลิตที่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นำเข้าจากต่างประเทศ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ช้ราคา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ea typeface="IrisUPC"/>
              </a:rPr>
              <a:t>C.I.F.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นการคำนวณต้นทุน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ซื้อจากผู้นำเข้า  หรือ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ไม่ทราบแหล่งที่ม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IrisUPC"/>
              </a:rPr>
              <a:t>       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ช้ราคาตาม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ea typeface="IrisUPC"/>
              </a:rPr>
              <a:t>Invoice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ที่ซื้อขายจริ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491-FCF5-4868-9964-7FBAEA589E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72600" y="303120"/>
            <a:ext cx="913932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3399ff"/>
                </a:solidFill>
                <a:latin typeface="IrisUPC"/>
              </a:rPr>
              <a:t>ระบบสิทธิพิเศษทางภาษีศุลกากร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816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GSP   (Generalized System of Preferenc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CEPT (Common Effective Preferential Tariff </a:t>
            </a:r>
            <a:br>
              <a:rPr sz="5400"/>
            </a:b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       Schem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GSTP (Global System of Trade Preference</a:t>
            </a:r>
            <a:br>
              <a:rPr sz="5400"/>
            </a:b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        Among Developing Countri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Free Trade Agreements (FTA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CFD-F3F9-47AC-A21D-C6A21C408DA1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533520"/>
            <a:ext cx="462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การผลิตอื่นๆ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3" name=""/>
          <p:cNvSpPr/>
          <p:nvPr/>
        </p:nvSpPr>
        <p:spPr>
          <a:xfrm>
            <a:off x="5349960" y="2795760"/>
            <a:ext cx="457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จ้างในการบริหาร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เงินเดือนพนักงาน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ใช้จ่ายในการอบรม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   พนักงาน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ขนส่งวัตถุดิบ  ฯลฯ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41300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ต้นทุนอื่นที่เกิดจากการผลิต ทั้งทางตรงและทางอ้อม เช่น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299736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แรงในการผลิต 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เสื่อมราคาเครื่องจักร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ตรวจสอบ 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ออกแบบผลิตภัณฑ์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69C-F7D0-451F-B912-DF99D92E54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93760" y="685800"/>
            <a:ext cx="231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ค่าขนส่ง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" name=""/>
          <p:cNvSpPr/>
          <p:nvPr/>
        </p:nvSpPr>
        <p:spPr>
          <a:xfrm>
            <a:off x="2075040" y="2077920"/>
            <a:ext cx="528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ค่าขนส่งสินค้า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1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หน่วย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จากโรงงานไปยังท่าเรือ หรือ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ท่าอากาศยาน ที่จะส่งออก 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69D-D07D-49CE-862D-0BDB528417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04880" y="105264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การขอรับ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CERTIFICATE :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Form FTA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865080" y="2133720"/>
            <a:ext cx="8120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กัดศุลกากรที่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01-08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ข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Form FTA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ได้เล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กัดศุลกากรที่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09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ขึ้นไป </a:t>
            </a:r>
            <a:r>
              <a:rPr b="1" lang="en-US" sz="4000" spc="-1" strike="noStrike" u="sng">
                <a:solidFill>
                  <a:srgbClr val="ff9966"/>
                </a:solidFill>
                <a:uFillTx/>
                <a:latin typeface="IrisUPC"/>
                <a:cs typeface="IrisUPC"/>
              </a:rPr>
              <a:t>ต้อง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ขอรับการตรวจสอบ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แหล่งกำเนิดสินค้าถูกต้องตามหลักเกณฑ์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IrisUPC"/>
                <a:cs typeface="IrisUPC"/>
              </a:rPr>
              <a:t>ก่อน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ข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Form FTA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>
            <a:off x="920880" y="501336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การขอรับ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Form A, Form D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88F-5942-4F97-A3E4-C8C277B1C02A}" type="slidenum">
              <a:t>22</a:t>
            </a:fld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09600" y="3333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เอกสารประกอบการพิจารณา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2" name=""/>
          <p:cNvSpPr/>
          <p:nvPr/>
        </p:nvSpPr>
        <p:spPr>
          <a:xfrm>
            <a:off x="920880" y="1268280"/>
            <a:ext cx="820872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1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แบบคำขอให้ตรวจ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รับรองแหล่งกำเนิด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2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คำรับรองและรายละเอียดต้นทุนการผลิต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3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หนังสือรับรองการจดทะเบียนเป็นนิติบุคคล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4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ทะเบียนภาษีมูลค่าเพิ่ม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ภ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พ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20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5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อนุญาตประกอบกิจการโรงงา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6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นังสือมอบอำนาจให้ยื่นและรับ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7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บัตรประจำตัวผู้ลงนามและผู้ยื่น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-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รับ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8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นังสือมอบอำนาจให้ลงนามแทน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ถ้ามี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3A7-63DD-4FF0-9076-0CC489E0B33C}" type="slidenum">
              <a:t>23</a:t>
            </a:fld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898640" y="1981080"/>
            <a:ext cx="3189240" cy="4191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457880" y="914400"/>
            <a:ext cx="3466800" cy="1371600"/>
          </a:xfrm>
          <a:prstGeom prst="wedgeEllipseCallout">
            <a:avLst>
              <a:gd name="adj1" fmla="val -58629"/>
              <a:gd name="adj2" fmla="val 71412"/>
            </a:avLst>
          </a:prstGeom>
          <a:solidFill>
            <a:srgbClr val="ffffdd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990033"/>
                </a:solidFill>
                <a:latin typeface="JasmineUPC"/>
              </a:rPr>
              <a:t>จบแล้วครับ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2EF-0914-4F5E-A9B8-E5C105ADE189}" type="slidenum">
              <a:t>24</a:t>
            </a:fld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07200" y="40320"/>
            <a:ext cx="8076600" cy="183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GSP </a:t>
            </a:r>
            <a:br>
              <a:rPr sz="8800"/>
            </a:br>
            <a:r>
              <a:rPr b="1" lang="en-US" sz="6000" spc="-1" strike="noStrike">
                <a:solidFill>
                  <a:srgbClr val="99b1ff"/>
                </a:solidFill>
                <a:latin typeface="IrisUPC"/>
              </a:rPr>
              <a:t>Generalized System of Preference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31800" y="1873080"/>
            <a:ext cx="88581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ระบบสิทธิพิเศษทางภาษีศุลกากรเป็นการทั่วไป 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ที่ประเทศพัฒนาแล้ว ให้สิทธิพิเศษทางภาษีศุลกากร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แก่สินค้าที่มีแหล่งกำเนิดจากประเทศกำลังพัฒนา 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โดยลดหย่อนหรือยกเว้นภาษีศุลกากรให้แก่สินค้าที่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อยู่ในข่ายได้รับสิทธิฯ    ทั้งนี้ ประเทศผู้ให้สิทธิฯ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จะเป็นผู้ให้ฝ่ายเดียวโดยไม่หวังผลตอบแทน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C71-B602-498E-91D0-48D1B723EE26}" type="slidenum">
              <a:t>3</a:t>
            </a:fld>
          </a:p>
        </p:txBody>
      </p:sp>
    </p:spTree>
  </p:cSld>
  <p:transition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348560" y="507240"/>
            <a:ext cx="9026640" cy="12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99ff"/>
                </a:solidFill>
                <a:latin typeface="IrisUPC"/>
              </a:rPr>
              <a:t>ประเทศที่ให้สิทธิพิเศษ </a:t>
            </a:r>
            <a:r>
              <a:rPr b="1" lang="en-US" sz="6600" spc="-1" strike="noStrike">
                <a:solidFill>
                  <a:srgbClr val="3399ff"/>
                </a:solidFill>
                <a:latin typeface="IrisUPC"/>
              </a:rPr>
              <a:t>GSP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80600" y="1628640"/>
            <a:ext cx="5200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ปัจจุบัน มี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3</a:t>
            </a:r>
            <a:r>
              <a:rPr b="1" lang="en-US" sz="4600" spc="-1" strike="noStrike">
                <a:solidFill>
                  <a:srgbClr val="ffffcc"/>
                </a:solidFill>
                <a:latin typeface="IrisUPC"/>
              </a:rPr>
              <a:t>4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ประเทศ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แบ่งได้เป็น </a:t>
            </a:r>
            <a:r>
              <a:rPr b="1" lang="en-US" sz="4600" spc="-1" strike="noStrike">
                <a:solidFill>
                  <a:srgbClr val="ffffcc"/>
                </a:solidFill>
                <a:latin typeface="IrisUPC"/>
              </a:rPr>
              <a:t>10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ระบบ คือ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9120" y="3276720"/>
            <a:ext cx="407340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หรัฐอเมริก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หภาพยุโรป 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  <a:ea typeface="IrisUPC"/>
              </a:rPr>
              <a:t>2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5 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นอรเว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ย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วิตเซอร์แลนด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ญี่ปุ่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6681960" y="3463920"/>
            <a:ext cx="192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Angsana New"/>
              </a:rPr>
              <a:t>แคนาด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บัลแกเรี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รัสเซี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ตุรกี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นิวซีแลนด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4BD-C7B3-432A-85B2-DED332DA8BBE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12960" y="1080"/>
            <a:ext cx="8570880" cy="19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CEPT</a:t>
            </a:r>
            <a:br>
              <a:rPr sz="8800"/>
            </a:br>
            <a:r>
              <a:rPr b="1" lang="en-US" sz="6000" spc="-1" strike="noStrike">
                <a:solidFill>
                  <a:srgbClr val="99b1ff"/>
                </a:solidFill>
                <a:latin typeface="IrisUPC"/>
              </a:rPr>
              <a:t>Common Effective Preferential Tariff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5200" y="2209680"/>
            <a:ext cx="85104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ข้อตกลงว่าด้วยอัตราภาษีศุลกากรพิเศษ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ที่เท่ากันภายใต้เขตการค้าเสรีอาเซียน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โดยมีเป้าหมายเพื่อลดอัตราภาษีนำเข้า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ระหว่างประเทศสมาชิกอาเซียน ให้เหลือ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0-5 %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ภายในระยะเวลา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10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ปี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(2536-2546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385-66E1-43A7-8BD0-5D91A57BD2E7}" type="slidenum">
              <a:t>5</a:t>
            </a:fld>
          </a:p>
        </p:txBody>
      </p:sp>
    </p:spTree>
  </p:cSld>
  <p:transition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491480" y="507240"/>
            <a:ext cx="6580080" cy="12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ประเทศสมาชิก </a:t>
            </a: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ASEAN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1720" y="1981080"/>
            <a:ext cx="2476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อินโดนีเซี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มาเลเซี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ฟิลิปปินส์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สิงคโปร์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บรูไน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5283360" y="1981080"/>
            <a:ext cx="2476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เวียดนาม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ลาว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พม่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กัมพูช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ไท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191-91F6-4ED8-A98C-63B698FB6641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178280" y="-34200"/>
            <a:ext cx="8277480" cy="26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GSTP</a:t>
            </a:r>
            <a:br>
              <a:rPr sz="8800"/>
            </a:br>
            <a:r>
              <a:rPr b="1" lang="en-US" sz="5400" spc="-1" strike="noStrike">
                <a:solidFill>
                  <a:srgbClr val="99b1ff"/>
                </a:solidFill>
                <a:latin typeface="IrisUPC"/>
              </a:rPr>
              <a:t>The Global System of Trade Preferences Among Developing Countrie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71560" y="2666520"/>
            <a:ext cx="8618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ระบบสิทธิพิเศษทางการค้าระหว่างประเทศ</a:t>
            </a:r>
            <a:br>
              <a:rPr sz="4800"/>
            </a:b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ที่กำลังพัฒนา ที่ตกลงจะลดหย่อนภาษีแก่สินค้า</a:t>
            </a:r>
            <a:br>
              <a:rPr sz="4800"/>
            </a:b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บางรายการระหว่างกั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43C-680D-4018-B028-5F66FE87841D}" type="slidenum">
              <a:t>7</a:t>
            </a:fld>
          </a:p>
        </p:txBody>
      </p:sp>
    </p:spTree>
  </p:cSld>
  <p:transition>
    <p:pull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20800" y="270000"/>
            <a:ext cx="5740920" cy="105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ประเทศสมาชิก </a:t>
            </a:r>
            <a:r>
              <a:rPr b="1" lang="en-US" sz="6600" spc="-1" strike="noStrike">
                <a:solidFill>
                  <a:srgbClr val="ff7c80"/>
                </a:solidFill>
                <a:latin typeface="IrisUPC"/>
              </a:rPr>
              <a:t>GSTP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05240" y="447840"/>
            <a:ext cx="2889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7c80"/>
                </a:solidFill>
                <a:latin typeface="IrisUPC"/>
              </a:rPr>
              <a:t>(48 </a:t>
            </a:r>
            <a:r>
              <a:rPr b="1" lang="hi-IN" sz="4600" spc="-1" strike="noStrike">
                <a:solidFill>
                  <a:srgbClr val="ff7c80"/>
                </a:solidFill>
                <a:latin typeface="IrisUPC"/>
              </a:rPr>
              <a:t>ประเทศ</a:t>
            </a:r>
            <a:r>
              <a:rPr b="1" lang="en-US" sz="4600" spc="-1" strike="noStrike">
                <a:solidFill>
                  <a:srgbClr val="ff7c80"/>
                </a:solidFill>
                <a:latin typeface="IrisUPC"/>
              </a:rPr>
              <a:t>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7920" y="1204920"/>
            <a:ext cx="165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อลจีเร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บังคลาเทศ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บลีเว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คา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มรู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คิวบ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อกวาดอ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ย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า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นโดนี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ิ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รั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มาเล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มซัมบิ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ไนจีเร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204920"/>
            <a:ext cx="165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าร์เจนติ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บนิ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บราซิล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ชิลี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Arial"/>
                <a:cs typeface="IrisUPC"/>
              </a:rPr>
              <a:t>เกาหลีใต้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กาหลีเหนือ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ียิปต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ินี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นเด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หร่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ลิเบ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ม็กซิ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นิการากัว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5200560" y="1204920"/>
            <a:ext cx="1816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Arial"/>
                <a:cs typeface="IrisUPC"/>
              </a:rPr>
              <a:t>ปากีสถ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ปรู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สิงคโป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ซูด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ทนซาเน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ยูโกสลาเว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ังโกล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ไฮ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ิ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ตา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วเนซูเอล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ฟิลิปปินส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รมาเน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ศรีลังก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7184880" y="1484280"/>
            <a:ext cx="20574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รินิแดด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   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  <a:ea typeface="IrisUPC"/>
              </a:rPr>
              <a:t> 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ละโตเบ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ไท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ูนี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วียดนาม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ซิมบับเว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คลัมเบ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มร๊อก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ุรุกวั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ซาอี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BE6-66D4-4BCE-92E6-F14773D0EC9B}" type="slidenum">
              <a:t>8</a:t>
            </a:fld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54560" y="525960"/>
            <a:ext cx="29970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900" spc="-1" strike="noStrike">
                <a:solidFill>
                  <a:srgbClr val="ffcc66"/>
                </a:solidFill>
                <a:latin typeface="IrisUPC"/>
              </a:rPr>
              <a:t>FTAs</a:t>
            </a:r>
            <a:endParaRPr b="0" lang="en-US" sz="12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27240" y="1916280"/>
            <a:ext cx="7974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ระบบสิทธิพิเศษทางภาษีศุลกากรที่ไทย</a:t>
            </a:r>
            <a:br>
              <a:rPr sz="5400"/>
            </a:b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ตกลงกับประเทศคู่ค้าที่มีศักยภาพในก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ขยายตลาดส่งออกเพื่อลดหย่อนภาษีขาเข้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ระหว่างกันสำหรับสินค้าบางรายก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EAF-ED6D-4535-845C-BA32A2A63F8A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01:47:50Z</dcterms:created>
  <dc:creator>กองสิทธิประโยชน์ทางการค้า</dc:creator>
  <dc:description/>
  <dc:language>en-US</dc:language>
  <cp:lastModifiedBy>padungsak</cp:lastModifiedBy>
  <cp:lastPrinted>2004-06-08T04:42:39Z</cp:lastPrinted>
  <dcterms:modified xsi:type="dcterms:W3CDTF">2005-06-03T18:57:55Z</dcterms:modified>
  <cp:revision>94</cp:revision>
  <dc:subject/>
  <dc:title>ROO3</dc:title>
</cp:coreProperties>
</file>