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6.gif" ContentType="image/gif"/>
  <Override PartName="/ppt/media/image8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BB7-2CE0-44DB-A5BC-8CABA8EA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A2A-72BD-4461-BC95-F8921256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7F0-4848-4D97-B27F-AC0ECD19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81D-10ED-4159-9841-657846E1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8C62-6E96-40CE-B6D6-FCD6B968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312B-3144-4120-AD0E-69524616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B829-CE88-4620-A806-0F12E0AA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681C-D7A9-4B9C-B246-3FAC6254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2187-027D-474A-B17E-0DCD0C3E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4DEE-7436-48CA-8626-6A9A2C8C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0179-095C-4786-8DC3-660695DC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EBB-A224-443B-8254-7EB963A6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E5BB-EF07-42C1-8667-6D073D2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29C3-905D-49B1-847A-7E731D7E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7B3A-B1DB-46D9-AD77-449DC5B0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72B5-827A-4566-8D22-A3A8FC12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E050-7163-4A4C-9F61-B511A30C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9B6-4EB2-46D8-8A4F-2CD8A50A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A8E-3AF5-48D4-9A7F-CA30A569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17E-A215-485B-BC63-E79865E2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03D-1DF9-4B31-862E-F2025EA9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6CD-CAFE-49AB-AD71-07E3C806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6CB-8216-4C10-B184-661E7E05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274-EA3D-4E09-9F2E-1FE290F1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D962-4A8D-40EE-9CC2-57B94716886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873080"/>
            <a:ext cx="84200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96DE-5A7F-4018-8C6C-C34AEEFD714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24000" y="333360"/>
            <a:ext cx="7616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ffcc66"/>
                </a:solidFill>
                <a:latin typeface="IrisUPC"/>
                <a:cs typeface="IrisUPC"/>
              </a:rPr>
              <a:t>การตรวจคุณสมบัติทางด้าน</a:t>
            </a:r>
            <a:br>
              <a:rPr sz="7200"/>
            </a:br>
            <a:r>
              <a:rPr b="1" i="1" lang="hi-IN" sz="7200" spc="-1" strike="noStrike">
                <a:solidFill>
                  <a:srgbClr val="ffcc66"/>
                </a:solidFill>
                <a:latin typeface="IrisUPC"/>
                <a:cs typeface="IrisUPC"/>
              </a:rPr>
              <a:t>แหล่งกำเนิดของสินค้า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6160" y="3789360"/>
            <a:ext cx="313704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44880" y="3716280"/>
            <a:ext cx="548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โดย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นางพัชรี  ปิยะคง 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สำนักป้องกันการแอบอ้างสิทธิ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      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กรมการค้าต่าง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A239-2AF1-4D4C-A688-1F3DAC4CB3D5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flipV="1">
            <a:off x="2066760" y="3132000"/>
            <a:ext cx="1325880" cy="441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48520" y="3429000"/>
            <a:ext cx="217440" cy="1584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513480" y="2778120"/>
            <a:ext cx="1247760" cy="1461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079800" y="2924280"/>
            <a:ext cx="1249200" cy="4255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911240" y="2204640"/>
            <a:ext cx="1092240" cy="1429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457960" y="2706840"/>
            <a:ext cx="1366560" cy="142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20880" y="2997360"/>
            <a:ext cx="1326960" cy="116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16880" y="4869000"/>
            <a:ext cx="1146240" cy="107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36520" y="4869000"/>
            <a:ext cx="1001880" cy="129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248520" y="4797360"/>
            <a:ext cx="115416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65240" y="1628640"/>
            <a:ext cx="103176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873600" y="1916280"/>
          <a:ext cx="2419200" cy="161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73600" y="1916280"/>
                    <a:ext cx="2419200" cy="16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400880" y="2349360"/>
            <a:ext cx="1976400" cy="1121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12880" y="2492280"/>
            <a:ext cx="1403640" cy="216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612880" y="2347560"/>
            <a:ext cx="390600" cy="144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079440" y="3132000"/>
            <a:ext cx="312840" cy="216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2144880" y="5300640"/>
            <a:ext cx="403200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513120" y="2706840"/>
            <a:ext cx="312840" cy="2156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60520" y="162000"/>
            <a:ext cx="5257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66"/>
                </a:solidFill>
                <a:latin typeface="Arial"/>
              </a:rPr>
              <a:t>ลักษณะการให้บริการ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84520" y="1052640"/>
            <a:ext cx="452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1.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ส่งข้อมูลต้นทุนสินค้าด้วย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XML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</a:t>
            </a:r>
            <a:br>
              <a:rPr sz="3200"/>
            </a:b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 (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ส่งและรับข้อมูล ผ่าน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Web Service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2289240" y="3429000"/>
            <a:ext cx="52434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2.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ส่งข้อมูลต้นทุนสินค้าผ่านระบบ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Internet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   </a:t>
            </a:r>
            <a:r>
              <a:rPr b="1" i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(upload BOM </a:t>
            </a:r>
            <a:r>
              <a:rPr b="1" i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จาก </a:t>
            </a:r>
            <a:r>
              <a:rPr b="1" i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excel file </a:t>
            </a:r>
            <a:r>
              <a:rPr b="1" i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ได้</a:t>
            </a:r>
            <a:r>
              <a:rPr b="1" i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2144880" y="5300640"/>
            <a:ext cx="53146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3.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ยื่นข้อมูลต้นทุนสินค้าแบบเดิม ที่</a:t>
            </a:r>
            <a:br>
              <a:rPr sz="3200"/>
            </a:b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   กรมการค้าต่างประเทศ หรือ สคต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.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ทุกแห่ง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1D7-7262-4C76-9225-80B83CDC92DD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31800" y="1052640"/>
            <a:ext cx="3879720" cy="141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10199"/>
                </a:solidFill>
                <a:latin typeface="IrisUPC"/>
                <a:cs typeface="IrisUPC"/>
              </a:rPr>
              <a:t>ลงทะเบียนขอรับ</a:t>
            </a:r>
            <a:br>
              <a:rPr sz="3600"/>
            </a:b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Username </a:t>
            </a:r>
            <a:r>
              <a:rPr b="1" lang="th-TH" sz="3600" spc="-1" strike="noStrike">
                <a:solidFill>
                  <a:srgbClr val="010199"/>
                </a:solidFill>
                <a:latin typeface="IrisUPC"/>
                <a:ea typeface="IrisUPC"/>
              </a:rPr>
              <a:t>/ </a:t>
            </a: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Password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847800" y="11592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cc66"/>
                </a:solidFill>
                <a:latin typeface="IrisUPC"/>
                <a:cs typeface="IrisUPC"/>
              </a:rPr>
              <a:t>ขั้นตอนการยื่นคำขอฯ ทาง </a:t>
            </a:r>
            <a:r>
              <a:rPr b="1" lang="en-US" sz="5400" spc="-1" strike="noStrike">
                <a:solidFill>
                  <a:srgbClr val="ffcc66"/>
                </a:solidFill>
                <a:latin typeface="IrisUPC"/>
                <a:ea typeface="IrisUPC"/>
              </a:rPr>
              <a:t>Internet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631800" y="2514600"/>
            <a:ext cx="3879720" cy="56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Login</a:t>
            </a:r>
            <a:r>
              <a:rPr b="1" lang="th-TH" sz="3600" spc="-1" strike="noStrike">
                <a:solidFill>
                  <a:srgbClr val="010199"/>
                </a:solidFill>
                <a:latin typeface="IrisUPC"/>
                <a:ea typeface="IrisUPC"/>
              </a:rPr>
              <a:t> </a:t>
            </a:r>
            <a:r>
              <a:rPr b="1" lang="th-TH" sz="3600" spc="-1" strike="noStrike">
                <a:solidFill>
                  <a:srgbClr val="010199"/>
                </a:solidFill>
                <a:latin typeface="IrisUPC"/>
                <a:cs typeface="IrisUPC"/>
              </a:rPr>
              <a:t>เข้าใช้ระบบฯ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4" name=""/>
          <p:cNvSpPr/>
          <p:nvPr/>
        </p:nvSpPr>
        <p:spPr>
          <a:xfrm>
            <a:off x="638280" y="3575160"/>
            <a:ext cx="3879720" cy="102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บันทึกคำขอและส่งข้อมูล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>
            <a:off x="2278080" y="3225960"/>
            <a:ext cx="517680" cy="29340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2171880"/>
            <a:ext cx="517320" cy="29340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638280" y="4637160"/>
            <a:ext cx="3879720" cy="102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พิมพ์คำขอจากระบ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4919760" y="5479560"/>
            <a:ext cx="431640" cy="939960"/>
          </a:xfrm>
          <a:prstGeom prst="downArrow">
            <a:avLst>
              <a:gd name="adj1" fmla="val 38972"/>
              <a:gd name="adj2" fmla="val 60702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9" name=""/>
          <p:cNvSpPr/>
          <p:nvPr/>
        </p:nvSpPr>
        <p:spPr>
          <a:xfrm>
            <a:off x="2271600" y="4276800"/>
            <a:ext cx="517680" cy="29376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>
            <a:off x="631800" y="5648400"/>
            <a:ext cx="3889440" cy="102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ยื่นคำขอให้เจ้าหน้าที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5157720"/>
            <a:ext cx="3240000" cy="14925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เจ้าหน้าที่บันทึกยืนยันและส่งข้อมูลให้ บก</a:t>
            </a: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2" name=""/>
          <p:cNvSpPr/>
          <p:nvPr/>
        </p:nvSpPr>
        <p:spPr>
          <a:xfrm>
            <a:off x="5762520" y="3666960"/>
            <a:ext cx="3240360" cy="14925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เจ้าหน้าที่พิมพ์</a:t>
            </a:r>
            <a:br>
              <a:rPr sz="3600"/>
            </a:b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คำรับรองจากระบ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3" name=""/>
          <p:cNvSpPr/>
          <p:nvPr/>
        </p:nvSpPr>
        <p:spPr>
          <a:xfrm>
            <a:off x="2266920" y="5284800"/>
            <a:ext cx="517680" cy="29376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7113600" y="4779720"/>
            <a:ext cx="517680" cy="29340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7113600" y="3306600"/>
            <a:ext cx="517680" cy="29376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5772240" y="2182680"/>
            <a:ext cx="3240000" cy="149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10199"/>
                </a:solidFill>
                <a:latin typeface="IrisUPC"/>
                <a:cs typeface="IrisUPC"/>
              </a:rPr>
              <a:t>ผู้ส่งออกขอ </a:t>
            </a: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Form</a:t>
            </a:r>
            <a:br>
              <a:rPr sz="3600"/>
            </a:br>
            <a:r>
              <a:rPr b="1" lang="th-TH" sz="3600" spc="-1" strike="noStrike">
                <a:solidFill>
                  <a:srgbClr val="010199"/>
                </a:solidFill>
                <a:latin typeface="IrisUPC"/>
                <a:cs typeface="IrisUPC"/>
              </a:rPr>
              <a:t>ที่ บก</a:t>
            </a:r>
            <a:r>
              <a:rPr b="1" lang="th-TH" sz="3600" spc="-1" strike="noStrike">
                <a:solidFill>
                  <a:srgbClr val="010199"/>
                </a:solidFill>
                <a:latin typeface="IrisUPC"/>
                <a:ea typeface="IrisUP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D47-25A2-425E-9B7F-0831E878622A}" type="slidenum">
              <a:t>11</a:t>
            </a:fld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15800" y="404640"/>
            <a:ext cx="94903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cc66"/>
                </a:solidFill>
                <a:latin typeface="IrisUPC"/>
                <a:cs typeface="IrisUPC"/>
              </a:rPr>
              <a:t>รายละเอียดข้อมูลคำขอที่ส่งทาง </a:t>
            </a:r>
            <a:r>
              <a:rPr b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Internet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8" name=""/>
          <p:cNvSpPr/>
          <p:nvPr/>
        </p:nvSpPr>
        <p:spPr>
          <a:xfrm>
            <a:off x="2073240" y="1341360"/>
            <a:ext cx="727236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รายการสินค้าที่จะขอใช้สิทธิฯ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ขั้นตอนการผลิต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วัตถุดิบหรือวัสดุหรือชิ้นส่วน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   ที่ใช้ในการผลิตสินค้า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1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หน่ว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รายละเอียดต้นทุนการผลิตอื่น ๆ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ราคาสินค้า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(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คำนวณโดย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ROVERS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60D-B336-4800-89DB-DD47207A593B}" type="slidenum">
              <a:t>12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944880" y="2376360"/>
          <a:ext cx="1603440" cy="34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4880" y="2376360"/>
                    <a:ext cx="160344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160880" y="1944720"/>
          <a:ext cx="1319040" cy="40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0880" y="1944720"/>
                    <a:ext cx="131904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073240" y="765000"/>
            <a:ext cx="5832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  <a:cs typeface="IrisUPC"/>
              </a:rPr>
              <a:t>เปิดให้บริการทุกระบบแล้ว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A66-5E5C-4AEB-B7BA-A311B0B739A8}" type="slidenum">
              <a:t>13</a:t>
            </a:fld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81240" y="1197000"/>
            <a:ext cx="76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800" spc="-1" strike="noStrike">
                <a:solidFill>
                  <a:srgbClr val="ffcc66"/>
                </a:solidFill>
                <a:latin typeface="IrisUPC"/>
                <a:cs typeface="IrisUPC"/>
              </a:rPr>
              <a:t>สาธิตการใช้ระบบ</a:t>
            </a:r>
            <a:endParaRPr b="0" lang="en-US" sz="88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IrisUPC"/>
                <a:ea typeface="IrisUPC"/>
              </a:rPr>
              <a:t>ROVERS</a:t>
            </a:r>
            <a:endParaRPr b="0" lang="en-US" sz="8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1E4-E9B4-4589-A9DB-1226A1C692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04880" y="13500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400880" y="3645000"/>
            <a:ext cx="1540080" cy="1049400"/>
          </a:xfrm>
          <a:prstGeom prst="ellipse">
            <a:avLst/>
          </a:prstGeom>
          <a:noFill/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2187720" y="1816200"/>
            <a:ext cx="48243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199"/>
                </a:solidFill>
                <a:latin typeface="IrisUPC"/>
                <a:ea typeface="IrisUPC"/>
              </a:rPr>
              <a:t>www.dft.moc.go.th</a:t>
            </a:r>
            <a:endParaRPr b="0" lang="en-US" sz="6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A82-3B5D-4E32-9FDE-4925F7E9DE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49240" y="243000"/>
            <a:ext cx="8282160" cy="62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81B-81A9-4BF6-BC09-C85C606E8A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1640" y="189000"/>
            <a:ext cx="8499600" cy="637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ECB-FE79-44C1-972C-7C1B0C5C35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31800" y="103320"/>
            <a:ext cx="8569440" cy="642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CB8-5CC8-4B1C-B5DD-60BB126D15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44520" y="57240"/>
            <a:ext cx="8854920" cy="664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7DC-8F49-4B0B-B36B-6BDE2FB41D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76360" y="476280"/>
            <a:ext cx="3728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 u="sng">
                <a:solidFill>
                  <a:srgbClr val="ffcc66"/>
                </a:solidFill>
                <a:uFillTx/>
                <a:latin typeface="IrisUPC"/>
                <a:cs typeface="IrisUPC"/>
              </a:rPr>
              <a:t>วัตถุประสงค์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1208160" y="1413000"/>
            <a:ext cx="8280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ffffe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ef"/>
                </a:solidFill>
                <a:latin typeface="IrisUPC"/>
                <a:ea typeface="IrisUPC"/>
              </a:rPr>
              <a:t> </a:t>
            </a:r>
            <a:r>
              <a:rPr b="1" i="1" lang="th-TH" sz="4800" spc="-1" strike="noStrike" u="sng">
                <a:solidFill>
                  <a:srgbClr val="ffffef"/>
                </a:solidFill>
                <a:uFillTx/>
                <a:latin typeface="IrisUPC"/>
                <a:cs typeface="IrisUPC"/>
              </a:rPr>
              <a:t>ตรวจ</a:t>
            </a:r>
            <a:r>
              <a:rPr b="1" lang="th-TH" sz="4800" spc="-1" strike="noStrike">
                <a:solidFill>
                  <a:srgbClr val="ffffef"/>
                </a:solidFill>
                <a:latin typeface="IrisUPC"/>
                <a:cs typeface="IrisUPC"/>
              </a:rPr>
              <a:t>ว่าสินค้ามีคุณสมบัติถูกต้องตาม</a:t>
            </a:r>
            <a:br>
              <a:rPr sz="4800"/>
            </a:br>
            <a:r>
              <a:rPr b="1" lang="th-TH" sz="4800" spc="-1" strike="noStrike">
                <a:solidFill>
                  <a:srgbClr val="ffffef"/>
                </a:solidFill>
                <a:latin typeface="IrisUPC"/>
                <a:ea typeface="IrisUPC"/>
              </a:rPr>
              <a:t>     กฎว่าด้วยแหล่งกำเนิดสินค้า หรือไม่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ef"/>
                </a:solidFill>
                <a:latin typeface="IrisUPC"/>
                <a:ea typeface="IrisUPC"/>
              </a:rPr>
              <a:t>          </a:t>
            </a:r>
            <a:r>
              <a:rPr b="1" i="1" lang="th-TH" sz="6000" spc="-1" strike="noStrike" u="sng">
                <a:solidFill>
                  <a:srgbClr val="ccffff"/>
                </a:solidFill>
                <a:uFillTx/>
                <a:latin typeface="IrisUPC"/>
                <a:cs typeface="IrisUPC"/>
              </a:rPr>
              <a:t>ก่อน</a:t>
            </a:r>
            <a:r>
              <a:rPr b="1" i="1" lang="th-TH" sz="6000" spc="-1" strike="noStrike">
                <a:solidFill>
                  <a:srgbClr val="cc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ef"/>
                </a:solidFill>
                <a:latin typeface="IrisUPC"/>
                <a:cs typeface="IrisUPC"/>
              </a:rPr>
              <a:t>ขอรับ </a:t>
            </a:r>
            <a:r>
              <a:rPr b="1" lang="en-US" sz="4800" spc="-1" strike="noStrike">
                <a:solidFill>
                  <a:srgbClr val="ffffef"/>
                </a:solidFill>
                <a:latin typeface="IrisUPC"/>
                <a:ea typeface="IrisUPC"/>
              </a:rPr>
              <a:t>FORM A, FORM D, </a:t>
            </a:r>
            <a:br>
              <a:rPr sz="4800"/>
            </a:br>
            <a:r>
              <a:rPr b="1" lang="en-US" sz="4800" spc="-1" strike="noStrike">
                <a:solidFill>
                  <a:srgbClr val="ffffef"/>
                </a:solidFill>
                <a:latin typeface="IrisUPC"/>
                <a:ea typeface="IrisUPC"/>
              </a:rPr>
              <a:t>          FORM GSTP, FORM FTA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e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ef"/>
                </a:solidFill>
                <a:latin typeface="IrisUPC"/>
                <a:ea typeface="IrisUPC"/>
              </a:rPr>
              <a:t> </a:t>
            </a:r>
            <a:r>
              <a:rPr b="1" i="1" lang="th-TH" sz="4800" spc="-1" strike="noStrike" u="sng">
                <a:solidFill>
                  <a:srgbClr val="ffffef"/>
                </a:solidFill>
                <a:uFillTx/>
                <a:latin typeface="IrisUPC"/>
                <a:cs typeface="IrisUPC"/>
              </a:rPr>
              <a:t>รับรอง</a:t>
            </a:r>
            <a:r>
              <a:rPr b="1" i="1" lang="th-TH" sz="4800" spc="-1" strike="noStrike">
                <a:solidFill>
                  <a:srgbClr val="ffffe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ef"/>
                </a:solidFill>
                <a:latin typeface="IrisUPC"/>
                <a:cs typeface="IrisUPC"/>
              </a:rPr>
              <a:t>ว่ามีสิทธิขอรับ </a:t>
            </a:r>
            <a:r>
              <a:rPr b="1" lang="en-US" sz="4800" spc="-1" strike="noStrike">
                <a:solidFill>
                  <a:srgbClr val="ffffef"/>
                </a:solidFill>
                <a:latin typeface="IrisUPC"/>
                <a:ea typeface="IrisUPC"/>
              </a:rPr>
              <a:t>Form </a:t>
            </a:r>
            <a:r>
              <a:rPr b="1" lang="th-TH" sz="4800" spc="-1" strike="noStrike">
                <a:solidFill>
                  <a:srgbClr val="ffffef"/>
                </a:solidFill>
                <a:latin typeface="IrisUPC"/>
                <a:cs typeface="IrisUPC"/>
              </a:rPr>
              <a:t>ได้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C12D-4D43-46B4-9DB0-02F43BCA34DC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60520" y="44280"/>
            <a:ext cx="8640720" cy="648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0DA-FA75-463E-851D-DFBAC472A1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04880" y="106200"/>
            <a:ext cx="8366040" cy="627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964-C5F4-47C0-B0E2-D5AA884ACE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90480" y="52560"/>
            <a:ext cx="8439120" cy="632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38C-E2B1-49E1-8382-F9F465D320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9200" y="141120"/>
            <a:ext cx="8510400" cy="638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BE3-C0AA-4D7F-91FC-910460AE6A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1800" y="123840"/>
            <a:ext cx="8439120" cy="632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3C4-778F-46CE-8B15-2358E2862D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90480" y="115920"/>
            <a:ext cx="8439120" cy="632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CCF-9868-4B03-9DCF-8ADAA61412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15800" y="0"/>
            <a:ext cx="8769600" cy="652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56E-A30D-494C-9C2C-324662B211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0520" y="115920"/>
            <a:ext cx="8582040" cy="643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4DF-2F33-4E0C-BDAF-6E45AE9CBF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4880" y="150840"/>
            <a:ext cx="8405640" cy="63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969-19E8-480A-9620-9137707ABC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036880" y="333360"/>
            <a:ext cx="583236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cc66"/>
                </a:solidFill>
                <a:latin typeface="IrisUPC"/>
                <a:cs typeface="IrisUPC"/>
              </a:rPr>
              <a:t>ข้อมูลสำคัญ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596880" y="1593720"/>
            <a:ext cx="8712360" cy="76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IrisUPC"/>
                <a:cs typeface="IrisUPC"/>
              </a:rPr>
              <a:t>สำนักป้องกันการแอบอ้างสิทธิ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IrisUPC"/>
                <a:ea typeface="IrisUPC"/>
              </a:rPr>
              <a:t>0-2547-4809, 0-2547-5090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IrisUPC"/>
                <a:ea typeface="IrisUPC"/>
              </a:rPr>
              <a:t>Hot line </a:t>
            </a:r>
            <a:r>
              <a:rPr b="1" lang="th-TH" sz="6000" spc="-1" strike="noStrike">
                <a:solidFill>
                  <a:srgbClr val="ccffff"/>
                </a:solidFill>
                <a:latin typeface="IrisUPC"/>
                <a:cs typeface="IrisUPC"/>
              </a:rPr>
              <a:t>กรมการค้าต่างประเทศ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ccffff"/>
                </a:solidFill>
                <a:latin typeface="IrisUPC"/>
                <a:ea typeface="IrisUPC"/>
              </a:rPr>
              <a:t>1385 </a:t>
            </a:r>
            <a:r>
              <a:rPr b="1" lang="th-TH" sz="6000" spc="-1" strike="noStrike">
                <a:solidFill>
                  <a:srgbClr val="ccffff"/>
                </a:solidFill>
                <a:latin typeface="IrisUPC"/>
                <a:cs typeface="IrisUPC"/>
              </a:rPr>
              <a:t>ต่อ </a:t>
            </a:r>
            <a:r>
              <a:rPr b="1" lang="th-TH" sz="6000" spc="-1" strike="noStrike">
                <a:solidFill>
                  <a:srgbClr val="ccffff"/>
                </a:solidFill>
                <a:latin typeface="IrisUPC"/>
                <a:ea typeface="IrisUPC"/>
              </a:rPr>
              <a:t>4808, 4809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IrisUPC"/>
                <a:ea typeface="IrisUPC"/>
              </a:rPr>
              <a:t>E-mail : rovers@moc.go.th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C7E-633E-45C5-9DF9-EC0F2717FA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15800" y="33336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66"/>
                </a:solidFill>
                <a:latin typeface="IrisUPC"/>
                <a:cs typeface="IrisUPC"/>
              </a:rPr>
              <a:t>การยื่นคำขอให้ตรวจคุณสมบัติทางด้าน</a:t>
            </a:r>
            <a:br>
              <a:rPr sz="5400"/>
            </a:br>
            <a:r>
              <a:rPr b="1" lang="hi-IN" sz="5400" spc="-1" strike="noStrike">
                <a:solidFill>
                  <a:srgbClr val="ffcc66"/>
                </a:solidFill>
                <a:latin typeface="IrisUPC"/>
                <a:cs typeface="IrisUPC"/>
              </a:rPr>
              <a:t>แหล่งกำเนิดของสินค้า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776160" y="2035080"/>
            <a:ext cx="4824720" cy="305532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IrisUPC"/>
                <a:ea typeface="IrisUPC"/>
              </a:rPr>
              <a:t>GSP, CEPT, GSTP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: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ยื่นแบบ สก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. 1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หรือ สก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. 2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4016520" y="3917880"/>
            <a:ext cx="5257800" cy="289008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IrisUPC"/>
                <a:ea typeface="IrisUPC"/>
              </a:rPr>
              <a:t>FTA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: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ยื่นแบบคำขอฯ และ 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คำรับรองการผลิตสินค้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590-B35A-4A2D-BCE2-E52A76385E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2160" y="1628640"/>
            <a:ext cx="864072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1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จดหมายขอให้ตรวจสอบรายละเอียดขั้นตอนการผลิตฯ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2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หนังสือรับรองการจดทะเบียนเป็นนิติบุคคล 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3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ทะเบียนภาษีมูลค่าเพิ่ม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ภ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พ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20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4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อนุญาตประกอบกิจการโรงงา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5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แบบ สก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. 1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หรือ สก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. 2 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6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หลักฐานการนำเข้าวัตถุดิบหรือซื้อวัตถุดิบจากผู้นำเข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7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หลักฐานการซื้อวัตถุดิบที่ผลิตใน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8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อื่น ๆ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247680" y="189000"/>
            <a:ext cx="83376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 u="sng">
                <a:solidFill>
                  <a:srgbClr val="ffcc66"/>
                </a:solidFill>
                <a:uFillTx/>
                <a:latin typeface="IrisUPC"/>
              </a:rPr>
              <a:t>เอกสารประกอบ</a:t>
            </a:r>
            <a:br>
              <a:rPr sz="4800"/>
            </a:br>
            <a:r>
              <a:rPr b="1" i="1" lang="th-TH" sz="4800" spc="-1" strike="noStrike" u="sng">
                <a:solidFill>
                  <a:srgbClr val="ffcc66"/>
                </a:solidFill>
                <a:uFillTx/>
                <a:latin typeface="IrisUPC"/>
                <a:cs typeface="IrisUPC"/>
              </a:rPr>
              <a:t>กรณีขอใช้สิทธิ</a:t>
            </a:r>
            <a:r>
              <a:rPr b="1" i="1" lang="en-US" sz="48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 </a:t>
            </a:r>
            <a:r>
              <a:rPr b="1" i="1" lang="en-US" sz="48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GSP, CEPT, GSTP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C69-857E-44A7-AA32-E9EA88E351DF}" type="slidenum">
              <a:t>4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52520" y="1916280"/>
            <a:ext cx="77770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1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แบบคำขอให้ตรวจ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/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รับรอง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แหล่งกำเนิด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2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คำรับรองและรายละเอียดต้นทุนการผลิต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3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หนังสือรับรองการจดทะเบียนเป็นนิติบุคคล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4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ทะเบียนภาษีมูลค่าเพิ่ม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ภ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พ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20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5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อนุญาตประกอบกิจการโรงงา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6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บัตรประจำตัวผู้ลงนามและผู้ยื่นเอกสาร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333360"/>
            <a:ext cx="39592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 u="sng">
                <a:solidFill>
                  <a:srgbClr val="ffcc66"/>
                </a:solidFill>
                <a:uFillTx/>
                <a:latin typeface="IrisUPC"/>
              </a:rPr>
              <a:t>เอกสารประกอบ</a:t>
            </a:r>
            <a:br>
              <a:rPr sz="4800"/>
            </a:br>
            <a:r>
              <a:rPr b="1" i="1" lang="th-TH" sz="4800" spc="-1" strike="noStrike" u="sng">
                <a:solidFill>
                  <a:srgbClr val="ffcc66"/>
                </a:solidFill>
                <a:uFillTx/>
                <a:latin typeface="IrisUPC"/>
                <a:cs typeface="IrisUPC"/>
              </a:rPr>
              <a:t>กรณีขอใช้สิทธิ</a:t>
            </a:r>
            <a:r>
              <a:rPr b="1" i="1" lang="en-US" sz="48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 </a:t>
            </a:r>
            <a:r>
              <a:rPr b="1" i="1" lang="en-US" sz="48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FTA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74F-F1FC-4886-BD21-D084CC8B7BE6}" type="slidenum">
              <a:t>5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44520" y="76500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66"/>
                </a:solidFill>
                <a:latin typeface="IrisUPC"/>
                <a:cs typeface="IrisUPC"/>
              </a:rPr>
              <a:t>ระยะเวลาในการพิจารณาฯ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1065240" y="2133720"/>
            <a:ext cx="813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cs typeface="IrisUPC"/>
              </a:rPr>
              <a:t>กรณีขอใช้สิทธิ </a:t>
            </a: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GSP, CEPT, GSTP </a:t>
            </a:r>
            <a:br>
              <a:rPr sz="4400"/>
            </a:br>
            <a:r>
              <a:rPr b="1" lang="th-TH" sz="44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cs typeface="IrisUPC"/>
              </a:rPr>
              <a:t>ประมาณ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ea typeface="IrisUPC"/>
              </a:rPr>
              <a:t>3-5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cs typeface="IrisUPC"/>
              </a:rPr>
              <a:t>วันทำการ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cs typeface="IrisUPC"/>
              </a:rPr>
              <a:t>กรณีขอใช้สิทธิ </a:t>
            </a: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FTA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cs typeface="IrisUPC"/>
              </a:rPr>
              <a:t>ประมาณ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ea typeface="IrisUPC"/>
              </a:rPr>
              <a:t>1-2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cs typeface="IrisUPC"/>
              </a:rPr>
              <a:t>วันทำการ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E86-D039-4EE9-82F8-BC85985076A1}" type="slidenum">
              <a:t>6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47800" y="54936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66"/>
                </a:solidFill>
                <a:latin typeface="IrisUPC"/>
                <a:cs typeface="IrisUPC"/>
              </a:rPr>
              <a:t>การยื่นคำขอให้ตรวจและรับรองคุณสมบัติทางด้านแหล่งกำเนิดของสินค้า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704880" y="2708280"/>
            <a:ext cx="9001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Iris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ยื่นแบบคำขอฯ พร้อมเอกสารประกอบ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Iris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ยื่นข้อมูลคำขอทาง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Internet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ผ่านระบบ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ROVERS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617-18CB-434C-8368-04ADBFAB8F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0160" y="2781360"/>
            <a:ext cx="936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cc"/>
                </a:solidFill>
                <a:latin typeface="IrisUPC"/>
                <a:cs typeface="IrisUPC"/>
              </a:rPr>
              <a:t>ระบบบริการตรวจคุณสมบัติทางด้าน</a:t>
            </a:r>
            <a:br>
              <a:rPr sz="6600"/>
            </a:br>
            <a:r>
              <a:rPr b="1" lang="th-TH" sz="6600" spc="-1" strike="noStrike">
                <a:solidFill>
                  <a:srgbClr val="ffffcc"/>
                </a:solidFill>
                <a:latin typeface="IrisUPC"/>
                <a:cs typeface="IrisUPC"/>
              </a:rPr>
              <a:t>แหล่งกำเนิดสินค้า</a:t>
            </a:r>
            <a:br>
              <a:rPr sz="6600"/>
            </a:br>
            <a:r>
              <a:rPr b="1" lang="th-TH" sz="6600" spc="-1" strike="noStrike">
                <a:solidFill>
                  <a:srgbClr val="ffffcc"/>
                </a:solidFill>
                <a:latin typeface="IrisUPC"/>
                <a:cs typeface="IrisUPC"/>
              </a:rPr>
              <a:t>ผ่านเครือข่าย </a:t>
            </a:r>
            <a:r>
              <a:rPr b="1" lang="en-US" sz="6600" spc="-1" strike="noStrike">
                <a:solidFill>
                  <a:srgbClr val="ffffcc"/>
                </a:solidFill>
                <a:latin typeface="IrisUPC"/>
                <a:ea typeface="IrisUPC"/>
              </a:rPr>
              <a:t>Internet</a:t>
            </a:r>
            <a:endParaRPr b="0" lang="en-US" sz="6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272880" y="549360"/>
            <a:ext cx="9361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ffcc66"/>
                </a:solidFill>
                <a:latin typeface="IrisUPC"/>
                <a:cs typeface="IrisUPC"/>
              </a:rPr>
              <a:t>ระบบ </a:t>
            </a:r>
            <a:r>
              <a:rPr b="1" lang="en-US" sz="8000" spc="-1" strike="noStrike">
                <a:solidFill>
                  <a:srgbClr val="ffcc66"/>
                </a:solidFill>
                <a:latin typeface="IrisUPC"/>
                <a:ea typeface="IrisUPC"/>
              </a:rPr>
              <a:t>ROVERS</a:t>
            </a:r>
            <a:endParaRPr b="0" lang="en-US" sz="8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(Rules of Origin Verification Systems)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98CA-4A02-4EB1-AB1D-A332C7C67504}" type="slidenum">
              <a:t>8</a:t>
            </a:fld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65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76520" y="54936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  <a:cs typeface="IrisUPC"/>
              </a:rPr>
              <a:t>เป้าหมาย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1857240" y="1628640"/>
            <a:ext cx="67690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ลดระยะเวลาในการตรวจสอบ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ลดเอกสารประกอบ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ทดลองตรวจสอบได้ด้วยตนเอง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ค้นหากฎแหล่งกำเนิดสินค้า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ตรวจสอบได้ทุกวัน ตลอด </a:t>
            </a: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24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ชั่วโมง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ฯลฯ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407-ACC8-4509-BF21-DE30872B49F9}" type="slidenum">
              <a:t>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01:47:50Z</dcterms:created>
  <dc:creator>กองสิทธิประโยชน์ทางการค้า</dc:creator>
  <dc:description/>
  <dc:language>en-US</dc:language>
  <cp:lastModifiedBy>padungsak</cp:lastModifiedBy>
  <cp:lastPrinted>2004-06-08T04:42:39Z</cp:lastPrinted>
  <dcterms:modified xsi:type="dcterms:W3CDTF">2005-06-03T19:17:14Z</dcterms:modified>
  <cp:revision>91</cp:revision>
  <dc:subject/>
  <dc:title>ROO3</dc:title>
</cp:coreProperties>
</file>