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4B32-121E-45B3-BA8D-E48E1613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06E0-F185-49F5-AAA1-71887AA8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551-F301-47D4-B405-C545B0DB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130-08CB-4207-829B-9BAE3240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0064-CA16-44A8-851A-91FA249A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E3C5-EE88-4B91-983F-DE0929596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FB67-11A1-420A-AE25-3707FA78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6612-E9C3-4FDD-BF3F-009B87A2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1E32-58A1-4325-BBF6-C6C48075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630C-33DB-4290-A6A4-BD70053F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7786-7E5C-4196-9296-3D61A64C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C9D1-CF51-4B07-9F1E-FA192FC5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C316-03B6-47AE-8E35-8C3FBCBF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E418-72CF-4C81-9FBE-26BDC133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D54-0A96-4883-8CEE-BFEB77AD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FFFC-0D63-468F-B464-EE8620E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B837-4D11-4AB5-BBA2-4BD404E3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3642-7938-49E4-A074-EEE2E555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D428-DD21-48D7-80F5-CAA07D8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0308-023E-4747-A983-BD618CD3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FDCC-FDC0-45E9-9879-784B29C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0B36-5BF8-4DA1-9DCF-655AF76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C24-63FD-4073-BF31-1595185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689-C545-46F6-8D65-CD83DF9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1292-976B-4708-BEBE-465F67B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FA0-0428-49C9-A917-D4DF23C8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F6EC-D344-4C1B-AB21-B5BFF97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CBA1-0FC8-409F-AD9C-AA832931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F944-166A-4EBA-88C6-D2D44C27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1DFC-0B49-4107-A5E7-9E29A5F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D39F-6AE1-4A00-9D1E-62EAA73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B3A6-7772-410A-8D24-CB73E05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83AF-AE52-437B-ADAD-1B37AE1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2716-3827-4125-8944-CB43F1A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A1DF-1723-42A7-87DD-7A485B0561CD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EC4-7560-4BC7-907B-A060630BCF89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758520"/>
            <a:ext cx="838224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ความคืบหน้าการทำความตกลง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เสรีของประเทศไทย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ด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นายณัฐวัชร์ จันทร์วิเมลือ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มเจรจาการค้าระหว่างประเท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วันอังคารที่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7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มิถุนย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ณ ห้องซาลอน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รงแรมสวิสโฮเต็ล เลอ คองคอร์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700" spc="-1" strike="noStrike">
                <a:solidFill>
                  <a:srgbClr val="ffff00"/>
                </a:solidFill>
                <a:latin typeface="Tahoma"/>
                <a:cs typeface="JasmineUPC"/>
              </a:rPr>
              <a:t>ขอบเขตสินค้าอาหาร</a:t>
            </a:r>
            <a:endParaRPr b="0" lang="en-US" sz="6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557676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04120"/>
            <a:ext cx="647676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สินค้าประมง สด แช่เย็น แช่แข็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าหารทะเลกระป๋องและแปรรู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ผลไม้ สด แช่เย็น แช่แข็ง แห้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ผัก สด แช่เย็น แช่แข็ง แห้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ผลไม้ กระป๋องและแปรรู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ผัก กระป๋องและแปรรู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ไก่ สด แช่เย็น และแข็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ไก่ แปรรู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าหาร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ส่งออกอาหารของไทย ปี 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ea typeface="JasmineUPC"/>
              </a:rPr>
              <a:t>2005 (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มค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ea typeface="JasmineUPC"/>
              </a:rPr>
              <a:t>-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เมย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ea typeface="JasmineUPC"/>
              </a:rPr>
              <a:t>)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426096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  <a:gridCol w="182520"/>
                <a:gridCol w="248436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ประเทศ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ูลค่า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(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ล้านบาท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)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ัดส่วน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(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%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)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วม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,0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อสเตรเลีย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15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นิวซีแลนด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จีน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9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ินเดีย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ออสเตรเล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994040"/>
          <a:ext cx="8686800" cy="4494240"/>
        </p:xfrm>
        <a:graphic>
          <a:graphicData uri="http://schemas.openxmlformats.org/drawingml/2006/table">
            <a:tbl>
              <a:tblPr/>
              <a:tblGrid>
                <a:gridCol w="2895480"/>
                <a:gridCol w="2057400"/>
                <a:gridCol w="1905120"/>
                <a:gridCol w="1828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6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ทะเลกระป๋อ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ทะเลแปรรูป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9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15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9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,5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653160" y="9435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เจรจา 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TAFTA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เป็นพื้นฐาน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คณะรัฐมนตรีให้ความเห็นชอบผลการเจรจาด้วยแล้ว รวมทั้งนายกรัฐมนตรีทั้งสองฝ่ายได้ประกาศสรุปผลการเจรจา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พฤศจิก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547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ณ กรุงเวียงจันทน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ได้ลงนามความตกลงเมื่อวัน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9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เมษาย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และมีผลบังคับใช้ในวัน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กฎาคม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สรุปสาระสำคัญ ดังนี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ในเรื่องการเปิดตลาดและการลดภาษี ทันทีที่ความตกลงมีผลบังคับใช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54%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79%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ยังมีใช้มาตรการโควตาภาษีและมาตรการปกป้องพิเศษในบางสินค้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บริการ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จะเริ่มเจรจาใน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ีหลังจากที่ความตกลงมีผลบังคับใช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cs typeface="JasmineUPC"/>
              </a:rPr>
              <a:t>นิวซีแลนด์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1994040"/>
          <a:ext cx="8458200" cy="4851360"/>
        </p:xfrm>
        <a:graphic>
          <a:graphicData uri="http://schemas.openxmlformats.org/drawingml/2006/table">
            <a:tbl>
              <a:tblPr/>
              <a:tblGrid>
                <a:gridCol w="2895840"/>
                <a:gridCol w="1904760"/>
                <a:gridCol w="2057400"/>
                <a:gridCol w="16002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6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ทะเลกระป๋อ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ทะเลแปรรูป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4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9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9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2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6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6653160" y="957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62320" y="304920"/>
            <a:ext cx="441936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อาเซียน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ea typeface="JasmineUPC"/>
              </a:rPr>
              <a:t>-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447920"/>
            <a:ext cx="89154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indent="-484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60020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bf25a"/>
                </a:solidFill>
                <a:latin typeface="Angsana New"/>
                <a:cs typeface="JasmineUPC"/>
              </a:rPr>
              <a:t>สิ่งที่ไทยคาดหวัง</a:t>
            </a:r>
            <a:r>
              <a:rPr b="0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คือ เข้าตลาดจีนและขยายการค้าและการลงทุน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้งจากจีนและจากทั่วโลก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ห้จีนใช้ไทยเป็นฐานเชื่อมโยงกับอาเซีย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/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อเชียใต้</a:t>
            </a:r>
            <a:r>
              <a:rPr b="1" lang="th-TH" sz="1800" spc="-1" strike="noStrike">
                <a:solidFill>
                  <a:srgbClr val="ffffff"/>
                </a:solidFill>
                <a:latin typeface="Arial Black"/>
                <a:ea typeface="JasmineUPC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ea typeface="JasmineUPC"/>
              </a:rPr>
              <a:t>-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จี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ลงนามใ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ความตกลงเร่ง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สินค้า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งส่วนก่อน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 Programme)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พิกัดศุลกากรตอนที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1-08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1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2004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ภาษีจะลดลงเหลือ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200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วามคืบหน้า</a:t>
            </a:r>
            <a:r>
              <a:rPr b="1" lang="en-US" sz="3400" spc="-1" strike="noStrike">
                <a:solidFill>
                  <a:srgbClr val="ebf25a"/>
                </a:solidFill>
                <a:latin typeface="Angsana New"/>
                <a:ea typeface="Jasmine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การลงนามความตกลงเปิดเสรีการค้าสินค้าและความตกลงว่าด้วยกลไกระงับข้อพิพาท 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9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ฤศจิก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ะหว่าง อาเซีย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 ทีประเทศลาว เริ่มมีผลบังคับ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เริ่มลดภาษ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กฎาคม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2120" y="1828800"/>
            <a:ext cx="800100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นำรายการสินค้า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ร่งลดภาษีบางส่วนก่อ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)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ต้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อาเซีย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มาเร่งลดภาษีเร็วขึ้น   โด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ั้นแรกนำผักและผลไม้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ิกัดศุลกากรตอ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7-08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ุกราย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116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าลดอัตราภาษีเหลือ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%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วั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ุลาคม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  <a:ea typeface="JasmineUPC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JasmineUPC"/>
              </a:rPr>
              <a:t>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  <a:ea typeface="JasmineUPC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ที่จะได้รับสิทธิด้านภาษีต้องผ่านกระบวนการผลิตในประเทศทั้งหมด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Wholly Obtain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743200" y="380880"/>
            <a:ext cx="3504960" cy="1008360"/>
            <a:chOff x="2743200" y="380880"/>
            <a:chExt cx="3504960" cy="1008360"/>
          </a:xfrm>
        </p:grpSpPr>
        <p:grpSp>
          <p:nvGrpSpPr>
            <p:cNvPr id="180" name=""/>
            <p:cNvGrpSpPr/>
            <p:nvPr/>
          </p:nvGrpSpPr>
          <p:grpSpPr>
            <a:xfrm>
              <a:off x="2743200" y="380880"/>
              <a:ext cx="3504960" cy="990360"/>
              <a:chOff x="2743200" y="380880"/>
              <a:chExt cx="3504960" cy="99036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32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"/>
            <p:cNvSpPr/>
            <p:nvPr/>
          </p:nvSpPr>
          <p:spPr>
            <a:xfrm>
              <a:off x="2848320" y="380880"/>
              <a:ext cx="329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cs typeface="JasmineUPC"/>
                </a:rPr>
                <a:t>ไทย</a:t>
              </a: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ea typeface="JasmineUPC"/>
                </a:rPr>
                <a:t>-</a:t>
              </a:r>
              <a:r>
                <a:rPr b="1" lang="th-TH" sz="6000" spc="-1" strike="noStrike">
                  <a:solidFill>
                    <a:srgbClr val="000099"/>
                  </a:solidFill>
                  <a:latin typeface="Angsana New"/>
                  <a:cs typeface="JasmineUPC"/>
                </a:rPr>
                <a:t>จีน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ภาษี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ของสินค้าปกต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68440" y="1828800"/>
          <a:ext cx="8194680" cy="4421160"/>
        </p:xfrm>
        <a:graphic>
          <a:graphicData uri="http://schemas.openxmlformats.org/drawingml/2006/table">
            <a:tbl>
              <a:tblPr/>
              <a:tblGrid>
                <a:gridCol w="2743200"/>
                <a:gridCol w="1353960"/>
                <a:gridCol w="1365480"/>
                <a:gridCol w="1366560"/>
                <a:gridCol w="13654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=MFN Applied r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กค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003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อัตราภาษี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&gt;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2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&lt; 2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&lt; 1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&lt; X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&lt; 1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  <a:ea typeface="Arial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คงอัตราภาษ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 สินค้าอ่อนไหว</a:t>
            </a:r>
            <a:br>
              <a:rPr sz="4600"/>
            </a:br>
            <a:r>
              <a:rPr b="1" lang="th-TH" sz="4600" spc="-1" strike="noStrike">
                <a:solidFill>
                  <a:srgbClr val="ffff00"/>
                </a:solidFill>
                <a:latin typeface="Angsana New"/>
                <a:cs typeface="JasmineUPC"/>
              </a:rPr>
              <a:t>ภายใต้ </a:t>
            </a:r>
            <a:r>
              <a:rPr b="1" lang="en-US" sz="4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46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46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46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ีน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523880"/>
          <a:ext cx="7661160" cy="5027760"/>
        </p:xfrm>
        <a:graphic>
          <a:graphicData uri="http://schemas.openxmlformats.org/drawingml/2006/table">
            <a:tbl>
              <a:tblPr/>
              <a:tblGrid>
                <a:gridCol w="3236760"/>
                <a:gridCol w="442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ลุ่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เพดานอัตราภาษ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  <a:cs typeface="JasmineUPC"/>
                        </a:rPr>
                        <a:t>สินค้าอ่อนไหว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0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01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0-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  <a:cs typeface="JasmineUPC"/>
                        </a:rPr>
                        <a:t>สินค้าอ่อนไหวสูง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0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708200" indent="-170820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หมายเหตุ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: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ลดภาษีเฉพาะในโควตา                         ภาษีนอกโควตาอยู่ระหว่างการเจรจ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69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ืออะไร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เขตการค้าเสร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(Free Trade Area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-FTA)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กอบด้ว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สองประเทศขึ้นไ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ตกลงจะขยายการค้าและการลงทุนระหว่างกั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พยายามจะลดอุปสรรคทั้งด้านภาษีและไม่ใช่ภาษีให้เหลือน้อยที่สุ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ครอบคลุมทั้งสินค้า บริการและการลงทุ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ีน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76520"/>
          <a:ext cx="8305920" cy="4851360"/>
        </p:xfrm>
        <a:graphic>
          <a:graphicData uri="http://schemas.openxmlformats.org/drawingml/2006/table">
            <a:tbl>
              <a:tblPr/>
              <a:tblGrid>
                <a:gridCol w="2438280"/>
                <a:gridCol w="1981440"/>
                <a:gridCol w="2209680"/>
                <a:gridCol w="16765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,6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,6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ปลาส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ุ้งสด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80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10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,0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,3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,3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9,7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6653160" y="714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58840" y="458280"/>
            <a:ext cx="3306600" cy="662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3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cs typeface="JasmineUPC"/>
              </a:rPr>
              <a:t>ไทย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ea typeface="JasmineUPC"/>
              </a:rPr>
              <a:t>- </a:t>
            </a:r>
            <a:r>
              <a:rPr b="1" lang="th-TH" sz="46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371600"/>
            <a:ext cx="8534520" cy="70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Arial Black"/>
                <a:cs typeface="JasmineUPC"/>
              </a:rPr>
              <a:t>สิ่งที่คาดหวัง</a:t>
            </a:r>
            <a:r>
              <a:rPr b="1" lang="th-TH" sz="3200" spc="-1" strike="noStrike">
                <a:solidFill>
                  <a:srgbClr val="ff9900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เข้าตลาดอินเดียซึ่งประชากรบางกลุ่มมีกำลังซื้อสูง 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            ดึงดูดการลงทุนเข้าไทย และใช้เป็นฐานเข้าเอเชียใต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rial Black"/>
                <a:cs typeface="JasmineUPC"/>
              </a:rPr>
              <a:t>ไทย – อินเดีย</a:t>
            </a:r>
            <a:r>
              <a:rPr b="1" lang="th-TH" sz="3200" spc="-1" strike="noStrike">
                <a:solidFill>
                  <a:srgbClr val="ff3300"/>
                </a:solidFill>
                <a:latin typeface="Arial Black"/>
                <a:ea typeface="Jasmine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ได้มีการเร่งลดภาษีสินค้าบางส่วนทันท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              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รายการ  ตั้งแต่ 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กันย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4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สินค้าเร่งลด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ภาษี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JasmineUPC"/>
              </a:rPr>
              <a:t>EHS</a:t>
            </a:r>
            <a:r>
              <a:rPr b="1" lang="en-US" sz="3200" spc="-1" strike="noStrike">
                <a:solidFill>
                  <a:srgbClr val="ff9900"/>
                </a:solidFill>
                <a:latin typeface="Angsana New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2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   เช่น ผลไม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งาะ  มังคุด  ลำไย  ทุเรีย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าหารทะเลกระป๋อง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มีภัณฑ์ พลาสติกและผลิตภัณฑ์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ัญมณี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ไม้อัดพลายวูด เหล็กและเหล็กกล้า อลูมิเนียม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ใช้ไฟฟ้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จักรกล บอลล์แบริ่ง และกระปุกเกียร์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ฯล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ะยอยลดภาษีเหลือ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%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ันยาย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4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ันยายน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6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แหล่งกำเนิดสินค้า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เป็นไปตามกฎว่าด้วยแหล่งกำเนิดสินค้าชั่วคราว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Interim Rue of Origin)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cs typeface="JasmineUPC"/>
              </a:rPr>
              <a:t>โดยเป็นกฎฉพาะของสินค้า แต่ละรายการ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Specific Rule)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cs typeface="JasmineUPC"/>
              </a:rPr>
              <a:t>มีหลักเกณฑ์ ดังนี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Wholly Obtained good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ือ สินค้าที่ผลิตโดยใช้วัตุดิบภายในประเทศทั้งหมด เช่นสินค้าเกษตร สินแร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Substantial Trasformation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ือผลิตตามหลักเกณฑ์การเปลี่ยนพิกัด ในระดับ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ลัก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6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ลัก ซึ่งมักใช้ร่วมกับ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Percentage criter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Percentage criterion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ือหลักเกณฑ์ที่พิจารณาจากสัดส่วนของวัตถุดิบและต้นทุนการผลิตในประเทศต่อราคาส่งออก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Local Value Added Content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่วนใหญ่อยู่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0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959200" y="458640"/>
            <a:ext cx="3306600" cy="66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3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cs typeface="JasmineUPC"/>
              </a:rPr>
              <a:t>ไทย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ea typeface="JasmineUPC"/>
              </a:rPr>
              <a:t>- </a:t>
            </a:r>
            <a:r>
              <a:rPr b="1" lang="th-TH" sz="46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ินเด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523880"/>
          <a:ext cx="8458200" cy="4524480"/>
        </p:xfrm>
        <a:graphic>
          <a:graphicData uri="http://schemas.openxmlformats.org/drawingml/2006/table">
            <a:tbl>
              <a:tblPr/>
              <a:tblGrid>
                <a:gridCol w="2438280"/>
                <a:gridCol w="1981440"/>
                <a:gridCol w="2209680"/>
                <a:gridCol w="1828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ม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4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อาห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ครื่องดื่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ผลไม้กระป๋อ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38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0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3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,4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6653160" y="56268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200" spc="-1" strike="noStrike">
                <a:solidFill>
                  <a:srgbClr val="ffffff"/>
                </a:solidFill>
                <a:latin typeface="Tahoma"/>
                <a:cs typeface="JasmineUPC"/>
              </a:rPr>
              <a:t>ข้อมูลเพิ่มเติม</a:t>
            </a:r>
            <a:endParaRPr b="0" lang="en-US" sz="8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dtn.moc.go.th</a:t>
            </a:r>
            <a:r>
              <a:rPr b="1" lang="th-TH" sz="72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thaifta.com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JasmineUPC"/>
              </a:rPr>
              <a:t>FTA Unit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. 0 2507 7444      0 2507 755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0 2507 7680       0 2507 7687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เจรจาการค้ารอบใหม่ของ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ชะงั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“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งกรตื่นจากหลับไหล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เข้าเป็นสมาชิกของ </a:t>
            </a:r>
            <a:r>
              <a:rPr b="1" lang="en-US" sz="33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ำให้ประเทศต่างๆ เกิดความหวั่นเกรงต่อศักยภาพด้านการแข่งขันของจีน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อำนาจทางเศรษฐกิจในอนาคต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วามได้เปรียบจาก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ลาดบริโภคขนาดใหญ่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รงงานราคาถูก รองรับการผลิต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ศักยภาพในการส่งออกสูง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4120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362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ให้สิทธิประโยชน์ระหว่างคู่ภาคีส่งผลกระทบต่อประเทศนอกกลุ่ม เกิดแรงกระตุ้นทั้งระบ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ช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็นวิธีในกา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เพื่อ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ร้างพันธมิตรด้านเศรษฐกิจและการเมือ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ตลาด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การค้าและการลงทุนกับภูมิภาคอื่นๆ ที่อยู่ห่างไก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ที่มีพื้นที่ขนาดเล็กแต่มีระบบเศรษฐกิจที่เปิดเสรีเต็มที่อยู่แล้ว เช่น สิงคโปร์ และชิลี ได้ใช้ยุทธวิธีนี้อย่างแข็งขั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80880"/>
            <a:ext cx="74120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934920"/>
            <a:chOff x="0" y="0"/>
            <a:chExt cx="9144000" cy="934920"/>
          </a:xfrm>
        </p:grpSpPr>
        <p:sp>
          <p:nvSpPr>
            <p:cNvPr id="141" name=""/>
            <p:cNvSpPr/>
            <p:nvPr/>
          </p:nvSpPr>
          <p:spPr>
            <a:xfrm>
              <a:off x="1332000" y="27000"/>
              <a:ext cx="7812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863640"/>
              <a:ext cx="9144000" cy="71280"/>
            </a:xfrm>
            <a:prstGeom prst="rect">
              <a:avLst/>
            </a:prstGeom>
            <a:solidFill>
              <a:srgbClr val="71da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Flag of Thailan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32000" cy="909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4" name=""/>
          <p:cNvGraphicFramePr/>
          <p:nvPr/>
        </p:nvGraphicFramePr>
        <p:xfrm>
          <a:off x="914400" y="1143000"/>
          <a:ext cx="7634160" cy="527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63416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Californian FB"/>
                <a:cs typeface="JasmineUPC"/>
              </a:rPr>
              <a:t>แนวโน้มการทำเขตการค้าเสรี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286000"/>
            <a:ext cx="6192720" cy="2768760"/>
          </a:xfrm>
          <a:custGeom>
            <a:avLst/>
            <a:gdLst/>
            <a:ahLst/>
            <a:rect l="l" t="t" r="r" b="b"/>
            <a:pathLst>
              <a:path w="4224" h="1880">
                <a:moveTo>
                  <a:pt x="0" y="1824"/>
                </a:moveTo>
                <a:cubicBezTo>
                  <a:pt x="236" y="1852"/>
                  <a:pt x="472" y="1880"/>
                  <a:pt x="1008" y="1824"/>
                </a:cubicBezTo>
                <a:cubicBezTo>
                  <a:pt x="1544" y="1768"/>
                  <a:pt x="2680" y="1792"/>
                  <a:pt x="3216" y="1488"/>
                </a:cubicBezTo>
                <a:cubicBezTo>
                  <a:pt x="3752" y="1184"/>
                  <a:pt x="4056" y="248"/>
                  <a:pt x="4224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2400" y="2357280"/>
            <a:ext cx="64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โลกมีแนวโน้มทำเขตการค้าเสรีมาก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70% </a:t>
            </a: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เป็น </a:t>
            </a: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Bilateral F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320" y="62784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fornian FB"/>
                <a:ea typeface="JasmineUPC"/>
              </a:rPr>
              <a:t>Source : WTO</a:t>
            </a:r>
            <a:r>
              <a:rPr b="0" lang="en-GB" sz="3200" spc="-1" strike="noStrike">
                <a:solidFill>
                  <a:srgbClr val="000000"/>
                </a:solidFill>
                <a:latin typeface="Californian FB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ได้มีการจัดทำ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                                        </a:t>
            </a: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ับประเทศใดบ้าง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6104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ู่เจรจาของไทย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8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ลุ่มเศรษฐกิ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จรจาเสร็จแล้ว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3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อสเตรเลีย นิวซีแลนด์ จี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ยู่ระหว่างการเจรจา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5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+ 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ลุ่มเศรษฐกิ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BIMSTEC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ังคลาเทศ อินเดีย พม่า ศรีลังกา ไทย เนปาล และ ภูฎา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E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วิตเซอร์แลนด์ นอร์เวย์ ไอซ์แลนด์ และลิกเตนสไตน์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วามคืบหน้าของ </a:t>
            </a:r>
            <a:r>
              <a:rPr b="1" lang="en-US" sz="62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6200" spc="-1" strike="noStrike">
                <a:solidFill>
                  <a:srgbClr val="ffff00"/>
                </a:solidFill>
                <a:latin typeface="Angsana New"/>
                <a:cs typeface="JasmineUPC"/>
              </a:rPr>
              <a:t>ในกรอบ 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จี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ินเด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676520"/>
            <a:ext cx="845820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่งที่ไทยคาดหวัง คือ ลดมาตรการ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49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%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 ธัญพืช  เส้นใยใช้ในการทอ โกโก้ อัญมณี รถยนต์นั่งขนาดเกิ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,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00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c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1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ผักผลไม้ พลาสติก กระดาษ สิ่งทอ เสื้อผ้า เหล็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นื้อโค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นื้อสุกร นม เครื่องในสัตว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นฝรั่ง  กาแฟ  ชา  ข้าวโพ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นมและครี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3352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45260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1905120"/>
            <a:ext cx="7543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ของออสเตรเลี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3%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เกษตรทุกรายการ เช่น เนื้อสัตว์ ผัก ผลไม้   ยกเว้น ปลาทูน่า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ุตสาหกรรมทุกรายการ เช่น อัญมณี ทองแดง ตะกั่ว ดีบุ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สิ่งทอ รองเท้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สื้อผ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5720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467480" y="762120"/>
            <a:ext cx="1452600" cy="149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tthawatc</cp:lastModifiedBy>
  <dcterms:modified xsi:type="dcterms:W3CDTF">2005-06-03T09:37:00Z</dcterms:modified>
  <cp:revision>15</cp:revision>
  <dc:subject/>
  <dc:title>ความคืบหน้าการทำความตกลง การค้าเสรีของประเทศไทย</dc:title>
</cp:coreProperties>
</file>