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5.wmf" ContentType="image/x-wmf"/>
  <Override PartName="/ppt/media/image23.png" ContentType="image/png"/>
  <Override PartName="/ppt/media/image22.png" ContentType="image/png"/>
  <Override PartName="/ppt/media/image21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7.png" ContentType="image/png"/>
  <Override PartName="/ppt/media/image11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7.png" ContentType="image/png"/>
  <Override PartName="/ppt/media/image12.png" ContentType="image/png"/>
  <Override PartName="/ppt/media/image35.wmf" ContentType="image/x-wmf"/>
  <Override PartName="/ppt/media/image13.png" ContentType="image/png"/>
  <Override PartName="/ppt/media/image36.wmf" ContentType="image/x-wmf"/>
  <Override PartName="/ppt/media/image37.wmf" ContentType="image/x-wmf"/>
  <Override PartName="/ppt/media/image9.png" ContentType="image/png"/>
  <Override PartName="/ppt/media/image39.png" ContentType="image/png"/>
  <Override PartName="/ppt/media/image38.wmf" ContentType="image/x-wmf"/>
  <Override PartName="/ppt/media/image40.png" ContentType="image/png"/>
  <Override PartName="/ppt/media/image32.png" ContentType="image/png"/>
  <Override PartName="/ppt/media/image2.png" ContentType="image/png"/>
  <Override PartName="/ppt/media/image14.gif" ContentType="image/gif"/>
  <Override PartName="/ppt/media/image10.wmf" ContentType="image/x-wmf"/>
  <Override PartName="/ppt/media/image6.png" ContentType="image/png"/>
  <Override PartName="/ppt/media/image34.wmf" ContentType="image/x-wmf"/>
  <Override PartName="/ppt/media/image8.gif" ContentType="image/gif"/>
  <Override PartName="/ppt/media/image4.wmf" ContentType="image/x-wmf"/>
  <Override PartName="/ppt/media/image29.jpeg" ContentType="image/jpeg"/>
  <Override PartName="/ppt/media/image3.wmf" ContentType="image/x-wmf"/>
  <Override PartName="/ppt/media/image26.wmf" ContentType="image/x-wmf"/>
  <Override PartName="/ppt/media/image31.png" ContentType="image/png"/>
  <Override PartName="/ppt/media/image1.png" ContentType="image/png"/>
  <Override PartName="/ppt/media/image19.gif" ContentType="image/gif"/>
  <Override PartName="/ppt/media/image24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E531-ACE1-4BF7-8A3A-DC37D4DE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0A10-80A3-4C71-BB69-D3086C43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AC59-B06E-4960-8E23-EA1B58FE0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14E2-7D7F-44C0-8469-3CBCB656B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64475-A949-4DDA-9A5E-8B19699D7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A5A4A-0513-49A2-92FA-0E9EF815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C1EFF-258E-4982-9E0C-F50AE8D7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2C609-1098-40FA-967F-87CDDF5E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D4010-06D9-4CD6-A0AE-DCC0CAC0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BF185-5ADC-46CE-9C00-72E75B06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A0395-204B-468C-8817-786AEA6B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F2D3-1086-4927-AC24-766ACF56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488D2-4BE7-4E0C-876C-C23B2A2B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3BFED-BD69-4BE8-A79C-4ADBB607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195D0-D2A7-400F-A02D-9086F413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9EEC4-01FA-48DE-9ADE-325A3EC1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58073-0347-4026-A460-56C75E3CC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3991-CEB0-49A1-A095-84529099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A53C-8259-4198-ADB7-9FD9D937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D599-434B-4CB7-A8F9-04B9F4F3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B074-FB4D-4A32-A29B-20EC4BEF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A7B5-C98E-4891-A47C-19BFCE11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3A01-8723-46B4-9D4D-9022CE7E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4402-5F2E-4908-85E9-AEF11F06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994A-88F7-4C35-92AE-869BA48A92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9033-3E18-4408-9F44-E917F3CBF4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11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cardhost.net/cardi/chicken.gif" TargetMode="External"/><Relationship Id="rId2" Type="http://schemas.openxmlformats.org/officeDocument/2006/relationships/image" Target="../media/image16.png"/><Relationship Id="rId3" Type="http://schemas.openxmlformats.org/officeDocument/2006/relationships/image" Target="../media/image14.gif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hyperlink" Target="http://images.google.com/imgres?imgurl=webacc.fsd38.ab.ca/schools/Gibson/Flower.gif&amp;imgrefurl=http://webacc.fsd38.ab.ca/schools/Gibson/Multi-Aging.htm&amp;h=203&amp;w=150&amp;prev=/images%3Fq%3Dflower%26start%3D20%26svnum%3D10%26hl%3Den%26lr%3D%26ie%3DUTF-8%26oe%3DUTF-8%26sa%3DN" TargetMode="External"/><Relationship Id="rId7" Type="http://schemas.openxmlformats.org/officeDocument/2006/relationships/image" Target="../media/image18.png"/><Relationship Id="rId8" Type="http://schemas.openxmlformats.org/officeDocument/2006/relationships/image" Target="../media/image19.gif"/><Relationship Id="rId9" Type="http://schemas.openxmlformats.org/officeDocument/2006/relationships/hyperlink" Target="http://www.eslkidstuff.com/images/shrimp.gif" TargetMode="External"/><Relationship Id="rId10" Type="http://schemas.openxmlformats.org/officeDocument/2006/relationships/image" Target="../media/image20.png"/><Relationship Id="rId11" Type="http://schemas.openxmlformats.org/officeDocument/2006/relationships/hyperlink" Target="http://images.google.com/imgres?imgurl=www.carrolltraining.com/images/fish.gif&amp;imgrefurl=http://www.carrolltraining.com/&amp;h=150&amp;w=174&amp;prev=/images%3Fq%3Dfish%26start%3D140%26svnum%3D10%26hl%3Den%26lr%3D%26ie%3DUTF-8%26oe%3DUTF-8%26sa%3DN" TargetMode="External"/><Relationship Id="rId12" Type="http://schemas.openxmlformats.org/officeDocument/2006/relationships/image" Target="../media/image21.jpeg"/><Relationship Id="rId13" Type="http://schemas.openxmlformats.org/officeDocument/2006/relationships/image" Target="../media/image14.gif"/><Relationship Id="rId14" Type="http://schemas.openxmlformats.org/officeDocument/2006/relationships/hyperlink" Target="http://www.eslkidstuff.com/images/shrimp.gif" TargetMode="External"/><Relationship Id="rId15" Type="http://schemas.openxmlformats.org/officeDocument/2006/relationships/image" Target="../media/image20.png"/><Relationship Id="rId1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9.gif"/><Relationship Id="rId3" Type="http://schemas.openxmlformats.org/officeDocument/2006/relationships/image" Target="../media/image14.gif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9.jpe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image" Target="../media/image11.png"/><Relationship Id="rId5" Type="http://schemas.openxmlformats.org/officeDocument/2006/relationships/image" Target="../media/image26.wmf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8.gif"/><Relationship Id="rId5" Type="http://schemas.openxmlformats.org/officeDocument/2006/relationships/image" Target="../media/image9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ntracen.org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ffff"/>
                </a:solidFill>
                <a:latin typeface="Angsana New"/>
              </a:rPr>
              <a:t>ผู้ผลิต </a:t>
            </a:r>
            <a:r>
              <a:rPr b="1" lang="en-US" sz="4800" spc="-1" strike="noStrike">
                <a:solidFill>
                  <a:srgbClr val="00ffff"/>
                </a:solidFill>
                <a:latin typeface="Angsana New"/>
              </a:rPr>
              <a:t>SMEs </a:t>
            </a:r>
            <a:r>
              <a:rPr b="1" lang="th-TH" sz="4800" spc="-1" strike="noStrike">
                <a:solidFill>
                  <a:srgbClr val="00ffff"/>
                </a:solidFill>
                <a:latin typeface="Angsana New"/>
              </a:rPr>
              <a:t>อาหารจะใช้ประโยชน์</a:t>
            </a:r>
            <a:br>
              <a:rPr sz="4800"/>
            </a:br>
            <a:r>
              <a:rPr b="1" lang="th-TH" sz="4800" spc="-1" strike="noStrike">
                <a:solidFill>
                  <a:srgbClr val="00ffff"/>
                </a:solidFill>
                <a:latin typeface="Angsana New"/>
              </a:rPr>
              <a:t>จากข้อตกลงการค้าเสรี </a:t>
            </a:r>
            <a:r>
              <a:rPr b="1" lang="en-US" sz="4800" spc="-1" strike="noStrike">
                <a:solidFill>
                  <a:srgbClr val="00ffff"/>
                </a:solidFill>
                <a:latin typeface="Angsana New"/>
              </a:rPr>
              <a:t>(FTA) </a:t>
            </a:r>
            <a:r>
              <a:rPr b="1" lang="th-TH" sz="4800" spc="-1" strike="noStrike">
                <a:solidFill>
                  <a:srgbClr val="00ffff"/>
                </a:solidFill>
                <a:latin typeface="Angsana New"/>
              </a:rPr>
              <a:t>อย่างไร </a:t>
            </a:r>
            <a:r>
              <a:rPr b="1" lang="en-US" sz="6000" spc="-1" strike="noStrike">
                <a:solidFill>
                  <a:srgbClr val="00ffff"/>
                </a:solidFill>
                <a:latin typeface="Angsana New"/>
              </a:rPr>
              <a:t>?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93680" y="5029200"/>
            <a:ext cx="39722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ดร</a:t>
            </a: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. </a:t>
            </a: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ปิยะนุช มาลากุล ณ อยุธย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สภาหอการค้าแห่งประเทศไท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7  </a:t>
            </a: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มิถุนายน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25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0200" y="3019320"/>
            <a:ext cx="7848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3017880"/>
            <a:ext cx="82296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สัมมนา เรื่องการใช้สิทธิประโยชน์ด้านภาษีอากร </a:t>
            </a:r>
            <a:br>
              <a:rPr sz="3600"/>
            </a:b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ภายใต้ข้อตกลงการค้าเสรี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F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097920" cy="108108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39000" y="22716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</a:rPr>
              <a:t>เปรียบเทียบโครงสร้างอัตราภาษ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55520" y="1952640"/>
          <a:ext cx="8842320" cy="2735280"/>
        </p:xfrm>
        <a:graphic>
          <a:graphicData uri="http://schemas.openxmlformats.org/drawingml/2006/table">
            <a:tbl>
              <a:tblPr/>
              <a:tblGrid>
                <a:gridCol w="1909800"/>
                <a:gridCol w="2378160"/>
                <a:gridCol w="2536920"/>
                <a:gridCol w="2017440"/>
              </a:tblGrid>
              <a:tr h="611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400" spc="-1" strike="noStrike">
                          <a:solidFill>
                            <a:srgbClr val="ccff33"/>
                          </a:solidFill>
                          <a:latin typeface="Angsana New"/>
                        </a:rPr>
                        <a:t>สินค้า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400" spc="-1" strike="noStrike">
                          <a:solidFill>
                            <a:srgbClr val="ccff33"/>
                          </a:solidFill>
                          <a:latin typeface="Angsana New"/>
                        </a:rPr>
                        <a:t>อัตราภาษีเฉลี่ย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400" spc="-1" strike="noStrike">
                          <a:solidFill>
                            <a:srgbClr val="ccff33"/>
                          </a:solidFill>
                          <a:latin typeface="Angsana New"/>
                        </a:rPr>
                        <a:t>อินเดีย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400" spc="-1" strike="noStrike">
                          <a:solidFill>
                            <a:srgbClr val="ccff33"/>
                          </a:solidFill>
                          <a:latin typeface="Angsana New"/>
                        </a:rPr>
                        <a:t>ไทย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400" spc="-1" strike="noStrike">
                          <a:solidFill>
                            <a:srgbClr val="ccff33"/>
                          </a:solidFill>
                          <a:latin typeface="Angsana New"/>
                        </a:rPr>
                        <a:t>สหรัฐฯ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เกษตร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cc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36.10 %</a:t>
                      </a:r>
                      <a:endParaRPr b="0" lang="en-US" sz="3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cc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3.80 %</a:t>
                      </a:r>
                      <a:endParaRPr b="0" lang="en-US" sz="3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cc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.70 %</a:t>
                      </a:r>
                      <a:endParaRPr b="0" lang="en-US" sz="3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ccff99">
                        <a:alpha val="50000"/>
                      </a:srgbClr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อุตสาหกรรม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e3e3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9.40 %</a:t>
                      </a:r>
                      <a:endParaRPr b="0" lang="en-US" sz="3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e3e3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0.10 %</a:t>
                      </a:r>
                      <a:endParaRPr b="0" lang="en-US" sz="3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e3e3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3.6 %</a:t>
                      </a:r>
                      <a:endParaRPr b="0" lang="en-US" sz="3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e3e3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-322200" y="5064120"/>
            <a:ext cx="33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Angsana New"/>
              </a:rPr>
              <a:t>ที่มา </a:t>
            </a:r>
            <a:r>
              <a:rPr b="1" lang="en-US" sz="1600" spc="-1" strike="noStrike">
                <a:solidFill>
                  <a:srgbClr val="ffffff"/>
                </a:solidFill>
                <a:latin typeface="Angsana New"/>
              </a:rPr>
              <a:t>: </a:t>
            </a:r>
            <a:r>
              <a:rPr b="1" lang="th-TH" sz="1600" spc="-1" strike="noStrike">
                <a:solidFill>
                  <a:srgbClr val="ffffff"/>
                </a:solidFill>
                <a:latin typeface="Angsana New"/>
              </a:rPr>
              <a:t>กรมเจรจาการค้าระหว่างประเท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9097920" cy="108108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71480" y="204840"/>
            <a:ext cx="71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</a:rPr>
              <a:t>สินค้าเกษตรของสหรัฐ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-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</a:rPr>
              <a:t>อินเดียที่มีอัตราภาษีสู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01680" y="1341360"/>
          <a:ext cx="8663040" cy="4903920"/>
        </p:xfrm>
        <a:graphic>
          <a:graphicData uri="http://schemas.openxmlformats.org/drawingml/2006/table">
            <a:tbl>
              <a:tblPr/>
              <a:tblGrid>
                <a:gridCol w="2398680"/>
                <a:gridCol w="1079640"/>
                <a:gridCol w="1728720"/>
                <a:gridCol w="1830240"/>
                <a:gridCol w="1625760"/>
              </a:tblGrid>
              <a:tr h="581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สินค้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พิกัด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อัตราภาษีเฉลี่ย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(%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สหรัฐฯ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อินเดี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ญี่ปุ่น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ปลาปรุงแต่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cc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60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cc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35</a:t>
                      </a:r>
                      <a:endParaRPr b="0" lang="en-US" sz="3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cc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55</a:t>
                      </a:r>
                      <a:endParaRPr b="0" lang="en-US" sz="3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cc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9.6</a:t>
                      </a:r>
                      <a:endParaRPr b="0" lang="en-US" sz="3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ccff99">
                        <a:alpha val="50000"/>
                      </a:srgbClr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น้ำมันถั่วเหลือ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50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9.1</a:t>
                      </a:r>
                      <a:endParaRPr b="0" lang="en-US" sz="3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45</a:t>
                      </a:r>
                      <a:endParaRPr b="0" lang="en-US" sz="3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-</a:t>
                      </a:r>
                      <a:endParaRPr b="0" lang="en-US" sz="3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ผัก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070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1.3</a:t>
                      </a:r>
                      <a:endParaRPr b="0" lang="en-US" sz="3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00</a:t>
                      </a:r>
                      <a:endParaRPr b="0" lang="en-US" sz="3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3</a:t>
                      </a:r>
                      <a:endParaRPr b="0" lang="en-US" sz="3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ผลไม้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080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9.8</a:t>
                      </a:r>
                      <a:endParaRPr b="0" lang="en-US" sz="3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00</a:t>
                      </a:r>
                      <a:endParaRPr b="0" lang="en-US" sz="3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6</a:t>
                      </a:r>
                      <a:endParaRPr b="0" lang="en-US" sz="3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ผลิตภัณฑ์นม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04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0</a:t>
                      </a:r>
                      <a:endParaRPr b="0" lang="en-US" sz="3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50</a:t>
                      </a:r>
                      <a:endParaRPr b="0" lang="en-US" sz="3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1-29</a:t>
                      </a:r>
                      <a:endParaRPr b="0" lang="en-US" sz="3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-381240" y="6308640"/>
            <a:ext cx="400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Angsana New"/>
              </a:rPr>
              <a:t>ที่มา </a:t>
            </a:r>
            <a:r>
              <a:rPr b="1" lang="en-US" sz="1600" spc="-1" strike="noStrike">
                <a:solidFill>
                  <a:srgbClr val="ffffff"/>
                </a:solidFill>
                <a:latin typeface="Angsana New"/>
              </a:rPr>
              <a:t>: </a:t>
            </a:r>
            <a:r>
              <a:rPr b="1" lang="th-TH" sz="1600" spc="-1" strike="noStrike">
                <a:solidFill>
                  <a:srgbClr val="ffffff"/>
                </a:solidFill>
                <a:latin typeface="Angsana New"/>
              </a:rPr>
              <a:t>กรมเจรจาการค้าระหว่างประเทศ </a:t>
            </a:r>
            <a:r>
              <a:rPr b="1" lang="th-TH" sz="1600" spc="-1" strike="noStrike">
                <a:solidFill>
                  <a:srgbClr val="ffffff"/>
                </a:solidFill>
                <a:latin typeface="Angsana New"/>
              </a:rPr>
              <a:t>/ </a:t>
            </a:r>
            <a:r>
              <a:rPr b="1" lang="en-US" sz="1600" spc="-1" strike="noStrike">
                <a:solidFill>
                  <a:srgbClr val="ffffff"/>
                </a:solidFill>
                <a:latin typeface="Angsana New"/>
              </a:rPr>
              <a:t>W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95280" y="1981080"/>
            <a:ext cx="6782040" cy="24386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9ccff"/>
              </a:gs>
              <a:gs pos="50000">
                <a:srgbClr val="003399"/>
              </a:gs>
              <a:gs pos="100000">
                <a:srgbClr val="99ccff"/>
              </a:gs>
            </a:gsLst>
            <a:lin ang="5400000"/>
          </a:gradFill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FTA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ของไทยกับคู่เจรจา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ที่สำคัญ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กรณีสินค้าเกษตร ตอนที่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01-24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097920" cy="95580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6680" y="21924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การค้าสินค้าเกษตรไทย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-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จี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" y="114480"/>
            <a:ext cx="8147160" cy="68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28600">
              <a:lnSpc>
                <a:spcPct val="85000"/>
              </a:lnSpc>
              <a:buClr>
                <a:srgbClr val="00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ffff"/>
                </a:solidFill>
                <a:latin typeface="Angsana New"/>
              </a:rPr>
              <a:t>สถานการณ์การค้า </a:t>
            </a:r>
            <a:r>
              <a:rPr b="1" lang="th-TH" sz="2800" spc="-1" strike="noStrike">
                <a:solidFill>
                  <a:srgbClr val="00ffff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00ffff"/>
                </a:solidFill>
                <a:latin typeface="Angsana New"/>
              </a:rPr>
              <a:t>เฉลี่ยปี </a:t>
            </a:r>
            <a:r>
              <a:rPr b="1" lang="th-TH" sz="2800" spc="-1" strike="noStrike">
                <a:solidFill>
                  <a:srgbClr val="00ffff"/>
                </a:solidFill>
                <a:latin typeface="Angsana New"/>
              </a:rPr>
              <a:t>44-4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-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มูลค่าการค้าสินค้าเกษตร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25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</a:rPr>
              <a:t>,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070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ล้านบา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-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ไทยส่งออก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17,089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ล้านบา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-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ไทยนำเข้า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7,981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ล้านบา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-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ดุลการค้าของไทย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            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+ 9,968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ล้านบา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228600">
              <a:lnSpc>
                <a:spcPct val="85000"/>
              </a:lnSpc>
              <a:buClr>
                <a:srgbClr val="ffffff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228600">
              <a:lnSpc>
                <a:spcPct val="85000"/>
              </a:lnSpc>
              <a:buClr>
                <a:srgbClr val="00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ffff"/>
                </a:solidFill>
                <a:latin typeface="Angsana New"/>
              </a:rPr>
              <a:t>สินค้าส่งออกของไท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มันสำปะหลัง ข้าวหอมมะลิ ลำไยแห้ง ปลาแช่แข็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228600">
              <a:lnSpc>
                <a:spcPct val="85000"/>
              </a:lnSpc>
              <a:buClr>
                <a:srgbClr val="00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ffff"/>
                </a:solidFill>
                <a:latin typeface="Angsana New"/>
              </a:rPr>
              <a:t>สินค้านำเข้าของไท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แอปเปิล  สาลี่ กากเมล็ดพืช กระเทียม ผลไม้ปรุงแต่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50760" y="6323760"/>
            <a:ext cx="32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ที่ม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กระทรวงเกษตรและสหกรณ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9097920" cy="95580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6680" y="1825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การค้าสินค้าเกษตรไทย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-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อินเดีย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73280" y="255960"/>
            <a:ext cx="8353080" cy="66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28600">
              <a:lnSpc>
                <a:spcPct val="85000"/>
              </a:lnSpc>
              <a:buClr>
                <a:srgbClr val="00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ffff"/>
                </a:solidFill>
                <a:latin typeface="Angsana New"/>
              </a:rPr>
              <a:t>สถานการณ์การค้า </a:t>
            </a:r>
            <a:r>
              <a:rPr b="1" lang="th-TH" sz="3600" spc="-1" strike="noStrike">
                <a:solidFill>
                  <a:srgbClr val="00ffff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00ffff"/>
                </a:solidFill>
                <a:latin typeface="Angsana New"/>
              </a:rPr>
              <a:t>เฉลี่ยปี </a:t>
            </a:r>
            <a:r>
              <a:rPr b="1" lang="th-TH" sz="3600" spc="-1" strike="noStrike">
                <a:solidFill>
                  <a:srgbClr val="00ffff"/>
                </a:solidFill>
                <a:latin typeface="Angsana New"/>
              </a:rPr>
              <a:t>44-46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-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มูลค่าการค้าสินค้าเกษตร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6,055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ล้านบา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-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ไทยส่งออก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1,102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ล้านบา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-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ไทยนำเข้า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4,953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ล้านบา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-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ดุลการค้าของไทย                  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- 3,851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ล้านบา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228600">
              <a:lnSpc>
                <a:spcPct val="85000"/>
              </a:lnSpc>
              <a:buClr>
                <a:srgbClr val="ffffff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228600">
              <a:lnSpc>
                <a:spcPct val="85000"/>
              </a:lnSpc>
              <a:buClr>
                <a:srgbClr val="00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ffff"/>
                </a:solidFill>
                <a:latin typeface="Angsana New"/>
              </a:rPr>
              <a:t>สินค้าส่งออกของไท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น้ำมันปาล์มดิบ น้ำตาลดิบ  หมาก อาหารสัตว์สำเร็จรู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228600">
              <a:lnSpc>
                <a:spcPct val="85000"/>
              </a:lnSpc>
              <a:buClr>
                <a:srgbClr val="00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ffff"/>
                </a:solidFill>
                <a:latin typeface="Angsana New"/>
              </a:rPr>
              <a:t>สินค้านำเข้าของไท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กากถั่วเหลือง   กุ้งแช่แข็ง   น้ำมันละหุ่ง   กากถั่วลิสง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ปลาแมคเคอเรลแช่แข็ง  ปลาทูน่าแช่แข็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-50760" y="6323760"/>
            <a:ext cx="32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ที่ม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กระทรวงเกษตรและสหกรณ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097920" cy="95580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9760" y="16668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การค้าสินค้าเกษตรไทย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-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นิวซีแลนด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68560" y="335160"/>
            <a:ext cx="8353440" cy="66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28600">
              <a:lnSpc>
                <a:spcPct val="85000"/>
              </a:lnSpc>
              <a:buClr>
                <a:srgbClr val="00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ffff"/>
                </a:solidFill>
                <a:latin typeface="Angsana New"/>
              </a:rPr>
              <a:t>สถานการณ์การค้า </a:t>
            </a:r>
            <a:r>
              <a:rPr b="1" lang="th-TH" sz="3600" spc="-1" strike="noStrike">
                <a:solidFill>
                  <a:srgbClr val="00ffff"/>
                </a:solidFill>
                <a:latin typeface="Angsana New"/>
              </a:rPr>
              <a:t>(</a:t>
            </a:r>
            <a:r>
              <a:rPr b="1" lang="th-TH" sz="3600" spc="-1" strike="noStrike">
                <a:solidFill>
                  <a:srgbClr val="00ffff"/>
                </a:solidFill>
                <a:latin typeface="Angsana New"/>
              </a:rPr>
              <a:t>เฉลี่ยปี </a:t>
            </a:r>
            <a:r>
              <a:rPr b="1" lang="th-TH" sz="3600" spc="-1" strike="noStrike">
                <a:solidFill>
                  <a:srgbClr val="00ffff"/>
                </a:solidFill>
                <a:latin typeface="Angsana New"/>
              </a:rPr>
              <a:t>44-46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-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มูลค่าการค้าสินค้าเกษตร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7,513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ล้านบา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-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ไทยส่งออก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1,523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ล้านบา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-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ไทยนำเข้า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5,990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ล้านบา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-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ดุลการค้าของไทย                 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- 4,467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ล้านบา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228600">
              <a:lnSpc>
                <a:spcPct val="85000"/>
              </a:lnSpc>
              <a:buClr>
                <a:srgbClr val="ffffff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228600">
              <a:lnSpc>
                <a:spcPct val="85000"/>
              </a:lnSpc>
              <a:buClr>
                <a:srgbClr val="00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ffff"/>
                </a:solidFill>
                <a:latin typeface="Angsana New"/>
              </a:rPr>
              <a:t>สินค้าส่งออกของไท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ปลาทูน่ากระป๋อง อาหารปรุงแต่ง กุ้งแช่แข็ง ปลาปรุงแต่ง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สับปะรดกระป๋อง ข้าวหอมมะล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228600">
              <a:lnSpc>
                <a:spcPct val="85000"/>
              </a:lnSpc>
              <a:buClr>
                <a:srgbClr val="00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ffff"/>
                </a:solidFill>
                <a:latin typeface="Angsana New"/>
              </a:rPr>
              <a:t>สินค้านำเข้าของไท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อาหารเลี้ยงทารก นมและผลิตภัณฑ์  ปลาแช่แข็ง  แอปเปิ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50760" y="6323760"/>
            <a:ext cx="32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ที่ม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กระทรวงเกษตรและสหกรณ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9097920" cy="87948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96840"/>
            <a:ext cx="815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การค้าสินค้าเกษตรไทย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-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สหรัฐอเมริก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14560" y="-191160"/>
            <a:ext cx="8280360" cy="75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28600">
              <a:lnSpc>
                <a:spcPct val="85000"/>
              </a:lnSpc>
              <a:buClr>
                <a:srgbClr val="00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ffff"/>
                </a:solidFill>
                <a:latin typeface="Angsana New"/>
              </a:rPr>
              <a:t>สถานการณ์การค้า </a:t>
            </a:r>
            <a:r>
              <a:rPr b="1" lang="en-US" sz="2800" spc="-1" strike="noStrike">
                <a:solidFill>
                  <a:srgbClr val="00ffff"/>
                </a:solidFill>
                <a:latin typeface="Angsana New"/>
              </a:rPr>
              <a:t>(</a:t>
            </a:r>
            <a:r>
              <a:rPr b="1" lang="hi-IN" sz="3600" spc="-1" strike="noStrike">
                <a:solidFill>
                  <a:srgbClr val="00ffff"/>
                </a:solidFill>
                <a:latin typeface="Angsana New"/>
              </a:rPr>
              <a:t>เฉลี่ยปี </a:t>
            </a:r>
            <a:r>
              <a:rPr b="1" lang="en-US" sz="2800" spc="-1" strike="noStrike">
                <a:solidFill>
                  <a:srgbClr val="00ffff"/>
                </a:solidFill>
                <a:latin typeface="Angsana New"/>
              </a:rPr>
              <a:t>44-4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- 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มูลค่าการค้าสินค้าเกษตร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</a:rPr>
              <a:t>104,691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ล้านบา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- 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ไทยส่งออก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</a:rPr>
              <a:t>82,245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ล้านบา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- 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ไทยนำเข้า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</a:rPr>
              <a:t>22,446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ล้านบา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- 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ดุลการค้าของไทย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</a:rPr>
              <a:t>59,799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              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ล้านบา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228600">
              <a:lnSpc>
                <a:spcPct val="85000"/>
              </a:lnSpc>
              <a:buClr>
                <a:srgbClr val="ffffff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228600">
              <a:lnSpc>
                <a:spcPct val="85000"/>
              </a:lnSpc>
              <a:buClr>
                <a:srgbClr val="00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ffff"/>
                </a:solidFill>
                <a:latin typeface="Angsana New"/>
              </a:rPr>
              <a:t>สินค้าส่งออกของไท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กุ้งแช่แข็ง  ปลาทูน่ากระป๋อง ข้าวหอมมะลิ สับปะรดกระป๋อ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228600">
              <a:lnSpc>
                <a:spcPct val="85000"/>
              </a:lnSpc>
              <a:buClr>
                <a:srgbClr val="00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ffff"/>
                </a:solidFill>
                <a:latin typeface="Angsana New"/>
              </a:rPr>
              <a:t>สินค้านำเข้าของไท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ถั่วเหลือง  ข้าวสาลี  ถั่วเหลืองโรงงาน กากถั่วเหลือง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เนื้อสัตว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-50760" y="6323760"/>
            <a:ext cx="32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ที่ม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กระทรวงเกษตรและสหกรณ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901800" y="1370160"/>
            <a:ext cx="82296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e3e3ff"/>
                </a:solidFill>
                <a:latin typeface="Arial"/>
              </a:rPr>
              <a:t>1.2</a:t>
            </a:r>
            <a:br>
              <a:rPr sz="5400"/>
            </a:br>
            <a:r>
              <a:rPr b="1" lang="th-TH" sz="54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5400"/>
            </a:br>
            <a:r>
              <a:rPr b="1" lang="en-US" sz="5400" spc="-1" strike="noStrike">
                <a:solidFill>
                  <a:srgbClr val="e3e3ff"/>
                </a:solidFill>
                <a:latin typeface="Angsana New"/>
              </a:rPr>
              <a:t>FTA</a:t>
            </a:r>
            <a:r>
              <a:rPr b="1" lang="en-US" sz="4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th-TH" sz="4800" spc="-1" strike="noStrike">
                <a:solidFill>
                  <a:srgbClr val="e3e3ff"/>
                </a:solidFill>
                <a:latin typeface="Arial"/>
              </a:rPr>
              <a:t>ผลกระทบต่อภาคการเกษตรของไทย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2680" y="1920960"/>
            <a:ext cx="8834400" cy="2394000"/>
          </a:xfrm>
          <a:custGeom>
            <a:avLst/>
            <a:gdLst>
              <a:gd name="textAreaLeft" fmla="*/ 114840 w 8834400"/>
              <a:gd name="textAreaRight" fmla="*/ 8719560 w 8834400"/>
              <a:gd name="textAreaTop" fmla="*/ 114840 h 2394000"/>
              <a:gd name="textAreaBottom" fmla="*/ 2279160 h 2394000"/>
            </a:gdLst>
            <a:ahLst/>
            <a:rect l="textAreaLeft" t="textAreaTop" r="textAreaRight" b="textAreaBottom"/>
            <a:pathLst>
              <a:path w="79700" h="21600">
                <a:moveTo>
                  <a:pt x="0" y="0"/>
                </a:moveTo>
                <a:lnTo>
                  <a:pt x="0" y="21600"/>
                </a:lnTo>
                <a:lnTo>
                  <a:pt x="79700" y="21600"/>
                </a:lnTo>
                <a:lnTo>
                  <a:pt x="79700" y="0"/>
                </a:lnTo>
                <a:close/>
                <a:moveTo>
                  <a:pt x="1037" y="1037"/>
                </a:moveTo>
                <a:lnTo>
                  <a:pt x="1037" y="20563"/>
                </a:lnTo>
                <a:lnTo>
                  <a:pt x="78663" y="20563"/>
                </a:lnTo>
                <a:lnTo>
                  <a:pt x="78663" y="103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00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826920"/>
            <a:ext cx="8686800" cy="25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367200" indent="0">
              <a:lnSpc>
                <a:spcPct val="12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มีวัตถุประสงค์เพื่อลด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/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เลิก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อุปสรรค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ทางการค้า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ทั้งด้านภาษี                              และมิใช่ภาษี ให้เหลือน้อยที่สุดหรือหมดไ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7200" indent="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ครอบคลุมการค้าสินค้า การบริการ การลงทุน                                              และความร่วมมือทางเศรษฐกิจอื่น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9144000" cy="73656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ngsana New"/>
              </a:rPr>
              <a:t>เขตการค้าเสรี </a:t>
            </a:r>
            <a:r>
              <a:rPr b="1" lang="en-US" sz="4000" spc="-1" strike="noStrike">
                <a:solidFill>
                  <a:srgbClr val="ffffff"/>
                </a:solidFill>
                <a:latin typeface="Angsana New"/>
              </a:rPr>
              <a:t>(Free Trade Area: FT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1077840"/>
            <a:ext cx="457200" cy="227160"/>
          </a:xfrm>
          <a:custGeom>
            <a:avLst/>
            <a:gdLst>
              <a:gd name="textAreaLeft" fmla="*/ 71280 w 457200"/>
              <a:gd name="textAreaRight" fmla="*/ 400320 w 457200"/>
              <a:gd name="textAreaTop" fmla="*/ 56880 h 227160"/>
              <a:gd name="textAreaBottom" fmla="*/ 170640 h 227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3080" y="2370240"/>
            <a:ext cx="457200" cy="226800"/>
          </a:xfrm>
          <a:custGeom>
            <a:avLst/>
            <a:gdLst>
              <a:gd name="textAreaLeft" fmla="*/ 71280 w 457200"/>
              <a:gd name="textAreaRight" fmla="*/ 400320 w 457200"/>
              <a:gd name="textAreaTop" fmla="*/ 56520 h 226800"/>
              <a:gd name="textAreaBottom" fmla="*/ 170280 h 226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360" y="3529080"/>
            <a:ext cx="9144000" cy="69192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ngsana New"/>
              </a:rPr>
              <a:t>โอกาสและผลกระทบจาก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ngsana New"/>
              </a:rPr>
              <a:t>FT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28880" y="4437000"/>
            <a:ext cx="77929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โอกาส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: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เพิ่ม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มูลค่า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การค้าและการลงทุนระหว่างกั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ผลกระทบ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: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กระทบต่อการผลิต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สินค้าภายในประเทศ                                    ที่มีศักยภาพต่ำกว่าประเทศคู่เจรจ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4653000"/>
            <a:ext cx="457200" cy="226800"/>
          </a:xfrm>
          <a:custGeom>
            <a:avLst/>
            <a:gdLst>
              <a:gd name="textAreaLeft" fmla="*/ 71280 w 457200"/>
              <a:gd name="textAreaRight" fmla="*/ 400320 w 457200"/>
              <a:gd name="textAreaTop" fmla="*/ 56520 h 226800"/>
              <a:gd name="textAreaBottom" fmla="*/ 170280 h 226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5388120"/>
            <a:ext cx="457200" cy="226800"/>
          </a:xfrm>
          <a:custGeom>
            <a:avLst/>
            <a:gdLst>
              <a:gd name="textAreaLeft" fmla="*/ 71280 w 457200"/>
              <a:gd name="textAreaRight" fmla="*/ 400320 w 457200"/>
              <a:gd name="textAreaTop" fmla="*/ 56520 h 226800"/>
              <a:gd name="textAreaBottom" fmla="*/ 170280 h 226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9097920" cy="87948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8640" y="918360"/>
            <a:ext cx="814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0160"/>
                <a:tab algn="l" pos="399960"/>
                <a:tab algn="l" pos="600120"/>
                <a:tab algn="l" pos="800280"/>
                <a:tab algn="l" pos="1000080"/>
                <a:tab algn="l" pos="1200240"/>
                <a:tab algn="l" pos="1400040"/>
                <a:tab algn="l" pos="1600200"/>
                <a:tab algn="l" pos="1800360"/>
                <a:tab algn="l" pos="2000160"/>
                <a:tab algn="l" pos="2200320"/>
                <a:tab algn="l" pos="2400480"/>
                <a:tab algn="l" pos="2600280"/>
                <a:tab algn="l" pos="2800440"/>
                <a:tab algn="l" pos="3000240"/>
                <a:tab algn="l" pos="3200400"/>
                <a:tab algn="l" pos="3400560"/>
                <a:tab algn="l" pos="3600360"/>
                <a:tab algn="l" pos="3800520"/>
                <a:tab algn="l" pos="4000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ngsana New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โอกาสจากการลดมาตรการด้านภาษ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66640" indent="-1904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600120"/>
                <a:tab algn="l" pos="800280"/>
                <a:tab algn="l" pos="1000080"/>
                <a:tab algn="l" pos="1200240"/>
                <a:tab algn="l" pos="1400040"/>
                <a:tab algn="l" pos="1600200"/>
                <a:tab algn="l" pos="1800360"/>
                <a:tab algn="l" pos="2000160"/>
                <a:tab algn="l" pos="2200320"/>
                <a:tab algn="l" pos="2400480"/>
                <a:tab algn="l" pos="2600280"/>
                <a:tab algn="l" pos="2800440"/>
                <a:tab algn="l" pos="3000240"/>
                <a:tab algn="l" pos="3200400"/>
                <a:tab algn="l" pos="3400560"/>
                <a:tab algn="l" pos="3600360"/>
                <a:tab algn="l" pos="3800520"/>
                <a:tab algn="l" pos="4000680"/>
                <a:tab algn="l" pos="4200480"/>
                <a:tab algn="l" pos="44006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Angsana New"/>
              </a:rPr>
              <a:t>สินค้าที่มีโอกาสส่งออกเพิ่มขึ้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60280" y="1941480"/>
          <a:ext cx="863136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941480"/>
                    <a:ext cx="863136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803160" y="69840"/>
            <a:ext cx="747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ngsana New"/>
              </a:rPr>
              <a:t>FTA: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ผลต่อภาคการเกษตรของไทย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34800" y="749160"/>
            <a:ext cx="822960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3e3ff"/>
                </a:solidFill>
                <a:latin typeface="Arial"/>
              </a:rPr>
              <a:t>ความสามารถในการแข่งขันของไทย</a:t>
            </a:r>
            <a:br>
              <a:rPr sz="4400"/>
            </a:br>
            <a:r>
              <a:rPr b="1" lang="hi-IN" sz="4400" spc="-1" strike="noStrike">
                <a:solidFill>
                  <a:srgbClr val="e3e3ff"/>
                </a:solidFill>
                <a:latin typeface="Arial"/>
              </a:rPr>
              <a:t>เพื่อรับประโยชน์ด้านภาษ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0680" y="4944960"/>
            <a:ext cx="822960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e3e3ff"/>
                </a:solidFill>
                <a:latin typeface="Arial"/>
              </a:rPr>
              <a:t>สิ่งที่ต้องระวังในการเปิดเสรี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F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133200" y="2479680"/>
            <a:ext cx="9789840" cy="28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e3e3ff"/>
                </a:solidFill>
                <a:latin typeface="Arial"/>
              </a:rPr>
              <a:t>สินค้าเกษตรและอาหารของไทยที่ถูกจัดเป็น</a:t>
            </a:r>
            <a:br>
              <a:rPr sz="4400"/>
            </a:br>
            <a:r>
              <a:rPr b="1" lang="th-TH" sz="4400" spc="-1" strike="noStrike">
                <a:solidFill>
                  <a:srgbClr val="e3e3ff"/>
                </a:solidFill>
                <a:latin typeface="Arial"/>
              </a:rPr>
              <a:t>รายการสินค้าอ่อนไหวของประเทศคู่เจรจา </a:t>
            </a:r>
            <a:r>
              <a:rPr b="1" lang="en-US" sz="4400" spc="-1" strike="noStrike">
                <a:solidFill>
                  <a:srgbClr val="e3e3ff"/>
                </a:solidFill>
                <a:latin typeface="Angsana New"/>
              </a:rPr>
              <a:t>F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54160" y="433440"/>
            <a:ext cx="1409400" cy="5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463416">
                      <a:alpha val="80000"/>
                    </a:srgbClr>
                  </a:outerShdw>
                </a:effectLst>
                <a:latin typeface="Angsana New"/>
              </a:rPr>
              <a:t>ส่วนที่ 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463416">
                      <a:alpha val="80000"/>
                    </a:srgbClr>
                  </a:outerShdw>
                </a:effectLst>
                <a:latin typeface="Angsana New"/>
              </a:rPr>
              <a:t>1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463416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44520" y="2509920"/>
            <a:ext cx="1409760" cy="5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463416">
                      <a:alpha val="80000"/>
                    </a:srgbClr>
                  </a:outerShdw>
                </a:effectLst>
                <a:latin typeface="Angsana New"/>
              </a:rPr>
              <a:t>ส่วนที่ 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463416">
                      <a:alpha val="80000"/>
                    </a:srgbClr>
                  </a:outerShdw>
                </a:effectLst>
                <a:latin typeface="Angsana New"/>
              </a:rPr>
              <a:t>2</a:t>
            </a:r>
            <a:endParaRPr b="1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463416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90520" y="4950000"/>
            <a:ext cx="1409760" cy="5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463416">
                      <a:alpha val="80000"/>
                    </a:srgbClr>
                  </a:outerShdw>
                </a:effectLst>
                <a:latin typeface="Angsana New"/>
              </a:rPr>
              <a:t>ส่วนที่ 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463416">
                      <a:alpha val="80000"/>
                    </a:srgbClr>
                  </a:outerShdw>
                </a:effectLst>
                <a:latin typeface="Angsana New"/>
              </a:rPr>
              <a:t>3</a:t>
            </a:r>
            <a:endParaRPr b="1" lang="en-US" sz="2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463416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381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9360" y="4668840"/>
            <a:ext cx="9144000" cy="0"/>
          </a:xfrm>
          <a:prstGeom prst="line">
            <a:avLst/>
          </a:prstGeom>
          <a:ln w="381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1065960"/>
            <a:ext cx="814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0160"/>
                <a:tab algn="l" pos="399960"/>
                <a:tab algn="l" pos="600120"/>
                <a:tab algn="l" pos="800280"/>
                <a:tab algn="l" pos="1000080"/>
                <a:tab algn="l" pos="1200240"/>
                <a:tab algn="l" pos="1400040"/>
                <a:tab algn="l" pos="1600200"/>
                <a:tab algn="l" pos="1800360"/>
                <a:tab algn="l" pos="2000160"/>
                <a:tab algn="l" pos="2200320"/>
                <a:tab algn="l" pos="2400480"/>
                <a:tab algn="l" pos="2600280"/>
                <a:tab algn="l" pos="2800440"/>
                <a:tab algn="l" pos="3000240"/>
                <a:tab algn="l" pos="3200400"/>
                <a:tab algn="l" pos="3400560"/>
                <a:tab algn="l" pos="3600360"/>
                <a:tab algn="l" pos="3800520"/>
                <a:tab algn="l" pos="4000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ngsana New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โอกาสจากการลดมาตรการด้านภาษี </a:t>
            </a: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ต่อ</a:t>
            </a: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6640" indent="-1904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600120"/>
                <a:tab algn="l" pos="800280"/>
                <a:tab algn="l" pos="1000080"/>
                <a:tab algn="l" pos="1200240"/>
                <a:tab algn="l" pos="1400040"/>
                <a:tab algn="l" pos="1600200"/>
                <a:tab algn="l" pos="1800360"/>
                <a:tab algn="l" pos="2000160"/>
                <a:tab algn="l" pos="2200320"/>
                <a:tab algn="l" pos="2400480"/>
                <a:tab algn="l" pos="2600280"/>
                <a:tab algn="l" pos="2800440"/>
                <a:tab algn="l" pos="3000240"/>
                <a:tab algn="l" pos="3200400"/>
                <a:tab algn="l" pos="3400560"/>
                <a:tab algn="l" pos="3600360"/>
                <a:tab algn="l" pos="3800520"/>
                <a:tab algn="l" pos="4000680"/>
                <a:tab algn="l" pos="4200480"/>
                <a:tab algn="l" pos="44006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Angsana New"/>
              </a:rPr>
              <a:t>สินค้าที่มีโอกาสนำเข้าเพิ่มขึ้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04920" y="2133720"/>
          <a:ext cx="8610480" cy="447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33720"/>
                    <a:ext cx="8610480" cy="44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0" y="0"/>
            <a:ext cx="9097920" cy="87948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6960" y="69840"/>
            <a:ext cx="857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ngsana New"/>
              </a:rPr>
              <a:t>FTA: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ผลต่อภาคการเกษตรของไทย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ต่อ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3760" y="211320"/>
            <a:ext cx="8839080" cy="70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>
              <a:lnSpc>
                <a:spcPct val="85000"/>
              </a:lnSpc>
              <a:buClr>
                <a:srgbClr val="ffffff"/>
              </a:buClr>
              <a:buFont typeface="Angsana New"/>
              <a:buAutoNum type="arabicPeriod" startAt="2"/>
              <a:tabLst>
                <a:tab algn="l" pos="600120"/>
                <a:tab algn="l" pos="800280"/>
                <a:tab algn="l" pos="1000080"/>
                <a:tab algn="l" pos="1200240"/>
                <a:tab algn="l" pos="1400040"/>
                <a:tab algn="l" pos="1600200"/>
                <a:tab algn="l" pos="1800360"/>
                <a:tab algn="l" pos="2000160"/>
                <a:tab algn="l" pos="2200320"/>
                <a:tab algn="l" pos="2400480"/>
                <a:tab algn="l" pos="2600280"/>
                <a:tab algn="l" pos="2800440"/>
                <a:tab algn="l" pos="3000240"/>
                <a:tab algn="l" pos="3200400"/>
                <a:tab algn="l" pos="3400560"/>
                <a:tab algn="l" pos="3600360"/>
                <a:tab algn="l" pos="3800520"/>
                <a:tab algn="l" pos="4000680"/>
                <a:tab algn="l" pos="4200480"/>
                <a:tab algn="l" pos="440064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โอกาสจากการลดมาตรการที่มิใช่ภาษีและอุปสรรคทางการค้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533520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1000080"/>
                <a:tab algn="l" pos="1200240"/>
                <a:tab algn="l" pos="1400040"/>
                <a:tab algn="l" pos="1600200"/>
                <a:tab algn="l" pos="1800360"/>
                <a:tab algn="l" pos="2000160"/>
                <a:tab algn="l" pos="2200320"/>
                <a:tab algn="l" pos="2400480"/>
                <a:tab algn="l" pos="2600280"/>
                <a:tab algn="l" pos="2800440"/>
                <a:tab algn="l" pos="3000240"/>
                <a:tab algn="l" pos="3200400"/>
                <a:tab algn="l" pos="3400560"/>
                <a:tab algn="l" pos="3600360"/>
                <a:tab algn="l" pos="3800520"/>
                <a:tab algn="l" pos="4000680"/>
                <a:tab algn="l" pos="4200480"/>
                <a:tab algn="l" pos="4400640"/>
                <a:tab algn="l" pos="4600440"/>
                <a:tab algn="l" pos="48006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Angsana New"/>
              </a:rPr>
              <a:t>จีนเลิกการให้นำเข้าทุเรียนมะม่วงจากสวนที่รับรอ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533520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1000080"/>
                <a:tab algn="l" pos="1200240"/>
                <a:tab algn="l" pos="1400040"/>
                <a:tab algn="l" pos="1600200"/>
                <a:tab algn="l" pos="1800360"/>
                <a:tab algn="l" pos="2000160"/>
                <a:tab algn="l" pos="2200320"/>
                <a:tab algn="l" pos="2400480"/>
                <a:tab algn="l" pos="2600280"/>
                <a:tab algn="l" pos="2800440"/>
                <a:tab algn="l" pos="3000240"/>
                <a:tab algn="l" pos="3200400"/>
                <a:tab algn="l" pos="3400560"/>
                <a:tab algn="l" pos="3600360"/>
                <a:tab algn="l" pos="3800520"/>
                <a:tab algn="l" pos="4000680"/>
                <a:tab algn="l" pos="4200480"/>
                <a:tab algn="l" pos="4400640"/>
                <a:tab algn="l" pos="4600440"/>
                <a:tab algn="l" pos="48006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Angsana New"/>
              </a:rPr>
              <a:t>จีนยกเลิกการอบไอน้ำสำหรับมะม่วง  เพียงกำหนดให้รับรองการปลอดแมลงวันผลไม้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(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Angsana New"/>
              </a:rPr>
              <a:t>มีผลกลางปี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254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533520"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1000080"/>
                <a:tab algn="l" pos="1200240"/>
                <a:tab algn="l" pos="1400040"/>
                <a:tab algn="l" pos="1600200"/>
                <a:tab algn="l" pos="1800360"/>
                <a:tab algn="l" pos="2000160"/>
                <a:tab algn="l" pos="2200320"/>
                <a:tab algn="l" pos="2400480"/>
                <a:tab algn="l" pos="2600280"/>
                <a:tab algn="l" pos="2800440"/>
                <a:tab algn="l" pos="3000240"/>
                <a:tab algn="l" pos="3200400"/>
                <a:tab algn="l" pos="3400560"/>
                <a:tab algn="l" pos="3600360"/>
                <a:tab algn="l" pos="3800520"/>
                <a:tab algn="l" pos="4000680"/>
                <a:tab algn="l" pos="4200480"/>
                <a:tab algn="l" pos="4400640"/>
                <a:tab algn="l" pos="4600440"/>
                <a:tab algn="l" pos="48006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Angsana New"/>
              </a:rPr>
              <a:t>ไทย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-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Angsana New"/>
              </a:rPr>
              <a:t>จีน จัดทำ 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Protocol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Angsana New"/>
              </a:rPr>
              <a:t>ส่งออกผลไม้ระหว่างกั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533520"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1000080"/>
                <a:tab algn="l" pos="1200240"/>
                <a:tab algn="l" pos="1400040"/>
                <a:tab algn="l" pos="1600200"/>
                <a:tab algn="l" pos="1800360"/>
                <a:tab algn="l" pos="2000160"/>
                <a:tab algn="l" pos="2200320"/>
                <a:tab algn="l" pos="2400480"/>
                <a:tab algn="l" pos="2600280"/>
                <a:tab algn="l" pos="2800440"/>
                <a:tab algn="l" pos="3000240"/>
                <a:tab algn="l" pos="3200400"/>
                <a:tab algn="l" pos="3400560"/>
                <a:tab algn="l" pos="3600360"/>
                <a:tab algn="l" pos="3800520"/>
                <a:tab algn="l" pos="4000680"/>
                <a:tab algn="l" pos="4200480"/>
                <a:tab algn="l" pos="4400640"/>
                <a:tab algn="l" pos="4600440"/>
                <a:tab algn="l" pos="48006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Angsana New"/>
              </a:rPr>
              <a:t>ไทย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-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Angsana New"/>
              </a:rPr>
              <a:t>จีน จัดตั้ง 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Hot Lines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Angsana New"/>
              </a:rPr>
              <a:t>เพื่อแก้ปัญหาการค้าผลไม้ 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(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Angsana New"/>
              </a:rPr>
              <a:t>ดำเนินการปี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254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220000"/>
              </a:lnSpc>
              <a:buClr>
                <a:srgbClr val="ffffff"/>
              </a:buClr>
              <a:buFont typeface="Angsana New"/>
              <a:buAutoNum type="arabicPeriod" startAt="2"/>
              <a:tabLst>
                <a:tab algn="l" pos="600120"/>
                <a:tab algn="l" pos="800280"/>
                <a:tab algn="l" pos="1000080"/>
                <a:tab algn="l" pos="1200240"/>
                <a:tab algn="l" pos="1400040"/>
                <a:tab algn="l" pos="1600200"/>
                <a:tab algn="l" pos="1800360"/>
                <a:tab algn="l" pos="2000160"/>
                <a:tab algn="l" pos="2200320"/>
                <a:tab algn="l" pos="2400480"/>
                <a:tab algn="l" pos="2600280"/>
                <a:tab algn="l" pos="2800440"/>
                <a:tab algn="l" pos="3000240"/>
                <a:tab algn="l" pos="3200400"/>
                <a:tab algn="l" pos="3400560"/>
                <a:tab algn="l" pos="3600360"/>
                <a:tab algn="l" pos="3800520"/>
                <a:tab algn="l" pos="4000680"/>
                <a:tab algn="l" pos="4200480"/>
                <a:tab algn="l" pos="440064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ลดขั้นตอนการตรวจสอบโดยการจัดทำ </a:t>
            </a: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MRA / Fast La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ffffff"/>
              </a:buClr>
              <a:buFont typeface="Angsana New"/>
              <a:buAutoNum type="arabicPeriod" startAt="2"/>
              <a:tabLst>
                <a:tab algn="l" pos="600120"/>
                <a:tab algn="l" pos="800280"/>
                <a:tab algn="l" pos="1000080"/>
                <a:tab algn="l" pos="1200240"/>
                <a:tab algn="l" pos="1400040"/>
                <a:tab algn="l" pos="1600200"/>
                <a:tab algn="l" pos="1800360"/>
                <a:tab algn="l" pos="2000160"/>
                <a:tab algn="l" pos="2200320"/>
                <a:tab algn="l" pos="2400480"/>
                <a:tab algn="l" pos="2600280"/>
                <a:tab algn="l" pos="2800440"/>
                <a:tab algn="l" pos="3000240"/>
                <a:tab algn="l" pos="3200400"/>
                <a:tab algn="l" pos="3400560"/>
                <a:tab algn="l" pos="3600360"/>
                <a:tab algn="l" pos="3800520"/>
                <a:tab algn="l" pos="4000680"/>
                <a:tab algn="l" pos="4200480"/>
                <a:tab algn="l" pos="440064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สนับสนุนให้เกิดการตรวจสอบคุณภาพสินค้านำเข้าอย่างเข้มงวดยิ่งขึ้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9097920" cy="87948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0000" y="84240"/>
            <a:ext cx="838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ngsana New"/>
              </a:rPr>
              <a:t>FTA: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ผลต่อภาคการเกษตรของไทย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ต่อ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868320"/>
            <a:ext cx="8458200" cy="55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>
              <a:lnSpc>
                <a:spcPct val="120000"/>
              </a:lnSpc>
              <a:tabLst>
                <a:tab algn="l" pos="0"/>
                <a:tab algn="l" pos="600120"/>
                <a:tab algn="l" pos="800280"/>
                <a:tab algn="l" pos="1000080"/>
                <a:tab algn="l" pos="1200240"/>
                <a:tab algn="l" pos="1400040"/>
                <a:tab algn="l" pos="1600200"/>
                <a:tab algn="l" pos="1800360"/>
                <a:tab algn="l" pos="2000160"/>
                <a:tab algn="l" pos="2200320"/>
                <a:tab algn="l" pos="2400480"/>
                <a:tab algn="l" pos="2600280"/>
                <a:tab algn="l" pos="2800440"/>
                <a:tab algn="l" pos="3000240"/>
                <a:tab algn="l" pos="3200400"/>
                <a:tab algn="l" pos="3400560"/>
                <a:tab algn="l" pos="3600360"/>
                <a:tab algn="l" pos="3800520"/>
                <a:tab algn="l" pos="4000680"/>
                <a:tab algn="l" pos="4200480"/>
                <a:tab algn="l" pos="440064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5.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เร่งรัดให้เกิดการปรับโครงสร้างการผลิตสินค้าเกษตรในส่วนที่จำเป็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80000"/>
              </a:lnSpc>
              <a:tabLst>
                <a:tab algn="l" pos="0"/>
                <a:tab algn="l" pos="600120"/>
                <a:tab algn="l" pos="800280"/>
                <a:tab algn="l" pos="1000080"/>
                <a:tab algn="l" pos="1200240"/>
                <a:tab algn="l" pos="1400040"/>
                <a:tab algn="l" pos="1600200"/>
                <a:tab algn="l" pos="1800360"/>
                <a:tab algn="l" pos="2000160"/>
                <a:tab algn="l" pos="2200320"/>
                <a:tab algn="l" pos="2400480"/>
                <a:tab algn="l" pos="2600280"/>
                <a:tab algn="l" pos="2800440"/>
                <a:tab algn="l" pos="3000240"/>
                <a:tab algn="l" pos="3200400"/>
                <a:tab algn="l" pos="3400560"/>
                <a:tab algn="l" pos="3600360"/>
                <a:tab algn="l" pos="3800520"/>
                <a:tab algn="l" pos="4000680"/>
                <a:tab algn="l" pos="4200480"/>
                <a:tab algn="l" pos="440064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6.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ส่งผลให้เกษตรกรเพิ่ม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/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รักษาคุณภาพการผลิ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80000"/>
              </a:lnSpc>
              <a:buClr>
                <a:srgbClr val="ffffff"/>
              </a:buClr>
              <a:buFont typeface="Angsana New"/>
              <a:buAutoNum type="arabicPeriod" startAt="7"/>
              <a:tabLst>
                <a:tab algn="l" pos="600120"/>
                <a:tab algn="l" pos="800280"/>
                <a:tab algn="l" pos="1000080"/>
                <a:tab algn="l" pos="1200240"/>
                <a:tab algn="l" pos="1400040"/>
                <a:tab algn="l" pos="1600200"/>
                <a:tab algn="l" pos="1800360"/>
                <a:tab algn="l" pos="2000160"/>
                <a:tab algn="l" pos="2200320"/>
                <a:tab algn="l" pos="2400480"/>
                <a:tab algn="l" pos="2600280"/>
                <a:tab algn="l" pos="2800440"/>
                <a:tab algn="l" pos="3000240"/>
                <a:tab algn="l" pos="3200400"/>
                <a:tab algn="l" pos="3400560"/>
                <a:tab algn="l" pos="3600360"/>
                <a:tab algn="l" pos="3800520"/>
                <a:tab algn="l" pos="4000680"/>
                <a:tab algn="l" pos="4200480"/>
                <a:tab algn="l" pos="440064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กระตุ้นให้เกิดการพัฒนาวิทยาการในด้านต่าง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80000"/>
              </a:lnSpc>
              <a:buClr>
                <a:srgbClr val="ffffff"/>
              </a:buClr>
              <a:buFont typeface="Angsana New"/>
              <a:buAutoNum type="arabicPeriod" startAt="7"/>
              <a:tabLst>
                <a:tab algn="l" pos="600120"/>
                <a:tab algn="l" pos="800280"/>
                <a:tab algn="l" pos="1000080"/>
                <a:tab algn="l" pos="1200240"/>
                <a:tab algn="l" pos="1400040"/>
                <a:tab algn="l" pos="1600200"/>
                <a:tab algn="l" pos="1800360"/>
                <a:tab algn="l" pos="2000160"/>
                <a:tab algn="l" pos="2200320"/>
                <a:tab algn="l" pos="2400480"/>
                <a:tab algn="l" pos="2600280"/>
                <a:tab algn="l" pos="2800440"/>
                <a:tab algn="l" pos="3000240"/>
                <a:tab algn="l" pos="3200400"/>
                <a:tab algn="l" pos="3400560"/>
                <a:tab algn="l" pos="3600360"/>
                <a:tab algn="l" pos="3800520"/>
                <a:tab algn="l" pos="4000680"/>
                <a:tab algn="l" pos="4200480"/>
                <a:tab algn="l" pos="440064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สนับสนุนการผลิตเพื่อได้ผลตอบแทนที่มากกว่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70000"/>
              </a:lnSpc>
              <a:buClr>
                <a:srgbClr val="ffffff"/>
              </a:buClr>
              <a:buFont typeface="Angsana New"/>
              <a:buAutoNum type="arabicPeriod" startAt="7"/>
              <a:tabLst>
                <a:tab algn="l" pos="600120"/>
                <a:tab algn="l" pos="800280"/>
                <a:tab algn="l" pos="1000080"/>
                <a:tab algn="l" pos="1200240"/>
                <a:tab algn="l" pos="1400040"/>
                <a:tab algn="l" pos="1600200"/>
                <a:tab algn="l" pos="1800360"/>
                <a:tab algn="l" pos="2000160"/>
                <a:tab algn="l" pos="2200320"/>
                <a:tab algn="l" pos="2400480"/>
                <a:tab algn="l" pos="2600280"/>
                <a:tab algn="l" pos="2800440"/>
                <a:tab algn="l" pos="3000240"/>
                <a:tab algn="l" pos="3200400"/>
                <a:tab algn="l" pos="3400560"/>
                <a:tab algn="l" pos="3600360"/>
                <a:tab algn="l" pos="3800520"/>
                <a:tab algn="l" pos="4000680"/>
                <a:tab algn="l" pos="4200480"/>
                <a:tab algn="l" pos="440064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ส่งเสริมให้มีการขยายงานวิจัยและพัฒนาด้านการเกษต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9097920" cy="87948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0000" y="84240"/>
            <a:ext cx="838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ngsana New"/>
              </a:rPr>
              <a:t>FTA: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ผลต่อภาคการเกษตรของไทย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ต่อ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04920" y="1143000"/>
            <a:ext cx="8534160" cy="3581280"/>
          </a:xfrm>
          <a:prstGeom prst="ellipse">
            <a:avLst/>
          </a:prstGeom>
          <a:solidFill>
            <a:srgbClr val="3399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7520" y="1484280"/>
            <a:ext cx="8001000" cy="280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e3e3ff"/>
                </a:solidFill>
                <a:latin typeface="Arial"/>
              </a:rPr>
              <a:t>สินค้าเกษตรและอาหารของไทย</a:t>
            </a:r>
            <a:br>
              <a:rPr sz="5400"/>
            </a:br>
            <a:r>
              <a:rPr b="1" lang="th-TH" sz="5400" spc="-1" strike="noStrike">
                <a:solidFill>
                  <a:srgbClr val="e3e3ff"/>
                </a:solidFill>
                <a:latin typeface="Arial"/>
              </a:rPr>
              <a:t>ที่ถูกจัดเป็นรายการสินค้าอ่อนไหว</a:t>
            </a:r>
            <a:br>
              <a:rPr sz="5400"/>
            </a:br>
            <a:r>
              <a:rPr b="1" lang="th-TH" sz="5400" spc="-1" strike="noStrike">
                <a:solidFill>
                  <a:srgbClr val="e3e3ff"/>
                </a:solidFill>
                <a:latin typeface="Arial"/>
              </a:rPr>
              <a:t>ของประเทศคู่เจรจา </a:t>
            </a:r>
            <a:r>
              <a:rPr b="1" lang="en-US" sz="5400" spc="-1" strike="noStrike">
                <a:solidFill>
                  <a:srgbClr val="e3e3ff"/>
                </a:solidFill>
                <a:latin typeface="Angsana New"/>
              </a:rPr>
              <a:t>FTA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85800" y="457200"/>
            <a:ext cx="140976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463416">
                      <a:alpha val="80000"/>
                    </a:srgbClr>
                  </a:outerShdw>
                </a:effectLst>
                <a:latin typeface="Angsana New"/>
              </a:rPr>
              <a:t>ส่วนที่ 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463416">
                      <a:alpha val="80000"/>
                    </a:srgbClr>
                  </a:outerShdw>
                </a:effectLst>
                <a:latin typeface="Angsana New"/>
              </a:rPr>
              <a:t>2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463416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097920" cy="117324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-807120" y="1440"/>
            <a:ext cx="1095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สินค้าเกษตรและอาหารของไท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ที่ถูกจัดเป็นรายการสินค้าอ่อนไหวของประเทศคู่เจรจา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F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31920" y="188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e3e3ff"/>
                </a:solidFill>
                <a:latin typeface="Arial"/>
              </a:rPr>
              <a:t>ตัวอย่างสินค้าเกษตรที่ไทยอยากได้แต่ญี่ปุ่นไม่ยอม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9240" y="3038400"/>
            <a:ext cx="870732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น้ำตาลทรายดิบ     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: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ญี่ปุ่นเสนอให้นำกลับมาเจรจาใหม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สับปะรดกระป๋อง   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: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ญี่ปุ่นเสนอให้นำกลับมาเจรจาใหม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แป้งมันสำปะหลังดิบ  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: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ญี่ปุ่นเสนอให้นำกลับมาเจรจาใหม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ปลาหมึกกระป๋อง     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: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ญี่ปุ่นยกออกจากการเจรจ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ผลิตภัณฑ์ข้าวและน้ำตาล 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: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ญี่ปุ่นยกออกจากการเจรจ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38000" y="1338120"/>
            <a:ext cx="184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ngsana New"/>
              </a:rPr>
              <a:t> 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ไทย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-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ญี่ปุ่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7062840" y="1393920"/>
            <a:ext cx="469800" cy="4143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7">
            <a:lum contrast="44000"/>
          </a:blip>
          <a:stretch/>
        </p:blipFill>
        <p:spPr>
          <a:xfrm>
            <a:off x="8562960" y="1459080"/>
            <a:ext cx="436680" cy="333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097920" cy="117324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807120" y="1440"/>
            <a:ext cx="1095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สินค้าเกษตรและอาหารของไท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ที่ถูกจัดเป็นรายการสินค้าอ่อนไหวของประเทศคู่เจรจา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F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763720" y="2567160"/>
            <a:ext cx="4761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น้ำตาลทรายดิบ     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ผลไม้สดแช่เย็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ปลาทูน่าและอาหารทะเลกระป๋อ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สับปะรดและผักผลไม้กระป๋อ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น้ำสับปะรดกระป๋อ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ถั่วลิส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32560" y="1422360"/>
            <a:ext cx="206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ngsana New"/>
              </a:rPr>
              <a:t> 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ไทย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-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สหรัฐ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7"/>
          <a:stretch/>
        </p:blipFill>
        <p:spPr>
          <a:xfrm>
            <a:off x="6562800" y="1477800"/>
            <a:ext cx="469800" cy="4143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8"/>
          <a:stretch/>
        </p:blipFill>
        <p:spPr>
          <a:xfrm>
            <a:off x="8323200" y="1542960"/>
            <a:ext cx="412920" cy="3049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9"/>
          <a:stretch/>
        </p:blipFill>
        <p:spPr>
          <a:xfrm>
            <a:off x="519120" y="1711440"/>
            <a:ext cx="2808360" cy="5126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871560" y="1739880"/>
            <a:ext cx="23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ngsana New"/>
              </a:rPr>
              <a:t> </a:t>
            </a:r>
            <a:r>
              <a:rPr b="1" lang="hi-IN" sz="3300" spc="-1" strike="noStrike">
                <a:solidFill>
                  <a:srgbClr val="0000ff"/>
                </a:solidFill>
                <a:latin typeface="Angsana New"/>
              </a:rPr>
              <a:t>ตัวอย่างสินค้า</a:t>
            </a:r>
            <a:r>
              <a:rPr b="1" lang="en-US" sz="3600" spc="-1" strike="noStrike">
                <a:solidFill>
                  <a:srgbClr val="cc0000"/>
                </a:solidFill>
                <a:latin typeface="Angsana New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9097920" cy="117324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-807120" y="1440"/>
            <a:ext cx="1095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สินค้าเกษตรและอาหารของไท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ที่ถูกจัดเป็นรายการสินค้าอ่อนไหวของประเทศคู่เจรจา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F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4880" y="2590920"/>
            <a:ext cx="4167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ไก่สดแช่เย็นแช่แข็ง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ปลาสดแช่เย็นแช่แข็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นมและผลิตภัณฑ์น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ผักผลไม้สด แช่เย็น แช่แข็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ข้าว ผลิตภัณฑ์ข้า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น้ำมันพื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91160" y="1422360"/>
            <a:ext cx="20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ngsana New"/>
              </a:rPr>
              <a:t> 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ไทย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-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อินเดี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7"/>
          <a:stretch/>
        </p:blipFill>
        <p:spPr>
          <a:xfrm>
            <a:off x="6562800" y="1477800"/>
            <a:ext cx="469800" cy="414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-1113480" y="1820880"/>
            <a:ext cx="95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e3e3ff"/>
                </a:solidFill>
                <a:latin typeface="Arial"/>
              </a:rPr>
              <a:t>ตัวอย่างสินค้าที่อินเดียให้ไว้ในการเจรจา </a:t>
            </a:r>
            <a:r>
              <a:rPr b="1" lang="en-US" sz="3600" spc="-1" strike="noStrike">
                <a:solidFill>
                  <a:srgbClr val="e3e3ff"/>
                </a:solidFill>
                <a:latin typeface="Angsana New"/>
              </a:rPr>
              <a:t>BIMSTE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8"/>
          <a:stretch/>
        </p:blipFill>
        <p:spPr>
          <a:xfrm>
            <a:off x="8201160" y="1569960"/>
            <a:ext cx="361800" cy="2574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5083200" y="2560680"/>
            <a:ext cx="26733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ปลาทูน่ากระป๋อ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น้ำตา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โกโก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ผลไม้กระป๋อ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เครื่องดื่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อาหารสัตว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9097920" cy="117324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-807120" y="1440"/>
            <a:ext cx="1095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สินค้าเกษตรและอาหารของไท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ที่ถูกจัดเป็นรายการสินค้าอ่อนไหวของประเทศคู่เจรจา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F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2514600"/>
            <a:ext cx="4761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ข้า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น้ำตาล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ผลิตภัณฑ์นม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ข้าวโพด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ผลิตภัณฑ์ไก่และสัตว์อื่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92400" y="14382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ngsana New"/>
              </a:rPr>
              <a:t> 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ไทย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-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เปร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6562800" y="1477800"/>
            <a:ext cx="469800" cy="4143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7"/>
          <a:stretch/>
        </p:blipFill>
        <p:spPr>
          <a:xfrm>
            <a:off x="8129520" y="1508040"/>
            <a:ext cx="476280" cy="3524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8"/>
          <a:stretch/>
        </p:blipFill>
        <p:spPr>
          <a:xfrm>
            <a:off x="519120" y="1711440"/>
            <a:ext cx="2808360" cy="5126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871560" y="1739880"/>
            <a:ext cx="23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ngsana New"/>
              </a:rPr>
              <a:t> </a:t>
            </a:r>
            <a:r>
              <a:rPr b="1" lang="hi-IN" sz="3300" spc="-1" strike="noStrike">
                <a:solidFill>
                  <a:srgbClr val="0000ff"/>
                </a:solidFill>
                <a:latin typeface="Angsana New"/>
              </a:rPr>
              <a:t>ตัวอย่างสินค้า</a:t>
            </a:r>
            <a:r>
              <a:rPr b="1" lang="en-US" sz="3600" spc="-1" strike="noStrike">
                <a:solidFill>
                  <a:srgbClr val="cc0000"/>
                </a:solidFill>
                <a:latin typeface="Angsana New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04920" y="1282680"/>
            <a:ext cx="8534160" cy="2006640"/>
          </a:xfrm>
          <a:prstGeom prst="ellipse">
            <a:avLst/>
          </a:prstGeom>
          <a:solidFill>
            <a:srgbClr val="3399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135576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e3e3ff"/>
                </a:solidFill>
                <a:latin typeface="Arial"/>
              </a:rPr>
              <a:t>สิ่งที่ต้องระวังในการเปิดเสรี </a:t>
            </a: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FTA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5800" y="457200"/>
            <a:ext cx="140976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463416">
                      <a:alpha val="80000"/>
                    </a:srgbClr>
                  </a:outerShdw>
                </a:effectLst>
                <a:latin typeface="Angsana New"/>
              </a:rPr>
              <a:t>ส่วนที่ 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463416">
                      <a:alpha val="80000"/>
                    </a:srgbClr>
                  </a:outerShdw>
                </a:effectLst>
                <a:latin typeface="Angsana New"/>
              </a:rPr>
              <a:t>3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463416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261" name=""/>
          <p:cNvSpPr/>
          <p:nvPr/>
        </p:nvSpPr>
        <p:spPr>
          <a:xfrm>
            <a:off x="577800" y="4216320"/>
            <a:ext cx="8434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3.2 </a:t>
            </a:r>
            <a:r>
              <a:rPr b="1" lang="hi-IN" sz="3600" spc="-1" strike="noStrike">
                <a:solidFill>
                  <a:srgbClr val="e3e3ff"/>
                </a:solidFill>
                <a:latin typeface="Arial"/>
              </a:rPr>
              <a:t>สินค้าอาหารบางชนิดของไทยใช้วัตถุดิบในประเทศ            ไม่เพียงพอที่จะได้แหล่งกำเนิดสินค้าไท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1280" y="542124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3.3 </a:t>
            </a:r>
            <a:r>
              <a:rPr b="1" lang="hi-IN" sz="3600" spc="-1" strike="noStrike">
                <a:solidFill>
                  <a:srgbClr val="e3e3ff"/>
                </a:solidFill>
                <a:latin typeface="Arial"/>
              </a:rPr>
              <a:t>การตั้งกฎแหล่งกำเนิดสินค้าที่เข้มงว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81040" y="3465360"/>
            <a:ext cx="809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3.1 </a:t>
            </a:r>
            <a:r>
              <a:rPr b="1" lang="hi-IN" sz="3600" spc="-1" strike="noStrike">
                <a:solidFill>
                  <a:srgbClr val="e3e3ff"/>
                </a:solidFill>
                <a:latin typeface="Arial"/>
              </a:rPr>
              <a:t>ความสัมพันธ์ระหว่างกฎว่าด้วยแหล่งกำเนิดสินค้าและภาษ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9097920" cy="108108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5659560" y="1444680"/>
            <a:ext cx="3484440" cy="32893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611280" y="1844640"/>
            <a:ext cx="7848360" cy="3960720"/>
          </a:xfrm>
          <a:prstGeom prst="ellipse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5920" y="2536920"/>
            <a:ext cx="7340400" cy="24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ประเทศที่</a:t>
            </a:r>
            <a:r>
              <a:rPr b="1" lang="th-TH" sz="4400" spc="-1" strike="noStrike">
                <a:solidFill>
                  <a:srgbClr val="ccff33"/>
                </a:solidFill>
                <a:latin typeface="Angsana New"/>
              </a:rPr>
              <a:t>ได้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แหล่งกำเนิดสินค้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4400" spc="-1" strike="noStrike">
                <a:solidFill>
                  <a:srgbClr val="ccff33"/>
                </a:solidFill>
                <a:latin typeface="Angsana New"/>
              </a:rPr>
              <a:t>จะได้สิทธิประโยชน์ทางด้านภาษ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ตามข้อตกลง  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F T 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228600"/>
            <a:ext cx="809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3.1 </a:t>
            </a:r>
            <a:r>
              <a:rPr b="1" lang="hi-IN" sz="3600" spc="-1" strike="noStrike">
                <a:solidFill>
                  <a:srgbClr val="e3e3ff"/>
                </a:solidFill>
                <a:latin typeface="Arial"/>
              </a:rPr>
              <a:t>ความสัมพันธ์ระหว่างกฎว่าด้วยแหล่งกำเนิดสินค้าและภาษ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920" y="1523880"/>
            <a:ext cx="8534160" cy="2971800"/>
          </a:xfrm>
          <a:prstGeom prst="ellipse">
            <a:avLst/>
          </a:prstGeom>
          <a:solidFill>
            <a:srgbClr val="33ccc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73040" y="176220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e3e3ff"/>
                </a:solidFill>
                <a:latin typeface="Arial"/>
              </a:rPr>
              <a:t>ความสามารถในการแข่งขันของไทย</a:t>
            </a:r>
            <a:br>
              <a:rPr sz="4800"/>
            </a:br>
            <a:r>
              <a:rPr b="1" lang="hi-IN" sz="4800" spc="-1" strike="noStrike">
                <a:solidFill>
                  <a:srgbClr val="e3e3ff"/>
                </a:solidFill>
                <a:latin typeface="Arial"/>
              </a:rPr>
              <a:t>เพื่อรับประโยชน์ด้านภาษี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592280" y="3663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Arial"/>
              </a:rPr>
              <a:t>สำหรับสินค้าเกษตรและอาหา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3520" y="457200"/>
            <a:ext cx="140976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463416">
                      <a:alpha val="80000"/>
                    </a:srgbClr>
                  </a:outerShdw>
                </a:effectLst>
                <a:latin typeface="Angsana New"/>
              </a:rPr>
              <a:t>ส่วนที่ </a:t>
            </a:r>
            <a:r>
              <a:rPr b="1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463416">
                      <a:alpha val="80000"/>
                    </a:srgbClr>
                  </a:outerShdw>
                </a:effectLst>
                <a:latin typeface="Angsana New"/>
              </a:rPr>
              <a:t>1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463416">
                    <a:alpha val="80000"/>
                  </a:srgbClr>
                </a:outerShdw>
              </a:effectLst>
              <a:latin typeface="Angsana New"/>
              <a:ea typeface="Angsana New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808360" cy="5130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-827280" y="1052640"/>
            <a:ext cx="930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กฎแหล่งกำเนิดสินค้าของการทำ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FTA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ไทย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-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ออสเตรเลีย</a:t>
            </a: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715000" y="7174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3360" y="289080"/>
            <a:ext cx="23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ngsana New"/>
              </a:rPr>
              <a:t> </a:t>
            </a:r>
            <a:r>
              <a:rPr b="1" lang="hi-IN" sz="3300" spc="-1" strike="noStrike">
                <a:solidFill>
                  <a:srgbClr val="0000ff"/>
                </a:solidFill>
                <a:latin typeface="Angsana New"/>
              </a:rPr>
              <a:t>ตัวอย่างสมมุติ</a:t>
            </a:r>
            <a:r>
              <a:rPr b="1" lang="en-US" sz="3600" spc="-1" strike="noStrike">
                <a:solidFill>
                  <a:srgbClr val="cc0000"/>
                </a:solidFill>
                <a:latin typeface="Angsana New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-39960" y="1762200"/>
            <a:ext cx="953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กำหนดให้ต้องผลิตสินค้าโดยใช้สัดส่วนวัตถุดิบในประเทศ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ngsana New"/>
              </a:rPr>
              <a:t>(Local Content: LC)</a:t>
            </a:r>
            <a:r>
              <a:rPr b="1" lang="th-TH" sz="3200" spc="-1" strike="noStrike">
                <a:solidFill>
                  <a:srgbClr val="66ffff"/>
                </a:solidFill>
                <a:latin typeface="Angsana New"/>
              </a:rPr>
              <a:t> 50</a:t>
            </a:r>
            <a:r>
              <a:rPr b="1" lang="en-US" sz="3200" spc="-1" strike="noStrike">
                <a:solidFill>
                  <a:srgbClr val="66ffff"/>
                </a:solidFill>
                <a:latin typeface="Angsana New"/>
              </a:rPr>
              <a:t>%</a:t>
            </a:r>
            <a:r>
              <a:rPr b="1" lang="th-TH" sz="3200" spc="-1" strike="noStrike">
                <a:solidFill>
                  <a:srgbClr val="66ffff"/>
                </a:solidFill>
                <a:latin typeface="Angsana New"/>
              </a:rPr>
              <a:t> </a:t>
            </a:r>
            <a:r>
              <a:rPr b="1" lang="th-TH" sz="2400" spc="-1" strike="noStrike">
                <a:solidFill>
                  <a:srgbClr val="66ffff"/>
                </a:solidFill>
                <a:latin typeface="Angsana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19240" y="2895480"/>
            <a:ext cx="8781840" cy="2865600"/>
          </a:xfrm>
          <a:prstGeom prst="rect">
            <a:avLst/>
          </a:prstGeom>
          <a:solidFill>
            <a:srgbClr val="99ccff">
              <a:alpha val="19000"/>
            </a:srgbClr>
          </a:solidFill>
          <a:ln cap="sq"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27080" y="5800680"/>
            <a:ext cx="1905120" cy="642960"/>
          </a:xfrm>
          <a:prstGeom prst="flowChartExtra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Orig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4114800" y="3352680"/>
            <a:ext cx="1295280" cy="914400"/>
            <a:chOff x="4114800" y="3352680"/>
            <a:chExt cx="1295280" cy="914400"/>
          </a:xfrm>
        </p:grpSpPr>
        <p:sp>
          <p:nvSpPr>
            <p:cNvPr id="277" name=""/>
            <p:cNvSpPr/>
            <p:nvPr/>
          </p:nvSpPr>
          <p:spPr>
            <a:xfrm>
              <a:off x="4114800" y="3352680"/>
              <a:ext cx="1295280" cy="914400"/>
            </a:xfrm>
            <a:prstGeom prst="rightArrow">
              <a:avLst>
                <a:gd name="adj1" fmla="val 62269"/>
                <a:gd name="adj2" fmla="val 42299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545454"/>
                </a:gs>
                <a:gs pos="100000">
                  <a:srgbClr val="ffffff"/>
                </a:gs>
              </a:gsLst>
              <a:lin ang="5400000"/>
            </a:gradFill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58360" y="3476520"/>
              <a:ext cx="85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ngsana New"/>
                </a:rPr>
                <a:t>0%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6380280" y="5761080"/>
            <a:ext cx="1904760" cy="642960"/>
          </a:xfrm>
          <a:prstGeom prst="flowChartExtra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Orig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53360" y="3352680"/>
            <a:ext cx="3614400" cy="2057400"/>
            <a:chOff x="153360" y="3352680"/>
            <a:chExt cx="3614400" cy="2057400"/>
          </a:xfrm>
        </p:grpSpPr>
        <p:sp>
          <p:nvSpPr>
            <p:cNvPr id="281" name=""/>
            <p:cNvSpPr/>
            <p:nvPr/>
          </p:nvSpPr>
          <p:spPr>
            <a:xfrm>
              <a:off x="380880" y="3352680"/>
              <a:ext cx="3353040" cy="2057400"/>
            </a:xfrm>
            <a:prstGeom prst="flowChartAlternateProcess">
              <a:avLst/>
            </a:prstGeom>
            <a:solidFill>
              <a:srgbClr val="969696">
                <a:alpha val="50000"/>
              </a:srgbClr>
            </a:solidFill>
            <a:ln cap="sq"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53360" y="3552840"/>
              <a:ext cx="3614400" cy="18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ffffff"/>
                  </a:solidFill>
                  <a:latin typeface="Angsana New"/>
                </a:rPr>
                <a:t>ไทย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ffffff"/>
                  </a:solidFill>
                  <a:latin typeface="Angsana New"/>
                </a:rPr>
                <a:t>ผลิตผลไม้กระป๋อง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ffffff"/>
                  </a:solidFill>
                  <a:latin typeface="Angsana New"/>
                </a:rPr>
                <a:t>ได้ </a:t>
              </a:r>
              <a:r>
                <a:rPr b="1" lang="en-US" sz="4000" spc="-1" strike="noStrike">
                  <a:solidFill>
                    <a:srgbClr val="66ffff"/>
                  </a:solidFill>
                  <a:latin typeface="Angsana New"/>
                </a:rPr>
                <a:t>LC &gt;</a:t>
              </a:r>
              <a:r>
                <a:rPr b="1" lang="th-TH" sz="4000" spc="-1" strike="noStrike">
                  <a:solidFill>
                    <a:srgbClr val="66ffff"/>
                  </a:solidFill>
                  <a:latin typeface="Angsana New"/>
                </a:rPr>
                <a:t> </a:t>
              </a:r>
              <a:r>
                <a:rPr b="1" lang="en-US" sz="4000" spc="-1" strike="noStrike">
                  <a:solidFill>
                    <a:srgbClr val="66ffff"/>
                  </a:solidFill>
                  <a:latin typeface="Angsana New"/>
                </a:rPr>
                <a:t>50%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3" name="" descr=""/>
            <p:cNvPicPr/>
            <p:nvPr/>
          </p:nvPicPr>
          <p:blipFill>
            <a:blip r:embed="rId2">
              <a:lum contrast="42000"/>
            </a:blip>
            <a:stretch/>
          </p:blipFill>
          <p:spPr>
            <a:xfrm>
              <a:off x="609480" y="3505320"/>
              <a:ext cx="730440" cy="51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4" name=""/>
          <p:cNvGrpSpPr/>
          <p:nvPr/>
        </p:nvGrpSpPr>
        <p:grpSpPr>
          <a:xfrm>
            <a:off x="5562720" y="3352680"/>
            <a:ext cx="3352680" cy="2057400"/>
            <a:chOff x="5562720" y="3352680"/>
            <a:chExt cx="3352680" cy="2057400"/>
          </a:xfrm>
        </p:grpSpPr>
        <p:sp>
          <p:nvSpPr>
            <p:cNvPr id="285" name=""/>
            <p:cNvSpPr/>
            <p:nvPr/>
          </p:nvSpPr>
          <p:spPr>
            <a:xfrm>
              <a:off x="5562720" y="3352680"/>
              <a:ext cx="3352680" cy="2057400"/>
            </a:xfrm>
            <a:prstGeom prst="flowChartAlternateProcess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84760" y="3552840"/>
              <a:ext cx="3024360" cy="18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ffffff"/>
                  </a:solidFill>
                  <a:latin typeface="Angsana New"/>
                </a:rPr>
                <a:t>ออสเตรเลีย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ffffff"/>
                  </a:solidFill>
                  <a:latin typeface="Angsana New"/>
                </a:rPr>
                <a:t>ผลิตรถยนต์นั่ง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ffffff"/>
                  </a:solidFill>
                  <a:latin typeface="Angsana New"/>
                </a:rPr>
                <a:t>ได้ </a:t>
              </a:r>
              <a:r>
                <a:rPr b="1" lang="en-US" sz="4000" spc="-1" strike="noStrike">
                  <a:solidFill>
                    <a:srgbClr val="66ffff"/>
                  </a:solidFill>
                  <a:latin typeface="Angsana New"/>
                </a:rPr>
                <a:t>LC &gt;</a:t>
              </a:r>
              <a:r>
                <a:rPr b="1" lang="th-TH" sz="4000" spc="-1" strike="noStrike">
                  <a:solidFill>
                    <a:srgbClr val="66ffff"/>
                  </a:solidFill>
                  <a:latin typeface="Angsana New"/>
                </a:rPr>
                <a:t> 5</a:t>
              </a:r>
              <a:r>
                <a:rPr b="1" lang="en-US" sz="4000" spc="-1" strike="noStrike">
                  <a:solidFill>
                    <a:srgbClr val="66ffff"/>
                  </a:solidFill>
                  <a:latin typeface="Angsana New"/>
                </a:rPr>
                <a:t>0%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7" name="" descr=""/>
            <p:cNvPicPr/>
            <p:nvPr/>
          </p:nvPicPr>
          <p:blipFill>
            <a:blip r:embed="rId3"/>
            <a:stretch/>
          </p:blipFill>
          <p:spPr>
            <a:xfrm>
              <a:off x="8077320" y="3429000"/>
              <a:ext cx="795240" cy="44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8" name=""/>
          <p:cNvGrpSpPr/>
          <p:nvPr/>
        </p:nvGrpSpPr>
        <p:grpSpPr>
          <a:xfrm>
            <a:off x="3975120" y="4357800"/>
            <a:ext cx="1295280" cy="914400"/>
            <a:chOff x="3975120" y="4357800"/>
            <a:chExt cx="1295280" cy="914400"/>
          </a:xfrm>
        </p:grpSpPr>
        <p:sp>
          <p:nvSpPr>
            <p:cNvPr id="289" name=""/>
            <p:cNvSpPr/>
            <p:nvPr/>
          </p:nvSpPr>
          <p:spPr>
            <a:xfrm rot="10800000">
              <a:off x="3975120" y="4357800"/>
              <a:ext cx="1295280" cy="914400"/>
            </a:xfrm>
            <a:prstGeom prst="rightArrow">
              <a:avLst>
                <a:gd name="adj1" fmla="val 62269"/>
                <a:gd name="adj2" fmla="val 42299"/>
              </a:avLst>
            </a:prstGeom>
            <a:gradFill rotWithShape="0">
              <a:gsLst>
                <a:gs pos="0">
                  <a:srgbClr val="003399"/>
                </a:gs>
                <a:gs pos="50000">
                  <a:srgbClr val="0066cc"/>
                </a:gs>
                <a:gs pos="100000">
                  <a:srgbClr val="003399"/>
                </a:gs>
              </a:gsLst>
              <a:lin ang="5400000"/>
            </a:gradFill>
            <a:ln cap="sq"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182120" y="4562640"/>
              <a:ext cx="85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ngsana New"/>
                </a:rPr>
                <a:t>0%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0"/>
            <a:ext cx="9097920" cy="108108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842080" y="1444680"/>
            <a:ext cx="3484440" cy="32893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11280" y="1844640"/>
            <a:ext cx="7848360" cy="3960720"/>
          </a:xfrm>
          <a:prstGeom prst="ellipse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080" y="2470320"/>
            <a:ext cx="7640640" cy="24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ประเทศที่</a:t>
            </a:r>
            <a:r>
              <a:rPr b="1" lang="th-TH" sz="4400" spc="-1" strike="noStrike">
                <a:solidFill>
                  <a:srgbClr val="ccff33"/>
                </a:solidFill>
                <a:latin typeface="Angsana New"/>
              </a:rPr>
              <a:t>ไม่ได้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แหล่งกำเนิดสินค้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4400" spc="-1" strike="noStrike">
                <a:solidFill>
                  <a:srgbClr val="ccff33"/>
                </a:solidFill>
                <a:latin typeface="Angsana New"/>
              </a:rPr>
              <a:t>จะเสียสิทธิประโยชน์ทางด้านภาษ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ตามข้อตกลง 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F T 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0800" y="220680"/>
            <a:ext cx="809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3.1 </a:t>
            </a:r>
            <a:r>
              <a:rPr b="1" lang="hi-IN" sz="3600" spc="-1" strike="noStrike">
                <a:solidFill>
                  <a:srgbClr val="e3e3ff"/>
                </a:solidFill>
                <a:latin typeface="Arial"/>
              </a:rPr>
              <a:t>ความสัมพันธ์ระหว่างกฎว่าด้วยแหล่งกำเนิดสินค้าและภาษ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19240" y="2057400"/>
            <a:ext cx="8781840" cy="3994200"/>
          </a:xfrm>
          <a:prstGeom prst="rect">
            <a:avLst/>
          </a:prstGeom>
          <a:solidFill>
            <a:srgbClr val="99ccff">
              <a:alpha val="28000"/>
            </a:srgbClr>
          </a:solidFill>
          <a:ln cap="sq"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729480" y="3024360"/>
            <a:ext cx="1493640" cy="785520"/>
            <a:chOff x="6729480" y="3024360"/>
            <a:chExt cx="1493640" cy="785520"/>
          </a:xfrm>
        </p:grpSpPr>
        <p:sp>
          <p:nvSpPr>
            <p:cNvPr id="298" name=""/>
            <p:cNvSpPr/>
            <p:nvPr/>
          </p:nvSpPr>
          <p:spPr>
            <a:xfrm>
              <a:off x="6729480" y="3024360"/>
              <a:ext cx="1339920" cy="785520"/>
            </a:xfrm>
            <a:prstGeom prst="downArrow">
              <a:avLst>
                <a:gd name="adj1" fmla="val 58435"/>
                <a:gd name="adj2" fmla="val 35745"/>
              </a:avLst>
            </a:prstGeom>
            <a:gradFill rotWithShape="0">
              <a:gsLst>
                <a:gs pos="0">
                  <a:srgbClr val="006600"/>
                </a:gs>
                <a:gs pos="50000">
                  <a:srgbClr val="000000"/>
                </a:gs>
                <a:gs pos="100000">
                  <a:srgbClr val="006600"/>
                </a:gs>
              </a:gsLst>
              <a:lin ang="13500000"/>
            </a:gradFill>
            <a:ln cap="sq"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927840" y="3144960"/>
              <a:ext cx="129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ngsana New"/>
                </a:rPr>
                <a:t>  </a:t>
              </a:r>
              <a:r>
                <a:rPr b="1" lang="en-US" sz="3200" spc="-1" strike="noStrike">
                  <a:solidFill>
                    <a:srgbClr val="ffffff"/>
                  </a:solidFill>
                  <a:latin typeface="Angsana New"/>
                </a:rPr>
                <a:t>25%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-803520" y="708120"/>
            <a:ext cx="930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กฎแหล่งกำเนิดสินค้าของการทำ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FTA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ไทย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-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ออสเตรเลีย</a:t>
            </a: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-76320" y="1212840"/>
            <a:ext cx="9534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กำหนดให้ต้องผลิตสินค้าโดยใช้สัดส่วนวัตถุดิบในประเทศ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ngsana New"/>
              </a:rPr>
              <a:t>(Local Content: LC)</a:t>
            </a:r>
            <a:r>
              <a:rPr b="1" lang="th-TH" sz="3200" spc="-1" strike="noStrike">
                <a:solidFill>
                  <a:srgbClr val="66ffff"/>
                </a:solidFill>
                <a:latin typeface="Angsana New"/>
              </a:rPr>
              <a:t> 50</a:t>
            </a:r>
            <a:r>
              <a:rPr b="1" lang="en-US" sz="3200" spc="-1" strike="noStrike">
                <a:solidFill>
                  <a:srgbClr val="66ffff"/>
                </a:solidFill>
                <a:latin typeface="Angsana New"/>
              </a:rPr>
              <a:t>%</a:t>
            </a:r>
            <a:r>
              <a:rPr b="1" lang="th-TH" sz="3200" spc="-1" strike="noStrike">
                <a:solidFill>
                  <a:srgbClr val="66ffff"/>
                </a:solidFill>
                <a:latin typeface="Angsana New"/>
              </a:rPr>
              <a:t> </a:t>
            </a:r>
            <a:r>
              <a:rPr b="1" lang="th-TH" sz="2400" spc="-1" strike="noStrike">
                <a:solidFill>
                  <a:srgbClr val="66ffff"/>
                </a:solidFill>
                <a:latin typeface="Angsana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34280" y="3862440"/>
            <a:ext cx="3614400" cy="2057400"/>
            <a:chOff x="134280" y="3862440"/>
            <a:chExt cx="3614400" cy="2057400"/>
          </a:xfrm>
        </p:grpSpPr>
        <p:sp>
          <p:nvSpPr>
            <p:cNvPr id="303" name=""/>
            <p:cNvSpPr/>
            <p:nvPr/>
          </p:nvSpPr>
          <p:spPr>
            <a:xfrm>
              <a:off x="361800" y="3862440"/>
              <a:ext cx="3353040" cy="2057400"/>
            </a:xfrm>
            <a:prstGeom prst="flowChartAlternateProcess">
              <a:avLst/>
            </a:prstGeom>
            <a:solidFill>
              <a:srgbClr val="969696">
                <a:alpha val="50000"/>
              </a:srgbClr>
            </a:solidFill>
            <a:ln cap="sq"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34280" y="4062240"/>
              <a:ext cx="3614400" cy="18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ffffff"/>
                  </a:solidFill>
                  <a:latin typeface="Angsana New"/>
                </a:rPr>
                <a:t>ไทย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ffffff"/>
                  </a:solidFill>
                  <a:latin typeface="Angsana New"/>
                </a:rPr>
                <a:t>ผลิตผลไม้กระป๋อง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ffffff"/>
                  </a:solidFill>
                  <a:latin typeface="Angsana New"/>
                </a:rPr>
                <a:t>ได้ </a:t>
              </a:r>
              <a:r>
                <a:rPr b="1" lang="en-US" sz="4000" spc="-1" strike="noStrike">
                  <a:solidFill>
                    <a:srgbClr val="ffffff"/>
                  </a:solidFill>
                  <a:latin typeface="Angsana New"/>
                </a:rPr>
                <a:t>LC</a:t>
              </a:r>
              <a:r>
                <a:rPr b="1" lang="en-US" sz="4000" spc="-1" strike="noStrike">
                  <a:solidFill>
                    <a:srgbClr val="66ffff"/>
                  </a:solidFill>
                  <a:latin typeface="Angsana New"/>
                </a:rPr>
                <a:t> &lt;</a:t>
              </a:r>
              <a:r>
                <a:rPr b="1" lang="th-TH" sz="4000" spc="-1" strike="noStrike">
                  <a:solidFill>
                    <a:srgbClr val="66ffff"/>
                  </a:solidFill>
                  <a:latin typeface="Angsana New"/>
                </a:rPr>
                <a:t> </a:t>
              </a:r>
              <a:r>
                <a:rPr b="1" lang="en-US" sz="4000" spc="-1" strike="noStrike">
                  <a:solidFill>
                    <a:srgbClr val="66ffff"/>
                  </a:solidFill>
                  <a:latin typeface="Angsana New"/>
                </a:rPr>
                <a:t>50%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5" name="" descr=""/>
            <p:cNvPicPr/>
            <p:nvPr/>
          </p:nvPicPr>
          <p:blipFill>
            <a:blip r:embed="rId1">
              <a:lum contrast="42000"/>
            </a:blip>
            <a:stretch/>
          </p:blipFill>
          <p:spPr>
            <a:xfrm>
              <a:off x="590400" y="4014720"/>
              <a:ext cx="730440" cy="51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6" name=""/>
          <p:cNvGrpSpPr/>
          <p:nvPr/>
        </p:nvGrpSpPr>
        <p:grpSpPr>
          <a:xfrm>
            <a:off x="5543640" y="3862440"/>
            <a:ext cx="3352680" cy="2057400"/>
            <a:chOff x="5543640" y="3862440"/>
            <a:chExt cx="3352680" cy="2057400"/>
          </a:xfrm>
        </p:grpSpPr>
        <p:sp>
          <p:nvSpPr>
            <p:cNvPr id="307" name=""/>
            <p:cNvSpPr/>
            <p:nvPr/>
          </p:nvSpPr>
          <p:spPr>
            <a:xfrm>
              <a:off x="5543640" y="3862440"/>
              <a:ext cx="3352680" cy="2057400"/>
            </a:xfrm>
            <a:prstGeom prst="flowChartAlternateProcess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665680" y="4062240"/>
              <a:ext cx="3024360" cy="18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ffffff"/>
                  </a:solidFill>
                  <a:latin typeface="Angsana New"/>
                </a:rPr>
                <a:t>ออสเตรเลีย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ffffff"/>
                  </a:solidFill>
                  <a:latin typeface="Angsana New"/>
                </a:rPr>
                <a:t>ผลิตรถยนต์นั่ง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ffffff"/>
                  </a:solidFill>
                  <a:latin typeface="Angsana New"/>
                </a:rPr>
                <a:t>ได้ </a:t>
              </a:r>
              <a:r>
                <a:rPr b="1" lang="en-US" sz="4000" spc="-1" strike="noStrike">
                  <a:solidFill>
                    <a:srgbClr val="ffffff"/>
                  </a:solidFill>
                  <a:latin typeface="Angsana New"/>
                </a:rPr>
                <a:t>LC</a:t>
              </a:r>
              <a:r>
                <a:rPr b="1" lang="en-US" sz="4000" spc="-1" strike="noStrike">
                  <a:solidFill>
                    <a:srgbClr val="66ffff"/>
                  </a:solidFill>
                  <a:latin typeface="Angsana New"/>
                </a:rPr>
                <a:t> &gt;</a:t>
              </a:r>
              <a:r>
                <a:rPr b="1" lang="th-TH" sz="4000" spc="-1" strike="noStrike">
                  <a:solidFill>
                    <a:srgbClr val="66ffff"/>
                  </a:solidFill>
                  <a:latin typeface="Angsana New"/>
                </a:rPr>
                <a:t> 5</a:t>
              </a:r>
              <a:r>
                <a:rPr b="1" lang="en-US" sz="4000" spc="-1" strike="noStrike">
                  <a:solidFill>
                    <a:srgbClr val="66ffff"/>
                  </a:solidFill>
                  <a:latin typeface="Angsana New"/>
                </a:rPr>
                <a:t>0%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9" name="" descr=""/>
            <p:cNvPicPr/>
            <p:nvPr/>
          </p:nvPicPr>
          <p:blipFill>
            <a:blip r:embed="rId2"/>
            <a:stretch/>
          </p:blipFill>
          <p:spPr>
            <a:xfrm>
              <a:off x="8058240" y="3938760"/>
              <a:ext cx="795240" cy="44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0" name=""/>
          <p:cNvGrpSpPr/>
          <p:nvPr/>
        </p:nvGrpSpPr>
        <p:grpSpPr>
          <a:xfrm>
            <a:off x="5697360" y="2300400"/>
            <a:ext cx="1162080" cy="761760"/>
            <a:chOff x="5697360" y="2300400"/>
            <a:chExt cx="1162080" cy="761760"/>
          </a:xfrm>
        </p:grpSpPr>
        <p:sp>
          <p:nvSpPr>
            <p:cNvPr id="311" name=""/>
            <p:cNvSpPr/>
            <p:nvPr/>
          </p:nvSpPr>
          <p:spPr>
            <a:xfrm>
              <a:off x="5918040" y="2300400"/>
              <a:ext cx="803160" cy="7617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697360" y="2392200"/>
              <a:ext cx="1162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Angsana New"/>
                </a:rPr>
                <a:t>WTO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745320" y="2124000"/>
            <a:ext cx="1162080" cy="762120"/>
            <a:chOff x="6745320" y="2124000"/>
            <a:chExt cx="1162080" cy="762120"/>
          </a:xfrm>
        </p:grpSpPr>
        <p:sp>
          <p:nvSpPr>
            <p:cNvPr id="314" name=""/>
            <p:cNvSpPr/>
            <p:nvPr/>
          </p:nvSpPr>
          <p:spPr>
            <a:xfrm>
              <a:off x="6966000" y="2124000"/>
              <a:ext cx="803160" cy="7621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45320" y="2216160"/>
              <a:ext cx="1162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Angsana New"/>
                </a:rPr>
                <a:t>WTO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7794720" y="2332080"/>
            <a:ext cx="1162080" cy="762120"/>
            <a:chOff x="7794720" y="2332080"/>
            <a:chExt cx="1162080" cy="762120"/>
          </a:xfrm>
        </p:grpSpPr>
        <p:sp>
          <p:nvSpPr>
            <p:cNvPr id="317" name=""/>
            <p:cNvSpPr/>
            <p:nvPr/>
          </p:nvSpPr>
          <p:spPr>
            <a:xfrm>
              <a:off x="8015400" y="2332080"/>
              <a:ext cx="803160" cy="7621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794720" y="2424240"/>
              <a:ext cx="1162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Angsana New"/>
                </a:rPr>
                <a:t>WTO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993120" y="3882960"/>
            <a:ext cx="1307520" cy="914400"/>
            <a:chOff x="3993120" y="3882960"/>
            <a:chExt cx="1307520" cy="914400"/>
          </a:xfrm>
        </p:grpSpPr>
        <p:sp>
          <p:nvSpPr>
            <p:cNvPr id="320" name=""/>
            <p:cNvSpPr/>
            <p:nvPr/>
          </p:nvSpPr>
          <p:spPr>
            <a:xfrm>
              <a:off x="4005360" y="3882960"/>
              <a:ext cx="1295280" cy="914400"/>
            </a:xfrm>
            <a:prstGeom prst="rightArrow">
              <a:avLst>
                <a:gd name="adj1" fmla="val 62269"/>
                <a:gd name="adj2" fmla="val 42299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545454"/>
                </a:gs>
                <a:gs pos="100000">
                  <a:srgbClr val="ffffff"/>
                </a:gs>
              </a:gsLst>
              <a:lin ang="5400000"/>
            </a:gradFill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993120" y="4006800"/>
              <a:ext cx="111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ngsana New"/>
                </a:rPr>
                <a:t>25%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3865680" y="4888080"/>
            <a:ext cx="1295280" cy="914400"/>
            <a:chOff x="3865680" y="4888080"/>
            <a:chExt cx="1295280" cy="914400"/>
          </a:xfrm>
        </p:grpSpPr>
        <p:sp>
          <p:nvSpPr>
            <p:cNvPr id="323" name=""/>
            <p:cNvSpPr/>
            <p:nvPr/>
          </p:nvSpPr>
          <p:spPr>
            <a:xfrm rot="10800000">
              <a:off x="3865680" y="4888080"/>
              <a:ext cx="1295280" cy="914400"/>
            </a:xfrm>
            <a:prstGeom prst="rightArrow">
              <a:avLst>
                <a:gd name="adj1" fmla="val 62269"/>
                <a:gd name="adj2" fmla="val 42299"/>
              </a:avLst>
            </a:prstGeom>
            <a:gradFill rotWithShape="0">
              <a:gsLst>
                <a:gs pos="0">
                  <a:srgbClr val="003399"/>
                </a:gs>
                <a:gs pos="50000">
                  <a:srgbClr val="0066cc"/>
                </a:gs>
                <a:gs pos="100000">
                  <a:srgbClr val="003399"/>
                </a:gs>
              </a:gsLst>
              <a:lin ang="5400000"/>
            </a:gradFill>
            <a:ln cap="sq"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72680" y="5092560"/>
              <a:ext cx="85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ngsana New"/>
                </a:rPr>
                <a:t>0%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6343560" y="6035760"/>
            <a:ext cx="1905120" cy="690480"/>
          </a:xfrm>
          <a:prstGeom prst="flowChartExtra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Orig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030320" y="6008760"/>
            <a:ext cx="1905120" cy="812880"/>
            <a:chOff x="1030320" y="6008760"/>
            <a:chExt cx="1905120" cy="812880"/>
          </a:xfrm>
        </p:grpSpPr>
        <p:sp>
          <p:nvSpPr>
            <p:cNvPr id="327" name=""/>
            <p:cNvSpPr/>
            <p:nvPr/>
          </p:nvSpPr>
          <p:spPr>
            <a:xfrm rot="10800000">
              <a:off x="1030320" y="6131160"/>
              <a:ext cx="1905120" cy="690480"/>
            </a:xfrm>
            <a:prstGeom prst="flowChartExtract">
              <a:avLst/>
            </a:prstGeom>
            <a:noFill/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083600" y="6008760"/>
              <a:ext cx="162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ngsana New"/>
                </a:rPr>
                <a:t>Origin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1538280" y="6091200"/>
              <a:ext cx="958680" cy="587160"/>
              <a:chOff x="1538280" y="6091200"/>
              <a:chExt cx="958680" cy="587160"/>
            </a:xfrm>
          </p:grpSpPr>
          <p:sp>
            <p:nvSpPr>
              <p:cNvPr id="330" name=""/>
              <p:cNvSpPr/>
              <p:nvPr/>
            </p:nvSpPr>
            <p:spPr>
              <a:xfrm>
                <a:off x="1538280" y="6156360"/>
                <a:ext cx="798480" cy="5220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1538280" y="6091200"/>
                <a:ext cx="958680" cy="5871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250920" y="200160"/>
            <a:ext cx="2808360" cy="5126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603360" y="228600"/>
            <a:ext cx="23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ngsana New"/>
              </a:rPr>
              <a:t> </a:t>
            </a:r>
            <a:r>
              <a:rPr b="1" lang="hi-IN" sz="3300" spc="-1" strike="noStrike">
                <a:solidFill>
                  <a:srgbClr val="0000ff"/>
                </a:solidFill>
                <a:latin typeface="Angsana New"/>
              </a:rPr>
              <a:t>ตัวอย่างสมมุติ</a:t>
            </a:r>
            <a:r>
              <a:rPr b="1" lang="en-US" sz="3600" spc="-1" strike="noStrike">
                <a:solidFill>
                  <a:srgbClr val="cc0000"/>
                </a:solidFill>
                <a:latin typeface="Angsana New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9097920" cy="108108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-102960" y="1728720"/>
            <a:ext cx="924228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ถ้าอัตราภาษีนำเข้า</a:t>
            </a:r>
            <a:r>
              <a:rPr b="1" lang="th-TH" sz="4000" spc="-1" strike="noStrike">
                <a:solidFill>
                  <a:srgbClr val="ccff33"/>
                </a:solidFill>
                <a:latin typeface="Angsana New"/>
              </a:rPr>
              <a:t>ในกรอบ </a:t>
            </a:r>
            <a:r>
              <a:rPr b="1" lang="en-US" sz="4000" spc="-1" strike="noStrike">
                <a:solidFill>
                  <a:srgbClr val="ccff33"/>
                </a:solidFill>
                <a:latin typeface="Angsana New"/>
              </a:rPr>
              <a:t>WTO</a:t>
            </a:r>
            <a:r>
              <a:rPr b="1" lang="th-TH" sz="4000" spc="-1" strike="noStrike">
                <a:solidFill>
                  <a:srgbClr val="ccff33"/>
                </a:solidFill>
                <a:latin typeface="Angsana New"/>
              </a:rPr>
              <a:t> </a:t>
            </a:r>
            <a:r>
              <a:rPr b="1" lang="th-TH" sz="4000" spc="-1" strike="noStrike">
                <a:solidFill>
                  <a:srgbClr val="ccff33"/>
                </a:solidFill>
                <a:latin typeface="Angsana New"/>
              </a:rPr>
              <a:t>เหลือ </a:t>
            </a:r>
            <a:r>
              <a:rPr b="1" lang="th-TH" sz="4800" spc="-1" strike="noStrike">
                <a:solidFill>
                  <a:srgbClr val="ccff33"/>
                </a:solidFill>
                <a:latin typeface="Angsana New"/>
              </a:rPr>
              <a:t>0%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สำหรับสินค้าเกษตรและอาหา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06360" y="4653000"/>
            <a:ext cx="88376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Angsana New"/>
              </a:rPr>
              <a:t>กฎว่าด้วยแหล่งกำเนิดสินค้าจะ</a:t>
            </a:r>
            <a:r>
              <a:rPr b="1" lang="hi-IN" sz="4000" spc="-1" strike="noStrike">
                <a:solidFill>
                  <a:srgbClr val="ccff33"/>
                </a:solidFill>
                <a:latin typeface="Angsana New"/>
              </a:rPr>
              <a:t>ไม่มี</a:t>
            </a:r>
            <a:r>
              <a:rPr b="1" lang="hi-IN" sz="4000" spc="-1" strike="noStrike">
                <a:solidFill>
                  <a:srgbClr val="ffffff"/>
                </a:solidFill>
                <a:latin typeface="Angsana New"/>
              </a:rPr>
              <a:t>ความสำคั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7280" y="3497400"/>
            <a:ext cx="1079280" cy="936360"/>
          </a:xfrm>
          <a:prstGeom prst="downArrow">
            <a:avLst>
              <a:gd name="adj1" fmla="val 52380"/>
              <a:gd name="adj2" fmla="val 46296"/>
            </a:avLst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25320" y="235080"/>
            <a:ext cx="809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3.1 </a:t>
            </a:r>
            <a:r>
              <a:rPr b="1" lang="hi-IN" sz="3600" spc="-1" strike="noStrike">
                <a:solidFill>
                  <a:srgbClr val="e3e3ff"/>
                </a:solidFill>
                <a:latin typeface="Arial"/>
              </a:rPr>
              <a:t>ความสัมพันธ์ระหว่างกฎว่าด้วยแหล่งกำเนิดสินค้าและภาษ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779400" y="1185840"/>
            <a:ext cx="765648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533520" indent="-533520" algn="ctr">
              <a:lnSpc>
                <a:spcPct val="12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Tahoma"/>
              </a:rPr>
              <a:t>วิธีการผลิตแบบใช้วัตถุดิบในประเทศทั้งหมด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Wholly Obtained (WO)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4920" y="1828800"/>
            <a:ext cx="2438280" cy="2421000"/>
          </a:xfrm>
          <a:prstGeom prst="ellipse">
            <a:avLst/>
          </a:prstGeom>
          <a:solidFill>
            <a:srgbClr val="c0c0c0">
              <a:alpha val="50000"/>
            </a:srgbClr>
          </a:solidFill>
          <a:ln cap="sq"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025640" y="2276640"/>
            <a:ext cx="1066680" cy="928440"/>
            <a:chOff x="1025640" y="2276640"/>
            <a:chExt cx="1066680" cy="928440"/>
          </a:xfrm>
        </p:grpSpPr>
        <p:pic>
          <p:nvPicPr>
            <p:cNvPr id="342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025640" y="2276640"/>
              <a:ext cx="1066680" cy="9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1025640" y="2276640"/>
              <a:ext cx="1050120" cy="131400"/>
            </a:xfrm>
            <a:prstGeom prst="rect">
              <a:avLst/>
            </a:prstGeom>
            <a:solidFill>
              <a:srgbClr val="00cc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517320" y="3106800"/>
            <a:ext cx="149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</a:rPr>
              <a:t>การเกิ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</a:rPr>
              <a:t>การเลี้ย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1271520" y="1909800"/>
            <a:ext cx="484200" cy="3412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3691080" y="2441520"/>
            <a:ext cx="12571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WO</a:t>
            </a:r>
            <a:endParaRPr b="1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47" name=""/>
          <p:cNvSpPr/>
          <p:nvPr/>
        </p:nvSpPr>
        <p:spPr>
          <a:xfrm>
            <a:off x="2590920" y="3440160"/>
            <a:ext cx="2768400" cy="2549520"/>
          </a:xfrm>
          <a:prstGeom prst="ellipse">
            <a:avLst/>
          </a:prstGeom>
          <a:solidFill>
            <a:srgbClr val="ff7c80">
              <a:alpha val="50000"/>
            </a:srgbClr>
          </a:solidFill>
          <a:ln cap="sq" w="5724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634120" y="4889520"/>
            <a:ext cx="20307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</a:rPr>
              <a:t>เก็บ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</a:rPr>
              <a:t>รวบรว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</a:rPr>
              <a:t>เจริญเติบโ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98680" y="3903840"/>
            <a:ext cx="1319400" cy="97308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8"/>
          <a:stretch/>
        </p:blipFill>
        <p:spPr>
          <a:xfrm>
            <a:off x="3722760" y="3429000"/>
            <a:ext cx="671400" cy="4716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5638680" y="1811160"/>
            <a:ext cx="3124440" cy="3886200"/>
          </a:xfrm>
          <a:prstGeom prst="ellipse">
            <a:avLst/>
          </a:prstGeom>
          <a:solidFill>
            <a:srgbClr val="c0c0c0">
              <a:alpha val="50000"/>
            </a:srgbClr>
          </a:solidFill>
          <a:ln cap="sq"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121440" y="3944880"/>
            <a:ext cx="21556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</a:rPr>
              <a:t>การดั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</a:rPr>
              <a:t>การรวบรว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</a:rPr>
              <a:t>การเพาะเลี้ย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</a:rPr>
              <a:t>การจั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173640" y="2425680"/>
            <a:ext cx="1295640" cy="8002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192800" y="3049560"/>
            <a:ext cx="914400" cy="7621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13"/>
          <a:stretch/>
        </p:blipFill>
        <p:spPr>
          <a:xfrm>
            <a:off x="7031160" y="1940040"/>
            <a:ext cx="484200" cy="3412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7148520" y="2432160"/>
            <a:ext cx="719280" cy="4539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0" y="0"/>
            <a:ext cx="9097920" cy="108108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25320" y="235080"/>
            <a:ext cx="809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e3e3ff"/>
                </a:solidFill>
                <a:latin typeface="Arial"/>
              </a:rPr>
              <a:t>กฎว่าด้วยแหล่งกำเนิดสินค้าที่ใช้สำหรับสินค้าเกษตรและอาหาร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1784520"/>
            <a:ext cx="9144000" cy="15681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-20520" y="3386160"/>
            <a:ext cx="9144000" cy="17524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5195880"/>
            <a:ext cx="9144000" cy="17524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230480" y="860400"/>
            <a:ext cx="655308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2.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การเปลี่ยนแปลงพิกัดศุลกาก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</a:rPr>
              <a:t>Change of Tariff Classification:C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881360"/>
            <a:ext cx="765000" cy="29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463416"/>
                  </a:outerShdw>
                </a:effectLst>
                <a:latin typeface="Tahoma"/>
              </a:rPr>
              <a:t>CC</a:t>
            </a:r>
            <a:endParaRPr b="1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463416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1280520" y="1824120"/>
            <a:ext cx="293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  <a:ea typeface="FreesiaUPC"/>
              </a:rPr>
              <a:t>(Change of chapt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6440" y="2457360"/>
            <a:ext cx="3276720" cy="6098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FreesiaUPC"/>
              </a:rPr>
              <a:t>ทูน่าแช่แข็ง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2800" spc="-1" strike="noStrike" u="sng">
                <a:solidFill>
                  <a:srgbClr val="ccff33"/>
                </a:solidFill>
                <a:uFillTx/>
                <a:latin typeface="Tahoma"/>
                <a:ea typeface="Tahoma"/>
              </a:rPr>
              <a:t>03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Tahoma"/>
              </a:rPr>
              <a:t>03.3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842080" y="2349360"/>
            <a:ext cx="3209760" cy="6462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FreesiaUPC"/>
              </a:rPr>
              <a:t>ทูน่ากระป๋อง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2400" spc="-1" strike="noStrike" u="sng">
                <a:solidFill>
                  <a:srgbClr val="ccff33"/>
                </a:solidFill>
                <a:uFillTx/>
                <a:latin typeface="Tahoma"/>
                <a:ea typeface="Tahoma"/>
              </a:rPr>
              <a:t>16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04.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678120" y="2311560"/>
            <a:ext cx="1963800" cy="914400"/>
          </a:xfrm>
          <a:prstGeom prst="rightArrow">
            <a:avLst>
              <a:gd name="adj1" fmla="val 57981"/>
              <a:gd name="adj2" fmla="val 6472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FreesiaUPC"/>
              </a:rPr>
              <a:t>   </a:t>
            </a:r>
            <a:r>
              <a:rPr b="1" lang="en-US" sz="2000" spc="-1" strike="noStrike">
                <a:solidFill>
                  <a:srgbClr val="463416"/>
                </a:solidFill>
                <a:latin typeface="Tahoma"/>
                <a:ea typeface="FreesiaUPC"/>
              </a:rPr>
              <a:t>Process (S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36600" y="4233960"/>
            <a:ext cx="3205080" cy="6094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FreesiaUPC"/>
              </a:rPr>
              <a:t>เมล็ดโกโก้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Tahoma"/>
              </a:rPr>
              <a:t>18</a:t>
            </a:r>
            <a:r>
              <a:rPr b="1" lang="th-TH" sz="2800" spc="-1" strike="noStrike" u="sng">
                <a:solidFill>
                  <a:srgbClr val="ccff33"/>
                </a:solidFill>
                <a:uFillTx/>
                <a:latin typeface="Tahoma"/>
                <a:ea typeface="Tahoma"/>
              </a:rPr>
              <a:t>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716280" y="4037040"/>
            <a:ext cx="1963800" cy="914400"/>
          </a:xfrm>
          <a:prstGeom prst="rightArrow">
            <a:avLst>
              <a:gd name="adj1" fmla="val 57981"/>
              <a:gd name="adj2" fmla="val 6472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FreesiaUPC"/>
              </a:rPr>
              <a:t>   </a:t>
            </a:r>
            <a:r>
              <a:rPr b="1" lang="en-US" sz="2000" spc="-1" strike="noStrike">
                <a:solidFill>
                  <a:srgbClr val="463416"/>
                </a:solidFill>
                <a:latin typeface="Tahoma"/>
                <a:ea typeface="FreesiaUPC"/>
              </a:rPr>
              <a:t>Process (S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00040" y="3624120"/>
            <a:ext cx="1060560" cy="29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463416"/>
                  </a:outerShdw>
                </a:effectLst>
                <a:latin typeface="Tahoma"/>
              </a:rPr>
              <a:t>CTH</a:t>
            </a:r>
            <a:endParaRPr b="1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463416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371" name=""/>
          <p:cNvSpPr/>
          <p:nvPr/>
        </p:nvSpPr>
        <p:spPr>
          <a:xfrm>
            <a:off x="1676160" y="3565440"/>
            <a:ext cx="385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  <a:ea typeface="FreesiaUPC"/>
              </a:rPr>
              <a:t>(Change of Tariff Head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62080" y="5907240"/>
            <a:ext cx="2977920" cy="8046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FreesiaUPC"/>
              </a:rPr>
              <a:t>น้ำแอปเปิ้ลเข้มข้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2009.</a:t>
            </a:r>
            <a:r>
              <a:rPr b="1" lang="en-US" sz="2800" spc="-1" strike="noStrike" u="sng">
                <a:solidFill>
                  <a:srgbClr val="ccff33"/>
                </a:solidFill>
                <a:uFillTx/>
                <a:latin typeface="Tahoma"/>
                <a:ea typeface="FreesiaUPC"/>
              </a:rPr>
              <a:t>7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646600" y="5662440"/>
            <a:ext cx="3368880" cy="10512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FreesiaUPC"/>
              </a:rPr>
              <a:t>น้ำแอปเปิ้ลพร้อมดื่ม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2009.</a:t>
            </a:r>
            <a:r>
              <a:rPr b="1" lang="en-US" sz="2800" spc="-1" strike="noStrike" u="sng">
                <a:solidFill>
                  <a:srgbClr val="ccff33"/>
                </a:solidFill>
                <a:uFillTx/>
                <a:latin typeface="Tahoma"/>
                <a:ea typeface="FreesiaUPC"/>
              </a:rPr>
              <a:t>71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41760" y="5780160"/>
            <a:ext cx="1963800" cy="914400"/>
          </a:xfrm>
          <a:prstGeom prst="rightArrow">
            <a:avLst>
              <a:gd name="adj1" fmla="val 57981"/>
              <a:gd name="adj2" fmla="val 6472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FreesiaUPC"/>
              </a:rPr>
              <a:t>   </a:t>
            </a:r>
            <a:r>
              <a:rPr b="1" lang="en-US" sz="2000" spc="-1" strike="noStrike">
                <a:solidFill>
                  <a:srgbClr val="463416"/>
                </a:solidFill>
                <a:latin typeface="Tahoma"/>
                <a:ea typeface="FreesiaUPC"/>
              </a:rPr>
              <a:t>Process (S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44600" y="5348160"/>
            <a:ext cx="1400040" cy="29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463416"/>
                  </a:outerShdw>
                </a:effectLst>
                <a:latin typeface="Tahoma"/>
              </a:rPr>
              <a:t>CTSH</a:t>
            </a:r>
            <a:endParaRPr b="1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463416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376" name=""/>
          <p:cNvSpPr/>
          <p:nvPr/>
        </p:nvSpPr>
        <p:spPr>
          <a:xfrm>
            <a:off x="1937520" y="5289480"/>
            <a:ext cx="443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  <a:ea typeface="FreesiaUPC"/>
              </a:rPr>
              <a:t>(Change of Tariff Sub Head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5970600" y="4157640"/>
            <a:ext cx="3209760" cy="646200"/>
            <a:chOff x="5970600" y="4157640"/>
            <a:chExt cx="3209760" cy="646200"/>
          </a:xfrm>
        </p:grpSpPr>
        <p:sp>
          <p:nvSpPr>
            <p:cNvPr id="378" name=""/>
            <p:cNvSpPr/>
            <p:nvPr/>
          </p:nvSpPr>
          <p:spPr>
            <a:xfrm>
              <a:off x="5970600" y="4157640"/>
              <a:ext cx="3209760" cy="6462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81480" y="4197240"/>
              <a:ext cx="270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ffffff"/>
                  </a:solidFill>
                  <a:latin typeface="Tahoma"/>
                  <a:cs typeface="FreesiaUPC"/>
                </a:rPr>
                <a:t>โกโก้บัตเตอร์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  <a:ea typeface="FreesiaUPC"/>
                </a:rPr>
                <a:t> </a:t>
              </a:r>
              <a:r>
                <a:rPr b="1" lang="th-TH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18</a:t>
              </a:r>
              <a:r>
                <a:rPr b="1" lang="th-TH" sz="2800" spc="-1" strike="noStrike" u="sng">
                  <a:solidFill>
                    <a:srgbClr val="ccff33"/>
                  </a:solidFill>
                  <a:uFillTx/>
                  <a:latin typeface="Tahoma"/>
                  <a:ea typeface="Tahoma"/>
                </a:rPr>
                <a:t>0</a:t>
              </a:r>
              <a:r>
                <a:rPr b="1" lang="en-US" sz="2800" spc="-1" strike="noStrike" u="sng">
                  <a:solidFill>
                    <a:srgbClr val="ccff33"/>
                  </a:solidFill>
                  <a:uFillTx/>
                  <a:latin typeface="Tahoma"/>
                  <a:ea typeface="Tahoma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0" y="0"/>
            <a:ext cx="9097920" cy="76356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69960" y="57240"/>
            <a:ext cx="809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e3e3ff"/>
                </a:solidFill>
                <a:latin typeface="Arial"/>
              </a:rPr>
              <a:t>กฎว่าด้วยแหล่งกำเนิดสินค้าที่ใช้สำหรับสินค้าเกษตรและอาหาร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2057400" y="609480"/>
            <a:ext cx="4438800" cy="60984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880280" y="730080"/>
            <a:ext cx="24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ffcc00"/>
                </a:solidFill>
                <a:uFillTx/>
                <a:latin typeface="Tahoma"/>
                <a:cs typeface="FreesiaUPC"/>
              </a:rPr>
              <a:t>ตอนที่ </a:t>
            </a:r>
            <a:r>
              <a:rPr b="1" lang="en-US" sz="1400" spc="-1" strike="noStrike" u="sng">
                <a:solidFill>
                  <a:srgbClr val="ffcc00"/>
                </a:solidFill>
                <a:uFillTx/>
                <a:latin typeface="Tahoma"/>
                <a:ea typeface="FreesiaUPC"/>
              </a:rPr>
              <a:t>0</a:t>
            </a:r>
            <a:r>
              <a:rPr b="1" lang="th-TH" sz="2400" spc="-1" strike="noStrike" u="sng">
                <a:solidFill>
                  <a:srgbClr val="ffcc00"/>
                </a:solidFill>
                <a:uFillTx/>
                <a:latin typeface="Tahoma"/>
                <a:ea typeface="FreesiaUPC"/>
              </a:rPr>
              <a:t>8 </a:t>
            </a:r>
            <a:r>
              <a:rPr b="1" lang="th-TH" sz="2400" spc="-1" strike="noStrike" u="sng">
                <a:solidFill>
                  <a:srgbClr val="ffcc00"/>
                </a:solidFill>
                <a:uFillTx/>
                <a:latin typeface="Tahoma"/>
                <a:cs typeface="FreesiaUPC"/>
              </a:rPr>
              <a:t>ผลไม้ส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057400" y="1371600"/>
            <a:ext cx="4438800" cy="7621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221560" y="1536840"/>
            <a:ext cx="203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0813.30 </a:t>
            </a: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FreesiaUPC"/>
              </a:rPr>
              <a:t>ส้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28400" y="1521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  <a:ea typeface="FreesiaUPC"/>
              </a:rPr>
              <a:t>W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084400" y="3316320"/>
            <a:ext cx="4438800" cy="83988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4a004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021040" y="2309760"/>
            <a:ext cx="4438440" cy="81432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43004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cc00"/>
                </a:solidFill>
                <a:uFillTx/>
                <a:latin typeface="Tahoma"/>
                <a:cs typeface="FreesiaUPC"/>
              </a:rPr>
              <a:t>ตอนที่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  <a:ea typeface="FreesiaUPC"/>
              </a:rPr>
              <a:t>20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  <a:ea typeface="FreesiaUPC"/>
              </a:rPr>
              <a:t> </a:t>
            </a:r>
            <a:r>
              <a:rPr b="1" lang="hi-IN" sz="2800" spc="-1" strike="noStrike" u="sng">
                <a:solidFill>
                  <a:srgbClr val="ffffff"/>
                </a:solidFill>
                <a:uFillTx/>
                <a:latin typeface="Tahoma"/>
                <a:cs typeface="FreesiaUPC"/>
              </a:rPr>
              <a:t>ผลไม้ปรุงแต่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103480" y="3473280"/>
            <a:ext cx="471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2008.30 </a:t>
            </a: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FreesiaUPC"/>
              </a:rPr>
              <a:t>ส้มปรุงแต่ง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(</a:t>
            </a: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FreesiaUPC"/>
              </a:rPr>
              <a:t>แช่อิ่ม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6920" y="1782720"/>
            <a:ext cx="5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39"/>
                </a:solidFill>
                <a:latin typeface="Tahoma"/>
                <a:ea typeface="FreesiaUPC"/>
              </a:rPr>
              <a:t>C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1676160" y="1822320"/>
            <a:ext cx="344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679400" y="1822320"/>
            <a:ext cx="0" cy="38926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676520" y="3252960"/>
            <a:ext cx="457200" cy="0"/>
          </a:xfrm>
          <a:prstGeom prst="line">
            <a:avLst/>
          </a:prstGeom>
          <a:ln w="38160">
            <a:solidFill>
              <a:srgbClr val="ffff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56400" y="330660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ahoma"/>
                <a:ea typeface="FreesiaUPC"/>
              </a:rPr>
              <a:t>C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1523880" y="3406680"/>
            <a:ext cx="609840" cy="0"/>
          </a:xfrm>
          <a:prstGeom prst="line">
            <a:avLst/>
          </a:prstGeom>
          <a:ln w="38160">
            <a:solidFill>
              <a:srgbClr val="66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522440" y="3406680"/>
            <a:ext cx="0" cy="1317600"/>
          </a:xfrm>
          <a:prstGeom prst="line">
            <a:avLst/>
          </a:prstGeom>
          <a:ln w="38160">
            <a:solidFill>
              <a:srgbClr val="66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523880" y="4724280"/>
            <a:ext cx="646200" cy="0"/>
          </a:xfrm>
          <a:prstGeom prst="line">
            <a:avLst/>
          </a:prstGeom>
          <a:ln w="38160">
            <a:solidFill>
              <a:srgbClr val="66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-36360" y="-1440"/>
            <a:ext cx="9144000" cy="4586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50000">
                <a:srgbClr val="000000"/>
              </a:gs>
              <a:gs pos="100000">
                <a:srgbClr val="66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25400" y="-174600"/>
            <a:ext cx="7656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FreesiaUPC"/>
              </a:rPr>
              <a:t>การแปรสภาพอย่างเพียงพอโดยการเปลี่ยนพิกั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133720" y="4343400"/>
            <a:ext cx="4387680" cy="83808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4a004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42000" y="4483080"/>
            <a:ext cx="369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2009.19  </a:t>
            </a: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FreesiaUPC"/>
              </a:rPr>
              <a:t>น้ำส้มเข้มข้น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1828800" y="5029200"/>
            <a:ext cx="264960" cy="0"/>
          </a:xfrm>
          <a:prstGeom prst="line">
            <a:avLst/>
          </a:prstGeom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805040" y="5029200"/>
            <a:ext cx="0" cy="979560"/>
          </a:xfrm>
          <a:prstGeom prst="line">
            <a:avLst/>
          </a:prstGeom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792440" y="5972040"/>
            <a:ext cx="341280" cy="0"/>
          </a:xfrm>
          <a:prstGeom prst="line">
            <a:avLst/>
          </a:prstGeom>
          <a:ln w="572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05200" y="5041800"/>
            <a:ext cx="10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ahoma"/>
                <a:ea typeface="FreesiaUPC"/>
              </a:rPr>
              <a:t>CT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1040" y="5521320"/>
            <a:ext cx="1689480" cy="779760"/>
          </a:xfrm>
          <a:prstGeom prst="rect">
            <a:avLst/>
          </a:prstGeom>
          <a:noFill/>
          <a:ln cap="sq"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  <a:ea typeface="FreesiaUPC"/>
              </a:rPr>
              <a:t>Cha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  <a:ea typeface="FreesiaUPC"/>
              </a:rPr>
              <a:t>of Tari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  <a:ea typeface="FreesiaUPC"/>
              </a:rPr>
              <a:t>Sub Hea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78720" y="2187720"/>
            <a:ext cx="1239840" cy="847800"/>
          </a:xfrm>
          <a:prstGeom prst="rect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ahoma"/>
                <a:ea typeface="FreesiaUPC"/>
              </a:rPr>
              <a:t>Chan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i="1" lang="en-US" sz="2200" spc="-1" strike="noStrike">
                <a:solidFill>
                  <a:srgbClr val="ffffff"/>
                </a:solidFill>
                <a:latin typeface="Tahoma"/>
                <a:ea typeface="FreesiaUPC"/>
              </a:rPr>
              <a:t>of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ahoma"/>
                <a:ea typeface="FreesiaUPC"/>
              </a:rPr>
              <a:t>Chap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21320" y="3716280"/>
            <a:ext cx="1280880" cy="1099080"/>
          </a:xfrm>
          <a:prstGeom prst="rect">
            <a:avLst/>
          </a:prstGeom>
          <a:noFill/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ahoma"/>
                <a:ea typeface="FreesiaUPC"/>
              </a:rPr>
              <a:t>Chan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i="1" lang="en-US" sz="2200" spc="-1" strike="noStrike">
                <a:solidFill>
                  <a:srgbClr val="ffffff"/>
                </a:solidFill>
                <a:latin typeface="Tahoma"/>
                <a:ea typeface="FreesiaUPC"/>
              </a:rPr>
              <a:t>of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ahoma"/>
                <a:ea typeface="FreesiaUPC"/>
              </a:rPr>
              <a:t>Tarif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ahoma"/>
                <a:ea typeface="FreesiaUPC"/>
              </a:rPr>
              <a:t>Hea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791760" y="347184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39"/>
                </a:solidFill>
                <a:latin typeface="Tahoma"/>
                <a:ea typeface="FreesiaUPC"/>
              </a:rPr>
              <a:t>C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789680" y="4614840"/>
            <a:ext cx="119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Tahoma"/>
                <a:ea typeface="FreesiaUPC"/>
              </a:rPr>
              <a:t>CTH </a:t>
            </a:r>
            <a:r>
              <a:rPr b="1" lang="en-US" sz="2000" spc="-1" strike="noStrike">
                <a:solidFill>
                  <a:srgbClr val="ff9933"/>
                </a:solidFill>
                <a:latin typeface="Tahoma"/>
                <a:ea typeface="FreesiaUPC"/>
              </a:rPr>
              <a:t>W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3e3ff"/>
                </a:solidFill>
                <a:latin typeface="Tahoma"/>
                <a:ea typeface="FreesiaUPC"/>
              </a:rPr>
              <a:t>C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718400" y="5587920"/>
            <a:ext cx="140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Tahoma"/>
                <a:ea typeface="FreesiaUPC"/>
              </a:rPr>
              <a:t>CTSH</a:t>
            </a:r>
            <a:r>
              <a:rPr b="1" lang="en-US" sz="2000" spc="-1" strike="noStrike">
                <a:solidFill>
                  <a:srgbClr val="33cccc"/>
                </a:solidFill>
                <a:latin typeface="Tahoma"/>
                <a:ea typeface="FreesiaUPC"/>
              </a:rPr>
              <a:t> </a:t>
            </a:r>
            <a:r>
              <a:rPr b="1" lang="en-US" sz="2000" spc="-1" strike="noStrike">
                <a:solidFill>
                  <a:srgbClr val="ff9933"/>
                </a:solidFill>
                <a:latin typeface="Tahoma"/>
                <a:ea typeface="FreesiaUPC"/>
              </a:rPr>
              <a:t>W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3e3ff"/>
                </a:solidFill>
                <a:latin typeface="Tahoma"/>
                <a:ea typeface="FreesiaUPC"/>
              </a:rPr>
              <a:t>CC</a:t>
            </a:r>
            <a:r>
              <a:rPr b="1" lang="en-US" sz="2000" spc="-1" strike="noStrike">
                <a:solidFill>
                  <a:srgbClr val="66ffff"/>
                </a:solidFill>
                <a:latin typeface="Tahoma"/>
                <a:ea typeface="FreesiaUPC"/>
              </a:rPr>
              <a:t>C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Tahoma"/>
                <a:ea typeface="FreesiaUP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72440" y="455760"/>
            <a:ext cx="10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FreesiaUPC"/>
              </a:rPr>
              <a:t>เกณฑ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724880" y="546120"/>
            <a:ext cx="15112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66ffff"/>
                </a:solidFill>
                <a:latin typeface="Tahoma"/>
                <a:cs typeface="FreesiaUPC"/>
              </a:rPr>
              <a:t>วิธีการผลิต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66ffff"/>
                </a:solidFill>
                <a:latin typeface="Tahoma"/>
                <a:cs typeface="FreesiaUPC"/>
              </a:rPr>
              <a:t>ให้ได้แหล่งกำเนิดสินค้า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215920" y="15271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  <a:ea typeface="FreesiaUPC"/>
              </a:rPr>
              <a:t>W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858800" y="3471840"/>
            <a:ext cx="1111680" cy="409680"/>
            <a:chOff x="7858800" y="3471840"/>
            <a:chExt cx="1111680" cy="409680"/>
          </a:xfrm>
        </p:grpSpPr>
        <p:sp>
          <p:nvSpPr>
            <p:cNvPr id="416" name=""/>
            <p:cNvSpPr/>
            <p:nvPr/>
          </p:nvSpPr>
          <p:spPr>
            <a:xfrm>
              <a:off x="8341560" y="348264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Tahoma"/>
                  <a:ea typeface="FreesiaUPC"/>
                </a:rPr>
                <a:t>W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58800" y="3471840"/>
              <a:ext cx="50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39"/>
                  </a:solidFill>
                  <a:latin typeface="Tahoma"/>
                  <a:ea typeface="FreesiaUPC"/>
                </a:rPr>
                <a:t>C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6714720" y="461484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Tahoma"/>
                <a:ea typeface="FreesiaUPC"/>
              </a:rPr>
              <a:t>C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648480" y="55292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Tahoma"/>
                <a:ea typeface="FreesiaUPC"/>
              </a:rPr>
              <a:t>CT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629400" y="533520"/>
            <a:ext cx="1014480" cy="632448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16960" y="533520"/>
            <a:ext cx="1463400" cy="6269040"/>
          </a:xfrm>
          <a:prstGeom prst="rect">
            <a:avLst/>
          </a:prstGeom>
          <a:noFill/>
          <a:ln cap="sq"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133720" y="5410080"/>
            <a:ext cx="4387680" cy="76212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4a004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071440" y="5562720"/>
            <a:ext cx="40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2009.12  </a:t>
            </a: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FreesiaUPC"/>
              </a:rPr>
              <a:t>น้ำส้มพร้อมดื่ม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685880" y="4422600"/>
            <a:ext cx="457200" cy="0"/>
          </a:xfrm>
          <a:prstGeom prst="line">
            <a:avLst/>
          </a:prstGeom>
          <a:ln w="38160">
            <a:solidFill>
              <a:srgbClr val="ffff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654200" y="5678640"/>
            <a:ext cx="457200" cy="0"/>
          </a:xfrm>
          <a:prstGeom prst="line">
            <a:avLst/>
          </a:prstGeom>
          <a:ln w="38160">
            <a:solidFill>
              <a:srgbClr val="ffff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9097920" cy="108108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795320" y="201600"/>
            <a:ext cx="598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3.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สัดส่วนวัตถุดิบในประเทศ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Local Conten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398520" y="658800"/>
          <a:ext cx="8686800" cy="51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8520" y="658800"/>
                    <a:ext cx="8686800" cy="51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0" name=""/>
          <p:cNvSpPr/>
          <p:nvPr/>
        </p:nvSpPr>
        <p:spPr>
          <a:xfrm>
            <a:off x="609480" y="5257800"/>
            <a:ext cx="598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ngsana New"/>
              </a:rPr>
              <a:t>Local Content = Y%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242080" y="2417760"/>
            <a:ext cx="8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979240" y="2274840"/>
            <a:ext cx="8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0" y="0"/>
            <a:ext cx="9097920" cy="86184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351440" y="92160"/>
            <a:ext cx="659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Angsana New"/>
              </a:rPr>
              <a:t>โครงสร้างต้นทุนการผลิตสินค้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58520" y="901800"/>
            <a:ext cx="32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ffff"/>
                </a:solidFill>
                <a:latin typeface="Arial"/>
              </a:rPr>
              <a:t>ปลาทูน่ากระป๋อ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5364000" y="885960"/>
            <a:ext cx="1044720" cy="57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7" name=""/>
          <p:cNvGraphicFramePr/>
          <p:nvPr/>
        </p:nvGraphicFramePr>
        <p:xfrm>
          <a:off x="487440" y="1568520"/>
          <a:ext cx="8229600" cy="4083120"/>
        </p:xfrm>
        <a:graphic>
          <a:graphicData uri="http://schemas.openxmlformats.org/drawingml/2006/table">
            <a:tbl>
              <a:tblPr/>
              <a:tblGrid>
                <a:gridCol w="6708600"/>
                <a:gridCol w="1521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Cordia New"/>
                          <a:cs typeface="SimSun"/>
                        </a:rPr>
                        <a:t>ประเภทของต้นทุน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Cordia New"/>
                          <a:cs typeface="SimSun"/>
                        </a:rPr>
                        <a:t>ร้อยล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585000"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r" pos="45720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วัตถุดิบ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Cordia New"/>
                          <a:ea typeface="Times New Roman"/>
                        </a:rPr>
                        <a:t>(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ปลาทูน่า น้ำมัน และซอส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ordia New"/>
                          <a:ea typeface="SimSun"/>
                        </a:rPr>
                        <a:t>87.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Cordia New"/>
                          <a:cs typeface="SimSun"/>
                        </a:rPr>
                        <a:t>สารเคม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ordia New"/>
                          <a:ea typeface="SimSun"/>
                        </a:rPr>
                        <a:t>2.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Cordia New"/>
                          <a:cs typeface="SimSun"/>
                        </a:rPr>
                        <a:t>แรงงาน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ordia New"/>
                          <a:ea typeface="SimSun"/>
                        </a:rPr>
                        <a:t>3.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Cordia New"/>
                          <a:cs typeface="SimSun"/>
                        </a:rPr>
                        <a:t>บรรจุภัณฑ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ordia New"/>
                          <a:ea typeface="SimSun"/>
                        </a:rPr>
                        <a:t>4.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950400"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Cordia New"/>
                          <a:cs typeface="SimSun"/>
                        </a:rPr>
                        <a:t>อื่นๆ 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Cordia New"/>
                          <a:ea typeface="SimSun"/>
                        </a:rPr>
                        <a:t>(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ค่ากระป๋อง ฉลาก ไฟฟ้า ดอกเบี้ย ค่าเก็บรักษา และค่าเสื่อมเครื่องจักร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ordia New"/>
                          <a:ea typeface="SimSun"/>
                        </a:rPr>
                        <a:t>2.9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Cordia New"/>
                          <a:cs typeface="SimSun"/>
                        </a:rPr>
                        <a:t>รวม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ordia New"/>
                          <a:ea typeface="SimSun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8" name=""/>
          <p:cNvSpPr/>
          <p:nvPr/>
        </p:nvSpPr>
        <p:spPr>
          <a:xfrm>
            <a:off x="82440" y="6168960"/>
            <a:ext cx="555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</a:rPr>
              <a:t>สัดส่วนการนำเข้าวัตถุดิบปลาทูน่าประมาณ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80%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89960" y="6211800"/>
            <a:ext cx="31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ocal Content ~ 2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546880" y="6140520"/>
            <a:ext cx="3808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0" y="0"/>
            <a:ext cx="9097920" cy="127944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11040" y="2279520"/>
            <a:ext cx="8656920" cy="3148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sq"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163600" y="1620720"/>
            <a:ext cx="486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</a:rPr>
              <a:t>ต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.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</a:rPr>
              <a:t>ย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.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</a:rPr>
              <a:t>การใช้วัตถุดิบสะสมระหว่างกั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1211400" y="2403360"/>
            <a:ext cx="2503440" cy="2841480"/>
            <a:chOff x="1211400" y="2403360"/>
            <a:chExt cx="2503440" cy="2841480"/>
          </a:xfrm>
        </p:grpSpPr>
        <p:sp>
          <p:nvSpPr>
            <p:cNvPr id="445" name=""/>
            <p:cNvSpPr/>
            <p:nvPr/>
          </p:nvSpPr>
          <p:spPr>
            <a:xfrm>
              <a:off x="1211400" y="2403360"/>
              <a:ext cx="2503440" cy="2841480"/>
            </a:xfrm>
            <a:prstGeom prst="flowChartAlternateProcess">
              <a:avLst/>
            </a:prstGeom>
            <a:solidFill>
              <a:srgbClr val="ff7c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46" name="" descr=""/>
            <p:cNvPicPr/>
            <p:nvPr/>
          </p:nvPicPr>
          <p:blipFill>
            <a:blip r:embed="rId2"/>
            <a:stretch/>
          </p:blipFill>
          <p:spPr>
            <a:xfrm>
              <a:off x="2057400" y="2411280"/>
              <a:ext cx="998640" cy="71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7" name=""/>
          <p:cNvGrpSpPr/>
          <p:nvPr/>
        </p:nvGrpSpPr>
        <p:grpSpPr>
          <a:xfrm>
            <a:off x="5794200" y="2368440"/>
            <a:ext cx="2792160" cy="2938320"/>
            <a:chOff x="5794200" y="2368440"/>
            <a:chExt cx="2792160" cy="2938320"/>
          </a:xfrm>
        </p:grpSpPr>
        <p:sp>
          <p:nvSpPr>
            <p:cNvPr id="448" name=""/>
            <p:cNvSpPr/>
            <p:nvPr/>
          </p:nvSpPr>
          <p:spPr>
            <a:xfrm>
              <a:off x="5794200" y="2368440"/>
              <a:ext cx="2792160" cy="29383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49" name="" descr=""/>
            <p:cNvPicPr/>
            <p:nvPr/>
          </p:nvPicPr>
          <p:blipFill>
            <a:blip r:embed="rId3">
              <a:lum contrast="28000"/>
            </a:blip>
            <a:stretch/>
          </p:blipFill>
          <p:spPr>
            <a:xfrm>
              <a:off x="6739920" y="2509200"/>
              <a:ext cx="873000" cy="62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0" name=""/>
          <p:cNvSpPr/>
          <p:nvPr/>
        </p:nvSpPr>
        <p:spPr>
          <a:xfrm>
            <a:off x="3959280" y="2805120"/>
            <a:ext cx="1676520" cy="990720"/>
          </a:xfrm>
          <a:prstGeom prst="rightArrow">
            <a:avLst>
              <a:gd name="adj1" fmla="val 63176"/>
              <a:gd name="adj2" fmla="val 46419"/>
            </a:avLst>
          </a:prstGeom>
          <a:gradFill rotWithShape="0">
            <a:gsLst>
              <a:gs pos="0">
                <a:srgbClr val="000000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cap="sq"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rot="10800000">
            <a:off x="3838680" y="3952800"/>
            <a:ext cx="1676160" cy="990720"/>
          </a:xfrm>
          <a:prstGeom prst="rightArrow">
            <a:avLst>
              <a:gd name="adj1" fmla="val 63176"/>
              <a:gd name="adj2" fmla="val 46409"/>
            </a:avLst>
          </a:prstGeom>
          <a:gradFill rotWithShape="0">
            <a:gsLst>
              <a:gs pos="0">
                <a:srgbClr val="000000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cap="sq"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-484200" y="5464080"/>
            <a:ext cx="881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ให้ถือว่าเชอรี่ที่นำเข้าจากจีนเป็น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Content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ไท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6441840" y="3228840"/>
            <a:ext cx="1535400" cy="1679400"/>
            <a:chOff x="6441840" y="3228840"/>
            <a:chExt cx="1535400" cy="1679400"/>
          </a:xfrm>
        </p:grpSpPr>
        <p:sp>
          <p:nvSpPr>
            <p:cNvPr id="454" name=""/>
            <p:cNvSpPr/>
            <p:nvPr/>
          </p:nvSpPr>
          <p:spPr>
            <a:xfrm>
              <a:off x="6441840" y="3228840"/>
              <a:ext cx="153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ffffff"/>
                  </a:solidFill>
                  <a:latin typeface="Tahoma"/>
                  <a:cs typeface="Tahoma"/>
                </a:rPr>
                <a:t>ผลเชอรี่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55" name="" descr=""/>
            <p:cNvPicPr/>
            <p:nvPr/>
          </p:nvPicPr>
          <p:blipFill>
            <a:blip r:embed="rId4"/>
            <a:stretch/>
          </p:blipFill>
          <p:spPr>
            <a:xfrm>
              <a:off x="6610320" y="3914640"/>
              <a:ext cx="1143000" cy="993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6" name=""/>
          <p:cNvGrpSpPr/>
          <p:nvPr/>
        </p:nvGrpSpPr>
        <p:grpSpPr>
          <a:xfrm>
            <a:off x="1792080" y="3284640"/>
            <a:ext cx="1535400" cy="1679040"/>
            <a:chOff x="1792080" y="3284640"/>
            <a:chExt cx="1535400" cy="1679040"/>
          </a:xfrm>
        </p:grpSpPr>
        <p:sp>
          <p:nvSpPr>
            <p:cNvPr id="457" name=""/>
            <p:cNvSpPr/>
            <p:nvPr/>
          </p:nvSpPr>
          <p:spPr>
            <a:xfrm>
              <a:off x="1792080" y="3284640"/>
              <a:ext cx="153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ffffff"/>
                  </a:solidFill>
                  <a:latin typeface="Tahoma"/>
                  <a:cs typeface="Tahoma"/>
                </a:rPr>
                <a:t>ผลเชอรี่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58" name="" descr=""/>
            <p:cNvPicPr/>
            <p:nvPr/>
          </p:nvPicPr>
          <p:blipFill>
            <a:blip r:embed="rId5"/>
            <a:stretch/>
          </p:blipFill>
          <p:spPr>
            <a:xfrm>
              <a:off x="1960560" y="3970080"/>
              <a:ext cx="1143000" cy="99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"/>
          <p:cNvSpPr/>
          <p:nvPr/>
        </p:nvSpPr>
        <p:spPr>
          <a:xfrm>
            <a:off x="6400800" y="3209760"/>
            <a:ext cx="1720800" cy="1724040"/>
          </a:xfrm>
          <a:prstGeom prst="rect">
            <a:avLst/>
          </a:prstGeom>
          <a:solidFill>
            <a:srgbClr val="463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ผลิตเป็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น้ำผลไม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เชอรี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311120" y="3300480"/>
            <a:ext cx="2286000" cy="1699920"/>
            <a:chOff x="1311120" y="3300480"/>
            <a:chExt cx="2286000" cy="1699920"/>
          </a:xfrm>
        </p:grpSpPr>
        <p:pic>
          <p:nvPicPr>
            <p:cNvPr id="461" name="" descr=""/>
            <p:cNvPicPr/>
            <p:nvPr/>
          </p:nvPicPr>
          <p:blipFill>
            <a:blip r:embed="rId6"/>
            <a:stretch/>
          </p:blipFill>
          <p:spPr>
            <a:xfrm>
              <a:off x="1311120" y="3300480"/>
              <a:ext cx="2286000" cy="16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" descr=""/>
            <p:cNvPicPr/>
            <p:nvPr/>
          </p:nvPicPr>
          <p:blipFill>
            <a:blip r:embed="rId7"/>
            <a:stretch/>
          </p:blipFill>
          <p:spPr>
            <a:xfrm>
              <a:off x="2136600" y="3525840"/>
              <a:ext cx="660600" cy="45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3" name=""/>
          <p:cNvSpPr/>
          <p:nvPr/>
        </p:nvSpPr>
        <p:spPr>
          <a:xfrm>
            <a:off x="533520" y="152280"/>
            <a:ext cx="821052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800" spc="-1" strike="noStrike">
                <a:solidFill>
                  <a:srgbClr val="ffffff"/>
                </a:solidFill>
                <a:latin typeface="Angsana New"/>
              </a:rPr>
              <a:t>    </a:t>
            </a:r>
            <a:r>
              <a:rPr b="1" lang="th-TH" sz="3800" spc="-1" strike="noStrike">
                <a:solidFill>
                  <a:srgbClr val="ffffff"/>
                </a:solidFill>
                <a:latin typeface="Angsana New"/>
              </a:rPr>
              <a:t>4.  </a:t>
            </a:r>
            <a:r>
              <a:rPr b="1" lang="th-TH" sz="3800" spc="-1" strike="noStrike">
                <a:solidFill>
                  <a:srgbClr val="ffffff"/>
                </a:solidFill>
                <a:latin typeface="Angsana New"/>
              </a:rPr>
              <a:t>สัดส่วนวัตถุดิบสะสมระหว่างประเทศที่ทำ</a:t>
            </a:r>
            <a:r>
              <a:rPr b="1" lang="en-US" sz="38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Angsana New"/>
              </a:rPr>
              <a:t>FTA </a:t>
            </a:r>
            <a:r>
              <a:rPr b="1" lang="th-TH" sz="3800" spc="-1" strike="noStrike">
                <a:solidFill>
                  <a:srgbClr val="ffffff"/>
                </a:solidFill>
                <a:latin typeface="Angsana New"/>
              </a:rPr>
              <a:t>ด้วยกัน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en-US" sz="3400" spc="-1" strike="noStrike">
                <a:solidFill>
                  <a:srgbClr val="ffffff"/>
                </a:solidFill>
                <a:latin typeface="Angsana New"/>
              </a:rPr>
              <a:t>Regional Value Content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2" dur="1" fill="hold">
                                    <p:stCondLst>
                                      <p:cond evt="end">
                                        <p:tn val="239"/>
                                      </p:cond>
                                    </p:stCondLst>
                                  </p:cTn>
                                  <p:tgtEl>
                                    <p:spTgt spid="4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04880" y="1227240"/>
            <a:ext cx="6351840" cy="24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3e3ff"/>
                </a:solidFill>
                <a:latin typeface="Arial"/>
              </a:rPr>
              <a:t>1.1  </a:t>
            </a:r>
            <a:br>
              <a:rPr sz="4800"/>
            </a:br>
            <a:br>
              <a:rPr sz="4800"/>
            </a:br>
            <a:r>
              <a:rPr b="1" lang="hi-IN" sz="4800" spc="-1" strike="noStrike">
                <a:solidFill>
                  <a:srgbClr val="e3e3ff"/>
                </a:solidFill>
                <a:latin typeface="Arial"/>
              </a:rPr>
              <a:t>ภาพรวมความสามารถในการแข่งขัน</a:t>
            </a:r>
            <a:br>
              <a:rPr sz="4800"/>
            </a:br>
            <a:r>
              <a:rPr b="1" lang="en-US" sz="4800" spc="-1" strike="noStrike">
                <a:solidFill>
                  <a:srgbClr val="e3e3ff"/>
                </a:solidFill>
                <a:latin typeface="Arial"/>
              </a:rPr>
              <a:t>  สินค้าเกษตรและอาหารของไทย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2680" y="1920960"/>
            <a:ext cx="8834400" cy="2394000"/>
          </a:xfrm>
          <a:custGeom>
            <a:avLst/>
            <a:gdLst>
              <a:gd name="textAreaLeft" fmla="*/ 114840 w 8834400"/>
              <a:gd name="textAreaRight" fmla="*/ 8719560 w 8834400"/>
              <a:gd name="textAreaTop" fmla="*/ 114840 h 2394000"/>
              <a:gd name="textAreaBottom" fmla="*/ 2279160 h 2394000"/>
            </a:gdLst>
            <a:ahLst/>
            <a:rect l="textAreaLeft" t="textAreaTop" r="textAreaRight" b="textAreaBottom"/>
            <a:pathLst>
              <a:path w="79700" h="21600">
                <a:moveTo>
                  <a:pt x="0" y="0"/>
                </a:moveTo>
                <a:lnTo>
                  <a:pt x="0" y="21600"/>
                </a:lnTo>
                <a:lnTo>
                  <a:pt x="79700" y="21600"/>
                </a:lnTo>
                <a:lnTo>
                  <a:pt x="79700" y="0"/>
                </a:lnTo>
                <a:close/>
                <a:moveTo>
                  <a:pt x="1037" y="1037"/>
                </a:moveTo>
                <a:lnTo>
                  <a:pt x="1037" y="20563"/>
                </a:lnTo>
                <a:lnTo>
                  <a:pt x="78663" y="20563"/>
                </a:lnTo>
                <a:lnTo>
                  <a:pt x="78663" y="103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00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0"/>
            <a:ext cx="9097920" cy="89856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-1933560" y="133200"/>
            <a:ext cx="128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ตัวอย่างกฎแหล่งกำเนิดสินค้าสำหรับเกษตรและอาหารใน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FTA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ต่าง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149400" y="1671480"/>
          <a:ext cx="8875440" cy="4624560"/>
        </p:xfrm>
        <a:graphic>
          <a:graphicData uri="http://schemas.openxmlformats.org/drawingml/2006/table">
            <a:tbl>
              <a:tblPr/>
              <a:tblGrid>
                <a:gridCol w="1388880"/>
                <a:gridCol w="1569960"/>
                <a:gridCol w="1479600"/>
                <a:gridCol w="1231920"/>
                <a:gridCol w="1725480"/>
                <a:gridCol w="1479600"/>
              </a:tblGrid>
              <a:tr h="975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สินค้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อาเซียน</a:t>
                      </a:r>
                      <a:r>
                        <a:rPr b="1" lang="en-US" sz="32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-</a:t>
                      </a: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จีน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อาเซียน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อินเดี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ออสเตรเลี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นิวซีแลนด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1706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ปศุสัตว์ แช่เย็น แช่แข็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LC 4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LC 4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CC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ยกเว้น         ไก่ สุกร เป็น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WO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เท่านั้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C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1280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ผักสด แช่เย็น แช่แข็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LC 4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LC 4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C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C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1369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แซลมอน กระป๋อ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LC 4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(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เจรจา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CTC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LC 40%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(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ผลักดัน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CTC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LC 2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CC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C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1280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ซาร์ดีน ปูกระป๋อ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LC 40%    (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เจรจา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CTC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LC 4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LC 2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C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C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206280" y="1031760"/>
            <a:ext cx="2689200" cy="47628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368280" y="1011240"/>
            <a:ext cx="23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ngsana New"/>
              </a:rPr>
              <a:t> </a:t>
            </a:r>
            <a:r>
              <a:rPr b="1" lang="hi-IN" sz="3300" spc="-1" strike="noStrike">
                <a:solidFill>
                  <a:srgbClr val="0000ff"/>
                </a:solidFill>
                <a:latin typeface="Angsana New"/>
              </a:rPr>
              <a:t>มีผลบังคับใช้แล้ว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44360" y="6407280"/>
            <a:ext cx="23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00"/>
                </a:solidFill>
                <a:latin typeface="Angsana New"/>
              </a:rPr>
              <a:t> </a:t>
            </a:r>
            <a:r>
              <a:rPr b="1" lang="th-TH" sz="3000" spc="-1" strike="noStrike">
                <a:solidFill>
                  <a:srgbClr val="ffff00"/>
                </a:solidFill>
                <a:latin typeface="Angsana New"/>
              </a:rPr>
              <a:t>ทุกสินค้าใช้เกณฑ์ </a:t>
            </a:r>
            <a:r>
              <a:rPr b="1" lang="en-US" sz="3000" spc="-1" strike="noStrike">
                <a:solidFill>
                  <a:srgbClr val="ffff00"/>
                </a:solidFill>
                <a:latin typeface="Angsana New"/>
              </a:rPr>
              <a:t>WO </a:t>
            </a:r>
            <a:r>
              <a:rPr b="1" lang="th-TH" sz="3000" spc="-1" strike="noStrike">
                <a:solidFill>
                  <a:srgbClr val="ffff00"/>
                </a:solidFill>
                <a:latin typeface="Angsana New"/>
              </a:rPr>
              <a:t>ได้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0" y="0"/>
            <a:ext cx="9097920" cy="89856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-1933560" y="133200"/>
            <a:ext cx="128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ตัวอย่างกฎแหล่งกำเนิดสินค้าสำหรับเกษตรและอาหารใน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FTA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ต่าง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135000" y="2114640"/>
          <a:ext cx="8875800" cy="3500280"/>
        </p:xfrm>
        <a:graphic>
          <a:graphicData uri="http://schemas.openxmlformats.org/drawingml/2006/table">
            <a:tbl>
              <a:tblPr/>
              <a:tblGrid>
                <a:gridCol w="1479600"/>
                <a:gridCol w="1585800"/>
                <a:gridCol w="1600200"/>
                <a:gridCol w="1004760"/>
                <a:gridCol w="1725840"/>
                <a:gridCol w="1479600"/>
              </a:tblGrid>
              <a:tr h="975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สินค้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cc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อาเซียน</a:t>
                      </a:r>
                      <a:r>
                        <a:rPr b="1" lang="en-US" sz="32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-</a:t>
                      </a: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จีน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อาเซียน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อินเดี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ออสเตรเลี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นิวซีแลนด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66ff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1280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ทูน่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กระป๋อ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cc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LC 40% 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(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เจรจา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CTC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LC 40%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(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ผลักดัน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CTC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C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C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ff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ผัก ผลไม้กระป๋อ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cc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LC 4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LC 4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C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C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ff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ับปะรดกระป๋อ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cc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LC 4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LC 4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WO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เท่านั้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C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ff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206280" y="1135080"/>
            <a:ext cx="2689200" cy="4762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368280" y="1114560"/>
            <a:ext cx="23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ngsana New"/>
              </a:rPr>
              <a:t> </a:t>
            </a:r>
            <a:r>
              <a:rPr b="1" lang="hi-IN" sz="3300" spc="-1" strike="noStrike">
                <a:solidFill>
                  <a:srgbClr val="0000ff"/>
                </a:solidFill>
                <a:latin typeface="Angsana New"/>
              </a:rPr>
              <a:t>มีผลบังคับใช้แล้ว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44360" y="6407280"/>
            <a:ext cx="23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00"/>
                </a:solidFill>
                <a:latin typeface="Angsana New"/>
              </a:rPr>
              <a:t> </a:t>
            </a:r>
            <a:r>
              <a:rPr b="1" lang="th-TH" sz="3000" spc="-1" strike="noStrike">
                <a:solidFill>
                  <a:srgbClr val="ffff00"/>
                </a:solidFill>
                <a:latin typeface="Angsana New"/>
              </a:rPr>
              <a:t>ทุกสินค้าใช้เกณฑ์ </a:t>
            </a:r>
            <a:r>
              <a:rPr b="1" lang="en-US" sz="3000" spc="-1" strike="noStrike">
                <a:solidFill>
                  <a:srgbClr val="ffff00"/>
                </a:solidFill>
                <a:latin typeface="Angsana New"/>
              </a:rPr>
              <a:t>WO </a:t>
            </a:r>
            <a:r>
              <a:rPr b="1" lang="th-TH" sz="3000" spc="-1" strike="noStrike">
                <a:solidFill>
                  <a:srgbClr val="ffff00"/>
                </a:solidFill>
                <a:latin typeface="Angsana New"/>
              </a:rPr>
              <a:t>ได้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0"/>
            <a:ext cx="9097920" cy="127620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71440" y="2239920"/>
            <a:ext cx="8434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e3e3ff"/>
                </a:solidFill>
                <a:latin typeface="Angsana New"/>
              </a:rPr>
              <a:t>ถ้ากฎว่าด้วยแหล่งกำเนิดสินค้าที่ตกลงกันเป็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0280" indent="-530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0280" indent="-530280">
              <a:lnSpc>
                <a:spcPct val="100000"/>
              </a:lnSpc>
              <a:buClr>
                <a:srgbClr val="e3e3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ngsana New"/>
              </a:rPr>
              <a:t>Local Content </a:t>
            </a:r>
            <a:r>
              <a:rPr b="1" lang="en-US" sz="3600" spc="-1" strike="noStrike" u="sng">
                <a:solidFill>
                  <a:srgbClr val="e3e3ff"/>
                </a:solidFill>
                <a:uFillTx/>
                <a:latin typeface="Angsana New"/>
              </a:rPr>
              <a:t>&gt;</a:t>
            </a:r>
            <a:r>
              <a:rPr b="1" lang="en-US" sz="3600" spc="-1" strike="noStrike">
                <a:solidFill>
                  <a:srgbClr val="e3e3ff"/>
                </a:solidFill>
                <a:latin typeface="Angsana New"/>
              </a:rPr>
              <a:t> 40%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0280" indent="-530280">
              <a:lnSpc>
                <a:spcPct val="100000"/>
              </a:lnSpc>
              <a:buClr>
                <a:srgbClr val="e3e3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e3e3ff"/>
                </a:solidFill>
                <a:latin typeface="Angsana New"/>
              </a:rPr>
              <a:t>การเปลี่ยนพิกัดอัตราศุลกากร </a:t>
            </a:r>
            <a:r>
              <a:rPr b="1" lang="en-US" sz="3600" spc="-1" strike="noStrike">
                <a:solidFill>
                  <a:srgbClr val="e3e3ff"/>
                </a:solidFill>
                <a:latin typeface="Angsana New"/>
              </a:rPr>
              <a:t>(CTC) </a:t>
            </a:r>
            <a:r>
              <a:rPr b="1" lang="th-TH" sz="3600" spc="-1" strike="noStrike">
                <a:solidFill>
                  <a:srgbClr val="e3e3ff"/>
                </a:solidFill>
                <a:latin typeface="Angsana New"/>
              </a:rPr>
              <a:t>โดยกำหนดเงื่อนไขห้ามนำเข้าวัตถุดิ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-537480" y="114480"/>
            <a:ext cx="101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3.2 </a:t>
            </a:r>
            <a:r>
              <a:rPr b="1" lang="hi-IN" sz="3600" spc="-1" strike="noStrike">
                <a:solidFill>
                  <a:srgbClr val="e3e3ff"/>
                </a:solidFill>
                <a:latin typeface="Arial"/>
              </a:rPr>
              <a:t>สินค้าอาหารบางชนิดของไทยใช้วัตถุดิบในประเทศ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1" lang="hi-IN" sz="3600" spc="-1" strike="noStrike">
                <a:solidFill>
                  <a:srgbClr val="e3e3ff"/>
                </a:solidFill>
                <a:latin typeface="Arial"/>
              </a:rPr>
              <a:t>ไม่เพียงพอที่จะได้แหล่งกำเนิดสินค้าไทย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0"/>
            <a:ext cx="9097920" cy="121932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958680" y="122400"/>
            <a:ext cx="723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รายการสินค้าส่งออกของไทยที่อาจไม่ได้แหล่งกำเนิดสินค้า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ขึ้นอยู่กับการตั้งกฎแหล่งกำเนิดสินค้าของประเทศคู่เจรจ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304920" y="2590920"/>
          <a:ext cx="8381880" cy="3117600"/>
        </p:xfrm>
        <a:graphic>
          <a:graphicData uri="http://schemas.openxmlformats.org/drawingml/2006/table">
            <a:tbl>
              <a:tblPr/>
              <a:tblGrid>
                <a:gridCol w="3701880"/>
                <a:gridCol w="468000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สินค้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เหตุผล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ปลาทูน่ากระป๋อ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วัตถุดิบปลาทูน่าในประเทศไทยไม่เพียงพ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แซลมอนกระป๋อ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ไม่มีวัตถุดิบปลาแซลมอนในประเทศ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ผักผลไม้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เมืองหนาว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แปรรูป              เช่น แพร์ พีช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ไม่มีวัตถุดิบในประเทศ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นมและผลิตภัณฑ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วัตถุดิบในประเทศไทยไม่เพียงพ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9097920" cy="108108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57200" y="1828800"/>
            <a:ext cx="2362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</a:rPr>
              <a:t>เหตุผ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990720" y="2895480"/>
            <a:ext cx="7586640" cy="34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9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แต่ละ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FTA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มีวัตถุดิบแตกต่างกันและต้องการขายวัตถุดิบของต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lnSpc>
                <a:spcPct val="9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ความสามารถในการแข่งขันและการคุ้มครอง             อุตสาหกรรมในประเท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lnSpc>
                <a:spcPct val="9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ปริมาณ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Circumvention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ที่เกิดขึ้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ubHalfFrame"/>
          <p:cNvSpPr/>
          <p:nvPr/>
        </p:nvSpPr>
        <p:spPr>
          <a:xfrm>
            <a:off x="442800" y="1819440"/>
            <a:ext cx="2386080" cy="581040"/>
          </a:xfrm>
          <a:custGeom>
            <a:avLst/>
            <a:gdLst>
              <a:gd name="textAreaLeft" fmla="*/ 0 w 2386080"/>
              <a:gd name="textAreaRight" fmla="*/ 2183040 w 2386080"/>
              <a:gd name="textAreaTop" fmla="*/ 0 h 581040"/>
              <a:gd name="textAreaBottom" fmla="*/ 49320 h 58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1178" y="20422"/>
                </a:lnTo>
                <a:lnTo>
                  <a:pt x="1178" y="1838"/>
                </a:lnTo>
                <a:lnTo>
                  <a:pt x="19762" y="1838"/>
                </a:lnTo>
                <a:lnTo>
                  <a:pt x="21600" y="0"/>
                </a:lnTo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ubHalfFrame"/>
          <p:cNvSpPr/>
          <p:nvPr/>
        </p:nvSpPr>
        <p:spPr>
          <a:xfrm rot="10800000">
            <a:off x="588600" y="1839600"/>
            <a:ext cx="2382840" cy="530280"/>
          </a:xfrm>
          <a:custGeom>
            <a:avLst/>
            <a:gdLst>
              <a:gd name="textAreaLeft" fmla="*/ 0 w 2382840"/>
              <a:gd name="textAreaRight" fmla="*/ 2203200 w 2382840"/>
              <a:gd name="textAreaTop" fmla="*/ 0 h 530280"/>
              <a:gd name="textAreaBottom" fmla="*/ 39960 h 53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1036" y="20564"/>
                </a:lnTo>
                <a:lnTo>
                  <a:pt x="1036" y="1631"/>
                </a:lnTo>
                <a:lnTo>
                  <a:pt x="19969" y="1631"/>
                </a:lnTo>
                <a:lnTo>
                  <a:pt x="21600" y="0"/>
                </a:lnTo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16200000"/>
          </a:gradFill>
          <a:ln w="0">
            <a:noFill/>
          </a:ln>
          <a:effectLst>
            <a:outerShdw dist="71785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-1227960" y="219240"/>
            <a:ext cx="117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3.3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</a:rPr>
              <a:t>การตั้งกฎแหล่งกำเนิดสินค้าที่เข้มงวดของประเทศคู่เจรจ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2092320" y="13460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69840" y="1533600"/>
          <a:ext cx="9001080" cy="4441680"/>
        </p:xfrm>
        <a:graphic>
          <a:graphicData uri="http://schemas.openxmlformats.org/drawingml/2006/table">
            <a:tbl>
              <a:tblPr/>
              <a:tblGrid>
                <a:gridCol w="801720"/>
                <a:gridCol w="2722680"/>
                <a:gridCol w="2678040"/>
                <a:gridCol w="2798640"/>
              </a:tblGrid>
              <a:tr h="253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Angsana New"/>
                        </a:rPr>
                        <a:t>ประ  เทศ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Angsana New"/>
                        </a:rPr>
                        <a:t>คุ้มครอง ปกป้องอุตสาหกรรม เกษตรกร             ในประเทศ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Angsana New"/>
                        </a:rPr>
                        <a:t>ต้องการสนับสนุนให้ใช้วัตถุดิบร่วมกัน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Angsana New"/>
                        </a:rPr>
                        <a:t>ไม่ต้องการให้ใช้วัตถุดิบจากประเทศที่สาม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US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/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/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/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Chi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/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/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Jap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/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/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Ind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/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/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Per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/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0" name=""/>
          <p:cNvSpPr/>
          <p:nvPr/>
        </p:nvSpPr>
        <p:spPr>
          <a:xfrm>
            <a:off x="0" y="0"/>
            <a:ext cx="9097920" cy="108108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-1227960" y="219240"/>
            <a:ext cx="117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3.3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</a:rPr>
              <a:t>การตั้งกฎแหล่งกำเนิดสินค้าที่เข้มงวดของประเทศคู่เจรจ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9097920" cy="108108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450720" y="1943280"/>
          <a:ext cx="8273880" cy="4879800"/>
        </p:xfrm>
        <a:graphic>
          <a:graphicData uri="http://schemas.openxmlformats.org/drawingml/2006/table">
            <a:tbl>
              <a:tblPr/>
              <a:tblGrid>
                <a:gridCol w="1949400"/>
                <a:gridCol w="632448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ประเทศ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6341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เกณฑ์การผลิตเพื่อให้ได้แหล่งกำเนิดสินค้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63416">
                        <a:alpha val="50000"/>
                      </a:srgbClr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หรัฐฯ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นำเข้าวัตถุดิบได้ ยกเว้น ปลาทูน่าสด แช่เย็น แช่แข็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ต้องจับปลาทูน่าเองในประเทศ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ญี่ปุ่น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เปร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อินเดี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นำเข้าปลาทูน่าสด แช่เย็น แช่แข็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ได้ แต่ต้องมี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l Content 4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4" name=""/>
          <p:cNvSpPr/>
          <p:nvPr/>
        </p:nvSpPr>
        <p:spPr>
          <a:xfrm>
            <a:off x="4890960" y="13860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>
            <a:lum contrast="44000"/>
          </a:blip>
          <a:stretch/>
        </p:blipFill>
        <p:spPr>
          <a:xfrm>
            <a:off x="558720" y="3800520"/>
            <a:ext cx="297000" cy="22680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584280" y="3289320"/>
            <a:ext cx="282600" cy="20808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3"/>
          <a:stretch/>
        </p:blipFill>
        <p:spPr>
          <a:xfrm>
            <a:off x="582480" y="4397400"/>
            <a:ext cx="327240" cy="24120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4"/>
          <a:stretch/>
        </p:blipFill>
        <p:spPr>
          <a:xfrm>
            <a:off x="555480" y="6105600"/>
            <a:ext cx="282600" cy="20160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2415240" y="1152360"/>
            <a:ext cx="430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ffff"/>
                </a:solidFill>
                <a:latin typeface="Arial"/>
              </a:rPr>
              <a:t>สินค้าปลาทูน่ากระป๋อ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5"/>
          <a:stretch/>
        </p:blipFill>
        <p:spPr>
          <a:xfrm>
            <a:off x="6073920" y="1165320"/>
            <a:ext cx="1044360" cy="57132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 txBox="1"/>
          <p:nvPr/>
        </p:nvSpPr>
        <p:spPr>
          <a:xfrm>
            <a:off x="2971800" y="2774880"/>
            <a:ext cx="2757600" cy="3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463416">
                      <a:alpha val="80000"/>
                    </a:srgbClr>
                  </a:outerShdw>
                </a:effectLst>
                <a:latin typeface="Impact"/>
              </a:rPr>
              <a:t>CTC + except......</a:t>
            </a:r>
            <a:endParaRPr b="1" lang="en-US" sz="2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463416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2732040" y="5070600"/>
            <a:ext cx="348948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463416">
                      <a:alpha val="80000"/>
                    </a:srgbClr>
                  </a:outerShdw>
                </a:effectLst>
                <a:latin typeface="Impact"/>
              </a:rPr>
              <a:t>CTC + Local Content %</a:t>
            </a:r>
            <a:endParaRPr b="1" lang="en-US" sz="2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463416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3" name=""/>
          <p:cNvSpPr/>
          <p:nvPr/>
        </p:nvSpPr>
        <p:spPr>
          <a:xfrm>
            <a:off x="-1227960" y="219240"/>
            <a:ext cx="117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3.3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</a:rPr>
              <a:t>การตั้งกฎแหล่งกำเนิดสินค้าที่เข้มงวดของประเทศคู่เจรจ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9097920" cy="108108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396720" y="2252520"/>
          <a:ext cx="8274240" cy="3430800"/>
        </p:xfrm>
        <a:graphic>
          <a:graphicData uri="http://schemas.openxmlformats.org/drawingml/2006/table">
            <a:tbl>
              <a:tblPr/>
              <a:tblGrid>
                <a:gridCol w="1949760"/>
                <a:gridCol w="632448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ประเทศ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6341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เกณฑ์การผลิตเพื่อให้ได้แหล่งกำเนิดสินค้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63416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หรัฐ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นำเข้าวัตถุดิบได้ ยกเว้น ผัก ผลไม้สด แช่เย็น แช่แข็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ต้องปลูกผัก ผลไม้ เองในประเทศ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ญี่ปุ่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เปร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อินเดี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นำเข้าวัตถุดิบได้ ยกเว้น ผัก ผลไม้สดแช่เย็นแข็ง                และต้องมี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l Content 4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"/>
          <p:cNvSpPr/>
          <p:nvPr/>
        </p:nvSpPr>
        <p:spPr>
          <a:xfrm>
            <a:off x="4890960" y="13860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417400" y="1371600"/>
            <a:ext cx="43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ffff"/>
                </a:solidFill>
                <a:latin typeface="Arial"/>
              </a:rPr>
              <a:t>สินค้าผักผลไม้กระป๋อ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8059680" y="3537000"/>
            <a:ext cx="449280" cy="47448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7238880" y="3886200"/>
            <a:ext cx="622440" cy="38592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3"/>
          <a:stretch/>
        </p:blipFill>
        <p:spPr>
          <a:xfrm>
            <a:off x="7821720" y="4041720"/>
            <a:ext cx="582480" cy="40968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4">
            <a:lum contrast="44000"/>
          </a:blip>
          <a:stretch/>
        </p:blipFill>
        <p:spPr>
          <a:xfrm>
            <a:off x="558720" y="3800520"/>
            <a:ext cx="297000" cy="22680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5"/>
          <a:stretch/>
        </p:blipFill>
        <p:spPr>
          <a:xfrm>
            <a:off x="584280" y="3289320"/>
            <a:ext cx="282600" cy="20808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6"/>
          <a:stretch/>
        </p:blipFill>
        <p:spPr>
          <a:xfrm>
            <a:off x="582480" y="4397400"/>
            <a:ext cx="327240" cy="2412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7"/>
          <a:stretch/>
        </p:blipFill>
        <p:spPr>
          <a:xfrm>
            <a:off x="569880" y="5103720"/>
            <a:ext cx="282600" cy="2016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-1227960" y="219240"/>
            <a:ext cx="117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3.3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</a:rPr>
              <a:t>การตั้งกฎแหล่งกำเนิดสินค้าที่เข้มงวดของประเทศคู่เจรจ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9097920" cy="89856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207080" y="1087560"/>
            <a:ext cx="693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กฎแหล่งกำเนิดสินค้าที่เข้มงวดของญี่ปุ่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890960" y="13860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196920" y="2292480"/>
          <a:ext cx="8888400" cy="3749400"/>
        </p:xfrm>
        <a:graphic>
          <a:graphicData uri="http://schemas.openxmlformats.org/drawingml/2006/table">
            <a:tbl>
              <a:tblPr/>
              <a:tblGrid>
                <a:gridCol w="2424240"/>
                <a:gridCol w="1218960"/>
                <a:gridCol w="2819520"/>
                <a:gridCol w="2425680"/>
              </a:tblGrid>
              <a:tr h="581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Times New Roman"/>
                          <a:cs typeface="SimSun"/>
                        </a:rPr>
                        <a:t>สินค้าเกษตร              และอาหาร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Times New Roman"/>
                          <a:cs typeface="SimSun"/>
                        </a:rPr>
                        <a:t>พิกัด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Times New Roman"/>
                          <a:cs typeface="SimSun"/>
                        </a:rPr>
                        <a:t>ข้อเสนอญี่ปุ่น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การลดภาษ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แหล่งกำเนิดสินค้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19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000" spc="-1" strike="noStrike">
                          <a:solidFill>
                            <a:srgbClr val="ffffff"/>
                          </a:solidFill>
                          <a:latin typeface="Times New Roman"/>
                          <a:cs typeface="SimSun"/>
                        </a:rPr>
                        <a:t>ผลิตภัณฑ์จากเมล็ดธัญพืช อาทิ แป้งข้าวสาลี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11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hi-IN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ลดเหลือ 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 </a:t>
                      </a:r>
                      <a:r>
                        <a:rPr b="1" lang="hi-IN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ในวันแรก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hi-IN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ลดเหลือ 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 </a:t>
                      </a:r>
                      <a:r>
                        <a:rPr b="1" lang="hi-IN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ใน 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</a:t>
                      </a:r>
                      <a:r>
                        <a:rPr b="1" lang="hi-IN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ปี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000" spc="-1" strike="noStrike">
                          <a:solidFill>
                            <a:srgbClr val="ffffff"/>
                          </a:solidFill>
                          <a:latin typeface="Times New Roman"/>
                          <a:cs typeface="SimSun"/>
                        </a:rPr>
                        <a:t>ห้ามนำเข้า      วัตถุดิบเมล็ด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000" spc="-1" strike="noStrike">
                          <a:solidFill>
                            <a:srgbClr val="ffffff"/>
                          </a:solidFill>
                          <a:latin typeface="Times New Roman"/>
                          <a:cs typeface="SimSun"/>
                        </a:rPr>
                        <a:t>ไขมัน น้ำมันที่ได้จาก  สัตว์หรือพืช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1507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-1515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hi-IN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ลดเหลือ 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 </a:t>
                      </a:r>
                      <a:r>
                        <a:rPr b="1" lang="hi-IN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ในวันแรก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hi-IN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ลดเหลือ 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 </a:t>
                      </a:r>
                      <a:r>
                        <a:rPr b="1" lang="hi-IN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ใน 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-7 </a:t>
                      </a:r>
                      <a:r>
                        <a:rPr b="1" lang="hi-IN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ปี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000" spc="-1" strike="noStrike">
                          <a:solidFill>
                            <a:srgbClr val="ffffff"/>
                          </a:solidFill>
                          <a:latin typeface="Times New Roman"/>
                          <a:cs typeface="SimSun"/>
                        </a:rPr>
                        <a:t>ห้ามนำเข้า        เมล็ดพืช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206280" y="1665360"/>
            <a:ext cx="2355840" cy="47628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368280" y="1644480"/>
            <a:ext cx="23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ngsana New"/>
              </a:rPr>
              <a:t> </a:t>
            </a:r>
            <a:r>
              <a:rPr b="1" lang="hi-IN" sz="3300" spc="-1" strike="noStrike">
                <a:solidFill>
                  <a:srgbClr val="0000ff"/>
                </a:solidFill>
                <a:latin typeface="Angsana New"/>
              </a:rPr>
              <a:t>ตัวอย่างสินค้า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-1227960" y="219240"/>
            <a:ext cx="117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3.3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</a:rPr>
              <a:t>การตั้งกฎแหล่งกำเนิดสินค้าที่เข้มงวดของประเทศคู่เจรจ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0" y="0"/>
            <a:ext cx="9097920" cy="89856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890960" y="13860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77760" y="2381400"/>
          <a:ext cx="8888400" cy="3622680"/>
        </p:xfrm>
        <a:graphic>
          <a:graphicData uri="http://schemas.openxmlformats.org/drawingml/2006/table">
            <a:tbl>
              <a:tblPr/>
              <a:tblGrid>
                <a:gridCol w="2592360"/>
                <a:gridCol w="914400"/>
                <a:gridCol w="1981080"/>
                <a:gridCol w="3400560"/>
              </a:tblGrid>
              <a:tr h="581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Times New Roman"/>
                          <a:cs typeface="SimSun"/>
                        </a:rPr>
                        <a:t>สินค้าเกษตร              และอาหาร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Times New Roman"/>
                          <a:cs typeface="SimSun"/>
                        </a:rPr>
                        <a:t>พิกัด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Times New Roman"/>
                          <a:cs typeface="SimSun"/>
                        </a:rPr>
                        <a:t>ข้อเสนอญี่ปุ่น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การลดภาษ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แหล่งกำเนิดสินค้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19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000" spc="-1" strike="noStrike">
                          <a:solidFill>
                            <a:srgbClr val="ffffff"/>
                          </a:solidFill>
                          <a:latin typeface="Times New Roman"/>
                          <a:cs typeface="SimSun"/>
                        </a:rPr>
                        <a:t>ประมงแปรรูป เช่น     ทูน่า แซลมอนกระป๋อง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1603-1605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</a:t>
                      </a:r>
                      <a:r>
                        <a:rPr b="1" lang="hi-IN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ลดเหลือ 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 </a:t>
                      </a:r>
                      <a:r>
                        <a:rPr b="1" lang="hi-IN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ใน 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</a:t>
                      </a:r>
                      <a:r>
                        <a:rPr b="1" lang="hi-IN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ปี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000" spc="-1" strike="noStrike">
                          <a:solidFill>
                            <a:srgbClr val="ffffff"/>
                          </a:solidFill>
                          <a:latin typeface="Times New Roman"/>
                          <a:cs typeface="SimSun"/>
                        </a:rPr>
                        <a:t>ห้ามนำเข้าปลามาผลิต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23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000" spc="-1" strike="noStrike">
                          <a:solidFill>
                            <a:srgbClr val="ffffff"/>
                          </a:solidFill>
                          <a:latin typeface="Times New Roman"/>
                          <a:cs typeface="SimSun"/>
                        </a:rPr>
                        <a:t>ของปรุงแต่งจากธัญพืชหรือแป้ง เช่น บะหมี่สำเร็จรูป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19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</a:t>
                      </a:r>
                      <a:r>
                        <a:rPr b="1" lang="hi-IN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ลดเหลือ 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 </a:t>
                      </a:r>
                      <a:r>
                        <a:rPr b="1" lang="hi-IN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ใน 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 </a:t>
                      </a:r>
                      <a:r>
                        <a:rPr b="1" lang="hi-IN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ปี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000" spc="-1" strike="noStrike">
                          <a:solidFill>
                            <a:srgbClr val="ffffff"/>
                          </a:solidFill>
                          <a:latin typeface="Times New Roman"/>
                          <a:cs typeface="SimSun"/>
                        </a:rPr>
                        <a:t>ห้ามนำเข้าเมล็ดข้าวสาลี หรือแป้งข้าวสาลี และวัตถุดิบในตอนอื่นๆ   เข้ามาผลิตเลย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147600" y="1711440"/>
            <a:ext cx="2355840" cy="47628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309600" y="1690560"/>
            <a:ext cx="23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ngsana New"/>
              </a:rPr>
              <a:t> </a:t>
            </a:r>
            <a:r>
              <a:rPr b="1" lang="hi-IN" sz="3300" spc="-1" strike="noStrike">
                <a:solidFill>
                  <a:srgbClr val="0000ff"/>
                </a:solidFill>
                <a:latin typeface="Angsana New"/>
              </a:rPr>
              <a:t>ตัวอย่างสินค้า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134000" y="1087560"/>
            <a:ext cx="693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กฎแหล่งกำเนิดสินค้าที่เข้มงวดของญี่ปุ่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-1227960" y="219240"/>
            <a:ext cx="117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3.3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</a:rPr>
              <a:t>การตั้งกฎแหล่งกำเนิดสินค้าที่เข้มงวดของประเทศคู่เจรจ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097920" cy="117324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47560" y="60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e3e3ff"/>
                </a:solidFill>
                <a:latin typeface="Arial"/>
              </a:rPr>
              <a:t>มูลค่าการส่งออกสินค้าเกษตรและเกษตรแปรรูป</a:t>
            </a:r>
            <a:br>
              <a:rPr sz="3600"/>
            </a:br>
            <a:r>
              <a:rPr b="1" lang="hi-IN" sz="3600" spc="-1" strike="noStrike">
                <a:solidFill>
                  <a:srgbClr val="e3e3ff"/>
                </a:solidFill>
                <a:latin typeface="Arial"/>
              </a:rPr>
              <a:t>ของไทยแบ่งตามโครงสร้างสินค้า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25280" y="1889280"/>
          <a:ext cx="8925120" cy="3728880"/>
        </p:xfrm>
        <a:graphic>
          <a:graphicData uri="http://schemas.openxmlformats.org/drawingml/2006/table">
            <a:tbl>
              <a:tblPr/>
              <a:tblGrid>
                <a:gridCol w="2791080"/>
                <a:gridCol w="1263600"/>
                <a:gridCol w="1162080"/>
                <a:gridCol w="1282680"/>
                <a:gridCol w="1265040"/>
                <a:gridCol w="116064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ccff33"/>
                          </a:solidFill>
                          <a:latin typeface="Angsana New"/>
                          <a:cs typeface="Times New Roman"/>
                        </a:rPr>
                        <a:t>สินค้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ff33"/>
                          </a:solidFill>
                          <a:latin typeface="Angsana New"/>
                        </a:rPr>
                        <a:t>254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ff33"/>
                          </a:solidFill>
                          <a:latin typeface="Angsana New"/>
                        </a:rPr>
                        <a:t>254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ff33"/>
                          </a:solidFill>
                          <a:latin typeface="Angsana New"/>
                        </a:rPr>
                        <a:t>254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ff33"/>
                          </a:solidFill>
                          <a:latin typeface="Angsana New"/>
                        </a:rPr>
                        <a:t>254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ff33"/>
                          </a:solidFill>
                          <a:latin typeface="Angsana New"/>
                        </a:rPr>
                        <a:t>2547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1252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ffff"/>
                          </a:solidFill>
                          <a:latin typeface="Angsana New"/>
                          <a:cs typeface="Times New Roman"/>
                        </a:rPr>
                        <a:t>เกษตรกรร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ngsana New"/>
                          <a:ea typeface="Times New Roman"/>
                        </a:rPr>
                        <a:t>(</a:t>
                      </a: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ngsana New"/>
                          <a:cs typeface="Times New Roman"/>
                        </a:rPr>
                        <a:t>กสิกรรม ปศุสัตว์ ประมง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ngsana New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7,33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7,05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7,117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8,82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0,33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ngsana New"/>
                          <a:cs typeface="Times New Roman"/>
                        </a:rPr>
                        <a:t>อัตราขยายตัว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  <a:ea typeface="Times New Roman"/>
                        </a:rPr>
                        <a:t>(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4.64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-3.83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0.88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4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7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ffff"/>
                          </a:solidFill>
                          <a:latin typeface="Angsana New"/>
                          <a:cs typeface="Times New Roman"/>
                        </a:rPr>
                        <a:t>อุตสาหกรรมการเกษต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4,71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4,817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5,09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5,9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6,38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ngsana New"/>
                          <a:cs typeface="Times New Roman"/>
                        </a:rPr>
                        <a:t>อัตราขยายตัว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ngsana New"/>
                          <a:ea typeface="Times New Roman"/>
                        </a:rPr>
                        <a:t>(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3.5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.1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5.8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6.7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7.2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6728040" y="1432440"/>
            <a:ext cx="23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ngsana New"/>
              </a:rPr>
              <a:t>ล้านเหรียญสหรั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312840" y="5699880"/>
            <a:ext cx="51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ที่ม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กรมเจรจาการค้าระหว่างประเทศ กระทรวงพาณิชย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4890960" y="13860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150840" y="2055960"/>
          <a:ext cx="8888400" cy="4167000"/>
        </p:xfrm>
        <a:graphic>
          <a:graphicData uri="http://schemas.openxmlformats.org/drawingml/2006/table">
            <a:tbl>
              <a:tblPr/>
              <a:tblGrid>
                <a:gridCol w="2592360"/>
                <a:gridCol w="914400"/>
                <a:gridCol w="2971800"/>
                <a:gridCol w="2409840"/>
              </a:tblGrid>
              <a:tr h="581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Times New Roman"/>
                          <a:cs typeface="SimSun"/>
                        </a:rPr>
                        <a:t>สินค้าเกษตร              และอาหาร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Times New Roman"/>
                          <a:cs typeface="SimSun"/>
                        </a:rPr>
                        <a:t>พิกัด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Times New Roman"/>
                          <a:cs typeface="SimSun"/>
                        </a:rPr>
                        <a:t>ข้อเสนอญี่ปุ่น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การลดภาษ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แหล่งกำเนิดสินค้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19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000" spc="-1" strike="noStrike">
                          <a:solidFill>
                            <a:srgbClr val="ffffff"/>
                          </a:solidFill>
                          <a:latin typeface="Times New Roman"/>
                          <a:cs typeface="SimSun"/>
                        </a:rPr>
                        <a:t>ผัก ผลไม้กระป๋อง 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/          </a:t>
                      </a:r>
                      <a:r>
                        <a:rPr b="1" lang="hi-IN" sz="3000" spc="-1" strike="noStrike">
                          <a:solidFill>
                            <a:srgbClr val="ffffff"/>
                          </a:solidFill>
                          <a:latin typeface="Times New Roman"/>
                          <a:cs typeface="SimSun"/>
                        </a:rPr>
                        <a:t>น้ำผลไม้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2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hi-IN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ลดเหลือ 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 </a:t>
                      </a:r>
                      <a:r>
                        <a:rPr b="1" lang="hi-IN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ในวันแรก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hi-IN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ลดเหลือ 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 </a:t>
                      </a:r>
                      <a:r>
                        <a:rPr b="1" lang="hi-IN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ใน 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-10 </a:t>
                      </a:r>
                      <a:r>
                        <a:rPr b="1" lang="hi-IN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ปี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000" spc="-1" strike="noStrike">
                          <a:solidFill>
                            <a:srgbClr val="ffffff"/>
                          </a:solidFill>
                          <a:latin typeface="Times New Roman"/>
                          <a:cs typeface="SimSun"/>
                        </a:rPr>
                        <a:t>ห้ามนำเข้าผัก ผลไม้สดมาผลิต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28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000" spc="-1" strike="noStrike">
                          <a:solidFill>
                            <a:srgbClr val="ffffff"/>
                          </a:solidFill>
                          <a:latin typeface="Times New Roman"/>
                          <a:cs typeface="SimSun"/>
                        </a:rPr>
                        <a:t>ของปรุงแต่งเบ็ดเตล็ด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-</a:t>
                      </a:r>
                      <a:r>
                        <a:rPr b="1" lang="hi-IN" sz="3000" spc="-1" strike="noStrike">
                          <a:solidFill>
                            <a:srgbClr val="ffffff"/>
                          </a:solidFill>
                          <a:latin typeface="Times New Roman"/>
                          <a:cs typeface="SimSun"/>
                        </a:rPr>
                        <a:t>ซอสถั่วเหลือง ซอสมะเขือเทศ กาแฟ ซุป ไอศกรีม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21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hi-IN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ลดเหลือ 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 </a:t>
                      </a:r>
                      <a:r>
                        <a:rPr b="1" lang="hi-IN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ในวันแรก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hi-IN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ลดเหลือ 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 </a:t>
                      </a:r>
                      <a:r>
                        <a:rPr b="1" lang="hi-IN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ใน 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</a:t>
                      </a:r>
                      <a:r>
                        <a:rPr b="1" lang="hi-IN" sz="3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ปี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000" spc="-1" strike="noStrike">
                          <a:solidFill>
                            <a:srgbClr val="ffffff"/>
                          </a:solidFill>
                          <a:latin typeface="Times New Roman"/>
                          <a:cs typeface="SimSun"/>
                        </a:rPr>
                        <a:t>ห้ามนำเข้าผักสด    ผักแปรรูป เมล็ดพืช ฯลฯ มาผลิต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162000" y="1474920"/>
            <a:ext cx="2355840" cy="47628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324000" y="1454040"/>
            <a:ext cx="23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ngsana New"/>
              </a:rPr>
              <a:t> </a:t>
            </a:r>
            <a:r>
              <a:rPr b="1" lang="hi-IN" sz="3300" spc="-1" strike="noStrike">
                <a:solidFill>
                  <a:srgbClr val="0000ff"/>
                </a:solidFill>
                <a:latin typeface="Angsana New"/>
              </a:rPr>
              <a:t>ตัวอย่างสินค้า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0"/>
            <a:ext cx="9097920" cy="89856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134000" y="1087560"/>
            <a:ext cx="693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ngsana New"/>
              </a:rPr>
              <a:t>กฎแหล่งกำเนิดสินค้าที่เข้มงวดของญี่ปุ่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-1227960" y="219240"/>
            <a:ext cx="117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3.3  </a:t>
            </a:r>
            <a:r>
              <a:rPr b="1" lang="hi-IN" sz="3600" spc="-1" strike="noStrike">
                <a:solidFill>
                  <a:srgbClr val="ffffff"/>
                </a:solidFill>
                <a:latin typeface="Angsana New"/>
              </a:rPr>
              <a:t>การตั้งกฎแหล่งกำเนิดสินค้าที่เข้มงวดของประเทศคู่เจรจ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3581280" y="3429000"/>
            <a:ext cx="4953240" cy="2362320"/>
          </a:xfrm>
          <a:prstGeom prst="ellipse">
            <a:avLst/>
          </a:prstGeom>
          <a:solidFill>
            <a:srgbClr val="3399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2133720"/>
            <a:ext cx="3352680" cy="3124080"/>
          </a:xfrm>
          <a:prstGeom prst="ellipse">
            <a:avLst/>
          </a:prstGeom>
          <a:solidFill>
            <a:srgbClr val="3399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438280" y="1066680"/>
            <a:ext cx="4648320" cy="2133720"/>
          </a:xfrm>
          <a:prstGeom prst="ellipse">
            <a:avLst/>
          </a:prstGeom>
          <a:solidFill>
            <a:srgbClr val="3399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0"/>
            <a:ext cx="9097920" cy="89856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152000" y="125280"/>
            <a:ext cx="75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</a:rPr>
              <a:t>สรุปแนวทางจัดทำกฎแหล่งกำเนิดสินค้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-141840" y="2971800"/>
            <a:ext cx="34711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</a:rPr>
              <a:t>สนับสนุนการใช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</a:rPr>
              <a:t>วัตถุดิบในประเท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429000" y="1447920"/>
            <a:ext cx="32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</a:rPr>
              <a:t>เปิดโอกาสให้นำเข้า                              วัตถุดิบที่ไม่มีในประเท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191120" y="38098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</a:rPr>
              <a:t>เปิดกว้างให้นำเข้าวัตถุดิบเพื่อ   ความหลากหลายในผลิตภัณฑ์สำหรับการผลิตในอนาคต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rot="19402200">
            <a:off x="1447560" y="1752120"/>
            <a:ext cx="1904760" cy="733680"/>
          </a:xfrm>
          <a:custGeom>
            <a:avLst/>
            <a:gdLst>
              <a:gd name="textAreaLeft" fmla="*/ 333360 w 1904760"/>
              <a:gd name="textAreaRight" fmla="*/ 1380960 w 190476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rot="3109800">
            <a:off x="6728760" y="2338560"/>
            <a:ext cx="1905120" cy="73332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895480" y="1066680"/>
            <a:ext cx="53352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0880" y="2514600"/>
            <a:ext cx="53352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086600" y="3276720"/>
            <a:ext cx="533520" cy="533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685800" y="4343400"/>
            <a:ext cx="762120" cy="49068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1219320" y="4495680"/>
            <a:ext cx="792000" cy="65592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3"/>
          <a:stretch/>
        </p:blipFill>
        <p:spPr>
          <a:xfrm>
            <a:off x="4800600" y="2514600"/>
            <a:ext cx="1123920" cy="380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0" y="0"/>
            <a:ext cx="9097920" cy="89856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915480" y="125280"/>
            <a:ext cx="75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</a:rPr>
              <a:t>สรุปแนวทางจัดทำกฎแหล่งกำเนิดสินค้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5440" y="3075120"/>
            <a:ext cx="861048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ffff"/>
                </a:solidFill>
                <a:latin typeface="Arial"/>
              </a:rPr>
              <a:t>ต้องเตรียมข้อมูลสินค้าที่มีสัดส่วนวัตถุดิบและต้นทุนการผลิต                     </a:t>
            </a:r>
            <a:r>
              <a:rPr b="1" lang="th-TH" sz="3200" spc="-1" strike="noStrike">
                <a:solidFill>
                  <a:srgbClr val="00ffff"/>
                </a:solidFill>
                <a:latin typeface="Angsana New"/>
              </a:rPr>
              <a:t>(</a:t>
            </a:r>
            <a:r>
              <a:rPr b="1" lang="en-US" sz="3200" spc="-1" strike="noStrike">
                <a:solidFill>
                  <a:srgbClr val="00ffff"/>
                </a:solidFill>
                <a:latin typeface="Angsana New"/>
              </a:rPr>
              <a:t>Local Content)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th-TH" sz="3200" spc="-1" strike="noStrike">
                <a:solidFill>
                  <a:srgbClr val="00ffff"/>
                </a:solidFill>
                <a:latin typeface="Arial"/>
              </a:rPr>
              <a:t>ในประเทศน้อย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 อาทิ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2800" indent="-442800">
              <a:lnSpc>
                <a:spcPct val="85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สินค้าสำเร็จรูปที่ไม่มีวัตถุดิบในประเทศ เช่น แซลมอ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2800" indent="-442800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ผัก ผลไม้เมืองหนาว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พีช แพร์ แอปริคอต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เป็นต้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2800" indent="-442800">
              <a:lnSpc>
                <a:spcPct val="85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สินค้าสำเร็จรูปที่มีวัตถุดิบในประเทศไม่เพียงพอ เช่น ปลาทูน่า           กุ้งทะเลบางชนิด ผลิตภัณฑ์นม เป็นต้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76040" y="1082520"/>
            <a:ext cx="87552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แนวโน้มการเจรจา โดยเฉพาะกับประเทศกำลังพัฒนา หรือบางสินค้าที่เจรจากับประเทศพัฒนาแล้ว จะมีการกำหนด </a:t>
            </a:r>
            <a:r>
              <a:rPr b="1" lang="en-US" sz="4000" spc="-1" strike="noStrike">
                <a:solidFill>
                  <a:srgbClr val="00ffff"/>
                </a:solidFill>
                <a:latin typeface="Angsana New"/>
              </a:rPr>
              <a:t>Local Content (%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960720" y="2357280"/>
            <a:ext cx="8384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1579680" y="2295360"/>
            <a:ext cx="5943600" cy="14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he End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250920" y="1994040"/>
          <a:ext cx="8727840" cy="3500280"/>
        </p:xfrm>
        <a:graphic>
          <a:graphicData uri="http://schemas.openxmlformats.org/drawingml/2006/table">
            <a:tbl>
              <a:tblPr/>
              <a:tblGrid>
                <a:gridCol w="3546360"/>
                <a:gridCol w="1447920"/>
                <a:gridCol w="1295280"/>
                <a:gridCol w="1219320"/>
                <a:gridCol w="1218960"/>
              </a:tblGrid>
              <a:tr h="131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ตัวอย่างสินค้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Arial"/>
                        </a:rPr>
                        <a:t>อันดับ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ccff33"/>
                          </a:solidFill>
                          <a:latin typeface="Cordia New"/>
                        </a:rPr>
                        <a:t>254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ccff33"/>
                          </a:solidFill>
                          <a:latin typeface="Cordia New"/>
                        </a:rPr>
                        <a:t>254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ccff33"/>
                          </a:solidFill>
                          <a:latin typeface="Cordia New"/>
                        </a:rPr>
                        <a:t>254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ปลาและผลิตภัณฑ์ประมงแปรรูป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ordia New"/>
                        </a:rPr>
                        <a:t>2,057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ordia New"/>
                        </a:rPr>
                        <a:t>2,01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ordia New"/>
                        </a:rPr>
                        <a:t>1,657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ผลไม้กระป๋องและแปรรูป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ผักกระป๋องและแปรรูป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น้ำผักและน้ำผลไม้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9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9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0" y="0"/>
            <a:ext cx="9097920" cy="117324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30760" y="257040"/>
            <a:ext cx="55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</a:rPr>
              <a:t>อันดับของไทยในการส่งออก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96600" y="1446840"/>
            <a:ext cx="23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ngsana New"/>
              </a:rPr>
              <a:t>ล้านเหรียญสหรั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3280" y="5640840"/>
            <a:ext cx="389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ที่มา</a:t>
            </a:r>
            <a:r>
              <a:rPr b="0" lang="th-TH" sz="1200" spc="-1" strike="noStrike">
                <a:solidFill>
                  <a:srgbClr val="ffffff"/>
                </a:solidFill>
                <a:latin typeface="Arial"/>
              </a:rPr>
              <a:t>: ITC: International Trade Centre </a:t>
            </a:r>
            <a:r>
              <a:rPr b="0" lang="th-TH" sz="12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www.intracen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097920" cy="117324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1727640" y="323280"/>
            <a:ext cx="1272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Cordia New"/>
              </a:rPr>
              <a:t>ตารางแสดงสัดส่วนจำนวนประชากรและแรงงานภาคเกษตรของไท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97000" y="2224080"/>
          <a:ext cx="8659800" cy="2484360"/>
        </p:xfrm>
        <a:graphic>
          <a:graphicData uri="http://schemas.openxmlformats.org/drawingml/2006/table">
            <a:tbl>
              <a:tblPr/>
              <a:tblGrid>
                <a:gridCol w="1334880"/>
                <a:gridCol w="2459160"/>
                <a:gridCol w="3051000"/>
                <a:gridCol w="1814760"/>
              </a:tblGrid>
              <a:tr h="204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Angsana New"/>
                          <a:cs typeface="Times New Roman"/>
                        </a:rPr>
                        <a:t>ประชากร  </a:t>
                      </a:r>
                      <a:r>
                        <a:rPr b="1" lang="en-US" sz="2800" spc="-1" strike="noStrike">
                          <a:solidFill>
                            <a:srgbClr val="ccff33"/>
                          </a:solidFill>
                          <a:latin typeface="Angsana New"/>
                          <a:ea typeface="Times New Roman"/>
                        </a:rPr>
                        <a:t>(</a:t>
                      </a:r>
                      <a:r>
                        <a:rPr b="1" lang="hi-IN" sz="2800" spc="-1" strike="noStrike">
                          <a:solidFill>
                            <a:srgbClr val="ccff33"/>
                          </a:solidFill>
                          <a:latin typeface="Angsana New"/>
                          <a:cs typeface="Times New Roman"/>
                        </a:rPr>
                        <a:t>ล้านคน</a:t>
                      </a:r>
                      <a:r>
                        <a:rPr b="1" lang="en-US" sz="2800" spc="-1" strike="noStrike">
                          <a:solidFill>
                            <a:srgbClr val="ccff33"/>
                          </a:solidFill>
                          <a:latin typeface="Angsana New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Angsana New"/>
                          <a:cs typeface="Times New Roman"/>
                        </a:rPr>
                        <a:t>แรงงานภาคเกษตร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ff33"/>
                          </a:solidFill>
                          <a:latin typeface="Angsana New"/>
                          <a:ea typeface="Times New Roman"/>
                        </a:rPr>
                        <a:t>(</a:t>
                      </a:r>
                      <a:r>
                        <a:rPr b="1" lang="hi-IN" sz="2800" spc="-1" strike="noStrike">
                          <a:solidFill>
                            <a:srgbClr val="ccff33"/>
                          </a:solidFill>
                          <a:latin typeface="Angsana New"/>
                          <a:cs typeface="Times New Roman"/>
                        </a:rPr>
                        <a:t>ล้านคน</a:t>
                      </a:r>
                      <a:r>
                        <a:rPr b="1" lang="en-US" sz="2800" spc="-1" strike="noStrike">
                          <a:solidFill>
                            <a:srgbClr val="ccff33"/>
                          </a:solidFill>
                          <a:latin typeface="Angsana New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Angsana New"/>
                          <a:cs typeface="Times New Roman"/>
                        </a:rPr>
                        <a:t>ประชากร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Angsana New"/>
                          <a:cs typeface="Times New Roman"/>
                        </a:rPr>
                        <a:t>ที่เกี่ยวข้องกับภาคเกษตร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ff33"/>
                          </a:solidFill>
                          <a:latin typeface="Angsana New"/>
                          <a:ea typeface="Times New Roman"/>
                        </a:rPr>
                        <a:t>(</a:t>
                      </a:r>
                      <a:r>
                        <a:rPr b="1" lang="hi-IN" sz="2800" spc="-1" strike="noStrike">
                          <a:solidFill>
                            <a:srgbClr val="ccff33"/>
                          </a:solidFill>
                          <a:latin typeface="Angsana New"/>
                          <a:cs typeface="Times New Roman"/>
                        </a:rPr>
                        <a:t>ล้านคน</a:t>
                      </a:r>
                      <a:r>
                        <a:rPr b="1" lang="en-US" sz="2800" spc="-1" strike="noStrike">
                          <a:solidFill>
                            <a:srgbClr val="ccff33"/>
                          </a:solidFill>
                          <a:latin typeface="Angsana New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Angsana New"/>
                          <a:cs typeface="Times New Roman"/>
                        </a:rPr>
                        <a:t>สัดส่วน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Angsana New"/>
                          <a:cs typeface="Times New Roman"/>
                        </a:rPr>
                        <a:t>ต่อประชากร     ทั้งหมด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63.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30.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48.2%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-712800" y="5181120"/>
            <a:ext cx="611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ordia New"/>
                <a:ea typeface="Cordia New"/>
              </a:rPr>
              <a:t>  </a:t>
            </a:r>
            <a:r>
              <a:rPr b="0" lang="th-TH" sz="1600" spc="-1" strike="noStrike">
                <a:solidFill>
                  <a:srgbClr val="ffffff"/>
                </a:solidFill>
                <a:latin typeface="Cordia New"/>
                <a:cs typeface="Cordia New"/>
              </a:rPr>
              <a:t>ที่มา </a:t>
            </a:r>
            <a:r>
              <a:rPr b="0" lang="th-TH" sz="1600" spc="-1" strike="noStrike">
                <a:solidFill>
                  <a:srgbClr val="ffffff"/>
                </a:solidFill>
                <a:latin typeface="Cordia New"/>
                <a:ea typeface="Cordia New"/>
              </a:rPr>
              <a:t>: </a:t>
            </a:r>
            <a:r>
              <a:rPr b="0" lang="th-TH" sz="1200" spc="-1" strike="noStrike">
                <a:solidFill>
                  <a:srgbClr val="ffffff"/>
                </a:solidFill>
                <a:latin typeface="Cordia New"/>
                <a:ea typeface="Cordia New"/>
              </a:rPr>
              <a:t>FOOD AND AGRICULTURE ORGANIZATION OF THE UNITED NATIONS</a:t>
            </a:r>
            <a:r>
              <a:rPr b="1" lang="th-TH" sz="1200" spc="-1" strike="noStrike">
                <a:solidFill>
                  <a:srgbClr val="ffffff"/>
                </a:solidFill>
                <a:latin typeface="Cordia New"/>
                <a:ea typeface="Cordia New"/>
              </a:rPr>
              <a:t> </a:t>
            </a:r>
            <a:r>
              <a:rPr b="0" lang="th-TH" sz="1200" spc="-1" strike="noStrike">
                <a:solidFill>
                  <a:srgbClr val="ffffff"/>
                </a:solidFill>
                <a:latin typeface="Cordia New"/>
                <a:ea typeface="Cordia New"/>
              </a:rPr>
              <a:t>(FAO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27000"/>
            <a:ext cx="9144000" cy="67140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โครงสร้างภาษี</a:t>
            </a:r>
            <a:r>
              <a:rPr b="1" lang="en-US" sz="40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สินค้าเกษตร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893880"/>
            <a:ext cx="89154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  </a:t>
            </a:r>
            <a:r>
              <a:rPr b="1" lang="th-TH" sz="3200" spc="-1" strike="noStrike">
                <a:solidFill>
                  <a:srgbClr val="00ffff"/>
                </a:solidFill>
                <a:latin typeface="Angsana New"/>
              </a:rPr>
              <a:t>ไทย</a:t>
            </a:r>
            <a:r>
              <a:rPr b="1" lang="en-US" sz="3200" spc="-1" strike="noStrike">
                <a:solidFill>
                  <a:srgbClr val="00ffff"/>
                </a:solidFill>
                <a:latin typeface="Angsana New"/>
              </a:rPr>
              <a:t>:</a:t>
            </a:r>
            <a:r>
              <a:rPr b="1" lang="th-TH" sz="3200" spc="-1" strike="noStrike">
                <a:solidFill>
                  <a:srgbClr val="00ffff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ffff"/>
                </a:solidFill>
                <a:latin typeface="Angsana New"/>
              </a:rPr>
              <a:t>0-60</a:t>
            </a:r>
            <a:r>
              <a:rPr b="1" lang="en-US" sz="3600" spc="-1" strike="noStrike">
                <a:solidFill>
                  <a:srgbClr val="00ffff"/>
                </a:solidFill>
                <a:latin typeface="Angsana New"/>
              </a:rPr>
              <a:t>%</a:t>
            </a:r>
            <a:r>
              <a:rPr b="1" lang="en-US" sz="3200" spc="-1" strike="noStrike">
                <a:solidFill>
                  <a:srgbClr val="00ffff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00ffff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อินเดีย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: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0-100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%,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182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%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ญี่ปุ่น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: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0-40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%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 ,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ตามสภาพ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จีน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: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0-71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%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อเมริกา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: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0-35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ออสเตรเลีย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: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0-5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%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เปรู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: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4-20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นิวซีแลนด์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: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0-7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%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บาห์เรน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: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0-5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%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,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125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        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ไทยเก็บภาษีค่อนข้างสูงเมื่อเทียบกับคู่เจรจา </a:t>
            </a:r>
            <a:r>
              <a:rPr b="1" lang="th-TH" sz="3200" spc="-1" strike="noStrike" u="sng">
                <a:solidFill>
                  <a:srgbClr val="ffffff"/>
                </a:solidFill>
                <a:uFillTx/>
                <a:latin typeface="Angsana New"/>
              </a:rPr>
              <a:t>ยกเว้น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 อินเดี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3693960"/>
            <a:ext cx="457200" cy="227160"/>
          </a:xfrm>
          <a:custGeom>
            <a:avLst/>
            <a:gdLst>
              <a:gd name="textAreaLeft" fmla="*/ 71280 w 457200"/>
              <a:gd name="textAreaRight" fmla="*/ 400320 w 457200"/>
              <a:gd name="textAreaTop" fmla="*/ 56880 h 227160"/>
              <a:gd name="textAreaBottom" fmla="*/ 170640 h 227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14280" y="4965840"/>
            <a:ext cx="78854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คู่เจรจาโดยเฉพาะประเทศพัฒนาแล้ว  เข้มงวดด้านมาตรการ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</a:rPr>
              <a:t>SPS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    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ซึ่งเป็นอุปสรรคที่สำคัญต่อการนำเข้าสินค้าเกษต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4267080"/>
            <a:ext cx="9144000" cy="62712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มาตรการทางการค้าที่มิใช่ภาษ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03200" y="5262480"/>
            <a:ext cx="457200" cy="227160"/>
          </a:xfrm>
          <a:custGeom>
            <a:avLst/>
            <a:gdLst>
              <a:gd name="textAreaLeft" fmla="*/ 71280 w 457200"/>
              <a:gd name="textAreaRight" fmla="*/ 400320 w 457200"/>
              <a:gd name="textAreaTop" fmla="*/ 56880 h 227160"/>
              <a:gd name="textAreaBottom" fmla="*/ 170640 h 227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50760" y="6323760"/>
            <a:ext cx="32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ที่ม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กระทรวงเกษตรและสหกรณ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9097920" cy="108108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7640" y="168120"/>
            <a:ext cx="88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ngsana New"/>
              </a:rPr>
              <a:t>เปรียบเทียบโครงสร้างอัตราภาษีสินค้าของไท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39680" y="1317600"/>
          <a:ext cx="8826480" cy="4695840"/>
        </p:xfrm>
        <a:graphic>
          <a:graphicData uri="http://schemas.openxmlformats.org/drawingml/2006/table">
            <a:tbl>
              <a:tblPr/>
              <a:tblGrid>
                <a:gridCol w="1566720"/>
                <a:gridCol w="1951200"/>
                <a:gridCol w="2081160"/>
                <a:gridCol w="1655640"/>
                <a:gridCol w="1571760"/>
              </a:tblGrid>
              <a:tr h="581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Angsana New"/>
                        </a:rPr>
                        <a:t>อัตรา </a:t>
                      </a:r>
                      <a:r>
                        <a:rPr b="1" lang="en-US" sz="3200" spc="-1" strike="noStrike">
                          <a:solidFill>
                            <a:srgbClr val="ccff33"/>
                          </a:solidFill>
                          <a:latin typeface="Angsana New"/>
                        </a:rPr>
                        <a:t>(</a:t>
                      </a:r>
                      <a:r>
                        <a:rPr b="1" lang="en-US" sz="3600" spc="-1" strike="noStrike">
                          <a:solidFill>
                            <a:srgbClr val="ccff33"/>
                          </a:solidFill>
                          <a:latin typeface="Angsana New"/>
                        </a:rPr>
                        <a:t>%</a:t>
                      </a:r>
                      <a:r>
                        <a:rPr b="1" lang="en-US" sz="3200" spc="-1" strike="noStrike">
                          <a:solidFill>
                            <a:srgbClr val="ccff33"/>
                          </a:solidFill>
                          <a:latin typeface="Angsana New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463416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Angsana New"/>
                        </a:rPr>
                        <a:t>จำนวนรายการ</a:t>
                      </a:r>
                      <a:r>
                        <a:rPr b="1" lang="en-US" sz="3200" spc="-1" strike="noStrike">
                          <a:solidFill>
                            <a:srgbClr val="ccff33"/>
                          </a:solidFill>
                          <a:latin typeface="Angsana New"/>
                        </a:rPr>
                        <a:t>/ </a:t>
                      </a: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Angsana New"/>
                        </a:rPr>
                        <a:t>สัดส่วน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463416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Angsana New"/>
                        </a:rPr>
                        <a:t>อัตรา </a:t>
                      </a:r>
                      <a:r>
                        <a:rPr b="1" lang="en-US" sz="3200" spc="-1" strike="noStrike">
                          <a:solidFill>
                            <a:srgbClr val="ccff33"/>
                          </a:solidFill>
                          <a:latin typeface="Angsana New"/>
                        </a:rPr>
                        <a:t>(</a:t>
                      </a:r>
                      <a:r>
                        <a:rPr b="1" lang="en-US" sz="3600" spc="-1" strike="noStrike">
                          <a:solidFill>
                            <a:srgbClr val="ccff33"/>
                          </a:solidFill>
                          <a:latin typeface="Angsana New"/>
                        </a:rPr>
                        <a:t>%</a:t>
                      </a:r>
                      <a:r>
                        <a:rPr b="1" lang="en-US" sz="3200" spc="-1" strike="noStrike">
                          <a:solidFill>
                            <a:srgbClr val="ccff33"/>
                          </a:solidFill>
                          <a:latin typeface="Angsana New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463416">
                        <a:alpha val="50000"/>
                      </a:srgbClr>
                    </a:solidFill>
                  </a:tcPr>
                </a:tc>
              </a:tr>
              <a:tr h="113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Angsana New"/>
                        </a:rPr>
                        <a:t>อินเดี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46341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Angsana New"/>
                        </a:rPr>
                        <a:t>ไท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46341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ccff33"/>
                          </a:solidFill>
                          <a:latin typeface="Angsana New"/>
                        </a:rPr>
                        <a:t>สหรัฐฯ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463416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0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47  (1%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38  (4.3%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Tahoma"/>
                          <a:ea typeface="Tahoma"/>
                        </a:rPr>
                        <a:t>3,867 (36.88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-5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 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21  (2.5%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00ffff"/>
                          </a:solidFill>
                          <a:latin typeface="Angsana New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ffff"/>
                          </a:solidFill>
                          <a:latin typeface="Angsana New"/>
                        </a:rPr>
                        <a:t>,</a:t>
                      </a:r>
                      <a:r>
                        <a:rPr b="1" lang="th-TH" sz="3600" spc="-1" strike="noStrike">
                          <a:solidFill>
                            <a:srgbClr val="00ffff"/>
                          </a:solidFill>
                          <a:latin typeface="Angsana New"/>
                        </a:rPr>
                        <a:t>288  (41.6%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,551 (24.32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-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5.1-20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00ffff"/>
                          </a:solidFill>
                          <a:latin typeface="Angsana New"/>
                        </a:rPr>
                        <a:t>4</a:t>
                      </a:r>
                      <a:r>
                        <a:rPr b="1" lang="en-US" sz="3600" spc="-1" strike="noStrike">
                          <a:solidFill>
                            <a:srgbClr val="00ffff"/>
                          </a:solidFill>
                          <a:latin typeface="Angsana New"/>
                        </a:rPr>
                        <a:t>,</a:t>
                      </a:r>
                      <a:r>
                        <a:rPr b="1" lang="th-TH" sz="3600" spc="-1" strike="noStrike">
                          <a:solidFill>
                            <a:srgbClr val="00ffff"/>
                          </a:solidFill>
                          <a:latin typeface="Angsana New"/>
                        </a:rPr>
                        <a:t>134  (84%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,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797  (32.6%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,054</a:t>
                      </a:r>
                      <a:r>
                        <a:rPr b="1" lang="th-TH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 (19.58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5.1-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 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0.1-30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525  (10.7%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918  (16%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837 (7.98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&gt;</a:t>
                      </a:r>
                      <a:r>
                        <a:rPr b="1" lang="th-TH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&gt;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30 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90  (1.8%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94  (3.5%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-263520" y="6237360"/>
            <a:ext cx="33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Angsana New"/>
              </a:rPr>
              <a:t>ที่มา </a:t>
            </a:r>
            <a:r>
              <a:rPr b="1" lang="en-US" sz="1600" spc="-1" strike="noStrike">
                <a:solidFill>
                  <a:srgbClr val="ffffff"/>
                </a:solidFill>
                <a:latin typeface="Angsana New"/>
              </a:rPr>
              <a:t>: </a:t>
            </a:r>
            <a:r>
              <a:rPr b="1" lang="th-TH" sz="1600" spc="-1" strike="noStrike">
                <a:solidFill>
                  <a:srgbClr val="ffffff"/>
                </a:solidFill>
                <a:latin typeface="Angsana New"/>
              </a:rPr>
              <a:t>กรมเจรจาการค้าระหว่างประเท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0T08:55:47Z</dcterms:created>
  <dc:creator>SPORNVUT</dc:creator>
  <dc:description/>
  <dc:language>en-US</dc:language>
  <cp:lastModifiedBy>Your User Name</cp:lastModifiedBy>
  <dcterms:modified xsi:type="dcterms:W3CDTF">2005-06-06T08:33:20Z</dcterms:modified>
  <cp:revision>283</cp:revision>
  <dc:subject/>
  <dc:title> Rule of Origin for Auto Sector</dc:title>
</cp:coreProperties>
</file>