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259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ใช้สิทธิประโยชน์พิเศษ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AngsanaUPC"/>
                <a:cs typeface="AngsanaUPC"/>
              </a:rPr>
              <a:t>ด้านอากรขาเข้า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AngsanaUPC"/>
                <a:cs typeface="AngsanaUPC"/>
              </a:rPr>
              <a:t>ภายใต้ความตกลงเขตการค้า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ดร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.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นิลสุวรรณ ลีลารัศม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ประธานคณะกรรมการกฎว่าด้วยแหล่งกำเนิดสินค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และมาตรการกีดกันทางการค้าที่มิใช่ภาษ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สภาอุตสาหกรรมแห่งประเทศไท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0" y="0"/>
          <a:ext cx="1270080" cy="12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700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270080" y="141120"/>
            <a:ext cx="16128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33920" y="0"/>
          <a:ext cx="144756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0"/>
                    <a:ext cx="14475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238880" y="0"/>
            <a:ext cx="190512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ffffff"/>
                </a:solidFill>
                <a:latin typeface="AngsanaUPC"/>
                <a:ea typeface="Cordia New"/>
              </a:rPr>
              <a:t>FT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58453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8077320" y="58453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133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620120" y="2133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ขนาดตลาด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FTA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เมินจากประชากรไท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051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1. ASEAN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53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8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16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7432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. USA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28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.3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86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81280"/>
            <a:ext cx="9144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3. China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135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0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 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40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14400"/>
            <a:ext cx="9144000" cy="99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FTA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UPC"/>
              </a:rPr>
              <a:t>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cs typeface="AngsanaUPC"/>
              </a:rPr>
              <a:t>ประชากร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UPC"/>
              </a:rPr>
              <a:t>    ประเมิน  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ea typeface="AngsanaUPC"/>
              </a:rPr>
              <a:t>%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cs typeface="AngsanaUPC"/>
              </a:rPr>
              <a:t>กำลังซื้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. AUS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  15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0.23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4.6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2578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5. JPN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350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5.5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110 %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6. India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100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16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320 % </a:t>
            </a:r>
            <a:r>
              <a:rPr b="1" lang="th-TH" sz="66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ลาดส่งออกของไทย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2546 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ูลค่า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: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US$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57400"/>
            <a:ext cx="91440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. ASEAN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6,537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8954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. USA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3,618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6.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3. EU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1,761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4.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14400"/>
            <a:ext cx="91440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ูลค่า         สัดส่วน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 New"/>
              </a:rPr>
              <a:t>(%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4. JPN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1,397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952880"/>
            <a:ext cx="9144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5. Others (FTAs)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6,926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33.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638680"/>
            <a:ext cx="91440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รวม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  <a:ea typeface="Angsana New"/>
              </a:rPr>
              <a:t>80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,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  <a:ea typeface="Angsana New"/>
              </a:rPr>
              <a:t>239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      100 %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14400"/>
            <a:ext cx="464832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ิ่มมากว่า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21,000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้าน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US$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ัจจัยการผลิตที่ต้องคำนึงใ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F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01124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1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ขนาดกำลังการผลิต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พิ่มหรือลด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โรงงานใหม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779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วัตถุดิบ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นำเข้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ในประเทศ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การจัดซื้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923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3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ครื่องจักร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ก่า ใหม่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จำนว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ซื้อ นำเข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9067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คโนโลยี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ใช้มากขึ้น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ซื้อ พัฒนา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?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21120"/>
            <a:ext cx="9144000" cy="97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5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งินลงทุ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ต้องขยายมาก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กู้ หุ้นเพิ่มทุ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6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บุคลากร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แรงงา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การตลาด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ภาษ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ฝึกอบร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4960" y="3749760"/>
            <a:ext cx="5256360" cy="25905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62680" y="457200"/>
            <a:ext cx="2735280" cy="128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ngsana New"/>
              </a:rPr>
              <a:t>F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989000"/>
            <a:ext cx="8229600" cy="0"/>
          </a:xfrm>
          <a:prstGeom prst="line">
            <a:avLst/>
          </a:prstGeom>
          <a:ln w="63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057400"/>
            <a:ext cx="647064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ngsana New"/>
              </a:rPr>
              <a:t>Framework Agre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400" spc="-1" strike="noStrike">
                <a:solidFill>
                  <a:srgbClr val="000000"/>
                </a:solidFill>
                <a:latin typeface="Arial"/>
                <a:cs typeface="Angsana New"/>
              </a:rPr>
              <a:t>เลือกเจรจาประเด็นตกลงเงื่อนไขที่ต้องกา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505320"/>
            <a:ext cx="8229600" cy="0"/>
          </a:xfrm>
          <a:prstGeom prst="line">
            <a:avLst/>
          </a:prstGeom>
          <a:ln w="63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897360"/>
            <a:ext cx="302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อินเดีย  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7080" y="3902040"/>
            <a:ext cx="192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66ff"/>
                </a:solidFill>
                <a:latin typeface="Angsana New"/>
                <a:ea typeface="Angsana New"/>
              </a:rPr>
              <a:t>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9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ต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.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962520"/>
            <a:ext cx="28796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ngsana New"/>
              </a:rPr>
              <a:t>EHS 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ngsana New"/>
              </a:rPr>
              <a:t>Early Harvest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6483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อาเซียน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จีน  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07-0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4648320"/>
            <a:ext cx="18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1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ต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.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54100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ร์เรน 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6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5410080"/>
            <a:ext cx="199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29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ธ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1676520"/>
            <a:ext cx="792360" cy="2057400"/>
          </a:xfrm>
          <a:prstGeom prst="upArrow">
            <a:avLst>
              <a:gd name="adj1" fmla="val 50000"/>
              <a:gd name="adj2" fmla="val 649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7200"/>
            <a:ext cx="532296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อสเตรเลี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1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25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ิวซีแลนด์ 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1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2548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000000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เด็นหลักใน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การเจรจาเปิดการค้าเสร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752480"/>
            <a:ext cx="9134640" cy="11271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ลดภาษีนำเข้าระหว่างกัน  </a:t>
            </a:r>
            <a:r>
              <a:rPr b="1" i="1" lang="th-TH" sz="5400" spc="-1" strike="noStrike">
                <a:solidFill>
                  <a:srgbClr val="000000"/>
                </a:solidFill>
                <a:latin typeface="Angsana New"/>
              </a:rPr>
              <a:t>เลือกกลุ่มสินค้าได้ </a:t>
            </a:r>
            <a:r>
              <a:rPr b="1" i="1" lang="th-TH" sz="5400" spc="-1" strike="noStrike">
                <a:solidFill>
                  <a:srgbClr val="000000"/>
                </a:solidFill>
                <a:latin typeface="Angsana New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971800"/>
            <a:ext cx="9144000" cy="121932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efefe"/>
              </a:gs>
              <a:gs pos="100000">
                <a:srgbClr val="3333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มีเงื่อนไขแหล่งกำเนิดสินค้าที่ผลิตและส่งออ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267080"/>
            <a:ext cx="9144000" cy="1143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อำนวยความสะดวก ขนผ่านด่านศุลกากร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4. </a:t>
            </a:r>
            <a:r>
              <a:rPr b="1" lang="th-TH" sz="5400" spc="-1" strike="noStrike">
                <a:solidFill>
                  <a:srgbClr val="000000"/>
                </a:solidFill>
                <a:latin typeface="AngsanaUPC"/>
              </a:rPr>
              <a:t>เพิ่ม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กรอบความร่วมมือด้านอื่น และลด 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NT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 New"/>
              </a:rPr>
              <a:t>การลดภาษีของไทยกับ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</a:rPr>
              <a:t>FT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838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719360"/>
                <a:tab algn="l" pos="4194000"/>
                <a:tab algn="l" pos="6853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U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Unilateral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ลดฝ่ายเดียว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0%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ได้ทันท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81080"/>
            <a:ext cx="9144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853320"/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Reciprocal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ต่างตอบแทน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0%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54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819520"/>
            <a:ext cx="9144000" cy="152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N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Normal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มีแผน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ลดภาษี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0% 2550 - 5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181480"/>
            <a:ext cx="9144000" cy="838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719360"/>
                <a:tab algn="l" pos="4194000"/>
                <a:tab algn="l" pos="6481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O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Others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ระบุรายละเอียดและมีเหตุผ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343400"/>
            <a:ext cx="9144000" cy="8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481800"/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Sentitive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ยังขอภาษีคุ้มครอง 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553-5 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IN, AUS, JPN, PERU,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</a:rPr>
              <a:t>USA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, CHN, NZ, EF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A (RTA) Tariff Update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 IN 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N PERU MEX CHILE 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051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ASEA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-5% Tarif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% Ta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7432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New Zealand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79%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% Tarif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% Ta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4197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Chin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CH. 07 – 08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0% Tarif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A (RTA)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581280"/>
            <a:ext cx="9144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AUS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83% Tariff line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% Tariff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0% Ta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otiation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PN  USA  Peru  BIMSTEC  EF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2578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India(Interim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82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0% Tarif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2209680"/>
            <a:ext cx="7086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เป็นความตกลงระหว่างประเทศคู่สัญญาที่เอื้อผลประโยชน์ระหว่างกันให้ดีกว่า หรือมากกว่าเงื่อนไขความตกลงของ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</a:rPr>
              <a:t>WTO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ไม่ว่าประเทศเหล่านั้นจะเป็นสมาชิก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</a:rPr>
              <a:t>WTO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หรือไม่ก็ตา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2952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WTO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</a:rPr>
              <a:t> “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</a:rPr>
              <a:t>การรวมกลุ่มทางการค้า คือ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RT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2209680"/>
          <a:ext cx="160020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160020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1401840"/>
            <a:ext cx="81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RTAs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 Regional Trade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88080"/>
            <a:ext cx="9144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mic Sans MS"/>
              </a:rPr>
              <a:t>Bilateral Free Trade Agreemen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ngsana New"/>
              </a:rPr>
              <a:t>: BF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ป้าหมายของการเปิดการค้าเสร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ช้เงื่อนไขความพร้อมและมีกำหนดระยะเวลาให้เตรียมการก่อนเปิด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รอบคลุมประเด็นที่เกี่ยวข้องกับการค้าทุกชนิด แบ่งออกได้เป็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2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ลุ่ม คือ การค้าสินค้า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(Trade in Goods)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และ บริการ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(Trade in Service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~2553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ทยจะเปิดการค้าเสรีเต็มรูปแบ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762120"/>
            <a:ext cx="84582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cc"/>
                </a:solidFill>
                <a:latin typeface="IrisUPC"/>
                <a:cs typeface="Angsana New"/>
              </a:rPr>
              <a:t>ประเด็นเจรจาการค้า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3640" cy="51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920" y="201456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F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3957480"/>
            <a:ext cx="2116080" cy="719280"/>
          </a:xfrm>
          <a:prstGeom prst="roundRect">
            <a:avLst>
              <a:gd name="adj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IrisUPC"/>
              </a:rPr>
              <a:t>Textiles </a:t>
            </a:r>
            <a:r>
              <a:rPr b="1" lang="en-US" sz="2800" spc="-1" strike="noStrike">
                <a:solidFill>
                  <a:srgbClr val="ffffff"/>
                </a:solidFill>
                <a:latin typeface="AngsanaUPC"/>
                <a:ea typeface="IrisUPC"/>
              </a:rPr>
              <a:t>&amp;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IrisUPC"/>
              </a:rPr>
              <a:t> Appa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929120"/>
            <a:ext cx="1981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IrisUPC"/>
              </a:rPr>
              <a:t>e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-Co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IrisUPC"/>
              </a:rPr>
              <a:t>m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me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0" y="395748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ustom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&amp;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7840" y="201456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ompetition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865840"/>
            <a:ext cx="1800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ea typeface="IrisUPC"/>
              </a:rPr>
              <a:t>Trade Reme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ea typeface="IrisUPC"/>
              </a:rPr>
              <a:t>(SG, AD &amp; C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7840" y="2986200"/>
            <a:ext cx="1800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Government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7840" y="395748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ross Border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erv</a:t>
            </a:r>
            <a:r>
              <a:rPr b="1" lang="en-US" sz="2800" spc="-1" strike="noStrike">
                <a:solidFill>
                  <a:srgbClr val="000000"/>
                </a:solidFill>
                <a:latin typeface="AngsanaUPC"/>
                <a:ea typeface="IrisUPC"/>
              </a:rPr>
              <a:t>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78200" y="20145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IrisUPC"/>
              </a:rPr>
              <a:t>TB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IP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64400" y="492912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UPC"/>
                <a:ea typeface="IrisUPC"/>
              </a:rPr>
              <a:t>Temporary Entry (Mobility)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UPC"/>
                <a:ea typeface="IrisUPC"/>
              </a:rPr>
              <a:t> of Business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64400" y="201456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cience &amp; Tech./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R &amp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64400" y="2986200"/>
            <a:ext cx="21589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Dispute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ett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943600"/>
            <a:ext cx="43178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General (Preamble, Definitions,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 Exception, Final Prov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784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IrisUPC"/>
              </a:rPr>
              <a:t>RO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78200" y="10796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UPC"/>
                <a:ea typeface="IrisUPC"/>
              </a:rPr>
              <a:t>Trade in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UPC"/>
                <a:ea typeface="IrisUPC"/>
              </a:rPr>
              <a:t>Trade 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78200" y="4929120"/>
            <a:ext cx="1800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Telec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492912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2986200"/>
            <a:ext cx="1800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Inves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7840" y="5865840"/>
            <a:ext cx="1800000" cy="719280"/>
          </a:xfrm>
          <a:prstGeom prst="roundRect">
            <a:avLst>
              <a:gd name="adj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UPC"/>
                <a:ea typeface="IrisUPC"/>
              </a:rPr>
              <a:t>S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95748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Envi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78200" y="298620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S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863640" cy="515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152280"/>
            <a:ext cx="7772400" cy="1067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การค้า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สินค้า 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  <a:ea typeface="AngsanaUPC"/>
              </a:rPr>
              <a:t>(Trade in Good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80773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</a:rPr>
              <a:t>เปิดเสรี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ด้วยการลดอากรขาเข้า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Tariff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ระหว่างกัน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</a:rPr>
              <a:t>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จนในที่สุดมีอัตราร้อยละ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0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ทุกรายกา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ลดและยกเลิกการอุดหนุน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Subsidy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ของรัฐ เพื่อไม่ให้มีการบิดเบือนราคาสินค้าส่งออกที่ต่ำกว่าความเป็นจริ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ลดและยกเลิกการกีดกันทางการค้า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Non-Tariff Barrier: NTB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ที่ไม่เป็นธรร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1295280"/>
          <a:ext cx="44136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413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12840" y="3048120"/>
          <a:ext cx="441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30481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4920" y="5359320"/>
          <a:ext cx="441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593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52280"/>
            <a:ext cx="77724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การค้าบริการ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</a:rPr>
              <a:t>(Trade in Service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21932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ภัตตาคาร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แพทย์แผนไทย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08000"/>
                </a:solidFill>
                <a:latin typeface="AngsanaUPC"/>
              </a:rPr>
              <a:t>บริการธุรกิ</a:t>
            </a:r>
            <a:r>
              <a:rPr b="1" lang="th-TH" sz="4400" spc="-1" strike="noStrike">
                <a:solidFill>
                  <a:srgbClr val="339933"/>
                </a:solidFill>
                <a:latin typeface="AngsanaUPC"/>
              </a:rPr>
              <a:t>จ</a:t>
            </a:r>
            <a:r>
              <a:rPr b="1" lang="th-TH" sz="4400" spc="-1" strike="noStrike">
                <a:solidFill>
                  <a:srgbClr val="ffcc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การ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  <a:cs typeface="AngsanaUPC"/>
              </a:rPr>
              <a:t>ศึกษา การ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สื่อสาร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  <a:ea typeface="Angsana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การก่อสร้างและวิศวกรรม </a:t>
            </a:r>
            <a:r>
              <a:rPr b="1" lang="th-TH" sz="4400" spc="-1" strike="noStrike">
                <a:solidFill>
                  <a:srgbClr val="008000"/>
                </a:solidFill>
                <a:latin typeface="AngsanaUPC"/>
              </a:rPr>
              <a:t>สิ่งแวดล้อม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 การเงิน การจัดจำหน่าย นันทนาการ วัฒนธรรมและการกีฬา  การท่องเที่ยว และ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การขนส่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ไทยได้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เปิด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เสรี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 การเงิน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(1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มี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ค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 42)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และโทรคมนาคมขั้นพื้นฐาน 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(254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ผูกพันเท่าที่กฎหมาย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  <a:cs typeface="AngsanaUPC"/>
              </a:rPr>
              <a:t>ไทยใน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ปัจจุบันให้อำนาจไว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295280"/>
          <a:ext cx="44136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413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04920" y="4191120"/>
          <a:ext cx="441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911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12840" y="5842080"/>
          <a:ext cx="441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840" y="584208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13716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เปิดสาขาทรัพยสินทางปัญญาของ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5436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</a:t>
            </a:r>
            <a:r>
              <a:rPr b="1" lang="en-US" sz="5400" spc="-1" strike="noStrike">
                <a:solidFill>
                  <a:srgbClr val="660033"/>
                </a:solidFill>
                <a:latin typeface="Times New Roman"/>
              </a:rPr>
              <a:t>®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 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     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cs typeface="AngsanaUPC"/>
              </a:rPr>
              <a:t>เปิดตามกรอบความตกลงของ </a:t>
            </a:r>
            <a:r>
              <a:rPr b="1" lang="en-US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W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™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©  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cs typeface="AngsanaUPC"/>
              </a:rPr>
              <a:t>เน้นความร่วมมือถ่ายทอดเทคโนโลยี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    โดยเฉพาะอย่างยิ่งด้านสิทธิบัต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™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©   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cs typeface="Angsana New"/>
              </a:rPr>
              <a:t>เน้นการรักษาภูมิปัญญาท้องถิ่น พันธุ์พืช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   และพันธุ์สัตว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แผนภูมิวงจรการส่งออ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029200"/>
            <a:ext cx="6324480" cy="1752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@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ค่าบริหารจัดการ ขนส่ง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@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กำไร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47920"/>
            <a:ext cx="3276720" cy="18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สินค้า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1360" y="3581280"/>
            <a:ext cx="209556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ผู้ซื้อ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447920"/>
            <a:ext cx="3733920" cy="18288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ศุลกากร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อากรขาเข้า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  <a:ea typeface="AngsanaUPC"/>
              </a:rPr>
              <a:t>2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666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4479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ส่งออ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4520" y="34290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42900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600200" y="533376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334120"/>
            <a:ext cx="1600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6920" y="3581280"/>
            <a:ext cx="2286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ราคาสุดท้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แผนภูมิวงจรการส่งออก </a:t>
            </a:r>
            <a:r>
              <a:rPr b="1" lang="en-US" sz="6600" spc="-1" strike="noStrike">
                <a:solidFill>
                  <a:srgbClr val="000000"/>
                </a:solidFill>
                <a:latin typeface="Angsana New"/>
                <a:ea typeface="AngsanaUPC"/>
              </a:rPr>
              <a:t>F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5029200"/>
            <a:ext cx="6324480" cy="1752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@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ค่าบริหารจัดการ ขนส่ง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@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กำไรจากการขาย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47920"/>
            <a:ext cx="3276720" cy="18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สินค้า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แหล่งกำเนิ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360" y="3581280"/>
            <a:ext cx="209556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ผู้ซื้อ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1447920"/>
            <a:ext cx="3733920" cy="18288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ศุลกากร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อากรขาเข้า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  <a:ea typeface="AngsanaUPC"/>
              </a:rPr>
              <a:t>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666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14479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ส่งออ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34290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42900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600200" y="533376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334120"/>
            <a:ext cx="1600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66920" y="3581280"/>
            <a:ext cx="2286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ราคาสุดท้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96252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272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3810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กำลังซื้อจีนเพิ่ม</a:t>
            </a:r>
            <a:r>
              <a:rPr b="1" lang="th-TH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7:1 (x20 </a:t>
            </a:r>
            <a:r>
              <a:rPr b="1" lang="th-TH" sz="5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เท่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07:49:00Z</dcterms:created>
  <dc:creator>Rey</dc:creator>
  <dc:description/>
  <dc:language>en-US</dc:language>
  <cp:lastModifiedBy>Nilsuwan</cp:lastModifiedBy>
  <cp:lastPrinted>2002-09-17T06:51:31Z</cp:lastPrinted>
  <dcterms:modified xsi:type="dcterms:W3CDTF">2005-08-15T00:29:10Z</dcterms:modified>
  <cp:revision>139</cp:revision>
  <dc:subject/>
  <dc:title>No Slide Title</dc:title>
</cp:coreProperties>
</file>