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775-A369-4FE5-828B-8E204990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DF6-9D9A-48D3-A25B-2973B72A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EB8-289A-424C-BA5D-6F595EEE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702-AD6B-416E-949D-37E31929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5B1B-A00C-4A98-81A4-3F0CE685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0F70-0DF8-4C39-A0C8-918B6BC2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B17B-69F8-4394-8D70-49584ACC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CE8F-715F-494B-BE06-22A2FD57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3FB6-D528-459D-9094-7888D810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6162-5086-41A1-B5F0-436981A1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9611-3650-4BA0-99FB-96C2B7F6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643-58F9-4FA5-ACE2-2406797F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09FD-103F-4F3D-B8D6-51622442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FEAA-3BC2-4C88-BEDF-59BB256D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1F14-3CE9-405F-B93A-AA5F3A7C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95FA-E017-44FF-A1B8-D8206A9D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31C1-9F46-4EEC-8DAB-28CC0106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D62-4AB8-4AD4-9D2C-F40635B9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115-4A27-413F-811F-E130AE73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027-1757-455A-B624-82D49EDC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C80-080D-40C5-B4CD-C77C4FC0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6AF-E970-4BEA-ADF3-12951E7C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E10-286B-4E6A-90CC-DCEB5B9A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800-CA73-4123-A797-326248DC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E04D-F6B4-4131-898F-4C69F5DC006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0062-E445-457F-AAB6-F27ACA7FAE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F1D9-F6CA-4A94-8046-ECAAC831A989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2B49-2669-4564-B0E8-84CD0611A3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33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3333ff"/>
                </a:solidFill>
                <a:latin typeface="Angsana New"/>
                <a:cs typeface="Angsana New"/>
              </a:rPr>
              <a:t>อุตสากรรมหนัง เครื่องหนัง</a:t>
            </a:r>
            <a:br>
              <a:rPr sz="6000"/>
            </a:br>
            <a:r>
              <a:rPr b="1" lang="th-TH" sz="6000" spc="-1" strike="noStrike">
                <a:solidFill>
                  <a:srgbClr val="3333ff"/>
                </a:solidFill>
                <a:latin typeface="Angsana New"/>
                <a:cs typeface="Angsana New"/>
              </a:rPr>
              <a:t>และรองเท้า</a:t>
            </a:r>
            <a:br>
              <a:rPr sz="6000"/>
            </a:br>
            <a:r>
              <a:rPr b="1" lang="th-TH" sz="6000" spc="-1" strike="noStrike">
                <a:solidFill>
                  <a:srgbClr val="3333ff"/>
                </a:solidFill>
                <a:latin typeface="Angsana New"/>
                <a:ea typeface="Angsana New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ngsana New"/>
                <a:ea typeface="Angsana New"/>
              </a:rPr>
              <a:t>H.S. CHAPTERs 01 41 43 42 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573360"/>
            <a:ext cx="91440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ดร</a:t>
            </a:r>
            <a:r>
              <a:rPr b="1" lang="th-TH" sz="4400" spc="-1" strike="noStrike">
                <a:solidFill>
                  <a:srgbClr val="990033"/>
                </a:solidFill>
                <a:latin typeface="Times New Roman"/>
                <a:ea typeface="Angsana New"/>
              </a:rPr>
              <a:t>. </a:t>
            </a:r>
            <a:r>
              <a:rPr b="1" lang="th-TH" sz="44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นิลสุวรรณ ลีลารัศม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ประธานคณะกรรมการกฎว่าด้วยแหล่งกำเนิดสินค้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และมาตรการกีดกันทางการค้าที่มิใช่ภาษ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990033"/>
                </a:solidFill>
                <a:latin typeface="Times New Roman"/>
                <a:ea typeface="Angsana New"/>
              </a:rPr>
              <a:t> </a:t>
            </a:r>
            <a:r>
              <a:rPr b="1" lang="th-TH" sz="44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สภาอุตสาหกรรมแห่งประเทศไท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077320" y="328464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0"/>
            <a:ext cx="8991720" cy="990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Angsana New"/>
              </a:rPr>
              <a:t>ได้แหล่งกำเนิดด้วย </a:t>
            </a:r>
            <a:r>
              <a:rPr b="1" lang="th-TH" sz="4400" spc="-1" strike="noStrike">
                <a:solidFill>
                  <a:srgbClr val="ffff00"/>
                </a:solidFill>
                <a:latin typeface="Angsana New"/>
              </a:rPr>
              <a:t>(1) </a:t>
            </a:r>
            <a:r>
              <a:rPr b="1" lang="th-TH" sz="4400" spc="-1" strike="noStrike">
                <a:solidFill>
                  <a:srgbClr val="ffff00"/>
                </a:solidFill>
                <a:latin typeface="Angsana New"/>
              </a:rPr>
              <a:t>การเปลี่ยนพิกัด และ </a:t>
            </a:r>
            <a:r>
              <a:rPr b="1" lang="th-TH" sz="4400" spc="-1" strike="noStrike">
                <a:solidFill>
                  <a:srgbClr val="ffff00"/>
                </a:solidFill>
                <a:latin typeface="Angsana New"/>
              </a:rPr>
              <a:t>(2) </a:t>
            </a:r>
            <a:r>
              <a:rPr b="1" lang="th-TH" sz="4400" spc="-1" strike="noStrike">
                <a:solidFill>
                  <a:srgbClr val="ffff00"/>
                </a:solidFill>
                <a:latin typeface="Angsana New"/>
              </a:rPr>
              <a:t>วิธีการผลิ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828800"/>
            <a:ext cx="16002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1981080"/>
            <a:ext cx="3886200" cy="129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cc"/>
                </a:solidFill>
                <a:latin typeface="Angsana New"/>
              </a:rPr>
              <a:t>SUBSTA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ffffcc"/>
                </a:solidFill>
                <a:latin typeface="Angsana New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1981080"/>
            <a:ext cx="19051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581280"/>
            <a:ext cx="24382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มู วัว โค กระบื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Chapter 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ัตว์มีชีวิ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3581280"/>
            <a:ext cx="2590920" cy="2286000"/>
          </a:xfrm>
          <a:prstGeom prst="rect">
            <a:avLst/>
          </a:prstGeom>
          <a:solidFill>
            <a:srgbClr val="e9ffe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นั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มักเกลื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อบ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ห้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3276720"/>
            <a:ext cx="2819520" cy="3105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  <a:cs typeface="Angsana New"/>
              </a:rPr>
              <a:t>หนังสัตว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Chapter 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590920"/>
            <a:ext cx="23623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66ccff"/>
                </a:solidFill>
                <a:latin typeface="Angsana New"/>
              </a:rPr>
              <a:t>ประเภทพิกัด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2590920"/>
            <a:ext cx="20574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66ccff"/>
                </a:solidFill>
                <a:latin typeface="Angsana New"/>
              </a:rPr>
              <a:t>ประเภทพิกั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9072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66"/>
                </a:solidFill>
                <a:latin typeface="Angsana New"/>
              </a:rPr>
              <a:t>ประเทศไท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F6E-2E57-4832-A6B6-CC00F89DB44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269FA-DD20-4D03-A1B3-08FBF62A6A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362320" y="228600"/>
            <a:ext cx="487656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เกณฑ์พิจารณาแหล่งกำเนิ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143000"/>
            <a:ext cx="21337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962520"/>
            <a:ext cx="2590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ผ้าผืน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5901.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1143000"/>
            <a:ext cx="441972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cc"/>
                </a:solidFill>
                <a:latin typeface="Angsana New"/>
              </a:rPr>
              <a:t>SUBSTA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ffffcc"/>
                </a:solidFill>
                <a:latin typeface="Angsana New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1066680"/>
            <a:ext cx="213372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666880"/>
            <a:ext cx="2362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หนังวัวฟอกย้อ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4104.3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2895480"/>
            <a:ext cx="2819520" cy="2133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66"/>
                </a:solidFill>
                <a:latin typeface="Angsana New"/>
              </a:rPr>
              <a:t>ขั้นตอนการผลิ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66"/>
                </a:solidFill>
                <a:latin typeface="Angsana New"/>
              </a:rPr>
              <a:t>- </a:t>
            </a:r>
            <a:r>
              <a:rPr b="1" lang="th-TH" sz="4000" spc="-1" strike="noStrike">
                <a:solidFill>
                  <a:srgbClr val="ffff66"/>
                </a:solidFill>
                <a:latin typeface="Angsana New"/>
              </a:rPr>
              <a:t>ติด เชื่อ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66"/>
                </a:solidFill>
                <a:latin typeface="Angsana New"/>
              </a:rPr>
              <a:t>- </a:t>
            </a:r>
            <a:r>
              <a:rPr b="1" lang="th-TH" sz="4000" spc="-1" strike="noStrike">
                <a:solidFill>
                  <a:srgbClr val="ffff66"/>
                </a:solidFill>
                <a:latin typeface="Angsana New"/>
              </a:rPr>
              <a:t>ประกอบชิ้นส่ว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438280"/>
            <a:ext cx="2895480" cy="441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5050"/>
                </a:solidFill>
                <a:latin typeface="Angsana New"/>
              </a:rPr>
              <a:t>สินค้าส่งออ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Angsana New"/>
              </a:rPr>
              <a:t>กระเป๋าด้านนอ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Angsana New"/>
              </a:rPr>
              <a:t>เป็นแผ่นพลาสติ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Angsana New"/>
              </a:rPr>
              <a:t>หรือวัตถุท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4202.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CTH with fu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600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523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8288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66ccff"/>
                </a:solidFill>
                <a:latin typeface="Angsana New"/>
              </a:rPr>
              <a:t>ประเภทพิกัด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19051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66ccff"/>
                </a:solidFill>
                <a:latin typeface="Angsana New"/>
              </a:rPr>
              <a:t>ประเภทพิกั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257800"/>
            <a:ext cx="32767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แผ่นพลาสติก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3921.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ชิ้นส่วนต่างๆ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4203.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95480"/>
            <a:ext cx="976320" cy="533520"/>
          </a:xfrm>
          <a:prstGeom prst="rightArrow">
            <a:avLst>
              <a:gd name="adj1" fmla="val 49676"/>
              <a:gd name="adj2" fmla="val 496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581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40384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819520" y="4647960"/>
            <a:ext cx="533160" cy="10666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886200" y="5291280"/>
            <a:ext cx="1676520" cy="156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380-262F-4C49-BDEB-4CAC11CBBC3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FE483-869F-4921-82C2-416F5009D8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3300"/>
                </a:solidFill>
                <a:latin typeface="AngsanaUPC"/>
                <a:cs typeface="Cordia New"/>
              </a:rPr>
              <a:t>การคำนวณค่า </a:t>
            </a:r>
            <a:r>
              <a:rPr b="1" lang="th-TH" sz="4400" spc="-1" strike="noStrike">
                <a:solidFill>
                  <a:srgbClr val="ff3300"/>
                </a:solidFill>
                <a:latin typeface="AngsanaUPC"/>
                <a:ea typeface="Cordia New"/>
              </a:rPr>
              <a:t>% Local Content </a:t>
            </a:r>
            <a:r>
              <a:rPr b="1" lang="th-TH" sz="4400" spc="-1" strike="noStrike">
                <a:solidFill>
                  <a:srgbClr val="ff3300"/>
                </a:solidFill>
                <a:latin typeface="AngsanaUPC"/>
                <a:cs typeface="Cordia New"/>
              </a:rPr>
              <a:t>ของ </a:t>
            </a:r>
            <a:r>
              <a:rPr b="1" lang="en-US" sz="4400" spc="-1" strike="noStrike">
                <a:solidFill>
                  <a:srgbClr val="ff3300"/>
                </a:solidFill>
                <a:latin typeface="AngsanaUPC"/>
                <a:ea typeface="Cordia New"/>
              </a:rPr>
              <a:t>ASE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762120"/>
            <a:ext cx="8458200" cy="37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0098"/>
                </a:solidFill>
                <a:latin typeface="AngsanaUPC"/>
                <a:ea typeface="Cordia New"/>
              </a:rPr>
              <a:t>Originating Materials</a:t>
            </a:r>
            <a:r>
              <a:rPr b="1" lang="en-US" sz="44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th-TH" sz="4400" spc="-1" strike="noStrike">
                <a:solidFill>
                  <a:srgbClr val="4c0098"/>
                </a:solidFill>
                <a:latin typeface="Angsana New"/>
              </a:rPr>
              <a:t>	</a:t>
            </a:r>
            <a:r>
              <a:rPr b="1" lang="th-TH" sz="4400" spc="-1" strike="noStrike">
                <a:solidFill>
                  <a:srgbClr val="4c0098"/>
                </a:solidFill>
                <a:latin typeface="Angsana New"/>
              </a:rPr>
              <a:t>  </a:t>
            </a:r>
            <a:r>
              <a:rPr b="1" lang="th-TH" sz="4400" spc="-1" strike="noStrike">
                <a:solidFill>
                  <a:srgbClr val="4c0098"/>
                </a:solidFill>
                <a:latin typeface="AngsanaUPC"/>
                <a:cs typeface="Cordia New"/>
              </a:rPr>
              <a:t>วัตถุดิบในประเท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0098"/>
                </a:solidFill>
                <a:latin typeface="AngsanaUPC"/>
                <a:ea typeface="Cordia New"/>
              </a:rPr>
              <a:t>Production Cost</a:t>
            </a:r>
            <a:r>
              <a:rPr b="1" lang="en-US" sz="44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4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4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400" spc="-1" strike="noStrike">
                <a:solidFill>
                  <a:srgbClr val="4c0098"/>
                </a:solidFill>
                <a:latin typeface="AngsanaUPC"/>
                <a:ea typeface="Cordia New"/>
              </a:rPr>
              <a:t>  </a:t>
            </a:r>
            <a:r>
              <a:rPr b="1" lang="en-US" sz="4400" spc="-1" strike="noStrike">
                <a:solidFill>
                  <a:srgbClr val="4c0098"/>
                </a:solidFill>
                <a:latin typeface="AngsanaUPC"/>
                <a:cs typeface="Cordia New"/>
              </a:rPr>
              <a:t>ต้นทุนการผลิ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0098"/>
                </a:solidFill>
                <a:latin typeface="AngsanaUPC"/>
                <a:ea typeface="Cordia New"/>
              </a:rPr>
              <a:t>Other Costs</a:t>
            </a:r>
            <a:r>
              <a:rPr b="1" lang="en-US" sz="44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400" spc="-1" strike="noStrike">
                <a:solidFill>
                  <a:srgbClr val="4c0098"/>
                </a:solidFill>
                <a:latin typeface="AngsanaUPC"/>
                <a:ea typeface="Cordia New"/>
              </a:rPr>
              <a:t>	</a:t>
            </a:r>
            <a:r>
              <a:rPr b="1" lang="en-US" sz="4400" spc="-1" strike="noStrike">
                <a:solidFill>
                  <a:srgbClr val="4c0098"/>
                </a:solidFill>
                <a:latin typeface="AngsanaUPC"/>
                <a:ea typeface="Cordia New"/>
              </a:rPr>
              <a:t>            </a:t>
            </a:r>
            <a:r>
              <a:rPr b="1" lang="en-US" sz="4400" spc="-1" strike="noStrike">
                <a:solidFill>
                  <a:srgbClr val="4c0098"/>
                </a:solidFill>
                <a:latin typeface="AngsanaUPC"/>
                <a:cs typeface="Cordia New"/>
              </a:rPr>
              <a:t>ค่าใช้จ่าย </a:t>
            </a:r>
            <a:r>
              <a:rPr b="1" lang="th-TH" sz="4400" spc="-1" strike="noStrike">
                <a:solidFill>
                  <a:srgbClr val="4c0098"/>
                </a:solidFill>
                <a:latin typeface="AngsanaUPC"/>
                <a:cs typeface="Cordia New"/>
              </a:rPr>
              <a:t>อื่</a:t>
            </a:r>
            <a:r>
              <a:rPr b="1" lang="en-US" sz="4400" spc="-1" strike="noStrike">
                <a:solidFill>
                  <a:srgbClr val="4c0098"/>
                </a:solidFill>
                <a:latin typeface="AngsanaUPC"/>
                <a:cs typeface="Cordia New"/>
              </a:rPr>
              <a:t>น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00400"/>
            <a:ext cx="9144000" cy="3750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Cordia New"/>
              </a:rPr>
              <a:t>%Local Content</a:t>
            </a: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Cordia New"/>
              </a:rPr>
              <a:t>    =</a:t>
            </a: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Cordia New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Cordia New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ngsanaUPC"/>
                <a:ea typeface="Cordia New"/>
              </a:rPr>
              <a:t>Local Content  x  100</a:t>
            </a: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Cordi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(= or &gt; 40 %)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Cordia New"/>
              </a:rPr>
              <a:t>F.O.B. P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Cordia New"/>
              </a:rPr>
              <a:t>% ASEAN Content   =   (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ngsanaUPC"/>
                <a:ea typeface="Cordia New"/>
              </a:rPr>
              <a:t>F.O.B. - Non-ASEAN Content) x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Cordia New"/>
              </a:rPr>
              <a:t>F.O.B. P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7913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0066"/>
                </a:solidFill>
                <a:latin typeface="AngsanaUPC"/>
                <a:ea typeface="Cordia New"/>
              </a:rPr>
              <a:t>Non-ASEAN Content</a:t>
            </a: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Cordia New"/>
              </a:rPr>
              <a:t> </a:t>
            </a:r>
            <a:r>
              <a:rPr b="1" lang="th-TH" sz="4000" spc="-1" strike="noStrike">
                <a:solidFill>
                  <a:srgbClr val="4c0098"/>
                </a:solidFill>
                <a:latin typeface="AngsanaUPC"/>
                <a:ea typeface="Cordia New"/>
              </a:rPr>
              <a:t>is calculated from the summation of C.I.F prices of non-ASEAN originating mater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24382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UPC"/>
                <a:ea typeface="Cordia New"/>
              </a:rPr>
              <a:t>SUM =  Local Content         </a:t>
            </a:r>
            <a:r>
              <a:rPr b="1" lang="en-US" sz="4400" spc="-1" strike="noStrike">
                <a:solidFill>
                  <a:srgbClr val="000000"/>
                </a:solidFill>
                <a:latin typeface="AngsanaUPC"/>
                <a:cs typeface="Cordia New"/>
              </a:rPr>
              <a:t>ส่วนที่ใช้ในประเท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026-B64A-41DE-906F-E659EEDD7D5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FEB32-D946-4A97-81B2-31EFFAD6B893}" type="datetime1">
              <a:rPr lang="en-US"/>
              <a:t>07/29/26</a:t>
            </a:fld>
          </a:p>
        </p:txBody>
      </p:sp>
    </p:spTree>
  </p:cSld>
  <p:transition>
    <p:wipe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152280"/>
            <a:ext cx="9144000" cy="10670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การได้แหล่งกำเนิดแบบ </a:t>
            </a:r>
            <a:r>
              <a:rPr b="1" lang="en-US" sz="6000" spc="-1" strike="noStrike">
                <a:solidFill>
                  <a:srgbClr val="000000"/>
                </a:solidFill>
                <a:latin typeface="Angsana New"/>
              </a:rPr>
              <a:t>% Cont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7432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มีเงื่อนไขและวิธีคิดในรายละเอียดมา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0384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กำหนดสัดส่วน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%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เดียวกับทุกสินค้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5416560"/>
            <a:ext cx="91440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สินค้าที่มีสัดส่วนต่ำจะไม่ได้แหล่งกำเนิ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371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ง่ายต่อการทำความเข้าใจและการคำนว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1523880"/>
            <a:ext cx="609840" cy="533520"/>
          </a:xfrm>
          <a:prstGeom prst="star5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2895480"/>
            <a:ext cx="609840" cy="5335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4343400"/>
            <a:ext cx="609840" cy="5335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5791320"/>
            <a:ext cx="609840" cy="53316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98F-B430-4759-907E-4933C4EF239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C3BB3-9118-4F8E-99F5-65E14C1EA7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152280"/>
            <a:ext cx="9144000" cy="10670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การได้แหล่งกำเนิดแบบ </a:t>
            </a:r>
            <a:r>
              <a:rPr b="1" lang="en-US" sz="6000" spc="-1" strike="noStrike">
                <a:solidFill>
                  <a:srgbClr val="000000"/>
                </a:solidFill>
                <a:latin typeface="Angsana New"/>
              </a:rPr>
              <a:t>% Content (</a:t>
            </a:r>
            <a:r>
              <a:rPr b="1" lang="en-US" sz="6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en-US" sz="6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0384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มีปัญหาในข้อกำหนด เช่น การรวมกำไ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416560"/>
            <a:ext cx="91440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หลีกเลี่ยงได้ ทำให้ศุลกากรสืบค้นยา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37160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ไม่สนับสนุนการเปิดการค้าเสรีสินค้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ทุกรายการ ไม่สอดคล้องกับวัตถุประสงค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ของ </a:t>
            </a:r>
            <a:r>
              <a:rPr b="1" lang="en-US" sz="6000" spc="-1" strike="noStrike">
                <a:solidFill>
                  <a:srgbClr val="000000"/>
                </a:solidFill>
                <a:latin typeface="Angsana New"/>
              </a:rPr>
              <a:t>FTAs </a:t>
            </a: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หรือ </a:t>
            </a:r>
            <a:r>
              <a:rPr b="1" lang="en-US" sz="6000" spc="-1" strike="noStrike">
                <a:solidFill>
                  <a:srgbClr val="000000"/>
                </a:solidFill>
                <a:latin typeface="Angsana New"/>
              </a:rPr>
              <a:t>RT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523880"/>
            <a:ext cx="609480" cy="5335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343400"/>
            <a:ext cx="609480" cy="5335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715000"/>
            <a:ext cx="609480" cy="5335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8A1-87AB-4F56-82FF-CA1F9F83B305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86194-CA95-49C0-AF37-3643F684E6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คำนวณสัดส่วนอย่างง่าย </a:t>
            </a:r>
            <a:r>
              <a:rPr b="1" lang="en-US" sz="6000" spc="-1" strike="noStrike">
                <a:solidFill>
                  <a:srgbClr val="000000"/>
                </a:solidFill>
                <a:latin typeface="Angsana New"/>
                <a:ea typeface="Angsana New"/>
              </a:rPr>
              <a:t>AF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920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  <a:cs typeface="Angsana New"/>
              </a:rPr>
              <a:t>วัตถุดิบนำเข้าจากต่างประเทศ</a:t>
            </a:r>
            <a:r>
              <a:rPr b="1" lang="th-TH" sz="44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ff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ff0000"/>
                </a:solidFill>
                <a:latin typeface="Angsana New"/>
                <a:ea typeface="Angsana New"/>
              </a:rPr>
              <a:t>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วัตถุดิบในประเทศไทย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่าแรงงาน เงินเดือน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่าผลิตสินค้า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ำไร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วมทั้งหมด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5734080"/>
            <a:ext cx="763272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ัดส่วนคำนวณ </a:t>
            </a:r>
            <a:r>
              <a:rPr b="1" lang="th-TH" sz="4800" spc="-1" strike="noStrike">
                <a:solidFill>
                  <a:srgbClr val="0000ff"/>
                </a:solidFill>
                <a:latin typeface="Angsana New"/>
                <a:ea typeface="Angsana New"/>
              </a:rPr>
              <a:t>=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45%      (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&gt; 40% Conten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F8F-72E6-41B2-A894-463D53B016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42F0F-D09F-4AE7-B540-642F4173C3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755640" y="0"/>
            <a:ext cx="7632720" cy="5758920"/>
            <a:chOff x="755640" y="0"/>
            <a:chExt cx="7632720" cy="575892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2898000" y="1698480"/>
              <a:ext cx="3319560" cy="29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755640" y="0"/>
              <a:ext cx="7632720" cy="162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228400" y="4727160"/>
              <a:ext cx="475344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0" y="4572000"/>
            <a:ext cx="9144000" cy="1066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66ccff"/>
                </a:solidFill>
                <a:latin typeface="Angsana New"/>
              </a:rPr>
              <a:t>กรมเจรจาการค้าระหว่างประเท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638680"/>
            <a:ext cx="9144000" cy="19227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ngsana New"/>
              </a:rPr>
              <a:t>FTI </a:t>
            </a:r>
            <a:r>
              <a:rPr b="1" lang="th-TH" sz="6000" spc="-1" strike="noStrike">
                <a:solidFill>
                  <a:srgbClr val="ff0000"/>
                </a:solidFill>
                <a:latin typeface="Angsana New"/>
              </a:rPr>
              <a:t>ข้อมูลการผลิต และ </a:t>
            </a:r>
            <a:r>
              <a:rPr b="1" lang="en-US" sz="6000" spc="-1" strike="noStrike">
                <a:solidFill>
                  <a:srgbClr val="ff0000"/>
                </a:solidFill>
                <a:latin typeface="Angsana New"/>
              </a:rPr>
              <a:t>% Conten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0" y="5661000"/>
            <a:ext cx="1066680" cy="101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4EF-0487-481F-8995-51DC123C642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13A6E-3032-48D9-B06E-4DE34906D2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เภทอุตสาหกรรมแฟชั่น</a:t>
            </a:r>
            <a:br>
              <a:rPr sz="4800"/>
            </a:b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นัง เครื่องหนัง และรองเท้า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br>
              <a:rPr sz="4800"/>
            </a:b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นังดิบ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  <a:cs typeface="Angsana New"/>
              </a:rPr>
              <a:t>การผลิต การฟอกย้อม และแปรรูป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cc"/>
                </a:solidFill>
                <a:latin typeface="Angsana New"/>
                <a:ea typeface="Angsana New"/>
              </a:rPr>
              <a:t>1</a:t>
            </a:r>
            <a:r>
              <a:rPr b="1" lang="en-US" sz="4400" spc="-1" strike="noStrike">
                <a:solidFill>
                  <a:srgbClr val="0000cc"/>
                </a:solidFill>
                <a:latin typeface="Angsana New"/>
                <a:ea typeface="Angsana New"/>
              </a:rPr>
              <a:t>820</a:t>
            </a:r>
            <a:r>
              <a:rPr b="1" lang="th-TH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ารตกแต่งและย้อมสีขนสัตว์ รวมทั้งการผลิตสิ่งของ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ที่ทำจากสัตว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</a:t>
            </a: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911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ารฟอกและการตกแต่งหนังสัตว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</a:t>
            </a: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912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ผลิตกระเป๋าเดินทาง กระเป๋าถือ ผลิตภัณฑ์ที่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ล้ายคลึงกัน และเครื่องลากเทียมสัตว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ngsana New"/>
                <a:ea typeface="Angsana New"/>
              </a:rPr>
              <a:t>1920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ผลิตรองเท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446-2DC8-4162-ADDB-AE2754730C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13886-EFC1-4721-A528-4B97F2DA1D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ินค้าในกลุ่มอุตสาหกรรม</a:t>
            </a:r>
            <a:r>
              <a:rPr b="1" lang="th-TH" sz="48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หนัง เครื่องหนัง และรองเท้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484280"/>
            <a:ext cx="8351640" cy="64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01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ัตว์มีชีวิ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0511.919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นังปลา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มักเกลือ แห้ง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0511.999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นังสัตว์ปี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41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นังดิบ และหนังฟอ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h. 42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ครื่องหนัง เครื่องอานและเครื่องเทียมลาก เครื่องใช้สำหรับเดินทาง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ระเป๋าถือ และภาชนะที่คล้ายกั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Ch. 43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นังเฟอร์ เฟอร์เทียม และผลิตภัณฑ์หนังเฟอร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Ch. 64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รองเท้า สนับแข้งและของที่คล้ายกั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52E-8981-454F-8B29-C019A1FE8A2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C5CA1-FBA7-4799-AD94-FF19B3C924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สินค้าอื่นที่ใช้ในกลุ่มอุตสาหกรรมหนั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ff"/>
                </a:solidFill>
                <a:latin typeface="Times New Roman"/>
                <a:cs typeface="Angsana New"/>
              </a:rPr>
              <a:t>เครื่องหนัง และรองเท้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700280"/>
            <a:ext cx="8316720" cy="54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MS PGothic"/>
              </a:rPr>
              <a:t>Ch. 32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ิ่งสกัดที่ใช้ฟอกหนังหรือย้อมสี แทนนินและอนุพัฯธ์ของ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ทนนิน สีย้อม สารสี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ิกเมนต์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วัตถุแต่งสีอื่น ๆ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MS PGothic"/>
              </a:rPr>
              <a:t>Ch. 38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คมีภัณฑ์เบ็ดเตล็ด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Angsana New"/>
              </a:rPr>
              <a:t>(3809.93)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ชนิดที่ใช้ในอุตสาหกรรมหนั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MS PGothic"/>
              </a:rPr>
              <a:t>Ch. 39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ลาสติกและของที่ทำด้วยพลาสติ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MS PGothic"/>
              </a:rPr>
              <a:t>Ch. 40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  <a:cs typeface="Angsana New"/>
              </a:rPr>
              <a:t>ยางและของทำด้วยยา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52FF-86CB-4F4B-BE5C-0B9E85B0912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915A1-E415-47A4-9476-D3782F9D54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880" y="83808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atin typeface="FreesiaUPC"/>
              </a:rPr>
              <a:t>กฎว่าด้วยแหล่งกำเนิดสินค้า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atin typeface="FreesiaUPC"/>
              <a:ea typeface="FreesiaUPC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429000" y="2590920"/>
          <a:ext cx="220968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90920"/>
                    <a:ext cx="220968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838080" y="2819520"/>
          <a:ext cx="144792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819520"/>
                    <a:ext cx="14479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553080" y="2819520"/>
            <a:ext cx="190512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800" spc="-1" strike="noStrike">
                <a:solidFill>
                  <a:srgbClr val="ffffff"/>
                </a:solidFill>
                <a:latin typeface="AngsanaUPC"/>
                <a:ea typeface="Cordia New"/>
              </a:rPr>
              <a:t>FTA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00"/>
                </a:solidFill>
                <a:latin typeface="Angsana New"/>
                <a:cs typeface="Cordia New"/>
              </a:rPr>
              <a:t>การได้สัญชาติของสินค้าจากการผลิ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43D-B62A-4AD2-A50F-AA948C5B637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7DDF8-417E-4593-9736-EEFF2353CB92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ngsana New"/>
                <a:ea typeface="MS PGothic"/>
              </a:rPr>
              <a:t>Chapter 41 : </a:t>
            </a:r>
            <a:r>
              <a:rPr b="1" lang="th-TH" sz="5400" spc="-1" strike="noStrike">
                <a:solidFill>
                  <a:srgbClr val="0000ff"/>
                </a:solidFill>
                <a:latin typeface="Angsana New"/>
                <a:cs typeface="Angsana New"/>
              </a:rPr>
              <a:t>หนังดิบและหนังฟอก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ngsana New"/>
                <a:ea typeface="MS PGothic"/>
              </a:rPr>
              <a:t>(Skins &amp; Leather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1722600"/>
            <a:ext cx="1814400" cy="1209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00400" y="1646280"/>
            <a:ext cx="1947960" cy="1415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62320" y="195120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2865600"/>
            <a:ext cx="18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ngsana New"/>
                <a:ea typeface="MS PGothic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286560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ngsana New"/>
                <a:ea typeface="MS PGothic"/>
              </a:rPr>
              <a:t>Chapter 4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1798560"/>
            <a:ext cx="2314440" cy="2287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MS PGothic"/>
              </a:rPr>
              <a:t>Preparation of sk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2060640"/>
            <a:ext cx="863640" cy="358560"/>
          </a:xfrm>
          <a:prstGeom prst="rightArrow">
            <a:avLst>
              <a:gd name="adj1" fmla="val 50000"/>
              <a:gd name="adj2" fmla="val 60216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364000" y="1844640"/>
            <a:ext cx="53352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1844640"/>
            <a:ext cx="60948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3500280"/>
            <a:ext cx="3505320" cy="228600"/>
          </a:xfrm>
          <a:prstGeom prst="rightArrow">
            <a:avLst>
              <a:gd name="adj1" fmla="val 50000"/>
              <a:gd name="adj2" fmla="val 383346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3645000"/>
            <a:ext cx="12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ngsana New"/>
                <a:ea typeface="MS PGothic"/>
              </a:rPr>
              <a:t>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365720"/>
            <a:ext cx="868680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การนำเข้าหนังดิบมาย้อม 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(</a:t>
            </a:r>
            <a:r>
              <a:rPr b="1" lang="en-US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Tanned, Retanned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จะไม่ได้แหล่งกำเนิด 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(</a:t>
            </a:r>
            <a:r>
              <a:rPr b="1" lang="en-US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FTA: 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ไทย</a:t>
            </a:r>
            <a:r>
              <a:rPr b="1" lang="en-US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ออสเตรเลีย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ะต้องทำถึง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Finished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รือ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Prepared Sk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F0E9-3D96-4B7A-913E-5234A6C48A5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01390-3672-4A10-BD27-C24962EB67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1040" y="176544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06880" y="1689120"/>
            <a:ext cx="1676160" cy="1447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148360" y="4508640"/>
            <a:ext cx="3816360" cy="21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11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ngsana New"/>
                <a:ea typeface="MS PGothic"/>
              </a:rPr>
              <a:t>Tanning Proces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90000"/>
              </a:lnSpc>
              <a:spcBef>
                <a:spcPts val="11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ngsana New"/>
                <a:ea typeface="MS PGothic"/>
              </a:rPr>
              <a:t>Retanning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8440" y="1994040"/>
            <a:ext cx="609840" cy="533160"/>
          </a:xfrm>
          <a:prstGeom prst="rightArrow">
            <a:avLst>
              <a:gd name="adj1" fmla="val 50000"/>
              <a:gd name="adj2" fmla="val 28596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342900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ngsana New"/>
                <a:ea typeface="MS PGothic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54240" y="321300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ngsana New"/>
                <a:ea typeface="MS PGothic"/>
              </a:rPr>
              <a:t>Chapter 4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7640" y="1841400"/>
            <a:ext cx="2465640" cy="2287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MS PGothic"/>
              </a:rPr>
              <a:t>Preparation of sk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83040" y="207000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111640" y="1841400"/>
            <a:ext cx="53352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35680" y="1841400"/>
            <a:ext cx="60948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8440" y="3746520"/>
            <a:ext cx="3505320" cy="228600"/>
          </a:xfrm>
          <a:prstGeom prst="rightArrow">
            <a:avLst>
              <a:gd name="adj1" fmla="val 50000"/>
              <a:gd name="adj2" fmla="val 383346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0"/>
            <a:ext cx="77724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ngsana New"/>
                <a:ea typeface="MS PGothic"/>
              </a:rPr>
              <a:t>Chapter 41 : 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cs typeface="Angsana New"/>
              </a:rPr>
              <a:t>หนังดิบและหนังฟอก</a:t>
            </a:r>
            <a:r>
              <a:rPr b="1" lang="en-US" sz="4000" spc="-1" strike="noStrike">
                <a:solidFill>
                  <a:srgbClr val="0000ff"/>
                </a:solidFill>
                <a:latin typeface="Angsana New"/>
                <a:ea typeface="MS PGothic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ngsana New"/>
                <a:ea typeface="MS PGothic"/>
              </a:rPr>
              <a:t>(Skins &amp; Leath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508640"/>
            <a:ext cx="4495680" cy="213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WTO (Finish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ยังไม่สามารถหาข้อยุติเรื่อ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Tanning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รือ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Retanning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ด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93080" y="522936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93080" y="3573360"/>
            <a:ext cx="838080" cy="838440"/>
          </a:xfrm>
          <a:prstGeom prst="downArrow">
            <a:avLst>
              <a:gd name="adj1" fmla="val 50000"/>
              <a:gd name="adj2" fmla="val 2501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ngsana New"/>
                <a:ea typeface="MS PGothic"/>
              </a:rPr>
              <a:t>Chapter 41 : </a:t>
            </a:r>
            <a:r>
              <a:rPr b="1" lang="th-TH" sz="5400" spc="-1" strike="noStrike">
                <a:solidFill>
                  <a:srgbClr val="0000ff"/>
                </a:solidFill>
                <a:latin typeface="Angsana New"/>
                <a:cs typeface="Angsana New"/>
              </a:rPr>
              <a:t>หนังดิบและหนังฟอก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ngsana New"/>
                <a:ea typeface="MS PGothic"/>
              </a:rPr>
              <a:t>(Skins &amp; Leather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F13-CF77-40DC-B47F-6130D00AD16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17A00-AB67-426E-8F93-0ED9A18A7D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209680" cy="2130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132000" y="1125360"/>
            <a:ext cx="2343240" cy="2671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5800" y="0"/>
            <a:ext cx="7486560" cy="981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ngsana New"/>
                <a:ea typeface="MS PGothic"/>
              </a:rPr>
              <a:t>Chapter 42 :</a:t>
            </a:r>
            <a:r>
              <a:rPr b="0" lang="en-US" sz="7200" spc="-1" strike="noStrike">
                <a:solidFill>
                  <a:srgbClr val="0000ff"/>
                </a:solidFill>
                <a:latin typeface="Angsana New"/>
                <a:ea typeface="MS PGothic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Angsana New"/>
                <a:ea typeface="MS PGothic"/>
              </a:rPr>
              <a:t>Articles of leather, etc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1219320"/>
            <a:ext cx="309564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CTH </a:t>
            </a:r>
            <a:r>
              <a:rPr b="1" lang="en-US" sz="4000" spc="-1" strike="noStrike">
                <a:solidFill>
                  <a:srgbClr val="ff0000"/>
                </a:solidFill>
                <a:latin typeface="Angsana New"/>
                <a:ea typeface="MS PGothic"/>
              </a:rPr>
              <a:t>agr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For headings 42.01 42.04 to 42.06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987640" y="4365720"/>
            <a:ext cx="2259000" cy="228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48360" y="4292640"/>
            <a:ext cx="3809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Textile rule : </a:t>
            </a:r>
            <a:r>
              <a:rPr b="1" lang="en-US" sz="4000" spc="-1" strike="noStrike">
                <a:solidFill>
                  <a:srgbClr val="0000ff"/>
                </a:solidFill>
                <a:latin typeface="Angsana New"/>
                <a:ea typeface="MS PGothic"/>
              </a:rPr>
              <a:t>assembled in a single country from parts cut to shape (</a:t>
            </a:r>
            <a:r>
              <a:rPr b="1" lang="en-US" sz="4000" spc="-1" strike="noStrike">
                <a:solidFill>
                  <a:srgbClr val="ff0000"/>
                </a:solidFill>
                <a:latin typeface="Angsana New"/>
                <a:ea typeface="MS PGothic"/>
              </a:rPr>
              <a:t>42.05</a:t>
            </a:r>
            <a:r>
              <a:rPr b="1" lang="en-US" sz="4000" spc="-1" strike="noStrike">
                <a:solidFill>
                  <a:srgbClr val="0000ff"/>
                </a:solidFill>
                <a:latin typeface="Angsana New"/>
                <a:ea typeface="MS PGothic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3357720"/>
            <a:ext cx="2361960" cy="40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Trunks </a:t>
            </a:r>
            <a:r>
              <a:rPr b="1" lang="en-US" sz="4000" spc="-1" strike="noStrike">
                <a:solidFill>
                  <a:srgbClr val="0000ff"/>
                </a:solidFill>
                <a:latin typeface="Angsana New"/>
                <a:ea typeface="MS PGothic"/>
              </a:rPr>
              <a:t>42.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  <a:ea typeface="MS PGothic"/>
              </a:rPr>
              <a:t>TH-AUS FTA</a:t>
            </a:r>
            <a:r>
              <a:rPr b="1" lang="en-US" sz="3600" spc="-1" strike="noStrike">
                <a:solidFill>
                  <a:srgbClr val="0000ff"/>
                </a:solidFill>
                <a:latin typeface="Angsana New"/>
                <a:ea typeface="MS PGothic"/>
              </a:rPr>
              <a:t> CTH with full assemb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3789360"/>
            <a:ext cx="30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Apparel </a:t>
            </a:r>
            <a:r>
              <a:rPr b="1" lang="en-US" sz="4000" spc="-1" strike="noStrike">
                <a:solidFill>
                  <a:srgbClr val="0000ff"/>
                </a:solidFill>
                <a:latin typeface="Angsana New"/>
                <a:ea typeface="MS PGothic"/>
              </a:rPr>
              <a:t>42.03 C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FCA-81DF-4855-BB98-8D0DE2149A7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4C205-6750-4A83-A2DC-C400E55812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89000"/>
            <a:ext cx="7486560" cy="8636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ngsana New"/>
                <a:ea typeface="MS PGothic"/>
              </a:rPr>
              <a:t>Chapter 43 :</a:t>
            </a:r>
            <a:r>
              <a:rPr b="0" lang="en-US" sz="8000" spc="-1" strike="noStrike">
                <a:solidFill>
                  <a:srgbClr val="0000ff"/>
                </a:solidFill>
                <a:latin typeface="Angsana New"/>
                <a:ea typeface="MS PGothic"/>
              </a:rPr>
              <a:t> </a:t>
            </a:r>
            <a:r>
              <a:rPr b="1" lang="en-US" sz="6000" spc="-1" strike="noStrike">
                <a:solidFill>
                  <a:srgbClr val="0000ff"/>
                </a:solidFill>
                <a:latin typeface="Angsana New"/>
                <a:ea typeface="MS PGothic"/>
              </a:rPr>
              <a:t>Furski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4365720"/>
            <a:ext cx="4248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MS PGothic"/>
              </a:rPr>
              <a:t>Textile rule : 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  <a:ea typeface="MS PGothic"/>
              </a:rPr>
              <a:t>assembled in a single country from parts cut to shape (</a:t>
            </a:r>
            <a:r>
              <a:rPr b="1" lang="en-US" sz="4400" spc="-1" strike="noStrike">
                <a:solidFill>
                  <a:srgbClr val="ff0000"/>
                </a:solidFill>
                <a:latin typeface="Angsana New"/>
                <a:ea typeface="MS PGothic"/>
              </a:rPr>
              <a:t>42.05</a:t>
            </a:r>
            <a:r>
              <a:rPr b="1" lang="en-US" sz="4400" spc="-1" strike="noStrike">
                <a:solidFill>
                  <a:srgbClr val="0000ff"/>
                </a:solidFill>
                <a:latin typeface="Angsana New"/>
                <a:ea typeface="MS P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1752480" cy="1285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84720" y="4365720"/>
            <a:ext cx="1828800" cy="213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429000" y="1295280"/>
            <a:ext cx="1430280" cy="1822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443640" y="1219320"/>
            <a:ext cx="2395440" cy="2666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5280" y="2514600"/>
            <a:ext cx="18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ngsana New"/>
                <a:ea typeface="MS PGothic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182880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3141720"/>
            <a:ext cx="181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ngsana New"/>
                <a:ea typeface="MS PGothic"/>
              </a:rPr>
              <a:t>43.01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raw fursk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56000" y="3068640"/>
            <a:ext cx="216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ngsana New"/>
                <a:ea typeface="MS PGothic"/>
              </a:rPr>
              <a:t>43.02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tanned or dres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1828800"/>
            <a:ext cx="8380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27640" y="4365720"/>
            <a:ext cx="270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ngsana New"/>
                <a:ea typeface="MS PGothic"/>
              </a:rPr>
              <a:t>43.03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cut to shape (parts)  and assembled as  appar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003-28A5-4115-8313-8FE805B12A3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DBABA-6539-425E-B977-9693E9B6BB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2:06:59Z</dcterms:created>
  <dc:creator>Hiroshi IMAGAWA</dc:creator>
  <dc:description/>
  <dc:language>en-US</dc:language>
  <cp:lastModifiedBy>Nilsuwan</cp:lastModifiedBy>
  <cp:lastPrinted>2002-04-22T15:17:34Z</cp:lastPrinted>
  <dcterms:modified xsi:type="dcterms:W3CDTF">2005-08-15T02:44:17Z</dcterms:modified>
  <cp:revision>114</cp:revision>
  <dc:subject/>
  <dc:title>ITEM 13  MACHINERY, TRANSPORT EQUIPMENT, OPTICAL GOODS, ETC </dc:title>
</cp:coreProperties>
</file>