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335-A3F0-4B83-A709-7EA0D577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660-2FC3-4F3E-97A7-9246584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DD8-4281-419C-BFA2-A036DF03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73C-F709-4A03-98EC-5AEEF0C0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E1C-DF29-4CDC-BCC7-72C22E9D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276E-260F-4D82-AF68-8D0337B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18C4-25CF-4AC0-BCFC-FD8D0F9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726-BFE7-44D1-9209-FC8F13A7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F38-F9B9-48CA-A626-98F85CB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0642-1A2A-4269-9A1E-82AD8C0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3559-30B2-4E69-8E99-B61366D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89A-A693-45C3-B4F9-17A2707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FBA4-1860-48CB-AA2F-59AF9B1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3CA-BB01-4AA8-AE54-591B870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006-ECB7-4A03-87B8-F9BFAF9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200A-12EC-47F8-B9EB-5BEDED8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FD27-64A8-4943-A007-C33C20E8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2CA-DBC3-4422-A7BD-68F8F7F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247-CEB8-42BD-A4A7-2978973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168-EE83-491C-A252-94B8B67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80C-8EBE-4604-AE46-3C6135A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C5B-26F5-4CAB-A682-9A0EAB49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B52-A6C3-4116-B34E-1B73BCB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103-0F57-443F-BDCC-F11C000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A29-3825-487C-A07C-53D5632B7F9F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EC5A-59E3-4D7F-B459-40784B7C8901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การลดอากรขาเข้าระหว่างประเทศสมาชิก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ASEAN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ommon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E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ffective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referential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T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ariff :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EP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สินค้าทั้งหมดมีอัตราอากรขาเข้าร้อยละ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0-5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ประเทศไทยมีทั้งหมด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911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รายการ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(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546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รายการหรือ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60%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254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กลุ่มอุตสาหกรรมจะมีอัตราภาษี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85%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ต่อกลุ่มสินค้า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) </a:t>
            </a:r>
            <a:r>
              <a:rPr b="1" i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Roadmap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53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ทั้งหมด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FTA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2563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เปิดเสรีทุกรูปแบบ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(</a:t>
            </a:r>
            <a:r>
              <a:rPr b="1" i="1" lang="th-TH" sz="4000" spc="-1" strike="noStrike">
                <a:solidFill>
                  <a:srgbClr val="660066"/>
                </a:solidFill>
                <a:latin typeface="AngsanaUPC"/>
              </a:rPr>
              <a:t>Hanoi Action Plan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96080" y="5410080"/>
          <a:ext cx="14479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41008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เงื่อนไข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</a:rPr>
              <a:t>AFTA (CEPT)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ใช้กับการลดภาษี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1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แหล่งกำเนิดสินค้า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WO or Content 40%</a:t>
            </a:r>
            <a:r>
              <a:rPr b="1" i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3828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2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ontent 2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ขึ้นไปมาสะสมใน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EP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จนถึง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4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(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ASEAN Cumulative Rule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of Origin: CRO)  </a:t>
            </a:r>
            <a:r>
              <a:rPr b="1" i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1 / 7 / 2548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3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เกณฑ์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Substantial Transformation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สำหรับสินค้าที่มี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Content &lt; 40% </a:t>
            </a:r>
            <a:r>
              <a:rPr b="1" i="1" lang="en-US" sz="5400" spc="-1" strike="noStrike">
                <a:solidFill>
                  <a:srgbClr val="ffff00"/>
                </a:solidFill>
                <a:latin typeface="Angsana New"/>
              </a:rPr>
              <a:t>2549RM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AngsanaUPC"/>
                <a:cs typeface="Cordia New"/>
              </a:rPr>
              <a:t>การคำนวณค่า </a:t>
            </a:r>
            <a:r>
              <a:rPr b="1" lang="th-TH" sz="4400" spc="-1" strike="noStrike">
                <a:solidFill>
                  <a:srgbClr val="ff3300"/>
                </a:solidFill>
                <a:latin typeface="AngsanaUPC"/>
                <a:ea typeface="Cordia New"/>
              </a:rPr>
              <a:t>% Local Content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76212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riginating Materials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 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วัตถุดิบ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Production Cost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การผลิต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ther Costs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        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ค่าใช้จ่าย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และ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อื่นๆ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66880"/>
            <a:ext cx="9144000" cy="4725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SUM =  Local Content    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cs typeface="Cordia New"/>
              </a:rPr>
              <a:t>ส่วนที่ใช้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%Local Content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=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Local Content  x  10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(40)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Cordia New"/>
              </a:rPr>
              <a:t>หรือ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=  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F.O.B. Price - Non-ASEAN Content x 100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  <a:ea typeface="Cordia New"/>
              </a:rPr>
              <a:t>Non-ASEAN Content</a:t>
            </a:r>
            <a:r>
              <a:rPr b="1" lang="th-TH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is calculated from the summation of C.I.F prices of non-ASEAN originating materials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>
                <a:solidFill>
                  <a:srgbClr val="ffffff"/>
                </a:solidFill>
                <a:latin typeface="AngsanaUPC"/>
              </a:rPr>
              <a:t>ASEAN and Other Regional Areas</a:t>
            </a:r>
            <a:endParaRPr b="1" lang="en-US" sz="60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124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1. A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SEAN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 CER (Australia &amp; New Zealand)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534960" y="39625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2. A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SEAN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</a:rPr>
              <a:t>-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Korea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AngsanaUPC"/>
                <a:cs typeface="AngsanaUPC"/>
              </a:rPr>
              <a:t>อยู่ในระหว่างดำเนินการเจรจาเปิดการค้าเสรี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066680"/>
          <a:ext cx="4190760" cy="19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190760" cy="194652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3520" y="46483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ASEAN-China, ASEAN-India, ASEAN-Japan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066680"/>
            <a:ext cx="3733920" cy="198144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ลดอากรขาเข้า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Sensitive Lis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ROO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ประเด็นพิจารณาโอกาสและอุปสรรคการเปิดการค้าเสรี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กลุ่มอุตสาหกรรม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เครื่องหนังและรองเท้า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8288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1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วัตถุดิบ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นำเข้า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เช่น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หนังวัว ปลาทูน่า ถั่วเหลือง ปลาป่น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......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1952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2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ครื่องจักร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ใหญ่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-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ล็ก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)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อุปกรณ์อิเล็กทรอนิกส์ คอมพิวเตอร์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09880"/>
            <a:ext cx="91440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ngsanaUPC"/>
              </a:rPr>
              <a:t>3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. Technology 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</a:rPr>
              <a:t>“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การฟอกย้อม” “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CT” “Tan &amp; Finishing”…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4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ความรู้ ความเชี่ยวชาญของบุคลากร การศึกษาและภาษา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5.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การปรับตัวของผู้บริหาร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เจ้าของกิจการ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3048120"/>
            <a:ext cx="57150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omic Sans MS"/>
              </a:rPr>
              <a:t>The End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153280" y="591660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5916600"/>
            <a:ext cx="990720" cy="94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6680" y="380880"/>
            <a:ext cx="7010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สอบถามข้อมูล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สภาอุตสาหกรรมแห่งประเทศไทย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www.fti.or.th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5:57:10Z</dcterms:created>
  <dc:creator>toshiba</dc:creator>
  <dc:description/>
  <dc:language>en-US</dc:language>
  <cp:lastModifiedBy>Nilsuwan</cp:lastModifiedBy>
  <dcterms:modified xsi:type="dcterms:W3CDTF">2005-08-15T00:34:45Z</dcterms:modified>
  <cp:revision>46</cp:revision>
  <dc:subject/>
  <dc:title>ASEAN = Association of Southeast Asian Nations (สมาคมอาเซียน)</dc:title>
</cp:coreProperties>
</file>