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3594-54B0-4F2F-9ECF-685ACD9E8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421-DF4C-42D0-91F2-A06B4EED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7A2-EEF1-4B27-AC6F-6D6CA1AF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AA4C-B464-4391-AE9E-8E9C317B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BE23-85D1-42D8-9CC1-03835D3D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C957-6EA2-4E0D-931C-C05E017E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578E-59AA-4ECD-B53B-814DC947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E7FC-6A13-4BAD-9A30-15244629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8F87-261B-4646-B325-2A9A2CA5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7C29-62C5-4EC3-8944-D1B6D016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AFF7-9318-4741-80B1-04B1C2CC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74E-D018-4FD6-B695-7DA8FD02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A4D6-816F-4DDD-858C-86FF5C52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B399-A7D3-4CC5-B7B2-D39206DD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D196-D7CB-4A78-B7AC-13A63608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DD18-6358-4B30-BEBC-DE053F08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4D26-F94D-4E95-A72A-B08CE37B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DE4-6A50-4427-B28E-4331A927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83E-303E-4E40-9C98-084FB0C7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EF4-66D1-41C3-9D7E-147F9BBE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4E88-C648-45CC-BABA-A96579B1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A8C-C183-422D-8780-23241868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936-9527-4239-A82E-1A85A782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D4D-3E3A-44DE-9ED3-9B8B58DD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6842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318888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300132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300132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9640" y="4419720"/>
              <a:ext cx="14760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6333-5FAB-4681-A244-15F496B91C8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6842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318888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300132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300132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9640" y="4419720"/>
              <a:ext cx="14760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1873080"/>
            <a:ext cx="84200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8C88-DA9C-4B09-B9B0-AFA570A59B1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76360" y="476280"/>
            <a:ext cx="89852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7200" spc="-1" strike="noStrike">
                <a:solidFill>
                  <a:srgbClr val="ffcc66"/>
                </a:solidFill>
                <a:latin typeface="IrisUPC"/>
                <a:cs typeface="IrisUPC"/>
              </a:rPr>
              <a:t>การตรวจสอบคุณสมบัติทางด้านแหล่งกำเนิดสินค้าที่จะขอรับ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7200" spc="-1" strike="noStrike">
                <a:solidFill>
                  <a:srgbClr val="ffcc66"/>
                </a:solidFill>
                <a:latin typeface="IrisUPC"/>
              </a:rPr>
              <a:t>สิทธิพิเศษทางภาษีศุลกากร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4413240"/>
            <a:ext cx="313668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232160" y="4572000"/>
            <a:ext cx="5486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โดย  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นายชาย  สังขะเวส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สำนักป้องกันการแอบอ้างสิทธิ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       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กรมการค้าต่างประเทศ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61D5-DED6-4657-AEA2-1B4A2A8A7B73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29560" y="156600"/>
            <a:ext cx="5901840" cy="103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cc66"/>
                </a:solidFill>
                <a:latin typeface="IrisUPC"/>
              </a:rPr>
              <a:t>FTAs </a:t>
            </a:r>
            <a:r>
              <a:rPr b="1" i="1" lang="en-US" sz="5400" spc="-1" strike="noStrike">
                <a:solidFill>
                  <a:srgbClr val="ffcc66"/>
                </a:solidFill>
                <a:latin typeface="IrisUPC"/>
              </a:rPr>
              <a:t>ของไทยในปัจจุบัน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641600" y="1125360"/>
            <a:ext cx="67672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4000"/>
          </a:bodyPr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ngsana New"/>
              </a:rPr>
              <a:t>1. </a:t>
            </a:r>
            <a:r>
              <a:rPr b="1" lang="hi-IN" sz="4400" spc="-1" strike="noStrike">
                <a:solidFill>
                  <a:srgbClr val="ffffcc"/>
                </a:solidFill>
                <a:latin typeface="Angsana New"/>
              </a:rPr>
              <a:t>อินเดีย  เริ่มตั้งแต่ </a:t>
            </a:r>
            <a:r>
              <a:rPr b="1" lang="en-US" sz="4400" spc="-1" strike="noStrike">
                <a:solidFill>
                  <a:srgbClr val="ffffcc"/>
                </a:solidFill>
                <a:latin typeface="Angsana New"/>
              </a:rPr>
              <a:t>1 </a:t>
            </a:r>
            <a:r>
              <a:rPr b="1" lang="hi-IN" sz="4400" spc="-1" strike="noStrike">
                <a:solidFill>
                  <a:srgbClr val="ffffcc"/>
                </a:solidFill>
                <a:latin typeface="Angsana New"/>
              </a:rPr>
              <a:t>กันยายน </a:t>
            </a:r>
            <a:r>
              <a:rPr b="1" lang="en-US" sz="4400" spc="-1" strike="noStrike">
                <a:solidFill>
                  <a:srgbClr val="ffffcc"/>
                </a:solidFill>
                <a:latin typeface="Angsana New"/>
              </a:rPr>
              <a:t>254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ngsana New"/>
              </a:rPr>
              <a:t>2. </a:t>
            </a:r>
            <a:r>
              <a:rPr b="1" lang="hi-IN" sz="4400" spc="-1" strike="noStrike">
                <a:solidFill>
                  <a:srgbClr val="ffffcc"/>
                </a:solidFill>
                <a:latin typeface="Angsana New"/>
              </a:rPr>
              <a:t>ออสเตรเลีย  เริ่มตั้งแต่ </a:t>
            </a:r>
            <a:r>
              <a:rPr b="1" lang="en-US" sz="4400" spc="-1" strike="noStrike">
                <a:solidFill>
                  <a:srgbClr val="ffffcc"/>
                </a:solidFill>
                <a:latin typeface="Angsana New"/>
              </a:rPr>
              <a:t>1 </a:t>
            </a:r>
            <a:r>
              <a:rPr b="1" lang="hi-IN" sz="4400" spc="-1" strike="noStrike">
                <a:solidFill>
                  <a:srgbClr val="ffffcc"/>
                </a:solidFill>
                <a:latin typeface="Angsana New"/>
              </a:rPr>
              <a:t>มกราคม </a:t>
            </a:r>
            <a:r>
              <a:rPr b="1" lang="en-US" sz="4400" spc="-1" strike="noStrike">
                <a:solidFill>
                  <a:srgbClr val="ffffcc"/>
                </a:solidFill>
                <a:latin typeface="Angsana New"/>
              </a:rPr>
              <a:t>254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ngsana New"/>
              </a:rPr>
              <a:t>3. </a:t>
            </a:r>
            <a:r>
              <a:rPr b="1" lang="hi-IN" sz="4400" spc="-1" strike="noStrike">
                <a:solidFill>
                  <a:srgbClr val="ffffcc"/>
                </a:solidFill>
                <a:latin typeface="Angsana New"/>
              </a:rPr>
              <a:t>อาเซียน – จีน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5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ngsana New"/>
              </a:rPr>
              <a:t>4. </a:t>
            </a:r>
            <a:r>
              <a:rPr b="1" lang="hi-IN" sz="4400" spc="-1" strike="noStrike">
                <a:solidFill>
                  <a:srgbClr val="ffffcc"/>
                </a:solidFill>
                <a:latin typeface="Angsana New"/>
              </a:rPr>
              <a:t>นิวซีแลนด์  เริ่มตั้งแต่ </a:t>
            </a:r>
            <a:r>
              <a:rPr b="1" lang="en-US" sz="4400" spc="-1" strike="noStrike">
                <a:solidFill>
                  <a:srgbClr val="ffffcc"/>
                </a:solidFill>
                <a:latin typeface="Angsana New"/>
              </a:rPr>
              <a:t>1 </a:t>
            </a:r>
            <a:r>
              <a:rPr b="1" lang="hi-IN" sz="4400" spc="-1" strike="noStrike">
                <a:solidFill>
                  <a:srgbClr val="ffffcc"/>
                </a:solidFill>
                <a:latin typeface="Angsana New"/>
              </a:rPr>
              <a:t>กรกฎาคม </a:t>
            </a:r>
            <a:r>
              <a:rPr b="1" lang="en-US" sz="4400" spc="-1" strike="noStrike">
                <a:solidFill>
                  <a:srgbClr val="ffffcc"/>
                </a:solidFill>
                <a:latin typeface="Angsana New"/>
              </a:rPr>
              <a:t>254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81240" y="3789360"/>
            <a:ext cx="7632720" cy="259236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603440" indent="-1603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Angsana New"/>
                <a:cs typeface="Angsana New"/>
              </a:rPr>
              <a:t>อนาคต</a:t>
            </a:r>
            <a:r>
              <a:rPr b="1" i="1" lang="en-US" sz="5400" spc="-1" strike="noStrike">
                <a:solidFill>
                  <a:srgbClr val="ccffff"/>
                </a:solidFill>
                <a:latin typeface="Angsana New"/>
                <a:ea typeface="Angsana New"/>
              </a:rPr>
              <a:t>  </a:t>
            </a:r>
            <a:r>
              <a:rPr b="1" i="1" lang="en-US" sz="5400" spc="-1" strike="noStrike">
                <a:solidFill>
                  <a:srgbClr val="ccffff"/>
                </a:solidFill>
                <a:latin typeface="Angsana New"/>
                <a:ea typeface="Angsana New"/>
              </a:rPr>
              <a:t>USA / </a:t>
            </a:r>
            <a:r>
              <a:rPr b="1" i="1" lang="en-US" sz="5400" spc="-1" strike="noStrike">
                <a:solidFill>
                  <a:srgbClr val="ccffff"/>
                </a:solidFill>
                <a:latin typeface="Angsana New"/>
                <a:cs typeface="Angsana New"/>
              </a:rPr>
              <a:t>ญี่ปุ่น </a:t>
            </a:r>
            <a:r>
              <a:rPr b="1" i="1" lang="en-US" sz="5400" spc="-1" strike="noStrike">
                <a:solidFill>
                  <a:srgbClr val="ccffff"/>
                </a:solidFill>
                <a:latin typeface="Angsana New"/>
                <a:ea typeface="Angsana New"/>
              </a:rPr>
              <a:t>/ </a:t>
            </a:r>
            <a:r>
              <a:rPr b="1" i="1" lang="en-US" sz="5400" spc="-1" strike="noStrike">
                <a:solidFill>
                  <a:srgbClr val="ccffff"/>
                </a:solidFill>
                <a:latin typeface="Angsana New"/>
                <a:cs typeface="Angsana New"/>
              </a:rPr>
              <a:t>บาห์เรน </a:t>
            </a:r>
            <a:r>
              <a:rPr b="1" i="1" lang="en-US" sz="5400" spc="-1" strike="noStrike">
                <a:solidFill>
                  <a:srgbClr val="ccffff"/>
                </a:solidFill>
                <a:latin typeface="Angsana New"/>
                <a:ea typeface="Angsana New"/>
              </a:rPr>
              <a:t>/ </a:t>
            </a:r>
            <a:br>
              <a:rPr sz="5400"/>
            </a:br>
            <a:r>
              <a:rPr b="1" i="1" lang="th-TH" sz="5400" spc="-1" strike="noStrike">
                <a:solidFill>
                  <a:srgbClr val="ccffff"/>
                </a:solidFill>
                <a:latin typeface="Angsana New"/>
                <a:cs typeface="Angsana New"/>
              </a:rPr>
              <a:t>เป</a:t>
            </a:r>
            <a:r>
              <a:rPr b="1" i="1" lang="en-US" sz="5400" spc="-1" strike="noStrike">
                <a:solidFill>
                  <a:srgbClr val="ccffff"/>
                </a:solidFill>
                <a:latin typeface="Angsana New"/>
                <a:cs typeface="Angsana New"/>
              </a:rPr>
              <a:t>รู </a:t>
            </a:r>
            <a:r>
              <a:rPr b="1" i="1" lang="en-US" sz="5400" spc="-1" strike="noStrike">
                <a:solidFill>
                  <a:srgbClr val="ccffff"/>
                </a:solidFill>
                <a:latin typeface="Angsana New"/>
                <a:ea typeface="Angsana New"/>
              </a:rPr>
              <a:t>/ </a:t>
            </a:r>
            <a:r>
              <a:rPr b="1" i="1" lang="en-US" sz="5400" spc="-1" strike="noStrike">
                <a:solidFill>
                  <a:srgbClr val="ccffff"/>
                </a:solidFill>
                <a:latin typeface="Angsana New"/>
                <a:cs typeface="Angsana New"/>
              </a:rPr>
              <a:t>อาเซียน </a:t>
            </a:r>
            <a:r>
              <a:rPr b="1" i="1" lang="en-US" sz="5400" spc="-1" strike="noStrike">
                <a:solidFill>
                  <a:srgbClr val="ccffff"/>
                </a:solidFill>
                <a:latin typeface="Angsana New"/>
                <a:ea typeface="Angsana New"/>
              </a:rPr>
              <a:t>- BIMSTEC / </a:t>
            </a:r>
            <a:br>
              <a:rPr sz="5400"/>
            </a:br>
            <a:r>
              <a:rPr b="1" i="1" lang="en-US" sz="5400" spc="-1" strike="noStrike">
                <a:solidFill>
                  <a:srgbClr val="ccffff"/>
                </a:solidFill>
                <a:latin typeface="Angsana New"/>
                <a:cs typeface="Angsana New"/>
              </a:rPr>
              <a:t>อาเซียน </a:t>
            </a:r>
            <a:r>
              <a:rPr b="1" i="1" lang="en-US" sz="5400" spc="-1" strike="noStrike">
                <a:solidFill>
                  <a:srgbClr val="ccffff"/>
                </a:solidFill>
                <a:latin typeface="Angsana New"/>
                <a:ea typeface="Angsana New"/>
              </a:rPr>
              <a:t>- </a:t>
            </a:r>
            <a:r>
              <a:rPr b="1" i="1" lang="en-US" sz="5400" spc="-1" strike="noStrike">
                <a:solidFill>
                  <a:srgbClr val="ccffff"/>
                </a:solidFill>
                <a:latin typeface="Angsana New"/>
                <a:cs typeface="Angsana New"/>
              </a:rPr>
              <a:t>อินเดีย</a:t>
            </a:r>
            <a:endParaRPr b="0" lang="en-US" sz="5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EB19-6818-4B84-B635-B3BA9F0CE918}" type="slidenum">
              <a:t>10</a:t>
            </a:fld>
          </a:p>
        </p:txBody>
      </p:sp>
    </p:spTree>
  </p:cSld>
  <p:transition>
    <p:dissolv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5400" y="2637000"/>
            <a:ext cx="8034480" cy="4176720"/>
          </a:xfrm>
          <a:prstGeom prst="rect">
            <a:avLst/>
          </a:prstGeom>
          <a:solidFill>
            <a:srgbClr val="ffffe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8" name=""/>
          <p:cNvSpPr/>
          <p:nvPr/>
        </p:nvSpPr>
        <p:spPr>
          <a:xfrm>
            <a:off x="992160" y="152280"/>
            <a:ext cx="8034480" cy="2340000"/>
          </a:xfrm>
          <a:prstGeom prst="rect">
            <a:avLst/>
          </a:prstGeom>
          <a:solidFill>
            <a:srgbClr val="ffffe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9" name=""/>
          <p:cNvSpPr/>
          <p:nvPr/>
        </p:nvSpPr>
        <p:spPr>
          <a:xfrm>
            <a:off x="1282680" y="320760"/>
            <a:ext cx="7485120" cy="342864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IrisUPC"/>
              </a:rPr>
              <a:t>ระบบสิทธิพิเศษทางการค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GSP (Generalized System of Preference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CEPT (Common Effective Preferential Tariff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GSTP (The Global System of Trade Preferences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cs typeface="IrisUPC"/>
              </a:rPr>
              <a:t>ข้อตกลงการค้าเสรี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ea typeface="IrisUPC"/>
              </a:rPr>
              <a:t>(Free Trade Agreements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0" name=""/>
          <p:cNvSpPr/>
          <p:nvPr/>
        </p:nvSpPr>
        <p:spPr>
          <a:xfrm>
            <a:off x="3333600" y="2757600"/>
            <a:ext cx="3410280" cy="57132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3399"/>
                </a:solidFill>
                <a:latin typeface="IrisUPC"/>
              </a:rPr>
              <a:t>กฎแหล่งกำเนิดสินค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1" name=""/>
          <p:cNvSpPr/>
          <p:nvPr/>
        </p:nvSpPr>
        <p:spPr>
          <a:xfrm>
            <a:off x="1284120" y="3456000"/>
            <a:ext cx="7485120" cy="142884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1.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หลักเกณฑ์ว่าด้วยแหล่งกำเนิดสินค้า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(Rules of Origin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สินค้าผลิตด้วยวัตถุดิบภายในประเทศทั้งหมด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สินค้าผลิตด้วยวัตถุดิบนำเข้าจากต่าง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2" name=""/>
          <p:cNvSpPr/>
          <p:nvPr/>
        </p:nvSpPr>
        <p:spPr>
          <a:xfrm>
            <a:off x="3067200" y="5037120"/>
            <a:ext cx="3838320" cy="52236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2. </a:t>
            </a:r>
            <a:r>
              <a:rPr b="1" lang="hi-IN" sz="3200" spc="-1" strike="noStrike">
                <a:solidFill>
                  <a:srgbClr val="003399"/>
                </a:solidFill>
                <a:latin typeface="IrisUPC"/>
              </a:rPr>
              <a:t>เงื่อนไขการส่งมอบสินค้า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>
            <a:off x="1257480" y="5675400"/>
            <a:ext cx="7467480" cy="9936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3.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เอกสารที่ใช้เป็นหลักฐานออกโดยกรมการค้าต่าง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Form A    - Form D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Form GSTP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ea typeface="IrisUPC"/>
              </a:rPr>
              <a:t>    - Form FTA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4" name=""/>
          <p:cNvSpPr/>
          <p:nvPr/>
        </p:nvSpPr>
        <p:spPr>
          <a:xfrm>
            <a:off x="4870440" y="3208320"/>
            <a:ext cx="330120" cy="360360"/>
          </a:xfrm>
          <a:prstGeom prst="downArrow">
            <a:avLst>
              <a:gd name="adj1" fmla="val 41667"/>
              <a:gd name="adj2" fmla="val 511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4861080" y="4781520"/>
            <a:ext cx="330120" cy="360360"/>
          </a:xfrm>
          <a:prstGeom prst="downArrow">
            <a:avLst>
              <a:gd name="adj1" fmla="val 41667"/>
              <a:gd name="adj2" fmla="val 511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4835520" y="5442120"/>
            <a:ext cx="330120" cy="360360"/>
          </a:xfrm>
          <a:prstGeom prst="downArrow">
            <a:avLst>
              <a:gd name="adj1" fmla="val 41667"/>
              <a:gd name="adj2" fmla="val 511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2276640"/>
            <a:ext cx="330120" cy="436320"/>
          </a:xfrm>
          <a:prstGeom prst="downArrow">
            <a:avLst>
              <a:gd name="adj1" fmla="val 50000"/>
              <a:gd name="adj2" fmla="val 4543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F9DE-819F-4F8A-9402-47682C890BBD}" type="slidenum">
              <a:t>11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15800" y="260280"/>
            <a:ext cx="929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IrisUPC"/>
                <a:cs typeface="IrisUPC"/>
              </a:rPr>
              <a:t>คุณสมบัติของ</a:t>
            </a:r>
            <a:r>
              <a:rPr b="1" i="1" lang="en-US" sz="6000" spc="-1" strike="noStrike">
                <a:solidFill>
                  <a:srgbClr val="ffcc66"/>
                </a:solidFill>
                <a:latin typeface="IrisUPC"/>
              </a:rPr>
              <a:t>สินค้า</a:t>
            </a:r>
            <a:r>
              <a:rPr b="1" i="1" lang="en-US" sz="6000" spc="-1" strike="noStrike">
                <a:solidFill>
                  <a:srgbClr val="ffcc66"/>
                </a:solidFill>
                <a:latin typeface="IrisUPC"/>
                <a:ea typeface="IrisUPC"/>
              </a:rPr>
              <a:t>  </a:t>
            </a:r>
            <a:r>
              <a:rPr b="1" i="1" lang="en-US" sz="6000" spc="-1" strike="noStrike">
                <a:solidFill>
                  <a:srgbClr val="ffcc66"/>
                </a:solidFill>
                <a:latin typeface="IrisUPC"/>
                <a:ea typeface="IrisUPC"/>
              </a:rPr>
              <a:t>(Origin Criterion)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9" name=""/>
          <p:cNvSpPr/>
          <p:nvPr/>
        </p:nvSpPr>
        <p:spPr>
          <a:xfrm>
            <a:off x="415800" y="1147680"/>
            <a:ext cx="9361440" cy="89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ผลิตจากวัตถุดิบภายในประเทศทั้งหมด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(Wholly  Obtained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  <a:ea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cs typeface="IrisUPC"/>
              </a:rPr>
              <a:t>พืชผลที่เพาะปลูกในประเทศ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  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cs typeface="IrisUPC"/>
              </a:rPr>
              <a:t>การประมงโดยเรือของ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     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IrisUPC"/>
              </a:rPr>
              <a:t>แร่ธาตุที่ขุดได้ภายในประเทศ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IrisUPC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IrisUPC"/>
              </a:rPr>
              <a:t>     และจากน่านน้ำของประเทศส่งออก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     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IrisUPC"/>
              </a:rPr>
              <a:t>สัตว์ที่เลี้ยงและเติบโตในประเทศ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IrisUPC"/>
              </a:rPr>
              <a:t>	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IrisUPC"/>
              </a:rPr>
              <a:t> 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ea typeface="Iris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Arial"/>
                <a:cs typeface="IrisUPC"/>
              </a:rPr>
              <a:t>เศษวัสดุเหลือใช้ภายใน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     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cs typeface="IrisUPC"/>
              </a:rPr>
              <a:t>ผลผลิตปศุสัตว์ใน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ผลิตจากวัตถุดิบนำเข้าจากต่างประเทศ  ต้องได้รับการ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แปรสภาพอย่างเพียงพอ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(Substantial  Transformation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1.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จารณาจากพิกัดศุลกากร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2.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จารณาจากสัดส่วนการใช้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/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ราคา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EB92-009D-4021-B162-1DC9789D4A0B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360" y="1471680"/>
            <a:ext cx="9448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 fontScale="72000"/>
          </a:bodyPr>
          <a:p>
            <a:pPr lvl="1" marL="139320" indent="-216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ระบบ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ประเทศ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     หลักเกณฑ์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/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เงื่อนไ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GS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European Union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4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A Certificate)    Switzerland/Norway/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 factory pr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ตุรก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spcBef>
                <a:spcPts val="751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Japan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50%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       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FOB pr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spcBef>
                <a:spcPts val="751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U.S.A.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ของวัตถุดิบภายในประเทศ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+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ต้นทุนการผลิตทางตรงไม่น้อยกว่า</a:t>
            </a:r>
            <a:br>
              <a:rPr sz="3000"/>
            </a:b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        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35%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 factory pri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spcBef>
                <a:spcPts val="751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Canada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4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 factory pri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0">
              <a:lnSpc>
                <a:spcPct val="90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2880" y="1413000"/>
            <a:ext cx="0" cy="527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433520"/>
            <a:ext cx="944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1484280"/>
            <a:ext cx="41400" cy="518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1433520"/>
            <a:ext cx="38160" cy="516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9632880" y="1433520"/>
            <a:ext cx="44640" cy="523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2081160"/>
            <a:ext cx="944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7" name=""/>
          <p:cNvSpPr/>
          <p:nvPr/>
        </p:nvSpPr>
        <p:spPr>
          <a:xfrm>
            <a:off x="2922480" y="342900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8" name=""/>
          <p:cNvSpPr/>
          <p:nvPr/>
        </p:nvSpPr>
        <p:spPr>
          <a:xfrm>
            <a:off x="2922480" y="4365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9" name=""/>
          <p:cNvSpPr/>
          <p:nvPr/>
        </p:nvSpPr>
        <p:spPr>
          <a:xfrm>
            <a:off x="2922480" y="566100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0" name=""/>
          <p:cNvSpPr/>
          <p:nvPr/>
        </p:nvSpPr>
        <p:spPr>
          <a:xfrm>
            <a:off x="258840" y="6669000"/>
            <a:ext cx="9447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1" name=""/>
          <p:cNvSpPr/>
          <p:nvPr/>
        </p:nvSpPr>
        <p:spPr>
          <a:xfrm>
            <a:off x="128520" y="62280"/>
            <a:ext cx="970596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หลักเกณฑ์การผลิตถูกต้องตามก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ฎ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แหล่งกำเนิด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สินค้า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484-2311-4399-B78D-EE2E9FC13CA3}" type="slidenum">
              <a:t>13</a:t>
            </a:fld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2680" y="333360"/>
            <a:ext cx="898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460520"/>
            <a:ext cx="9677520" cy="66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</a:rPr>
              <a:t> 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ระบบ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ประเทศ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  หลักเกณฑ์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/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เงื่อนไข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GS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Russian Federation/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50 %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A Certificate)     Bulgaria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factory price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CEPT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ASEAN countries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และต้นทุนการผลิต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D Certificate)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ในประเทศ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ASEAN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ไม่น้อยกว่า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40% 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FOB price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GST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ประเทศสมาชิก         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50 % 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GSTP)              GST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FOB price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438200"/>
            <a:ext cx="953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3141720"/>
            <a:ext cx="9537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2085840"/>
            <a:ext cx="953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9" name=""/>
          <p:cNvSpPr/>
          <p:nvPr/>
        </p:nvSpPr>
        <p:spPr>
          <a:xfrm>
            <a:off x="533556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0" name=""/>
          <p:cNvSpPr/>
          <p:nvPr/>
        </p:nvSpPr>
        <p:spPr>
          <a:xfrm>
            <a:off x="975348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1" name=""/>
          <p:cNvSpPr/>
          <p:nvPr/>
        </p:nvSpPr>
        <p:spPr>
          <a:xfrm>
            <a:off x="200160" y="4581360"/>
            <a:ext cx="9537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6200640"/>
            <a:ext cx="953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3" name=""/>
          <p:cNvSpPr/>
          <p:nvPr/>
        </p:nvSpPr>
        <p:spPr>
          <a:xfrm>
            <a:off x="128520" y="67320"/>
            <a:ext cx="970596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หลักเกณฑ์การผลิตถูกต้องตามก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ฎ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แหล่งกำเนิด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สินค้า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89C-9B95-4B74-BAFC-1BCF8735EED9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2680" y="333360"/>
            <a:ext cx="898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5" name=""/>
          <p:cNvSpPr/>
          <p:nvPr/>
        </p:nvSpPr>
        <p:spPr>
          <a:xfrm>
            <a:off x="420840" y="1460520"/>
            <a:ext cx="914076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  <a:ea typeface="IrisUPC"/>
              </a:rPr>
              <a:t>    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cs typeface="IrisUPC"/>
              </a:rPr>
              <a:t>ระบบ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   หลักเกณฑ์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/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cs typeface="IrisUPC"/>
              </a:rPr>
              <a:t>เงื่อนไข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TA  Thailand - India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มูลค่าต้นทุนในประเทศไม่น้อยกว่า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20 %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40 %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OB price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และ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/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 มีการ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                       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เปลี่ยนแปลงพิกัดวัตถุดิบนำเข้า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TA  Thailand – Australia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มูลค่าต้นทุนในประเทศไม่น้อยกว่า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40 </a:t>
            </a:r>
            <a:r>
              <a:rPr b="1" lang="th-TH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55%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OB Price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และ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/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 มีการเปลี่ยนแปลง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พิกัดวัตถุดิบนำเข้า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44160" y="1438200"/>
            <a:ext cx="4680" cy="443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7" name=""/>
          <p:cNvSpPr/>
          <p:nvPr/>
        </p:nvSpPr>
        <p:spPr>
          <a:xfrm>
            <a:off x="349200" y="1438200"/>
            <a:ext cx="921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8" name=""/>
          <p:cNvSpPr/>
          <p:nvPr/>
        </p:nvSpPr>
        <p:spPr>
          <a:xfrm>
            <a:off x="349200" y="2085840"/>
            <a:ext cx="921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9" name=""/>
          <p:cNvSpPr/>
          <p:nvPr/>
        </p:nvSpPr>
        <p:spPr>
          <a:xfrm>
            <a:off x="3800520" y="1438200"/>
            <a:ext cx="23760" cy="443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9499680" y="1438200"/>
            <a:ext cx="48960" cy="443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1" name=""/>
          <p:cNvSpPr/>
          <p:nvPr/>
        </p:nvSpPr>
        <p:spPr>
          <a:xfrm>
            <a:off x="349200" y="408456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2" name=""/>
          <p:cNvSpPr/>
          <p:nvPr/>
        </p:nvSpPr>
        <p:spPr>
          <a:xfrm>
            <a:off x="344520" y="587700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3" name=""/>
          <p:cNvSpPr/>
          <p:nvPr/>
        </p:nvSpPr>
        <p:spPr>
          <a:xfrm>
            <a:off x="128520" y="67320"/>
            <a:ext cx="970596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หลักเกณฑ์การผลิตถูกต้องตามก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ฎ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แหล่งกำเนิด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สินค้า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905-C7C8-4588-940A-8301CBAB0025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31800" y="-27000"/>
            <a:ext cx="87343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cc66"/>
                </a:solidFill>
                <a:latin typeface="Arial"/>
                <a:cs typeface="IrisUPC"/>
              </a:rPr>
              <a:t>หลักเกณฑ์แหล่งกำเนิด เพื่อพิจารณาสิทธิพิเศษฯ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5" name=""/>
          <p:cNvSpPr/>
          <p:nvPr/>
        </p:nvSpPr>
        <p:spPr>
          <a:xfrm>
            <a:off x="1568520" y="946080"/>
            <a:ext cx="7416720" cy="73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IrisUPC"/>
                <a:ea typeface="IrisUPC"/>
              </a:rPr>
              <a:t>1. </a:t>
            </a:r>
            <a:r>
              <a:rPr b="1" lang="th-TH" sz="4000" spc="-1" strike="noStrike">
                <a:solidFill>
                  <a:srgbClr val="ffffcc"/>
                </a:solidFill>
                <a:latin typeface="IrisUPC"/>
                <a:cs typeface="IrisUPC"/>
              </a:rPr>
              <a:t>กลุ่มอัญมณีและเครื่องประดับ</a:t>
            </a:r>
            <a:r>
              <a:rPr b="1" lang="en-US" sz="4000" spc="-1" strike="noStrike">
                <a:solidFill>
                  <a:srgbClr val="ffffcc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IrisUPC"/>
                <a:ea typeface="IrisUPC"/>
              </a:rPr>
              <a:t>(HS. 71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a) GSP  EU/Swiss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IrisUPC"/>
                <a:ea typeface="IrisUPC"/>
              </a:rPr>
              <a:t>1) </a:t>
            </a:r>
            <a:r>
              <a:rPr b="1" lang="th-TH" sz="3600" spc="-1" strike="noStrike">
                <a:solidFill>
                  <a:srgbClr val="ffffff"/>
                </a:solidFill>
                <a:latin typeface="IrisUPC"/>
                <a:cs typeface="IrisUPC"/>
              </a:rPr>
              <a:t>เปลี่ยนพิกัดศุลกาก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IrisUPC"/>
                <a:ea typeface="IrisUPC"/>
              </a:rPr>
              <a:t>	</a:t>
            </a:r>
            <a:r>
              <a:rPr b="1" lang="th-TH" sz="36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th-TH" sz="3600" spc="-1" strike="noStrike">
                <a:solidFill>
                  <a:srgbClr val="ffffff"/>
                </a:solidFill>
                <a:latin typeface="IrisUPC"/>
                <a:ea typeface="IrisUPC"/>
              </a:rPr>
              <a:t>2) </a:t>
            </a:r>
            <a:r>
              <a:rPr b="1" lang="en-US" sz="3600" spc="-1" strike="noStrike">
                <a:solidFill>
                  <a:srgbClr val="ffffff"/>
                </a:solidFill>
                <a:latin typeface="IrisUPC"/>
                <a:ea typeface="IrisUPC"/>
              </a:rPr>
              <a:t>Local Content 50% of ex-works price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risUPC"/>
                <a:ea typeface="IrisUPC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IrisUPC"/>
                <a:ea typeface="IrisUPC"/>
              </a:rPr>
              <a:t>3) </a:t>
            </a:r>
            <a:r>
              <a:rPr b="1" lang="th-TH" sz="3600" spc="-1" strike="noStrike">
                <a:solidFill>
                  <a:srgbClr val="ffffff"/>
                </a:solidFill>
                <a:latin typeface="IrisUPC"/>
                <a:cs typeface="IrisUPC"/>
              </a:rPr>
              <a:t>ผลิตจาก </a:t>
            </a:r>
            <a:r>
              <a:rPr b="1" lang="en-US" sz="3600" spc="-1" strike="noStrike">
                <a:solidFill>
                  <a:srgbClr val="ffffff"/>
                </a:solidFill>
                <a:latin typeface="IrisUPC"/>
                <a:ea typeface="IrisUPC"/>
              </a:rPr>
              <a:t>un-worked precious stone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risUPC"/>
                <a:ea typeface="IrisUPC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b) Australia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IrisUPC"/>
                <a:ea typeface="IrisUPC"/>
              </a:rPr>
              <a:t>1) </a:t>
            </a:r>
            <a:r>
              <a:rPr b="1" lang="th-TH" sz="3600" spc="-1" strike="noStrike">
                <a:solidFill>
                  <a:srgbClr val="ffffff"/>
                </a:solidFill>
                <a:latin typeface="IrisUPC"/>
                <a:cs typeface="IrisUPC"/>
              </a:rPr>
              <a:t>เปลี่ยนพิกัดศุลกาก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IrisUPC"/>
                <a:ea typeface="IrisUPC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c) India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risUPC"/>
                <a:ea typeface="IrisUPC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IrisUPC"/>
                <a:ea typeface="IrisUPC"/>
              </a:rPr>
              <a:t>1) </a:t>
            </a:r>
            <a:r>
              <a:rPr b="1" lang="th-TH" sz="3600" spc="-1" strike="noStrike">
                <a:solidFill>
                  <a:srgbClr val="ffffff"/>
                </a:solidFill>
                <a:latin typeface="IrisUPC"/>
                <a:cs typeface="IrisUPC"/>
              </a:rPr>
              <a:t>เปลี่ยนพิกัดศุลกากร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IrisUPC"/>
                <a:ea typeface="IrisUPC"/>
              </a:rPr>
              <a:t>              </a:t>
            </a:r>
            <a:r>
              <a:rPr b="1" lang="th-TH" sz="3600" spc="-1" strike="noStrike">
                <a:solidFill>
                  <a:srgbClr val="ffffff"/>
                </a:solidFill>
                <a:latin typeface="IrisUPC"/>
                <a:cs typeface="IrisUPC"/>
              </a:rPr>
              <a:t>และ </a:t>
            </a:r>
            <a:r>
              <a:rPr b="1" lang="en-US" sz="3600" spc="-1" strike="noStrike">
                <a:solidFill>
                  <a:srgbClr val="ffffff"/>
                </a:solidFill>
                <a:latin typeface="IrisUPC"/>
                <a:ea typeface="IrisUPC"/>
              </a:rPr>
              <a:t>Local content 20% of FOB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9CC-A423-4E55-B12E-7F57DC4405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7240" y="-27000"/>
            <a:ext cx="99057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cc66"/>
                </a:solidFill>
                <a:latin typeface="Arial"/>
                <a:cs typeface="IrisUPC"/>
              </a:rPr>
              <a:t>หลักเกณฑ์แหล่งกำเนิด เพื่อพิจารณาสิทธิพิเศษฯ 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  <a:ea typeface="IrisUPC"/>
              </a:rPr>
              <a:t>(</a:t>
            </a:r>
            <a:r>
              <a:rPr b="1" lang="hi-IN" sz="4800" spc="-1" strike="noStrike">
                <a:solidFill>
                  <a:srgbClr val="ffcc66"/>
                </a:solidFill>
                <a:latin typeface="Arial"/>
                <a:cs typeface="IrisUPC"/>
              </a:rPr>
              <a:t>ต่อ</a:t>
            </a:r>
            <a:r>
              <a:rPr b="1" lang="en-US" sz="4800" spc="-1" strike="noStrike">
                <a:solidFill>
                  <a:srgbClr val="ffcc66"/>
                </a:solidFill>
                <a:latin typeface="Arial"/>
                <a:ea typeface="IrisUPC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765000"/>
            <a:ext cx="540072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IrisUPC"/>
                <a:ea typeface="IrisUPC"/>
              </a:rPr>
              <a:t>2. - Leather Products  HS. 42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IrisUPC"/>
                <a:ea typeface="IrisUPC"/>
              </a:rPr>
              <a:t>a) GSP  EU/Swiss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  <a:ea typeface="IrisUPC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  <a:ea typeface="IrisUPC"/>
              </a:rPr>
              <a:t>1)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cs typeface="IrisUPC"/>
              </a:rPr>
              <a:t>เปลี่ยนพิกัดศุลกากร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IrisUPC"/>
                <a:ea typeface="IrisUPC"/>
              </a:rPr>
              <a:t>b) Australia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  <a:ea typeface="IrisUPC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  <a:ea typeface="IrisUPC"/>
              </a:rPr>
              <a:t>1)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cs typeface="IrisUPC"/>
              </a:rPr>
              <a:t>เปลี่ยนพิกัดศุลกากร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  <a:ea typeface="IrisUPC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IrisUPC"/>
                <a:ea typeface="IrisUPC"/>
              </a:rPr>
              <a:t>c) India  </a:t>
            </a:r>
            <a:r>
              <a:rPr b="1" lang="th-TH" sz="3600" spc="-1" strike="noStrike">
                <a:solidFill>
                  <a:srgbClr val="ffffff"/>
                </a:solidFill>
                <a:latin typeface="IrisUPC"/>
                <a:cs typeface="IrisUPC"/>
              </a:rPr>
              <a:t>ไม่ได้รับสิทธิพิเศษฯ     </a:t>
            </a:r>
            <a:r>
              <a:rPr b="1" lang="en-US" sz="3600" spc="-1" strike="noStrike">
                <a:solidFill>
                  <a:srgbClr val="ffffff"/>
                </a:solidFill>
                <a:latin typeface="IrisUPC"/>
                <a:ea typeface="IrisUPC"/>
              </a:rPr>
              <a:t>         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8" name=""/>
          <p:cNvSpPr/>
          <p:nvPr/>
        </p:nvSpPr>
        <p:spPr>
          <a:xfrm>
            <a:off x="1639800" y="3738600"/>
            <a:ext cx="8209080" cy="34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4000" spc="-1" strike="noStrike">
                <a:solidFill>
                  <a:srgbClr val="ffffcc"/>
                </a:solidFill>
                <a:latin typeface="IrisUPC"/>
                <a:ea typeface="IrisUPC"/>
              </a:rPr>
              <a:t>- Leather Shoe  HS. 64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   </a:t>
            </a:r>
            <a:r>
              <a:rPr b="1" lang="en-US" sz="3600" spc="-1" strike="noStrike">
                <a:solidFill>
                  <a:srgbClr val="ffffff"/>
                </a:solidFill>
                <a:latin typeface="IrisUPC"/>
                <a:ea typeface="IrisUPC"/>
              </a:rPr>
              <a:t>a) GSP  EU/Swiss 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  <a:ea typeface="IrisUPC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  <a:ea typeface="IrisUPC"/>
              </a:rPr>
              <a:t>1)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cs typeface="IrisUPC"/>
              </a:rPr>
              <a:t>เปลี่ยนพิกัดศุลกากร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IrisUPC"/>
                <a:ea typeface="IrisUPC"/>
              </a:rPr>
              <a:t>b) Australia  HS 6403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  <a:ea typeface="IrisUPC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  <a:ea typeface="IrisUPC"/>
              </a:rPr>
              <a:t>1)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cs typeface="IrisUPC"/>
              </a:rPr>
              <a:t>เปลี่ยนพิกัดศุลกากร และ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  <a:ea typeface="IrisUPC"/>
              </a:rPr>
              <a:t>Local content 55% of FOB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IrisUPC"/>
                <a:ea typeface="IrisUPC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  <a:ea typeface="IrisUPC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IrisUPC"/>
                <a:ea typeface="IrisUPC"/>
              </a:rPr>
              <a:t>c) India  </a:t>
            </a:r>
            <a:r>
              <a:rPr b="1" lang="th-TH" sz="3200" spc="-1" strike="noStrike">
                <a:solidFill>
                  <a:srgbClr val="ffffff"/>
                </a:solidFill>
                <a:latin typeface="IrisUPC"/>
                <a:cs typeface="IrisUPC"/>
              </a:rPr>
              <a:t>ไม่ได้รับสิทธิพิเศษฯ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C435-048F-40CB-8BEA-6818E11881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329600" y="4248000"/>
            <a:ext cx="0" cy="28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0" name=""/>
          <p:cNvSpPr/>
          <p:nvPr/>
        </p:nvSpPr>
        <p:spPr>
          <a:xfrm>
            <a:off x="7329600" y="5002200"/>
            <a:ext cx="0" cy="765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1" name=""/>
          <p:cNvSpPr/>
          <p:nvPr/>
        </p:nvSpPr>
        <p:spPr>
          <a:xfrm>
            <a:off x="3728880" y="423864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2" name=""/>
          <p:cNvSpPr/>
          <p:nvPr/>
        </p:nvSpPr>
        <p:spPr>
          <a:xfrm>
            <a:off x="1352520" y="422280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3" name=""/>
          <p:cNvSpPr/>
          <p:nvPr/>
        </p:nvSpPr>
        <p:spPr>
          <a:xfrm>
            <a:off x="7329600" y="3357720"/>
            <a:ext cx="0" cy="431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4" name=""/>
          <p:cNvSpPr/>
          <p:nvPr/>
        </p:nvSpPr>
        <p:spPr>
          <a:xfrm>
            <a:off x="2505240" y="1789200"/>
            <a:ext cx="0" cy="1162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5" name=""/>
          <p:cNvSpPr/>
          <p:nvPr/>
        </p:nvSpPr>
        <p:spPr>
          <a:xfrm>
            <a:off x="7329600" y="2576520"/>
            <a:ext cx="0" cy="368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6" name=""/>
          <p:cNvSpPr/>
          <p:nvPr/>
        </p:nvSpPr>
        <p:spPr>
          <a:xfrm>
            <a:off x="2938320" y="144360"/>
            <a:ext cx="4102200" cy="47628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99"/>
                </a:solidFill>
                <a:latin typeface="IrisUPC"/>
              </a:rPr>
              <a:t>ระบบสิทธิพิเศษทางการค้า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7" name=""/>
          <p:cNvSpPr/>
          <p:nvPr/>
        </p:nvSpPr>
        <p:spPr>
          <a:xfrm>
            <a:off x="488880" y="3813120"/>
            <a:ext cx="410364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99"/>
                </a:solidFill>
                <a:latin typeface="IrisUPC"/>
                <a:cs typeface="IrisUPC"/>
              </a:rPr>
              <a:t>กระบวนการตรวจสอบคุณสมบัติ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8" name=""/>
          <p:cNvSpPr/>
          <p:nvPr/>
        </p:nvSpPr>
        <p:spPr>
          <a:xfrm>
            <a:off x="488880" y="2952720"/>
            <a:ext cx="892800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IrisUPC"/>
              </a:rPr>
              <a:t>หลักเกณฑ์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cs typeface="IrisUPC"/>
              </a:rPr>
              <a:t>แหล่ง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</a:rPr>
              <a:t>กำเนิดสินค้า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(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cs typeface="IrisUPC"/>
              </a:rPr>
              <a:t>ด้านการผลิต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) :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</a:rPr>
              <a:t>Rules of Origin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(Origin Criteria)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9" name=""/>
          <p:cNvSpPr/>
          <p:nvPr/>
        </p:nvSpPr>
        <p:spPr>
          <a:xfrm>
            <a:off x="488880" y="4394160"/>
            <a:ext cx="173052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99"/>
                </a:solidFill>
                <a:latin typeface="IrisUPC"/>
                <a:cs typeface="IrisUPC"/>
              </a:rPr>
              <a:t>ทุกรายการสินค้า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0" name=""/>
          <p:cNvSpPr/>
          <p:nvPr/>
        </p:nvSpPr>
        <p:spPr>
          <a:xfrm>
            <a:off x="487440" y="5780160"/>
            <a:ext cx="892944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IrisUPC"/>
                <a:cs typeface="IrisUPC"/>
              </a:rPr>
              <a:t>ขั้นตอนการตรวจสอบย้อนหลัง 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(Post Administrative Control)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1" name=""/>
          <p:cNvSpPr/>
          <p:nvPr/>
        </p:nvSpPr>
        <p:spPr>
          <a:xfrm>
            <a:off x="487440" y="1185840"/>
            <a:ext cx="4113000" cy="10080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สิทธิพิเศษ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เป็นการทั่วไป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    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GSP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     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CEPT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     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GSTP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2" name=""/>
          <p:cNvSpPr/>
          <p:nvPr/>
        </p:nvSpPr>
        <p:spPr>
          <a:xfrm>
            <a:off x="5311800" y="1185840"/>
            <a:ext cx="4113360" cy="151308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ภายใต้ข้อตกลงการค้าเสรี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(Free Trade Agreements)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ินเดีย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(1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ก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47) 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อสเตรเลีย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(1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ม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ค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48)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สหรัฐอเมริกา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นิวซีแลนด์ 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าเซียน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ินเดีย 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cxnSp>
        <p:nvCxnSpPr>
          <p:cNvPr id="193" name=""/>
          <p:cNvCxnSpPr>
            <a:stCxn id="192" idx="0"/>
            <a:endCxn id="191" idx="0"/>
          </p:cNvCxnSpPr>
          <p:nvPr/>
        </p:nvCxnSpPr>
        <p:spPr>
          <a:xfrm rot="5400000">
            <a:off x="4955400" y="-1235160"/>
            <a:ext cx="2160" cy="4825080"/>
          </a:xfrm>
          <a:prstGeom prst="bentConnector3">
            <a:avLst>
              <a:gd name="adj1" fmla="val -13800000"/>
            </a:avLst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94" name=""/>
          <p:cNvCxnSpPr/>
          <p:nvPr/>
        </p:nvCxnSpPr>
        <p:spPr>
          <a:xfrm flipH="1">
            <a:off x="4985640" y="556920"/>
            <a:ext cx="3960" cy="402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311800" y="3813120"/>
            <a:ext cx="410508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99"/>
                </a:solidFill>
                <a:latin typeface="IrisUPC"/>
                <a:cs typeface="IrisUPC"/>
              </a:rPr>
              <a:t>กระบวนการตรวจสอบคุณสมบัติ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6" name=""/>
          <p:cNvSpPr/>
          <p:nvPr/>
        </p:nvSpPr>
        <p:spPr>
          <a:xfrm>
            <a:off x="2865600" y="4394160"/>
            <a:ext cx="172872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HS 84-97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2505240" y="3375000"/>
            <a:ext cx="0" cy="430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>
            <a:off x="2505240" y="3562200"/>
            <a:ext cx="21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>
            <a:off x="2643120" y="3452760"/>
            <a:ext cx="2309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เพื่อขอรับหนังสือรับรองฯ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Form A / Form D / Form GSTP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0" name=""/>
          <p:cNvSpPr/>
          <p:nvPr/>
        </p:nvSpPr>
        <p:spPr>
          <a:xfrm>
            <a:off x="7467480" y="3430440"/>
            <a:ext cx="1806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เพื่อขอรับหนังสือรับรองฯ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Form FTAs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>
            <a:off x="7329600" y="3562200"/>
            <a:ext cx="21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2" name=""/>
          <p:cNvSpPr/>
          <p:nvPr/>
        </p:nvSpPr>
        <p:spPr>
          <a:xfrm>
            <a:off x="5097600" y="654120"/>
            <a:ext cx="2663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เพื่อลดหย่อน หรือยกเว้น อากรขาเข้า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3" name=""/>
          <p:cNvSpPr/>
          <p:nvPr/>
        </p:nvSpPr>
        <p:spPr>
          <a:xfrm>
            <a:off x="4991040" y="776160"/>
            <a:ext cx="21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4" name=""/>
          <p:cNvSpPr/>
          <p:nvPr/>
        </p:nvSpPr>
        <p:spPr>
          <a:xfrm>
            <a:off x="7761240" y="1379520"/>
            <a:ext cx="180036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บาห์เรน</a:t>
            </a:r>
            <a:r>
              <a:rPr b="1" lang="en-US" sz="2400" spc="-1" strike="noStrike">
                <a:solidFill>
                  <a:srgbClr val="bc3700"/>
                </a:solidFill>
                <a:latin typeface="Times New Roman"/>
                <a:ea typeface="IrisUP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เปรู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ญี่ปุ่น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าเซียน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จีน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าเซียน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BIMSTEC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5" name=""/>
          <p:cNvSpPr/>
          <p:nvPr/>
        </p:nvSpPr>
        <p:spPr>
          <a:xfrm>
            <a:off x="5530680" y="4332240"/>
            <a:ext cx="3598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ทุกรายการสินค้า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ผลิต ชี้แจงข้อมูลการผลิต มีความถูกต้องตาม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   หลักเกณฑ์แหล่งกำเนิดสินค้า และผูกพันกับภาครัฐ 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6" name=""/>
          <p:cNvSpPr/>
          <p:nvPr/>
        </p:nvSpPr>
        <p:spPr>
          <a:xfrm>
            <a:off x="2720880" y="4941720"/>
            <a:ext cx="26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ผลิต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/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ส่งออก พิสูจน์ความถูกต้องตามหลักเกณฑ์แหล่งกำเนิดสินค้า โดยแสดงเอกสาร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/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หลักฐานการใช้วัตถุดิบ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7" name=""/>
          <p:cNvSpPr/>
          <p:nvPr/>
        </p:nvSpPr>
        <p:spPr>
          <a:xfrm>
            <a:off x="3740040" y="5516640"/>
            <a:ext cx="0" cy="250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8" name=""/>
          <p:cNvSpPr/>
          <p:nvPr/>
        </p:nvSpPr>
        <p:spPr>
          <a:xfrm>
            <a:off x="200160" y="4946760"/>
            <a:ext cx="252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ขอรับหนังสือรับรองฯ ชี้แจงข้อมูลการผลิต มีความถูกต้องตามหลักเกณฑ์และผูกพันกับภาครัฐ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9" name=""/>
          <p:cNvSpPr/>
          <p:nvPr/>
        </p:nvSpPr>
        <p:spPr>
          <a:xfrm>
            <a:off x="1352520" y="5516640"/>
            <a:ext cx="0" cy="250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0" name=""/>
          <p:cNvSpPr/>
          <p:nvPr/>
        </p:nvSpPr>
        <p:spPr>
          <a:xfrm>
            <a:off x="1281240" y="6281640"/>
            <a:ext cx="7775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ตามคำขอให้ดำเนินการของศุลกากรประเทศผู้นำเข้า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th-TH" sz="1800" spc="-1" strike="noStrike">
                <a:solidFill>
                  <a:srgbClr val="ffffff"/>
                </a:solidFill>
                <a:latin typeface="IrisUPC"/>
                <a:cs typeface="IrisUPC"/>
              </a:rPr>
              <a:t>กรณีมีข้อสงสัยว่าแสดงเอกสารเท็จ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กรณีมีข้อสงสัยเกี่ยวกับข</a:t>
            </a:r>
            <a:r>
              <a:rPr b="1" lang="th-TH" sz="1800" spc="-1" strike="noStrike">
                <a:solidFill>
                  <a:srgbClr val="ffffff"/>
                </a:solidFill>
                <a:latin typeface="IrisUPC"/>
                <a:cs typeface="IrisUPC"/>
              </a:rPr>
              <a:t>้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อมูลที่ผูกพันกับภาครัฐ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สุ่มตรวจสอบ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(Random Check) 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1D34-7287-45B1-9AE5-1A2480508218}" type="slidenum">
              <a:t>18</a:t>
            </a:fld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22400" y="44280"/>
            <a:ext cx="8683560" cy="9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cc66"/>
                </a:solidFill>
                <a:uFillTx/>
                <a:latin typeface="IrisUPC"/>
              </a:rPr>
              <a:t>โครงสร้างต้นทุนการผลิตสินค้า </a:t>
            </a:r>
            <a:r>
              <a:rPr b="1" lang="en-US" sz="5000" spc="-1" strike="noStrike" u="sng">
                <a:solidFill>
                  <a:srgbClr val="ffcc66"/>
                </a:solidFill>
                <a:uFillTx/>
                <a:latin typeface="IrisUPC"/>
              </a:rPr>
              <a:t>1 </a:t>
            </a:r>
            <a:r>
              <a:rPr b="1" lang="en-US" sz="5000" spc="-1" strike="noStrike" u="sng">
                <a:solidFill>
                  <a:srgbClr val="ffcc66"/>
                </a:solidFill>
                <a:uFillTx/>
                <a:latin typeface="IrisUPC"/>
              </a:rPr>
              <a:t>หน่วย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1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วัตถุดิบ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วัตถุดิบใน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ข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วัตถุดิบนำเข้าจากต่างประเทศ หรือไม่ทราบแหล่งที่มา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2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การผลิตอื่น ๆ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(production cost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โสหุ้ยโรงงา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แบบพิมพ์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ทดสอบ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แรงงา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R &amp; D,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น้ำค่าไฟฟ้า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ใช้จ่ายในการบริหาร ฯลฯ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3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ำไรต่อหน่วย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4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ราคาสินค้าโรงงาน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(=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วัตถุดิบ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การผลิต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ำไร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5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ใช้จ่ายในการขนส่งสินค้าเพื่อการส่งออก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จากโรงงานไปยังท่าเรือ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/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ท่าอากาศยา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/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ด่านชายแด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6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ราคาสินค้าสินค้า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FOB  (=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ราคาสินค้าโรงงาน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ชจ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ในการขนส่ง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7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ารคำนวณอัตราส่วน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1F0-8DF6-4B1C-B7EA-A630715985C0}" type="slidenum">
              <a:t>19</a:t>
            </a:fld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72600" y="303120"/>
            <a:ext cx="913932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7200" spc="-1" strike="noStrike">
                <a:solidFill>
                  <a:srgbClr val="3399ff"/>
                </a:solidFill>
                <a:latin typeface="IrisUPC"/>
              </a:rPr>
              <a:t>ระบบสิทธิพิเศษทางภาษีศุลกากร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8160" y="1483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6b3"/>
                </a:solidFill>
                <a:latin typeface="IrisUPC"/>
              </a:rPr>
              <a:t>GSP   (Generalized System of Preference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IrisUPC"/>
              </a:rPr>
              <a:t>CEPT (Common Effective Preferential Tariff </a:t>
            </a:r>
            <a:br>
              <a:rPr sz="5400"/>
            </a:br>
            <a:r>
              <a:rPr b="1" lang="en-US" sz="5400" spc="-1" strike="noStrike">
                <a:solidFill>
                  <a:srgbClr val="ffcc66"/>
                </a:solidFill>
                <a:latin typeface="IrisUPC"/>
              </a:rPr>
              <a:t>       Scheme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6b3"/>
                </a:solidFill>
                <a:latin typeface="IrisUPC"/>
              </a:rPr>
              <a:t>GSTP (Global System of Trade Preference</a:t>
            </a:r>
            <a:br>
              <a:rPr sz="5400"/>
            </a:br>
            <a:r>
              <a:rPr b="1" lang="en-US" sz="5400" spc="-1" strike="noStrike">
                <a:solidFill>
                  <a:srgbClr val="ffe6b3"/>
                </a:solidFill>
                <a:latin typeface="IrisUPC"/>
              </a:rPr>
              <a:t>        Among Developing Countrie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IrisUPC"/>
              </a:rPr>
              <a:t>Free Trade Agreements (FTA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6E0A-4D8E-4046-A724-965B91AD3A14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60240" y="533520"/>
            <a:ext cx="657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ต้นทุนวัตถุดิบภายในประเทศ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80180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500" spc="-1" strike="noStrike">
                <a:solidFill>
                  <a:srgbClr val="ffff99"/>
                </a:solidFill>
                <a:latin typeface="IrisUPC"/>
              </a:rPr>
              <a:t>ต้องเป็นวัตถุดิบที่ผลิตขึ้นภายในประเทศและถูกต้อง</a:t>
            </a:r>
            <a:br>
              <a:rPr sz="4500"/>
            </a:br>
            <a:r>
              <a:rPr b="1" lang="hi-IN" sz="4500" spc="-1" strike="noStrike">
                <a:solidFill>
                  <a:srgbClr val="ffff99"/>
                </a:solidFill>
                <a:latin typeface="IrisUPC"/>
              </a:rPr>
              <a:t>ตามหลักเกณฑ์แหล่งกำเนิดของประเทศผู้ให้สิทธิพิเศษ</a:t>
            </a:r>
            <a:endParaRPr b="0" lang="en-US" sz="45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4" name=""/>
          <p:cNvSpPr/>
          <p:nvPr/>
        </p:nvSpPr>
        <p:spPr>
          <a:xfrm>
            <a:off x="725400" y="3465360"/>
            <a:ext cx="9104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ef"/>
                </a:solidFill>
                <a:latin typeface="IrisUPC"/>
              </a:rPr>
              <a:t>กรณีใช้ </a:t>
            </a:r>
            <a:r>
              <a:rPr b="1" i="1" lang="en-US" sz="4400" spc="-1" strike="noStrike">
                <a:solidFill>
                  <a:srgbClr val="ffffef"/>
                </a:solidFill>
                <a:latin typeface="IrisUPC"/>
              </a:rPr>
              <a:t>CUMULATION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ต้องแสดงหลักฐานรับรองตามที่ประเทศผู้ให้สิทธิกำหนด เช่น สหภาพยุโรป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= EUR1, 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อาเซียน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= Form D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,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      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FTA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cs typeface="IrisUPC"/>
              </a:rPr>
              <a:t>ไทย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-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cs typeface="IrisUPC"/>
              </a:rPr>
              <a:t>ออสเตรเลีย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= Form FTA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B768-D939-4CB5-8401-2C33C19589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85800"/>
            <a:ext cx="536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ต้นทุนวัตถุดิบนำเข้า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6" name=""/>
          <p:cNvSpPr/>
          <p:nvPr/>
        </p:nvSpPr>
        <p:spPr>
          <a:xfrm>
            <a:off x="2330280" y="1704960"/>
            <a:ext cx="5747040" cy="77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วัตถุดิบที่ใช้ในการผลิตที่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นำเข้าจากต่างประเทศ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ใช้ราคา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ea typeface="IrisUPC"/>
              </a:rPr>
              <a:t>C.I.F.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ในการคำนวณต้นทุน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ซื้อจากผู้นำเข้า  หรือ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ไม่ทราบแหล่งที่ม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IrisUPC"/>
              </a:rPr>
              <a:t>        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ใช้ราคาตาม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ea typeface="IrisUPC"/>
              </a:rPr>
              <a:t>Invoice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ที่ซื้อขายจริ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194-A538-4D4B-AE70-29F675056D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533520" y="533520"/>
            <a:ext cx="462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ต้นทุนการผลิตอื่นๆ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8" name=""/>
          <p:cNvSpPr/>
          <p:nvPr/>
        </p:nvSpPr>
        <p:spPr>
          <a:xfrm>
            <a:off x="5349960" y="2795760"/>
            <a:ext cx="4572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จ้างในการบริหาร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เงินเดือนพนักงาน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ใช้จ่ายในการอบรม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   พนักงาน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ขนส่งวัตถุดิบ  ฯลฯ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41300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ต้นทุนอื่นที่เกิดจากการผลิต ทั้งทางตรงและทางอ้อม เช่น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0" name=""/>
          <p:cNvSpPr/>
          <p:nvPr/>
        </p:nvSpPr>
        <p:spPr>
          <a:xfrm>
            <a:off x="704880" y="299736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แรงในการผลิต 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เสื่อมราคาเครื่องจักร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ตรวจสอบ 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ออกแบบผลิตภัณฑ์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B54E-E001-4F22-9395-21685456C47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500"/>
                            </p:stCondLst>
                            <p:childTnLst>
                              <p:par>
                                <p:cTn id="21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93760" y="685800"/>
            <a:ext cx="2311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ค่าขนส่ง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2" name=""/>
          <p:cNvSpPr/>
          <p:nvPr/>
        </p:nvSpPr>
        <p:spPr>
          <a:xfrm>
            <a:off x="2075040" y="2077920"/>
            <a:ext cx="5287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ค่าขนส่งสินค้า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1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หน่วย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จากโรงงานไปยังท่าเรือ หรือ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ท่าอากาศยาน ที่จะส่งออก 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E746-87E0-4B54-BC5A-CDB44EFEAA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04880" y="26028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</a:rPr>
              <a:t>การขอรับ </a:t>
            </a: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</a:rPr>
              <a:t>CERTIFICATE : </a:t>
            </a: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  <a:ea typeface="IrisUPC"/>
              </a:rPr>
              <a:t>Form FTA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4" name=""/>
          <p:cNvSpPr/>
          <p:nvPr/>
        </p:nvSpPr>
        <p:spPr>
          <a:xfrm>
            <a:off x="865080" y="1341360"/>
            <a:ext cx="81201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กัดศุลกากรที่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01-08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ขอ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Form FTA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ได้เลย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กัดศุลกากรที่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09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ขึ้นไป </a:t>
            </a:r>
            <a:r>
              <a:rPr b="1" lang="en-US" sz="4000" spc="-1" strike="noStrike" u="sng">
                <a:solidFill>
                  <a:srgbClr val="ff9966"/>
                </a:solidFill>
                <a:uFillTx/>
                <a:latin typeface="IrisUPC"/>
                <a:cs typeface="IrisUPC"/>
              </a:rPr>
              <a:t>ต้อง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ขอรับการตรวจสอบ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แหล่งกำเนิดสินค้าถูกต้องตามหลักเกณฑ์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IrisUPC"/>
                <a:cs typeface="IrisUPC"/>
              </a:rPr>
              <a:t>ก่อน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ขอ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Form FTA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5" name=""/>
          <p:cNvSpPr/>
          <p:nvPr/>
        </p:nvSpPr>
        <p:spPr>
          <a:xfrm>
            <a:off x="920880" y="465444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</a:rPr>
              <a:t>การขอรับ </a:t>
            </a: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  <a:ea typeface="IrisUPC"/>
              </a:rPr>
              <a:t>Form A, Form D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529-BB32-4A7C-9780-3F61E35013D1}" type="slidenum">
              <a:t>24</a:t>
            </a:fld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209600" y="33336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เอกสารประกอบการพิจารณา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7" name=""/>
          <p:cNvSpPr/>
          <p:nvPr/>
        </p:nvSpPr>
        <p:spPr>
          <a:xfrm>
            <a:off x="920880" y="1268280"/>
            <a:ext cx="820872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1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แบบคำขอให้ตรวจ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/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รับรองแหล่งกำเนิด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2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คำรับรองและรายละเอียดต้นทุนการผลิต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3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หนังสือรับรองการจดทะเบียนเป็นนิติบุคคล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4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ทะเบียนภาษีมูลค่าเพิ่ม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(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ภ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พ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20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5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อนุญาตประกอบกิจการโรงงาน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6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หนังสือมอบอำนาจให้ยื่นและรับเอกสาร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7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บัตรประจำตัวผู้ลงนามและผู้ยื่น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-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รับ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เอกสาร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8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หนังสือมอบอำนาจให้ลงนามแทน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(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ถ้ามี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CA9-234E-459C-B8EE-8CF9B6185742}" type="slidenum">
              <a:t>25</a:t>
            </a:fld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898640" y="1981080"/>
            <a:ext cx="3189240" cy="41911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457880" y="914400"/>
            <a:ext cx="3466800" cy="1371600"/>
          </a:xfrm>
          <a:prstGeom prst="wedgeEllipseCallout">
            <a:avLst>
              <a:gd name="adj1" fmla="val -58629"/>
              <a:gd name="adj2" fmla="val 71412"/>
            </a:avLst>
          </a:prstGeom>
          <a:solidFill>
            <a:srgbClr val="ffffdd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990033"/>
                </a:solidFill>
                <a:latin typeface="JasmineUPC"/>
              </a:rPr>
              <a:t>จบแล้วครับ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59D0-BDCE-45D8-903C-E7187EB431D6}" type="slidenum">
              <a:t>26</a:t>
            </a:fld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07200" y="40320"/>
            <a:ext cx="8076600" cy="183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b1ff"/>
                </a:solidFill>
                <a:latin typeface="IrisUPC"/>
              </a:rPr>
              <a:t>GSP </a:t>
            </a:r>
            <a:br>
              <a:rPr sz="8800"/>
            </a:br>
            <a:r>
              <a:rPr b="1" lang="en-US" sz="6000" spc="-1" strike="noStrike">
                <a:solidFill>
                  <a:srgbClr val="99b1ff"/>
                </a:solidFill>
                <a:latin typeface="IrisUPC"/>
              </a:rPr>
              <a:t>Generalized System of Preference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31800" y="1873080"/>
            <a:ext cx="88581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        </a:t>
            </a: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ระบบสิทธิพิเศษทางภาษีศุลกากรเป็นการทั่วไป 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ที่ประเทศพัฒนาแล้ว ให้สิทธิพิเศษทางภาษีศุลกากร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แก่สินค้าที่มีแหล่งกำเนิดจากประเทศกำลังพัฒนา 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โดยลดหย่อนหรือยกเว้นภาษีศุลกากรให้แก่สินค้าที่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อยู่ในข่ายได้รับสิทธิฯ    ทั้งนี้ ประเทศผู้ให้สิทธิฯ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จะเป็นผู้ให้ฝ่ายเดียวโดยไม่หวังผลตอบแทน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8E8-26DB-4151-9829-A62C2BEEAACB}" type="slidenum">
              <a:t>3</a:t>
            </a:fld>
          </a:p>
        </p:txBody>
      </p:sp>
    </p:spTree>
  </p:cSld>
  <p:transition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348560" y="507240"/>
            <a:ext cx="9026640" cy="12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99ff"/>
                </a:solidFill>
                <a:latin typeface="IrisUPC"/>
              </a:rPr>
              <a:t>ประเทศที่ให้สิทธิพิเศษ </a:t>
            </a:r>
            <a:r>
              <a:rPr b="1" lang="en-US" sz="6600" spc="-1" strike="noStrike">
                <a:solidFill>
                  <a:srgbClr val="3399ff"/>
                </a:solidFill>
                <a:latin typeface="IrisUPC"/>
              </a:rPr>
              <a:t>GSP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80600" y="1628640"/>
            <a:ext cx="5200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ปัจจุบัน มี 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3</a:t>
            </a:r>
            <a:r>
              <a:rPr b="1" lang="en-US" sz="4600" spc="-1" strike="noStrike">
                <a:solidFill>
                  <a:srgbClr val="ffffcc"/>
                </a:solidFill>
                <a:latin typeface="IrisUPC"/>
              </a:rPr>
              <a:t>4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 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ประเทศ 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แบ่งได้เป็น </a:t>
            </a:r>
            <a:r>
              <a:rPr b="1" lang="en-US" sz="4600" spc="-1" strike="noStrike">
                <a:solidFill>
                  <a:srgbClr val="ffffcc"/>
                </a:solidFill>
                <a:latin typeface="IrisUPC"/>
              </a:rPr>
              <a:t>10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 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ระบบ คือ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9120" y="3276720"/>
            <a:ext cx="4073400" cy="30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สหรัฐอเมริก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สหภาพยุโรป 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  <a:ea typeface="IrisUPC"/>
              </a:rPr>
              <a:t>2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5 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ประเทศ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นอรเว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IrisUPC"/>
              </a:rPr>
              <a:t>ย์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สวิตเซอร์แลนด์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ญี่ปุ่น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6681960" y="3463920"/>
            <a:ext cx="1922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Angsana New"/>
              </a:rPr>
              <a:t>แคนาด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บัลแกเรีย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รัสเซีย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IrisUPC"/>
              </a:rPr>
              <a:t>ตุรกี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IrisUPC"/>
              </a:rPr>
              <a:t>นิวซีแลนด์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BA6-92F5-4A2D-AF46-C0986519B640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12960" y="1080"/>
            <a:ext cx="8570880" cy="197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b1ff"/>
                </a:solidFill>
                <a:latin typeface="IrisUPC"/>
              </a:rPr>
              <a:t>CEPT</a:t>
            </a:r>
            <a:br>
              <a:rPr sz="8800"/>
            </a:br>
            <a:r>
              <a:rPr b="1" lang="en-US" sz="6000" spc="-1" strike="noStrike">
                <a:solidFill>
                  <a:srgbClr val="99b1ff"/>
                </a:solidFill>
                <a:latin typeface="IrisUPC"/>
              </a:rPr>
              <a:t>Common Effective Preferential Tariff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5200" y="2209680"/>
            <a:ext cx="85104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        </a:t>
            </a: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ข้อตกลงว่าด้วยอัตราภาษีศุลกากรพิเศษ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ที่เท่ากันภายใต้เขตการค้าเสรีอาเซียน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โดยมีเป้าหมายเพื่อลดอัตราภาษีนำเข้า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ระหว่างประเทศสมาชิกอาเซียน ให้เหลือ </a:t>
            </a: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0-5 %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ภายในระยะเวลา </a:t>
            </a: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10 </a:t>
            </a: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ปี </a:t>
            </a: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(2536-2546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CAD-8944-4B05-ABE7-DC9CA59A762B}" type="slidenum">
              <a:t>5</a:t>
            </a:fld>
          </a:p>
        </p:txBody>
      </p:sp>
    </p:spTree>
  </p:cSld>
  <p:transition>
    <p:zoom dir="in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491480" y="507240"/>
            <a:ext cx="6580080" cy="12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7c80"/>
                </a:solidFill>
                <a:latin typeface="IrisUPC"/>
              </a:rPr>
              <a:t>ประเทศสมาชิก </a:t>
            </a:r>
            <a:r>
              <a:rPr b="1" i="1" lang="en-US" sz="6600" spc="-1" strike="noStrike">
                <a:solidFill>
                  <a:srgbClr val="ff7c80"/>
                </a:solidFill>
                <a:latin typeface="IrisUPC"/>
              </a:rPr>
              <a:t>ASEAN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1720" y="1981080"/>
            <a:ext cx="24764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อินโดนีเซี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มาเลเซี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ฟิลิปปินส์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สิงคโปร์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บรูไน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5283360" y="1981080"/>
            <a:ext cx="24764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เวียดนาม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ลาว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พม่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กัมพูช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ไท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E8A3-06F6-4F7E-9124-5D0B2E545424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178280" y="-34200"/>
            <a:ext cx="8277480" cy="26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b1ff"/>
                </a:solidFill>
                <a:latin typeface="IrisUPC"/>
              </a:rPr>
              <a:t>GSTP</a:t>
            </a:r>
            <a:br>
              <a:rPr sz="8800"/>
            </a:br>
            <a:r>
              <a:rPr b="1" lang="en-US" sz="5400" spc="-1" strike="noStrike">
                <a:solidFill>
                  <a:srgbClr val="99b1ff"/>
                </a:solidFill>
                <a:latin typeface="IrisUPC"/>
              </a:rPr>
              <a:t>The Global System of Trade Preferences Among Developing Countries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71560" y="2666520"/>
            <a:ext cx="86184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dd9ff"/>
                </a:solidFill>
                <a:latin typeface="IrisUPC"/>
              </a:rPr>
              <a:t>        </a:t>
            </a:r>
            <a:r>
              <a:rPr b="1" lang="hi-IN" sz="4800" spc="-1" strike="noStrike">
                <a:solidFill>
                  <a:srgbClr val="cdd9ff"/>
                </a:solidFill>
                <a:latin typeface="IrisUPC"/>
              </a:rPr>
              <a:t>ระบบสิทธิพิเศษทางการค้าระหว่างประเทศ</a:t>
            </a:r>
            <a:br>
              <a:rPr sz="4800"/>
            </a:br>
            <a:r>
              <a:rPr b="1" lang="hi-IN" sz="4800" spc="-1" strike="noStrike">
                <a:solidFill>
                  <a:srgbClr val="cdd9ff"/>
                </a:solidFill>
                <a:latin typeface="IrisUPC"/>
              </a:rPr>
              <a:t>ที่กำลังพัฒนา ที่ตกลงจะลดหย่อนภาษีแก่สินค้า</a:t>
            </a:r>
            <a:br>
              <a:rPr sz="4800"/>
            </a:br>
            <a:r>
              <a:rPr b="1" lang="hi-IN" sz="4800" spc="-1" strike="noStrike">
                <a:solidFill>
                  <a:srgbClr val="cdd9ff"/>
                </a:solidFill>
                <a:latin typeface="IrisUPC"/>
              </a:rPr>
              <a:t>บางรายการระหว่างกั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CF12-D1D3-4E55-B5B8-3063B217359F}" type="slidenum">
              <a:t>7</a:t>
            </a:fld>
          </a:p>
        </p:txBody>
      </p:sp>
    </p:spTree>
  </p:cSld>
  <p:transition>
    <p:pull dir="r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20800" y="270000"/>
            <a:ext cx="5740920" cy="105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7c80"/>
                </a:solidFill>
                <a:latin typeface="IrisUPC"/>
              </a:rPr>
              <a:t>ประเทศสมาชิก </a:t>
            </a:r>
            <a:r>
              <a:rPr b="1" lang="en-US" sz="6600" spc="-1" strike="noStrike">
                <a:solidFill>
                  <a:srgbClr val="ff7c80"/>
                </a:solidFill>
                <a:latin typeface="IrisUPC"/>
              </a:rPr>
              <a:t>GSTP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05240" y="447840"/>
            <a:ext cx="2889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7c80"/>
                </a:solidFill>
                <a:latin typeface="IrisUPC"/>
              </a:rPr>
              <a:t>(48 </a:t>
            </a:r>
            <a:r>
              <a:rPr b="1" lang="hi-IN" sz="4600" spc="-1" strike="noStrike">
                <a:solidFill>
                  <a:srgbClr val="ff7c80"/>
                </a:solidFill>
                <a:latin typeface="IrisUPC"/>
              </a:rPr>
              <a:t>ประเทศ</a:t>
            </a:r>
            <a:r>
              <a:rPr b="1" lang="en-US" sz="4600" spc="-1" strike="noStrike">
                <a:solidFill>
                  <a:srgbClr val="ff7c80"/>
                </a:solidFill>
                <a:latin typeface="IrisUPC"/>
              </a:rPr>
              <a:t>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7920" y="1204920"/>
            <a:ext cx="16509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แอลจีเร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บังคลาเทศ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บลีเว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คา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มรู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คิวบ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อกวาดอ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าน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าย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า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น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ินโดนีเซ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ิ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รั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มาเลเซ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มซัมบิ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ไนจีเร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1204920"/>
            <a:ext cx="16509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าร์เจนติน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บนิ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บราซิล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ชิลี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Arial"/>
                <a:cs typeface="IrisUPC"/>
              </a:rPr>
              <a:t>เกาหลีเหนือ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กาหลี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ใต้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ียิปต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ินี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ินเด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ิหร่า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ลิเบ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ม็กซิโ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นิการากัว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0" name=""/>
          <p:cNvSpPr/>
          <p:nvPr/>
        </p:nvSpPr>
        <p:spPr>
          <a:xfrm>
            <a:off x="5200560" y="1204920"/>
            <a:ext cx="1816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Arial"/>
                <a:cs typeface="IrisUPC"/>
              </a:rPr>
              <a:t>ปากีสถา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ปรู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สิงคโป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ซูดา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แทนซาเน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ยูโกสลาเว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ังโกล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ไฮ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ติ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าตา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วเนซูเอล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ฟิลิปปินส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รมาเน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ศรีลังก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1" name=""/>
          <p:cNvSpPr/>
          <p:nvPr/>
        </p:nvSpPr>
        <p:spPr>
          <a:xfrm>
            <a:off x="7184880" y="1484280"/>
            <a:ext cx="20574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ตรินิแดด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   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  <a:ea typeface="IrisUPC"/>
              </a:rPr>
              <a:t> 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และโตเบโ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ไท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ตูนีเซ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วียดนาม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ซิมบับเว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คลัมเบ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มร๊อกโ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ุรุกวั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ซาอี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990-F86B-4C93-8B5D-AB4747449F13}" type="slidenum">
              <a:t>8</a:t>
            </a:fld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754560" y="525960"/>
            <a:ext cx="29970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900" spc="-1" strike="noStrike">
                <a:solidFill>
                  <a:srgbClr val="ffcc66"/>
                </a:solidFill>
                <a:latin typeface="IrisUPC"/>
              </a:rPr>
              <a:t>FTAs</a:t>
            </a:r>
            <a:endParaRPr b="0" lang="en-US" sz="12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227240" y="1916280"/>
            <a:ext cx="79740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ระบบสิทธิพิเศษทางภาษีศุลกากรที่ไทย</a:t>
            </a:r>
            <a:br>
              <a:rPr sz="5400"/>
            </a:b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ตกลงกับประเทศคู่ค้าที่มีศักยภาพในการขยายตลาดส่งออกเพื่อลดหย่อนภาษีขาเข้าระหว่างกันสำหรับสินค้าบางรายกา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459-3D69-4EAF-9C9E-E74138985013}" type="slidenum">
              <a:t>9</a:t>
            </a:fld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01:47:50Z</dcterms:created>
  <dc:creator>กองสิทธิประโยชน์ทางการค้า</dc:creator>
  <dc:description/>
  <dc:language>en-US</dc:language>
  <cp:lastModifiedBy>padungsak</cp:lastModifiedBy>
  <cp:lastPrinted>2004-06-08T04:42:39Z</cp:lastPrinted>
  <dcterms:modified xsi:type="dcterms:W3CDTF">2005-08-11T19:42:48Z</dcterms:modified>
  <cp:revision>98</cp:revision>
  <dc:subject/>
  <dc:title>ROO3</dc:title>
</cp:coreProperties>
</file>