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6.gif" ContentType="image/gif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CD0-D4E7-49D4-9EE2-47BD5715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992-FD30-4498-B3C0-FFE658D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0BD-A9D2-4123-A24C-9A0B419E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BFA-7083-480E-9186-C9910568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0200-1FE4-4230-BA1A-62A29CE3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7F4E-8A2D-4599-A167-1D23482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D70E-16F0-497B-A942-1C5FE6F1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55A0-5C4F-46E2-B6B2-93B1632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6958-874A-4866-8151-8EF0E74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44A-6243-4B0F-895F-2B8EEC4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B05-2E17-4DAE-8394-8E43147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A39-7C96-45AF-903E-85575BE2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C3BD-20E8-45A8-8DCC-31C0D8F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857-8D3C-4855-A59C-38ADB8C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2833-662D-4C99-AB47-AB1759C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3D41-D9A4-4E4B-AE50-90E9DB40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8CC6-C92B-4403-912A-70A68514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A92-2972-49D1-B15B-9530A73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031-43CA-4A5E-8D49-5DA09369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CB5-9C60-4074-8566-96C6FD1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BDD-0677-4ADC-917C-8961F56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0E8-1408-47D6-A5CB-DB4F74C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ACC-1C77-43AA-A837-CF46E71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15-7281-416A-A5EC-6388873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A8D-9AAE-40B4-8C78-50D74E7BE0B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A7BB-00AF-4630-ACE7-992550C11DF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24000" y="333360"/>
            <a:ext cx="7616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คุณสมบัติทางด้าน</a:t>
            </a:r>
            <a:br>
              <a:rPr sz="7200"/>
            </a:b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แหล่งกำเนิดของสินค้า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6160" y="3789360"/>
            <a:ext cx="313704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44880" y="371628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งพัชรี  ปิยะคง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A95E-3DFD-4785-8B3E-7A31C38FE377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2066760" y="3132000"/>
            <a:ext cx="1325880" cy="441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48520" y="3429000"/>
            <a:ext cx="217440" cy="158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513480" y="2778120"/>
            <a:ext cx="1247760" cy="1461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079800" y="2924280"/>
            <a:ext cx="1249200" cy="4255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11240" y="2204640"/>
            <a:ext cx="1092240" cy="142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57960" y="2706840"/>
            <a:ext cx="1366560" cy="142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20880" y="2997360"/>
            <a:ext cx="1326960" cy="116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16880" y="4869000"/>
            <a:ext cx="11462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36520" y="4869000"/>
            <a:ext cx="1001880" cy="129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248520" y="4797360"/>
            <a:ext cx="115416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65240" y="1628640"/>
            <a:ext cx="103176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873600" y="1916280"/>
          <a:ext cx="2419200" cy="161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73600" y="1916280"/>
                    <a:ext cx="24192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400880" y="2349360"/>
            <a:ext cx="1976400" cy="112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12880" y="2492280"/>
            <a:ext cx="14036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12880" y="2347560"/>
            <a:ext cx="390600" cy="14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79440" y="3132000"/>
            <a:ext cx="3128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2144880" y="5300640"/>
            <a:ext cx="40320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13120" y="2706840"/>
            <a:ext cx="31284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60520" y="162000"/>
            <a:ext cx="5257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Arial"/>
              </a:rPr>
              <a:t>ลักษณะการให้บริการ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84520" y="1052640"/>
            <a:ext cx="452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1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ด้วย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XML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(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และรับข้อมูล ผ่าน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Web Servi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289240" y="3429000"/>
            <a:ext cx="52434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2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ผ่านระบบ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Internet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(upload BOM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จาก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excel file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ได้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2144880" y="5300640"/>
            <a:ext cx="53146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3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ยื่นข้อมูลต้นทุนสินค้าแบบเดิม ที่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กรมการค้าต่างประเทศ หรือ สคต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ทุกแห่ง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11B-DD27-46A2-98EB-7DEF93A54959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1800" y="1052640"/>
            <a:ext cx="3879720" cy="141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ลงทะเบียนขอรับ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Username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/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Password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847800" y="1159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cc66"/>
                </a:solidFill>
                <a:latin typeface="IrisUPC"/>
                <a:cs typeface="IrisUPC"/>
              </a:rPr>
              <a:t>ขั้นตอนการยื่นคำขอฯ ทาง </a:t>
            </a:r>
            <a:r>
              <a:rPr b="1" lang="en-US" sz="54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2514600"/>
            <a:ext cx="3879720" cy="56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Login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ข้าใช้ระบบฯ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38280" y="3575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บันทึกคำขอและส่งข้อมู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2278080" y="322596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2171880"/>
            <a:ext cx="51732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638280" y="4637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พิมพ์คำขอ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4919760" y="5479560"/>
            <a:ext cx="431640" cy="939960"/>
          </a:xfrm>
          <a:prstGeom prst="downArrow">
            <a:avLst>
              <a:gd name="adj1" fmla="val 38972"/>
              <a:gd name="adj2" fmla="val 60702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2271600" y="4276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631800" y="5648400"/>
            <a:ext cx="388944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ยื่นคำขอให้เจ้าหน้าที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5157720"/>
            <a:ext cx="324000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บันทึกยืนยันและส่งข้อมูลให้ บก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5762520" y="3666960"/>
            <a:ext cx="324036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พิมพ์</a:t>
            </a:r>
            <a:br>
              <a:rPr sz="3600"/>
            </a:b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คำรับรอง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5284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7113600" y="477972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7113600" y="33066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5772240" y="2182680"/>
            <a:ext cx="3240000" cy="14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ผู้ส่งออกขอ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Form</a:t>
            </a:r>
            <a:br>
              <a:rPr sz="3600"/>
            </a:b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ที่ บก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F0D-7259-485C-8071-D5D67240E653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5800" y="404640"/>
            <a:ext cx="9490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cc66"/>
                </a:solidFill>
                <a:latin typeface="IrisUPC"/>
                <a:cs typeface="IrisUPC"/>
              </a:rPr>
              <a:t>รายละเอียดข้อมูลคำขอที่ส่งทาง </a:t>
            </a:r>
            <a:r>
              <a:rPr b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1352520" y="1341360"/>
            <a:ext cx="7993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การสินค้าที่จะขอใช้สิทธิฯ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ขั้นตอนการผลิต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วัตถุดิบหรือวัสดุหรือชิ้นส่วน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ที่ใช้ในการผลิตสินค้า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1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หน่ว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ละเอียดต้นทุนการผลิตอื่น ๆ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คำนวณโดยระบบ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ROVERS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1B9-4B8E-4B62-92C7-6A737A760DC9}" type="slidenum">
              <a:t>12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44880" y="2376360"/>
          <a:ext cx="16034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4880" y="2376360"/>
                    <a:ext cx="16034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60880" y="1944720"/>
          <a:ext cx="13190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0880" y="1944720"/>
                    <a:ext cx="13190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073240" y="765000"/>
            <a:ext cx="5832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เปิดให้บริการทุกระบบแล้ว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F42-E55D-4797-86FC-6BDCFB2C0301}" type="slidenum">
              <a:t>1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81240" y="1197000"/>
            <a:ext cx="76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ffcc66"/>
                </a:solidFill>
                <a:latin typeface="IrisUPC"/>
                <a:cs typeface="IrisUPC"/>
              </a:rPr>
              <a:t>สาธิตการใช้ระบบ</a:t>
            </a:r>
            <a:endParaRPr b="0" lang="en-US" sz="88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IrisUPC"/>
                <a:ea typeface="IrisUPC"/>
              </a:rPr>
              <a:t>ROVERS</a:t>
            </a:r>
            <a:endParaRPr b="0" lang="en-US" sz="8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975-0C88-4A54-BFB6-8D88426A19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4880" y="13500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400880" y="3645000"/>
            <a:ext cx="1540080" cy="1049400"/>
          </a:xfrm>
          <a:prstGeom prst="ellipse">
            <a:avLst/>
          </a:prstGeom>
          <a:noFill/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2187720" y="1816200"/>
            <a:ext cx="4824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199"/>
                </a:solidFill>
                <a:latin typeface="IrisUPC"/>
                <a:ea typeface="IrisUPC"/>
              </a:rPr>
              <a:t>www.dft.moc.go.th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65C-5718-47AB-BEB5-9AF43A18E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49240" y="243000"/>
            <a:ext cx="8282160" cy="62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BC8-346F-412C-BD97-8E54490C51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1640" y="189000"/>
            <a:ext cx="8499600" cy="63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80A-21E3-41ED-9776-C0F6DB27CA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103320"/>
            <a:ext cx="8569440" cy="64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5AD-515B-44E2-AABE-536AC027F5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4520" y="57240"/>
            <a:ext cx="885492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C05-1BC9-4AC5-8055-0B02D76E7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6360" y="476280"/>
            <a:ext cx="3728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วัตถุประสงค์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1208160" y="1413000"/>
            <a:ext cx="8280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ffffe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i="1" lang="th-TH" sz="4800" spc="-1" strike="noStrike" u="sng">
                <a:solidFill>
                  <a:srgbClr val="ffffef"/>
                </a:solidFill>
                <a:uFillTx/>
                <a:latin typeface="IrisUPC"/>
                <a:cs typeface="IrisUPC"/>
              </a:rPr>
              <a:t>ตรวจ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ว่าสินค้ามีคุณสมบัติถูกต้องตาม</a:t>
            </a:r>
            <a:br>
              <a:rPr sz="4800"/>
            </a:b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กฎว่าด้วยแหล่งกำเนิดสินค้า หรือไม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     </a:t>
            </a:r>
            <a:r>
              <a:rPr b="1" i="1" lang="th-TH" sz="6000" spc="-1" strike="noStrike" u="sng">
                <a:solidFill>
                  <a:srgbClr val="ccffff"/>
                </a:solidFill>
                <a:uFillTx/>
                <a:latin typeface="IrisUPC"/>
                <a:cs typeface="IrisUPC"/>
              </a:rPr>
              <a:t>ก่อน</a:t>
            </a:r>
            <a:r>
              <a:rPr b="1" i="1" lang="th-TH" sz="6000" spc="-1" strike="noStrike">
                <a:solidFill>
                  <a:srgbClr val="cc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ขอรับ </a:t>
            </a: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FORM A, FORM D, </a:t>
            </a:r>
            <a:br>
              <a:rPr sz="4800"/>
            </a:b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          FORM GSTP, FORM FTA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e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i="1" lang="th-TH" sz="4800" spc="-1" strike="noStrike" u="sng">
                <a:solidFill>
                  <a:srgbClr val="ffffef"/>
                </a:solidFill>
                <a:uFillTx/>
                <a:latin typeface="IrisUPC"/>
                <a:cs typeface="IrisUPC"/>
              </a:rPr>
              <a:t>รับรอง</a:t>
            </a:r>
            <a:r>
              <a:rPr b="1" i="1" lang="th-TH" sz="4800" spc="-1" strike="noStrike">
                <a:solidFill>
                  <a:srgbClr val="ffffe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ว่ามีสิทธิขอรับ </a:t>
            </a:r>
            <a:r>
              <a:rPr b="1" lang="en-US" sz="4800" spc="-1" strike="noStrike">
                <a:solidFill>
                  <a:srgbClr val="ffffef"/>
                </a:solidFill>
                <a:latin typeface="IrisUPC"/>
                <a:ea typeface="IrisUPC"/>
              </a:rPr>
              <a:t>Form </a:t>
            </a:r>
            <a:r>
              <a:rPr b="1" lang="th-TH" sz="4800" spc="-1" strike="noStrike">
                <a:solidFill>
                  <a:srgbClr val="ffffef"/>
                </a:solidFill>
                <a:latin typeface="IrisUPC"/>
                <a:cs typeface="IrisUPC"/>
              </a:rPr>
              <a:t>ได้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2FE4-4415-40AD-A7FA-CE9A572D47FB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60520" y="44280"/>
            <a:ext cx="8640720" cy="648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74C-F60D-42D1-98D9-A03D99E5FD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4880" y="10620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614-E075-4E0E-86CF-13BA0DCFB8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90480" y="5256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59C-4FE7-4DC0-9248-3264BEC14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9200" y="141120"/>
            <a:ext cx="8510400" cy="638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033-153D-414D-A654-28B7B6F138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123840"/>
            <a:ext cx="843912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8D5-77EC-4114-837C-0AF42DFD9E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90480" y="11592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613-D7E4-4EE1-A74A-654F8D1553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5800" y="0"/>
            <a:ext cx="8769600" cy="652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494-3ABC-4ABA-AC3F-B4D70D6F16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0520" y="115920"/>
            <a:ext cx="8582040" cy="64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B9B-4192-4B5A-94C4-FC81FDC9E0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4880" y="150840"/>
            <a:ext cx="8405640" cy="63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A88-EC29-4779-96B8-B884E112EB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36880" y="115920"/>
            <a:ext cx="58323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ข้อมูลสำคัญ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596880" y="1019160"/>
            <a:ext cx="8712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cc"/>
                </a:solidFill>
                <a:latin typeface="IrisUPC"/>
                <a:cs typeface="IrisUPC"/>
              </a:rPr>
              <a:t>สอบถามเกี่ยวกับการใช้งานระบบ </a:t>
            </a:r>
            <a:r>
              <a:rPr b="1" i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ROVERS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IrisUPC"/>
                <a:cs typeface="IrisUPC"/>
              </a:rPr>
              <a:t>กองเทคโนโลยีสารสน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cc"/>
                </a:solidFill>
                <a:latin typeface="IrisUPC"/>
                <a:ea typeface="IrisUPC"/>
              </a:rPr>
              <a:t>0-2547-5113 – 4   </a:t>
            </a:r>
            <a:r>
              <a:rPr b="1" lang="th-TH" sz="4000" spc="-1" strike="noStrike">
                <a:solidFill>
                  <a:srgbClr val="ffffcc"/>
                </a:solidFill>
                <a:latin typeface="IrisUPC"/>
                <a:cs typeface="IrisUPC"/>
              </a:rPr>
              <a:t>หรือ </a:t>
            </a:r>
            <a:r>
              <a:rPr b="1" lang="th-TH" sz="4000" spc="-1" strike="noStrike">
                <a:solidFill>
                  <a:srgbClr val="ffffcc"/>
                </a:solidFill>
                <a:latin typeface="IrisUPC"/>
                <a:ea typeface="IrisUPC"/>
              </a:rPr>
              <a:t>1385 </a:t>
            </a:r>
            <a:r>
              <a:rPr b="1" lang="th-TH" sz="4000" spc="-1" strike="noStrike">
                <a:solidFill>
                  <a:srgbClr val="ffffcc"/>
                </a:solidFill>
                <a:latin typeface="IrisUPC"/>
                <a:cs typeface="IrisUPC"/>
              </a:rPr>
              <a:t>ต่อ </a:t>
            </a:r>
            <a:r>
              <a:rPr b="1" lang="th-TH" sz="4000" spc="-1" strike="noStrike">
                <a:solidFill>
                  <a:srgbClr val="ffffcc"/>
                </a:solidFill>
                <a:latin typeface="IrisUPC"/>
                <a:ea typeface="IrisUPC"/>
              </a:rPr>
              <a:t>4603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ccffff"/>
                </a:solidFill>
                <a:latin typeface="IrisUPC"/>
                <a:cs typeface="IrisUPC"/>
              </a:rPr>
              <a:t>สอบถามเกี่ยวกับการตรวจ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f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ff"/>
                </a:solidFill>
                <a:latin typeface="IrisUPC"/>
                <a:ea typeface="IrisUPC"/>
              </a:rPr>
              <a:t>0-2547-4809, 0-2547-5090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ff"/>
                </a:solidFill>
                <a:latin typeface="IrisUPC"/>
                <a:cs typeface="IrisUPC"/>
              </a:rPr>
              <a:t>หรือ </a:t>
            </a:r>
            <a:r>
              <a:rPr b="1" lang="th-TH" sz="4000" spc="-1" strike="noStrike">
                <a:solidFill>
                  <a:srgbClr val="ccffff"/>
                </a:solidFill>
                <a:latin typeface="IrisUPC"/>
                <a:ea typeface="IrisUPC"/>
              </a:rPr>
              <a:t>1385 </a:t>
            </a:r>
            <a:r>
              <a:rPr b="1" lang="th-TH" sz="4000" spc="-1" strike="noStrike">
                <a:solidFill>
                  <a:srgbClr val="ccffff"/>
                </a:solidFill>
                <a:latin typeface="IrisUPC"/>
                <a:cs typeface="IrisUPC"/>
              </a:rPr>
              <a:t>ต่อ </a:t>
            </a:r>
            <a:r>
              <a:rPr b="1" lang="th-TH" sz="4000" spc="-1" strike="noStrike">
                <a:solidFill>
                  <a:srgbClr val="ccffff"/>
                </a:solidFill>
                <a:latin typeface="IrisUPC"/>
                <a:ea typeface="IrisUPC"/>
              </a:rPr>
              <a:t>4808, 4809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IrisUPC"/>
                <a:ea typeface="IrisUPC"/>
              </a:rPr>
              <a:t>E-mail : rovers@moc.go.th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3E9-DC06-4EE6-8033-E12D14FE6B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5800" y="333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การยื่นคำขอให้ตรวจคุณสมบัติทางด้าน</a:t>
            </a:r>
            <a:br>
              <a:rPr sz="5400"/>
            </a:b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แหล่งกำเนิดของสินค้า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776160" y="2035080"/>
            <a:ext cx="4824720" cy="305532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IrisUPC"/>
                <a:ea typeface="IrisUPC"/>
              </a:rPr>
              <a:t>GSP, CEPT, GSTP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: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 สก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. 1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หรือ สก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. 2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4016520" y="3917880"/>
            <a:ext cx="5257800" cy="289008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IrisUPC"/>
                <a:ea typeface="IrisUPC"/>
              </a:rPr>
              <a:t>FTA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: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คำขอฯ และ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คำรับรองการผลิตสินค้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840-5DF9-4892-B221-8357EFEBD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2160" y="1628640"/>
            <a:ext cx="86407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จดหมายขอให้ตรวจสอบรายละเอียดขั้นตอนการผลิตฯ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แบบ สก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. 1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รือ สก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. 2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หลักฐานการนำเข้าวัตถุดิบหรือซื้อวัตถุดิบจากผู้นำเข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หลักฐานการซื้อวัตถุดิบที่ผลิตใน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อื่น ๆ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247680" y="189000"/>
            <a:ext cx="8337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</a:rPr>
              <a:t>เอกสารประกอบ</a:t>
            </a:r>
            <a:br>
              <a:rPr sz="4800"/>
            </a:b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กรณีขอใช้สิทธิ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 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GSP, CEPT, GSTP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FB5-8324-45C0-9A38-A070FB64F9C4}" type="slidenum">
              <a:t>4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2520" y="1916280"/>
            <a:ext cx="7777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แหล่งกำเนิด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33360"/>
            <a:ext cx="3959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</a:rPr>
              <a:t>เอกสารประกอบ</a:t>
            </a:r>
            <a:br>
              <a:rPr sz="4800"/>
            </a:br>
            <a:r>
              <a:rPr b="1" i="1" lang="th-TH" sz="4800" spc="-1" strike="noStrike" u="sng">
                <a:solidFill>
                  <a:srgbClr val="ffcc66"/>
                </a:solidFill>
                <a:uFillTx/>
                <a:latin typeface="IrisUPC"/>
                <a:cs typeface="IrisUPC"/>
              </a:rPr>
              <a:t>กรณีขอใช้สิทธิ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 </a:t>
            </a:r>
            <a:r>
              <a:rPr b="1" i="1" lang="en-US" sz="48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TA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22D-96EC-405A-99F6-E5EE0DE85D09}" type="slidenum">
              <a:t>5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452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ระยะเวลาในการพิจารณาฯ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1065240" y="2133720"/>
            <a:ext cx="813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ขอใช้สิทธิ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GSP, CEPT, GSTP </a:t>
            </a:r>
            <a:br>
              <a:rPr sz="4400"/>
            </a:b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ประมาณ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3-5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วันทำก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ขอใช้สิทธิ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FTA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ประมาณ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ea typeface="IrisUPC"/>
              </a:rPr>
              <a:t>1-2 </a:t>
            </a:r>
            <a:r>
              <a:rPr b="1" lang="th-TH" sz="4400" spc="-1" strike="noStrike">
                <a:solidFill>
                  <a:srgbClr val="ffffff"/>
                </a:solidFill>
                <a:latin typeface="IrisUPC"/>
                <a:cs typeface="IrisUPC"/>
              </a:rPr>
              <a:t>วันทำก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7AD-47E5-4858-AE00-1BD4E1093765}" type="slidenum">
              <a:t>6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47800" y="549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66"/>
                </a:solidFill>
                <a:latin typeface="IrisUPC"/>
                <a:cs typeface="IrisUPC"/>
              </a:rPr>
              <a:t>การยื่นคำขอให้ตรวจและรับรองคุณสมบัติทางด้านแหล่งกำเนิดของสินค้า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04880" y="2708280"/>
            <a:ext cx="9001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Iris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แบบคำขอฯ พร้อมเอกสารประกอบ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Iris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ยื่นข้อมูลคำขอทาง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Internet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IrisUPC"/>
                <a:cs typeface="IrisUPC"/>
              </a:rPr>
              <a:t>ผ่านระบบ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ROVERS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F3E-E58F-4826-A5CE-1A407BD77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0160" y="2781360"/>
            <a:ext cx="93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ระบบบริการตรวจคุณสมบัติทางด้าน</a:t>
            </a:r>
            <a:br>
              <a:rPr sz="6600"/>
            </a:b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แหล่งกำเนิดสินค้า</a:t>
            </a:r>
            <a:br>
              <a:rPr sz="6600"/>
            </a:br>
            <a:r>
              <a:rPr b="1" lang="th-TH" sz="6600" spc="-1" strike="noStrike">
                <a:solidFill>
                  <a:srgbClr val="ffffcc"/>
                </a:solidFill>
                <a:latin typeface="IrisUPC"/>
                <a:cs typeface="IrisUPC"/>
              </a:rPr>
              <a:t>ผ่านเครือข่าย </a:t>
            </a:r>
            <a:r>
              <a:rPr b="1" lang="en-US" sz="6600" spc="-1" strike="noStrike">
                <a:solidFill>
                  <a:srgbClr val="ffffcc"/>
                </a:solidFill>
                <a:latin typeface="IrisUPC"/>
                <a:ea typeface="IrisUPC"/>
              </a:rPr>
              <a:t>Internet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272880" y="549360"/>
            <a:ext cx="9361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cc66"/>
                </a:solidFill>
                <a:latin typeface="IrisUPC"/>
                <a:cs typeface="IrisUPC"/>
              </a:rPr>
              <a:t>ระบบ </a:t>
            </a:r>
            <a:r>
              <a:rPr b="1" lang="en-US" sz="8000" spc="-1" strike="noStrike">
                <a:solidFill>
                  <a:srgbClr val="ffcc66"/>
                </a:solidFill>
                <a:latin typeface="IrisUPC"/>
                <a:ea typeface="IrisUPC"/>
              </a:rPr>
              <a:t>ROVERS</a:t>
            </a:r>
            <a:endParaRPr b="0" lang="en-US" sz="80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Rules of Origin Verification Systems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E49-FF36-4AD8-8F1E-64F90FB92E8E}" type="slidenum">
              <a:t>8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65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76520" y="54936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เป้าหมาย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1857240" y="1628640"/>
            <a:ext cx="6769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ลดระยะเวลาในการตรวจสอบ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ลดเอกสารประกอบ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ทดลองตรวจสอบได้ด้วยตนเอง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ค้นหากฎ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ตรวจสอบได้ทุกวัน ตลอด </a:t>
            </a: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24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ชั่วโมง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  <a:cs typeface="IrisUPC"/>
              </a:rPr>
              <a:t>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E99-D521-497B-90F8-AE58E559BB28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8-11T21:17:02Z</dcterms:modified>
  <cp:revision>93</cp:revision>
  <dc:subject/>
  <dc:title>ROO3</dc:title>
</cp:coreProperties>
</file>