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5766-876A-4E3A-BF43-9A8B4CBE847D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0546-1123-46FF-BFE3-16B499606943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C62-466E-4101-A716-36C005028129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5BF1-09AE-4DA5-B8C5-8E0BCE51D707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790-7DCB-4E24-9967-26FFA86F8718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DCF4-B82D-4BEE-B70F-D2AD6D087C60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DEC2-9A31-454E-BBDD-D24C556FB8A6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52B0-6B24-45FA-AB45-9D0F0496A968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1FD9-9898-4FF8-9C15-71DECAB104B7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66F-76CD-41F5-A84F-3F168EECC40A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5556-3221-4D1A-8A26-6900B5C744A7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49F7-3368-4DB8-B853-93D1B41245B1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2864-CFBF-4FF9-A403-715E513BFD00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7F38-46DE-4FA7-A7F5-252BC2F9C147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87FF-B7E9-4E61-8C1B-B0802584F2D7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62F1-D18F-458B-BC48-2CAC1BB278BA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40B9-0542-4DEF-80FD-004CBDEDCA64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B65F-4F69-4A11-9AFE-2D3852D0FAFE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6823-8960-4B05-928C-059F0628EF0B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163-80BD-4D94-94EC-76FC0F8FA23A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CA67-2015-45EE-BBE0-51C3D48E08A7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21AC-DCBE-4799-9010-44F977857E26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D257-1BBC-41A8-8943-0C0AC9A9234C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CB2-E1CE-493C-B228-6D71A514028F}" type="slidenum"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DE0-BD55-4845-B51B-81BD9221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966-5CFC-4725-A154-F4AD9821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A5F-A979-4913-9188-0A492B3A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9AD-2C26-471F-B76B-DF70BF8E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2B4-9822-49C7-B35B-602F18FA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27C-A8CB-4754-8D22-E554E8A5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338-6AC2-4FD0-B66D-4BCD9526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BED-DFB2-40BE-8909-CCCB46F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F73-20E4-4CD3-8656-58197121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2D8-FAE5-4655-8FE8-A12E54F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240-8DFB-4D80-8027-7FC7BB0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B16-C77B-4D38-9099-C279D92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9351-A510-497A-944C-5F927E1B7753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tn.moc.go.th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3399"/>
                </a:solidFill>
                <a:latin typeface="JasmineUPC"/>
              </a:rPr>
              <a:t>ความคืบหน้าการทำข้อตกลงเขตการค้าเสรี</a:t>
            </a:r>
            <a:br>
              <a:rPr sz="4000"/>
            </a:br>
            <a:r>
              <a:rPr b="1" lang="hi-IN" sz="4000" spc="-1" strike="noStrike">
                <a:solidFill>
                  <a:srgbClr val="ff3399"/>
                </a:solidFill>
                <a:latin typeface="JasmineUPC"/>
              </a:rPr>
              <a:t>ของประเทศไท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โด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นางนิรัชรา  เบญจนิรัติศั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นักวิชาการพาณิชย์ </a:t>
            </a: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8 </a:t>
            </a: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ว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กรมเจรจาการค้าระหว่างประเทศ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วันอังคารที่ </a:t>
            </a: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16  </a:t>
            </a: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สิงหาคม </a:t>
            </a: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2548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ณ ห้องซาลอน </a:t>
            </a:r>
            <a:r>
              <a:rPr b="1" lang="en-US" sz="3200" spc="-1" strike="noStrike">
                <a:solidFill>
                  <a:srgbClr val="9900cc"/>
                </a:solidFill>
                <a:latin typeface="JasmineUPC"/>
              </a:rPr>
              <a:t>B </a:t>
            </a:r>
            <a:r>
              <a:rPr b="1" lang="th-TH" sz="3200" spc="-1" strike="noStrike">
                <a:solidFill>
                  <a:srgbClr val="9900cc"/>
                </a:solidFill>
                <a:latin typeface="JasmineUPC"/>
              </a:rPr>
              <a:t>โรงแรมสวิสโฮเต็ล เลอ คองคอร์ด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44A-7B75-4B7E-A162-682EB65657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990720"/>
            <a:ext cx="82296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71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7200" spc="-1" strike="noStrike">
                <a:solidFill>
                  <a:srgbClr val="000000"/>
                </a:solidFill>
                <a:latin typeface="JasmineUPC"/>
                <a:cs typeface="Angsana New"/>
              </a:rPr>
              <a:t>กระบวนการเจรจา </a:t>
            </a:r>
            <a:r>
              <a:rPr b="1" lang="en-US" sz="7200" spc="-1" strike="noStrike">
                <a:solidFill>
                  <a:srgbClr val="000000"/>
                </a:solidFill>
                <a:latin typeface="JasmineUPC"/>
                <a:ea typeface="Angsana New"/>
              </a:rPr>
              <a:t>FTA</a:t>
            </a:r>
            <a:endParaRPr b="0" lang="en-US" sz="7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069920"/>
            <a:ext cx="8076960" cy="10414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ณะกรรมการกำหนดยุทธศาสตร์และแนวทางการเจรจา</a:t>
            </a:r>
            <a:br>
              <a:rPr sz="3800"/>
            </a:br>
            <a:r>
              <a:rPr b="1" lang="th-TH" sz="3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ัดทำเขตการค้าเสรี 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นม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ea typeface="Angsana New"/>
              </a:rPr>
              <a:t>./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มว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ณ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ea typeface="Angsana New"/>
              </a:rPr>
              <a:t>. : 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ายสมคิด จาตุศรีพิทักษ์</a:t>
            </a:r>
            <a:r>
              <a:rPr b="1" lang="th-TH" sz="3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2743200"/>
            <a:ext cx="32418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ณะเจรจ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>
            <a:off x="1017720" y="3502080"/>
            <a:ext cx="1439640" cy="27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gsana New"/>
                <a:ea typeface="Angsana New"/>
              </a:rPr>
              <a:t>Australia&amp;NZ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429000"/>
            <a:ext cx="1424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ุณ กิตติสถาพ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1017720" y="3886200"/>
            <a:ext cx="1439640" cy="27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gsana New"/>
                <a:ea typeface="Angsana New"/>
              </a:rPr>
              <a:t>Bahrai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2178360" y="3828960"/>
            <a:ext cx="21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ภิรดี ตันตราภรณ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1017720" y="4276800"/>
            <a:ext cx="1439640" cy="27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gsana New"/>
                <a:ea typeface="Angsana New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2139480" y="4210200"/>
            <a:ext cx="2349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มพล เกียรติไพบูล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1017720" y="4670280"/>
            <a:ext cx="1439640" cy="27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ngsana New"/>
                <a:ea typeface="Angsana New"/>
              </a:rPr>
              <a:t>India </a:t>
            </a:r>
            <a:r>
              <a:rPr b="1" lang="en-US" sz="1800" spc="-1" strike="noStrike">
                <a:solidFill>
                  <a:srgbClr val="808080"/>
                </a:solidFill>
                <a:latin typeface="Angsana New"/>
                <a:ea typeface="Angsana New"/>
              </a:rPr>
              <a:t>&amp; BIMSTE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"/>
          <p:cNvSpPr/>
          <p:nvPr/>
        </p:nvSpPr>
        <p:spPr>
          <a:xfrm>
            <a:off x="2234520" y="4572000"/>
            <a:ext cx="2049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วบ ไชยสาส์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>
            <a:off x="1017720" y="5060880"/>
            <a:ext cx="1439640" cy="27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gsana New"/>
                <a:ea typeface="Angsana New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2179440" y="4952880"/>
            <a:ext cx="2094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ิศาล มาณวพัฒน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"/>
          <p:cNvSpPr/>
          <p:nvPr/>
        </p:nvSpPr>
        <p:spPr>
          <a:xfrm>
            <a:off x="1017720" y="5442120"/>
            <a:ext cx="1439640" cy="274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gsana New"/>
                <a:ea typeface="Angsana New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"/>
          <p:cNvSpPr/>
          <p:nvPr/>
        </p:nvSpPr>
        <p:spPr>
          <a:xfrm>
            <a:off x="2178360" y="5353200"/>
            <a:ext cx="21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ภิรดี ตันตราภรณ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"/>
          <p:cNvSpPr/>
          <p:nvPr/>
        </p:nvSpPr>
        <p:spPr>
          <a:xfrm>
            <a:off x="1017720" y="5791320"/>
            <a:ext cx="1439640" cy="27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gsana New"/>
                <a:ea typeface="Angsana New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2182680" y="5715000"/>
            <a:ext cx="210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ิตย์ พิบูลสงคราม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352680"/>
            <a:ext cx="3241800" cy="32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>
            <a:off x="873000" y="2494080"/>
            <a:ext cx="324180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666880"/>
            <a:ext cx="3467160" cy="388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ณะอนุกรรมกา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เมินผลและ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ำหนดแนวทา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เจรจ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อฟ ที เอ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hi-IN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ที่ปรึกษา รมว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hi-IN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ฯ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นายสมพล  เกียรติไพบูลย์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4889520" y="2514600"/>
            <a:ext cx="3416400" cy="171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41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248292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2428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6635880" y="2286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4232160" y="4581360"/>
            <a:ext cx="505080" cy="432000"/>
          </a:xfrm>
          <a:prstGeom prst="leftRightArrow">
            <a:avLst>
              <a:gd name="adj1" fmla="val 50000"/>
              <a:gd name="adj2" fmla="val 23275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6170760"/>
            <a:ext cx="1439640" cy="274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gsana New"/>
                <a:ea typeface="Angsana New"/>
              </a:rPr>
              <a:t>EFT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2082600" y="6095880"/>
            <a:ext cx="22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กริกไกร จีระแพท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24C-8217-4BC6-A5BB-CFEF3E5A2F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5050"/>
                </a:solidFill>
                <a:latin typeface="JasmineUPC"/>
              </a:rPr>
              <a:t>ไทยทำ</a:t>
            </a:r>
            <a:r>
              <a:rPr b="1" lang="en-US" sz="4800" spc="-1" strike="noStrike">
                <a:solidFill>
                  <a:srgbClr val="ff5050"/>
                </a:solidFill>
                <a:latin typeface="JasmineUPC"/>
              </a:rPr>
              <a:t> </a:t>
            </a:r>
            <a:r>
              <a:rPr b="1" lang="en-US" sz="4800" spc="-1" strike="noStrike">
                <a:solidFill>
                  <a:srgbClr val="ff5050"/>
                </a:solidFill>
                <a:latin typeface="JasmineUPC"/>
              </a:rPr>
              <a:t>FTA </a:t>
            </a:r>
            <a:r>
              <a:rPr b="1" lang="th-TH" sz="4800" spc="-1" strike="noStrike">
                <a:solidFill>
                  <a:srgbClr val="ff5050"/>
                </a:solidFill>
                <a:latin typeface="JasmineUPC"/>
              </a:rPr>
              <a:t>กับใคร </a:t>
            </a:r>
            <a:r>
              <a:rPr b="1" lang="th-TH" sz="4800" spc="-1" strike="noStrike">
                <a:solidFill>
                  <a:srgbClr val="ff5050"/>
                </a:solidFill>
                <a:latin typeface="JasmineUPC"/>
              </a:rPr>
              <a:t>/ </a:t>
            </a:r>
            <a:r>
              <a:rPr b="1" lang="th-TH" sz="4800" spc="-1" strike="noStrike">
                <a:solidFill>
                  <a:srgbClr val="ff5050"/>
                </a:solidFill>
                <a:latin typeface="JasmineUPC"/>
              </a:rPr>
              <a:t>ความคืบหน้าอย่างไร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5000"/>
              </a:lnSpc>
              <a:spcBef>
                <a:spcPts val="224"/>
              </a:spcBef>
              <a:buClr>
                <a:srgbClr val="ffffcc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ไทยทำ </a:t>
            </a:r>
            <a:r>
              <a:rPr b="1" lang="en-US" sz="3600" spc="-1" strike="noStrike">
                <a:solidFill>
                  <a:srgbClr val="ffffcc"/>
                </a:solidFill>
                <a:latin typeface="JasmineUPC"/>
              </a:rPr>
              <a:t>FTA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กับ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8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ประเทศ และ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2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กลุ่มเศรษฐกิจ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-284400">
              <a:lnSpc>
                <a:spcPct val="105000"/>
              </a:lnSpc>
              <a:spcBef>
                <a:spcPts val="224"/>
              </a:spcBef>
              <a:buClr>
                <a:srgbClr val="ffffcc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เจรจาเสร็จแล้ว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3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ประเทศ </a:t>
            </a:r>
            <a:r>
              <a:rPr b="1" lang="en-US" sz="3600" spc="-1" strike="noStrike">
                <a:solidFill>
                  <a:srgbClr val="ffffcc"/>
                </a:solidFill>
                <a:latin typeface="JasmineUPC"/>
              </a:rPr>
              <a:t>: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ออสเตรเลีย นิวซีแลนด์ จี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-284400">
              <a:lnSpc>
                <a:spcPct val="115000"/>
              </a:lnSpc>
              <a:spcBef>
                <a:spcPts val="224"/>
              </a:spcBef>
              <a:buClr>
                <a:srgbClr val="ffffcc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อยู่ในระหว่างการเจรจ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1" marL="6166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4 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ประเทศ 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+ 2 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กลุ่มเศรษฐกิจ </a:t>
            </a: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โดยอยู่ระหว่างการเจรจ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1" marL="616680" indent="-237240">
              <a:lnSpc>
                <a:spcPct val="65000"/>
              </a:lnSpc>
              <a:spcBef>
                <a:spcPts val="201"/>
              </a:spcBef>
              <a:buClr>
                <a:srgbClr val="ffffcc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สหรัฐฯ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16680" indent="-237240">
              <a:lnSpc>
                <a:spcPct val="65000"/>
              </a:lnSpc>
              <a:spcBef>
                <a:spcPts val="201"/>
              </a:spcBef>
              <a:buClr>
                <a:srgbClr val="ffffcc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อินเดี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16680" indent="-237240">
              <a:lnSpc>
                <a:spcPct val="65000"/>
              </a:lnSpc>
              <a:spcBef>
                <a:spcPts val="201"/>
              </a:spcBef>
              <a:buClr>
                <a:srgbClr val="ffffcc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เปรู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16680" indent="-237240">
              <a:lnSpc>
                <a:spcPct val="65000"/>
              </a:lnSpc>
              <a:spcBef>
                <a:spcPts val="201"/>
              </a:spcBef>
              <a:buClr>
                <a:srgbClr val="ffffcc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บาห์เร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16680" indent="-237240">
              <a:lnSpc>
                <a:spcPct val="65000"/>
              </a:lnSpc>
              <a:spcBef>
                <a:spcPts val="201"/>
              </a:spcBef>
              <a:buClr>
                <a:srgbClr val="ffffcc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JasmineUPC"/>
              </a:rPr>
              <a:t>BIMST-EC 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(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บังคลาเทศ อินเดีย พม่า ศรีลังกา ไทย เนปาล และ ภูฎาน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16680" indent="-237240">
              <a:lnSpc>
                <a:spcPct val="65000"/>
              </a:lnSpc>
              <a:spcBef>
                <a:spcPts val="201"/>
              </a:spcBef>
              <a:buClr>
                <a:srgbClr val="ffffcc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JasmineUPC"/>
              </a:rPr>
              <a:t>EFTA 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(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สวิตเซอร์แลนด์ นอร์เวย์ ไอซ์แลนด์ และลิกเตนสไตน์</a:t>
            </a:r>
            <a:r>
              <a:rPr b="1" lang="th-TH" sz="3200" spc="-1" strike="noStrike">
                <a:solidFill>
                  <a:srgbClr val="ffffcc"/>
                </a:solidFill>
                <a:latin typeface="Jasmine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-284400">
              <a:lnSpc>
                <a:spcPct val="115000"/>
              </a:lnSpc>
              <a:spcBef>
                <a:spcPts val="224"/>
              </a:spcBef>
              <a:buClr>
                <a:srgbClr val="ffffcc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cc"/>
                </a:solidFill>
                <a:latin typeface="JasmineUPC"/>
              </a:rPr>
              <a:t>เจรจาได้ข้อยุติ  </a:t>
            </a:r>
            <a:r>
              <a:rPr b="1" lang="en-US" sz="3600" spc="-1" strike="noStrike">
                <a:solidFill>
                  <a:srgbClr val="ffffcc"/>
                </a:solidFill>
                <a:latin typeface="JasmineUPC"/>
              </a:rPr>
              <a:t>: </a:t>
            </a:r>
            <a:r>
              <a:rPr b="1" lang="en-US" sz="3600" spc="-1" strike="noStrike">
                <a:solidFill>
                  <a:srgbClr val="ffffcc"/>
                </a:solidFill>
                <a:latin typeface="JasmineUPC"/>
              </a:rPr>
              <a:t>ญี่ปุ่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FEC-7C84-4830-A544-5E77C1B476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962520" y="1600200"/>
            <a:ext cx="5028840" cy="4276800"/>
            <a:chOff x="3962520" y="1600200"/>
            <a:chExt cx="5028840" cy="4276800"/>
          </a:xfrm>
        </p:grpSpPr>
        <p:sp>
          <p:nvSpPr>
            <p:cNvPr id="100" name=""/>
            <p:cNvSpPr/>
            <p:nvPr/>
          </p:nvSpPr>
          <p:spPr>
            <a:xfrm>
              <a:off x="3962520" y="1600200"/>
              <a:ext cx="125640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18920" y="1600200"/>
              <a:ext cx="125676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8200" y="1600200"/>
              <a:ext cx="125676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34960" y="1600200"/>
              <a:ext cx="125640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11280" y="58053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2002           2003     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2004     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2005     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2006    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2007+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76520"/>
            <a:ext cx="106668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ngsana New"/>
              </a:rPr>
              <a:t>ญี่ปุ่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ngsana New"/>
              </a:rPr>
              <a:t>สหรัฐฯ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ngsana New"/>
              </a:rPr>
              <a:t>ออสเตรเลี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ngsana New"/>
              </a:rPr>
              <a:t>นิวซีแล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gsana New"/>
              </a:rPr>
              <a:t>จี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ngsana New"/>
              </a:rPr>
              <a:t>อินเดี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ngsana New"/>
              </a:rPr>
              <a:t>เปรู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บาห์เร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ngsana New"/>
              </a:rPr>
              <a:t>BIMSTEC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ngsana New"/>
              </a:rPr>
              <a:t>EFTA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47920" y="1600200"/>
            <a:ext cx="5028840" cy="4276800"/>
            <a:chOff x="1447920" y="1600200"/>
            <a:chExt cx="5028840" cy="4276800"/>
          </a:xfrm>
        </p:grpSpPr>
        <p:sp>
          <p:nvSpPr>
            <p:cNvPr id="107" name=""/>
            <p:cNvSpPr/>
            <p:nvPr/>
          </p:nvSpPr>
          <p:spPr>
            <a:xfrm>
              <a:off x="1447920" y="1600200"/>
              <a:ext cx="125640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4320" y="1600200"/>
              <a:ext cx="125676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3600" y="1600200"/>
              <a:ext cx="125676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20360" y="1600200"/>
              <a:ext cx="1256400" cy="42768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47920" y="3519360"/>
            <a:ext cx="91440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3519000"/>
            <a:ext cx="2689200" cy="11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5022720" y="3530520"/>
            <a:ext cx="9144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876320"/>
            <a:ext cx="142884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276640"/>
            <a:ext cx="2156040" cy="18720"/>
          </a:xfrm>
          <a:prstGeom prst="line">
            <a:avLst/>
          </a:prstGeom>
          <a:ln w="63360">
            <a:solidFill>
              <a:srgbClr val="ff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701800"/>
            <a:ext cx="2209680" cy="0"/>
          </a:xfrm>
          <a:prstGeom prst="line">
            <a:avLst/>
          </a:prstGeom>
          <a:ln w="63360">
            <a:solidFill>
              <a:srgbClr val="00ff00"/>
            </a:solidFill>
            <a:miter/>
            <a:headEnd len="med" type="oval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094200"/>
            <a:ext cx="762120" cy="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oval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3622680" y="3938760"/>
            <a:ext cx="2111400" cy="1440"/>
          </a:xfrm>
          <a:prstGeom prst="line">
            <a:avLst/>
          </a:prstGeom>
          <a:ln w="63360">
            <a:solidFill>
              <a:srgbClr val="cc99ff"/>
            </a:solidFill>
            <a:miter/>
            <a:headEnd len="med" type="oval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773600"/>
            <a:ext cx="2952720" cy="93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4340160"/>
            <a:ext cx="2057400" cy="0"/>
          </a:xfrm>
          <a:prstGeom prst="line">
            <a:avLst/>
          </a:prstGeom>
          <a:ln w="63360">
            <a:solidFill>
              <a:srgbClr val="ff9900"/>
            </a:solidFill>
            <a:miter/>
            <a:headEnd len="med" type="oval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4100400" y="5186520"/>
            <a:ext cx="2362320" cy="0"/>
          </a:xfrm>
          <a:prstGeom prst="line">
            <a:avLst/>
          </a:prstGeom>
          <a:ln w="63360">
            <a:solidFill>
              <a:srgbClr val="00ff00"/>
            </a:solidFill>
            <a:miter/>
            <a:headEnd len="med" type="oval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1876320"/>
            <a:ext cx="13845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2289240"/>
            <a:ext cx="2665440" cy="0"/>
          </a:xfrm>
          <a:prstGeom prst="line">
            <a:avLst/>
          </a:prstGeom>
          <a:ln w="63360">
            <a:solidFill>
              <a:srgbClr val="ffff00"/>
            </a:solidFill>
            <a:miter/>
            <a:headEnd len="med" type="oval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08720" y="2285640"/>
            <a:ext cx="997200" cy="3240"/>
          </a:xfrm>
          <a:prstGeom prst="line">
            <a:avLst/>
          </a:prstGeom>
          <a:ln w="63360">
            <a:solidFill>
              <a:srgbClr val="ffff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2701800"/>
            <a:ext cx="792000" cy="0"/>
          </a:xfrm>
          <a:prstGeom prst="line">
            <a:avLst/>
          </a:prstGeom>
          <a:ln w="6336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3094200"/>
            <a:ext cx="838080" cy="0"/>
          </a:xfrm>
          <a:prstGeom prst="line">
            <a:avLst/>
          </a:prstGeom>
          <a:ln w="63360">
            <a:solidFill>
              <a:srgbClr val="ff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5757840" y="3940200"/>
            <a:ext cx="685800" cy="0"/>
          </a:xfrm>
          <a:prstGeom prst="line">
            <a:avLst/>
          </a:prstGeom>
          <a:ln w="63360">
            <a:solidFill>
              <a:srgbClr val="cc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4773600"/>
            <a:ext cx="2879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4340160"/>
            <a:ext cx="609840" cy="0"/>
          </a:xfrm>
          <a:prstGeom prst="line">
            <a:avLst/>
          </a:prstGeom>
          <a:ln w="63360">
            <a:solidFill>
              <a:srgbClr val="ff99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5186520"/>
            <a:ext cx="685800" cy="0"/>
          </a:xfrm>
          <a:prstGeom prst="line">
            <a:avLst/>
          </a:prstGeom>
          <a:ln w="6336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3200400"/>
            <a:ext cx="115128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3187800"/>
            <a:ext cx="79200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5234040" y="3200400"/>
            <a:ext cx="1079280" cy="2764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529080"/>
            <a:ext cx="5335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6470640" y="3517920"/>
            <a:ext cx="542880" cy="1116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594240"/>
            <a:ext cx="115236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606840"/>
            <a:ext cx="71136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038480"/>
            <a:ext cx="115236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4422600"/>
            <a:ext cx="113508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4876920"/>
            <a:ext cx="113508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7628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: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JasmineUPC"/>
              </a:rPr>
              <a:t>สถานะความคืบหน้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6308640"/>
            <a:ext cx="2448000" cy="703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● 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เริ่มเจรจา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เจรจาเสร็จ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6308640"/>
            <a:ext cx="1800000" cy="39888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ngsana New"/>
              </a:rPr>
              <a:t>X </a:t>
            </a:r>
            <a:r>
              <a:rPr b="1" lang="th-TH" sz="2000" spc="-1" strike="noStrike">
                <a:solidFill>
                  <a:srgbClr val="ffff00"/>
                </a:solidFill>
                <a:latin typeface="Angsana New"/>
              </a:rPr>
              <a:t>ลงนาม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6308640"/>
            <a:ext cx="2016000" cy="3988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ff00"/>
                </a:solidFill>
                <a:latin typeface="Angsana New"/>
              </a:rPr>
              <a:t>บังคับใช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25146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3484440" y="21099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314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>
            <a:off x="2197080" y="3314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3314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7569360" y="2073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19360"/>
            <a:ext cx="136692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3760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29210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5869080" y="37576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4586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3610080" y="4165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4178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5000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>
            <a:off x="7885080" y="3314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179880"/>
            <a:ext cx="99072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3187800"/>
            <a:ext cx="990720" cy="4590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16765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5319720" y="5611680"/>
            <a:ext cx="2376360" cy="0"/>
          </a:xfrm>
          <a:prstGeom prst="line">
            <a:avLst/>
          </a:prstGeom>
          <a:ln w="63360">
            <a:solidFill>
              <a:srgbClr val="ff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5611680"/>
            <a:ext cx="533160" cy="0"/>
          </a:xfrm>
          <a:prstGeom prst="line">
            <a:avLst/>
          </a:prstGeom>
          <a:ln w="63360">
            <a:solidFill>
              <a:srgbClr val="ff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6669000" y="5435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ngsana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5181480"/>
            <a:ext cx="1447920" cy="0"/>
          </a:xfrm>
          <a:prstGeom prst="line">
            <a:avLst/>
          </a:prstGeom>
          <a:ln w="63360">
            <a:solidFill>
              <a:srgbClr val="00ff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773600"/>
            <a:ext cx="259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2A6-D7F9-4A2E-9C5F-1AF5ACC4BC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500" spc="-1" strike="noStrike">
                <a:solidFill>
                  <a:srgbClr val="ff66ff"/>
                </a:solidFill>
                <a:latin typeface="Angsana New"/>
                <a:cs typeface="JasmineUPC"/>
              </a:rPr>
              <a:t>ความคืบหน้าของ </a:t>
            </a:r>
            <a:r>
              <a:rPr b="1" lang="en-US" sz="6500" spc="-1" strike="noStrike">
                <a:solidFill>
                  <a:srgbClr val="ff66ff"/>
                </a:solidFill>
                <a:latin typeface="Angsana New"/>
                <a:ea typeface="JasmineUPC"/>
              </a:rPr>
              <a:t>FTA </a:t>
            </a:r>
            <a:r>
              <a:rPr b="1" lang="th-TH" sz="6500" spc="-1" strike="noStrike">
                <a:solidFill>
                  <a:srgbClr val="ff66ff"/>
                </a:solidFill>
                <a:latin typeface="Angsana New"/>
                <a:cs typeface="JasmineUPC"/>
              </a:rPr>
              <a:t>ในกรอบ </a:t>
            </a:r>
            <a:endParaRPr b="0" lang="en-US" sz="6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73440" y="2257560"/>
            <a:ext cx="32385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ff"/>
                </a:solidFill>
                <a:latin typeface="Angsana New"/>
                <a:cs typeface="JasmineUPC"/>
              </a:rPr>
              <a:t>ออสเตรเลี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1001"/>
              </a:spcBef>
              <a:buClr>
                <a:srgbClr val="66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ff"/>
                </a:solidFill>
                <a:latin typeface="Angsana New"/>
                <a:cs typeface="JasmineUPC"/>
              </a:rPr>
              <a:t>นิวซีแลนด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1001"/>
              </a:spcBef>
              <a:buClr>
                <a:srgbClr val="66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ff"/>
                </a:solidFill>
                <a:latin typeface="Angsana New"/>
                <a:cs typeface="JasmineUPC"/>
              </a:rPr>
              <a:t>จี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1001"/>
              </a:spcBef>
              <a:buClr>
                <a:srgbClr val="66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ff"/>
                </a:solidFill>
                <a:latin typeface="Angsana New"/>
                <a:cs typeface="JasmineUPC"/>
              </a:rPr>
              <a:t>อินเดี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7DB-50A0-410D-8EA0-E5D84DB3A0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762120"/>
            <a:ext cx="8534160" cy="68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874"/>
              </a:spcBef>
              <a:buClr>
                <a:srgbClr val="cc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600" spc="-1" strike="noStrike">
                <a:solidFill>
                  <a:srgbClr val="ccff66"/>
                </a:solidFill>
                <a:latin typeface="Angsana New"/>
                <a:cs typeface="JasmineUPC"/>
              </a:rPr>
              <a:t>มีผลบังคับใช้ </a:t>
            </a:r>
            <a:r>
              <a:rPr b="1" lang="th-TH" sz="3600" spc="-1" strike="noStrike">
                <a:solidFill>
                  <a:srgbClr val="ccff66"/>
                </a:solidFill>
                <a:latin typeface="Angsana New"/>
                <a:ea typeface="JasmineUPC"/>
              </a:rPr>
              <a:t>1 </a:t>
            </a:r>
            <a:r>
              <a:rPr b="1" lang="th-TH" sz="3600" spc="-1" strike="noStrike">
                <a:solidFill>
                  <a:srgbClr val="ccff66"/>
                </a:solidFill>
                <a:latin typeface="Angsana New"/>
                <a:cs typeface="JasmineUPC"/>
              </a:rPr>
              <a:t>ม</a:t>
            </a:r>
            <a:r>
              <a:rPr b="1" lang="th-TH" sz="3600" spc="-1" strike="noStrike">
                <a:solidFill>
                  <a:srgbClr val="ccff66"/>
                </a:solidFill>
                <a:latin typeface="Angsana New"/>
                <a:ea typeface="JasmineUPC"/>
              </a:rPr>
              <a:t>.</a:t>
            </a:r>
            <a:r>
              <a:rPr b="1" lang="th-TH" sz="3600" spc="-1" strike="noStrike">
                <a:solidFill>
                  <a:srgbClr val="ccff66"/>
                </a:solidFill>
                <a:latin typeface="Angsana New"/>
                <a:cs typeface="JasmineUPC"/>
              </a:rPr>
              <a:t>ค</a:t>
            </a:r>
            <a:r>
              <a:rPr b="1" lang="th-TH" sz="3600" spc="-1" strike="noStrike">
                <a:solidFill>
                  <a:srgbClr val="ccff66"/>
                </a:solidFill>
                <a:latin typeface="Angsana New"/>
                <a:ea typeface="JasmineUPC"/>
              </a:rPr>
              <a:t>. 48</a:t>
            </a:r>
            <a:r>
              <a:rPr b="1" lang="th-TH" sz="40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ไทยจะทยอยลดภาษีจนเหลือ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0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ทุกรายการภายใน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20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ี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spcBef>
                <a:spcPts val="1874"/>
              </a:spcBef>
              <a:buClr>
                <a:srgbClr val="cc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การลดภาษี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ของไทย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-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0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2548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ระมาณ 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50%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ของรายการสินค้า  ทั้งหมด ส่วนใหญ่เป็นวัตถุดิบที่ไทยนำเข้า เช่น สินแร่ เคมีภัณฑ์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เชื้อเพลิง  ทั้งนี้ อัญมณี และ หนังดิบ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/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หนังฟอกภาษีเหลือ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0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ทันที เช่นกัน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3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-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สินค้าที่เหลือ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45 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%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ทยอยลดภาษีเหลือ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0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ในอีก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5 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ี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2553 (2010)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เช่น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 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ผักผลไม้ พลาสติก กระดาษ สิ่งทอ เสื้อผ้า เหล็ก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3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-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สินค้าที่เหลือ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5 </a:t>
            </a:r>
            <a:r>
              <a:rPr b="1" lang="en-US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%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เป็นสินค้าอ่อนไหว ใช้เวลาลดภาษีที่ยาวกว่า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 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10 - 20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ี โดย ลดภาษีเหลือ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0 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    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*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ี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2558 (2015)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เช่น สิ่งทอ  เหล็ก  ไวน์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    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*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ี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2663 (2020)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เช่น เนื้อ นม เนย  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3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          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*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ปี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ea typeface="JasmineUPC"/>
              </a:rPr>
              <a:t>2668 (2025) </a:t>
            </a:r>
            <a:r>
              <a:rPr b="1" lang="th-TH" sz="3000" spc="-1" strike="noStrike">
                <a:solidFill>
                  <a:srgbClr val="ccff66"/>
                </a:solidFill>
                <a:latin typeface="Angsana New"/>
                <a:cs typeface="JasmineUPC"/>
              </a:rPr>
              <a:t>เช่น นมผงขาดมันเนย  น้ำนมและนมพร้อมดื่ม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0"/>
            <a:ext cx="79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cc"/>
                </a:solidFill>
                <a:latin typeface="Angsana New"/>
                <a:cs typeface="JasmineUPC"/>
              </a:rPr>
              <a:t>ไทย</a:t>
            </a:r>
            <a:r>
              <a:rPr b="1" lang="en-US" sz="4400" spc="-1" strike="noStrike">
                <a:solidFill>
                  <a:srgbClr val="ffcccc"/>
                </a:solidFill>
                <a:latin typeface="Angsana New"/>
                <a:ea typeface="JasmineUPC"/>
              </a:rPr>
              <a:t>-</a:t>
            </a:r>
            <a:r>
              <a:rPr b="1" lang="hi-IN" sz="4400" spc="-1" strike="noStrike">
                <a:solidFill>
                  <a:srgbClr val="ffcccc"/>
                </a:solidFill>
                <a:latin typeface="Angsana New"/>
                <a:cs typeface="JasmineUPC"/>
              </a:rPr>
              <a:t>ออสเตรเลี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20E-D770-4F22-B6DA-AC045ED63306}" type="slidenum">
              <a:t>14</a:t>
            </a:fld>
          </a:p>
        </p:txBody>
      </p:sp>
    </p:spTree>
  </p:cSld>
  <p:transition spd="med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990720"/>
            <a:ext cx="800100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66ff"/>
                </a:solidFill>
                <a:latin typeface="Angsana New"/>
                <a:ea typeface="JasmineUPC"/>
              </a:rPr>
              <a:t> </a:t>
            </a:r>
            <a:r>
              <a:rPr b="1" lang="th-TH" sz="4400" spc="-1" strike="noStrike">
                <a:solidFill>
                  <a:srgbClr val="ff66ff"/>
                </a:solidFill>
                <a:latin typeface="Angsana New"/>
                <a:cs typeface="JasmineUPC"/>
              </a:rPr>
              <a:t>การลดภาษีของออสเตรเลี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66ff"/>
                </a:solidFill>
                <a:latin typeface="Angsana New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ea typeface="JasmineUPC"/>
              </a:rPr>
              <a:t>0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ea typeface="JasmineUPC"/>
              </a:rPr>
              <a:t>2005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ea typeface="JasmineUPC"/>
              </a:rPr>
              <a:t>83%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cs typeface="JasmineUPC"/>
              </a:rPr>
              <a:t>ของรายการสินค้าทั้งหมดเช่น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66ff"/>
                </a:solidFill>
                <a:latin typeface="Angsana New"/>
                <a:ea typeface="JasmineUPC"/>
              </a:rPr>
              <a:t>     </a:t>
            </a:r>
            <a:r>
              <a:rPr b="1" lang="th-TH" sz="3600" spc="-1" strike="noStrike">
                <a:solidFill>
                  <a:srgbClr val="ff66ff"/>
                </a:solidFill>
                <a:latin typeface="Angsana New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สินค้าเกษตรทุกรายการ เช่น เนื้อสัตว์ ผัก ผลไม้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ยกเว้น ปลาทูน่ากระป๋อง สับปะรดแปรรูป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/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น้ำสับปะรด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    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สินค้าอุตสาหกรรมทุกรายการ เช่น อัญมณีและเครื่องประดับ ทองแดง ตะกั่ว ดีบุก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66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2553(2010)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เช่น เครื่องหนัง รองเท้า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66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สินค้าอ่อนไหว ลดเหลือ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ea typeface="JasmineUPC"/>
              </a:rPr>
              <a:t>2558(2015) </a:t>
            </a:r>
            <a:r>
              <a:rPr b="1" lang="th-TH" sz="3200" spc="-1" strike="noStrike">
                <a:solidFill>
                  <a:srgbClr val="ff66ff"/>
                </a:solidFill>
                <a:latin typeface="Angsana New"/>
                <a:cs typeface="JasmineUPC"/>
              </a:rPr>
              <a:t>เช่น เสื้อผ้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0"/>
            <a:ext cx="79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cc"/>
                </a:solidFill>
                <a:latin typeface="Angsana New"/>
                <a:cs typeface="JasmineUPC"/>
              </a:rPr>
              <a:t>ไทย</a:t>
            </a:r>
            <a:r>
              <a:rPr b="1" lang="en-US" sz="4400" spc="-1" strike="noStrike">
                <a:solidFill>
                  <a:srgbClr val="ffcccc"/>
                </a:solidFill>
                <a:latin typeface="Angsana New"/>
                <a:ea typeface="JasmineUPC"/>
              </a:rPr>
              <a:t>-</a:t>
            </a:r>
            <a:r>
              <a:rPr b="1" lang="hi-IN" sz="4400" spc="-1" strike="noStrike">
                <a:solidFill>
                  <a:srgbClr val="ffcccc"/>
                </a:solidFill>
                <a:latin typeface="Angsana New"/>
                <a:cs typeface="JasmineUPC"/>
              </a:rPr>
              <a:t>ออสเตรเลี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00B-86BB-4264-B7C5-EF2887A7F4E9}" type="slidenum">
              <a:t>15</a:t>
            </a:fld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การส่งออก อัญมณี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JasmineUPC"/>
              </a:rPr>
              <a:t>/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เครื่องหนัง</a:t>
            </a:r>
            <a:br>
              <a:rPr sz="4000"/>
            </a:b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ของไทยไปออสเตรเลี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9480" y="2104920"/>
            <a:ext cx="7848360" cy="4752720"/>
            <a:chOff x="609480" y="2104920"/>
            <a:chExt cx="7848360" cy="4752720"/>
          </a:xfrm>
        </p:grpSpPr>
        <p:sp>
          <p:nvSpPr>
            <p:cNvPr id="176" name=""/>
            <p:cNvSpPr/>
            <p:nvPr/>
          </p:nvSpPr>
          <p:spPr>
            <a:xfrm>
              <a:off x="6657840" y="3071880"/>
              <a:ext cx="180000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48.1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6.9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.0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86200" y="3071880"/>
              <a:ext cx="1871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.2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9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9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89120" y="3071880"/>
              <a:ext cx="129708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5.0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.8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480" y="3071880"/>
              <a:ext cx="2879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และ 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และผลิตภัณฑ์หนังฟอกหนังอัด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องเท้าหนั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7840" y="2104920"/>
              <a:ext cx="180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86200" y="2104920"/>
              <a:ext cx="1871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89120" y="2104920"/>
              <a:ext cx="1297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480" y="2104920"/>
              <a:ext cx="2879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10492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480" y="307188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480" y="685764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89120" y="210492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6200" y="210492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7840" y="210492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210492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57840" y="210492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9933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339933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339933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703-35B2-4058-BBEC-F47576C19B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JasmineUPC"/>
              </a:rPr>
              <a:t>การนำเข้า อัญมณี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JasmineUPC"/>
              </a:rPr>
              <a:t>/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JasmineUPC"/>
              </a:rPr>
              <a:t>เครื่องหนัง</a:t>
            </a:r>
            <a:br>
              <a:rPr sz="3600"/>
            </a:b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JasmineUPC"/>
              </a:rPr>
              <a:t>ของไทยจากออสเตรเลี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2205000"/>
            <a:ext cx="8136000" cy="4119480"/>
            <a:chOff x="457200" y="2205000"/>
            <a:chExt cx="8136000" cy="4119480"/>
          </a:xfrm>
        </p:grpSpPr>
        <p:sp>
          <p:nvSpPr>
            <p:cNvPr id="200" name=""/>
            <p:cNvSpPr/>
            <p:nvPr/>
          </p:nvSpPr>
          <p:spPr>
            <a:xfrm>
              <a:off x="6708600" y="2765520"/>
              <a:ext cx="188460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2.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0.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7.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51280" y="2765520"/>
              <a:ext cx="1957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1.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.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95520" y="2765520"/>
              <a:ext cx="135576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00.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7.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2765520"/>
              <a:ext cx="2938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พชรพลอ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 เงินแท่ง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ทองคำ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ดิบ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ฟอก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08600" y="22050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1280" y="2205000"/>
              <a:ext cx="1957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95520" y="2205000"/>
              <a:ext cx="13557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2205000"/>
              <a:ext cx="2938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200" y="2205000"/>
              <a:ext cx="813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" y="276552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632448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9552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128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860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93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9933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339933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339933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392-282E-4CB0-B8EE-31D2486B38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500" spc="-1" strike="noStrike">
                <a:solidFill>
                  <a:srgbClr val="ccccff"/>
                </a:solidFill>
                <a:latin typeface="Angsana New"/>
                <a:cs typeface="JasmineUPC"/>
              </a:rPr>
              <a:t>ไทย </a:t>
            </a:r>
            <a:r>
              <a:rPr b="1" lang="th-TH" sz="6500" spc="-1" strike="noStrike">
                <a:solidFill>
                  <a:srgbClr val="ccccff"/>
                </a:solidFill>
                <a:latin typeface="Angsana New"/>
                <a:ea typeface="JasmineUPC"/>
              </a:rPr>
              <a:t>- </a:t>
            </a:r>
            <a:r>
              <a:rPr b="1" lang="th-TH" sz="6500" spc="-1" strike="noStrike">
                <a:solidFill>
                  <a:srgbClr val="ccccff"/>
                </a:solidFill>
                <a:latin typeface="Angsana New"/>
                <a:cs typeface="JasmineUPC"/>
              </a:rPr>
              <a:t>นิวซีแลนด์</a:t>
            </a:r>
            <a:endParaRPr b="0" lang="en-US" sz="6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ff"/>
                </a:solidFill>
                <a:latin typeface="Angsana New"/>
                <a:cs typeface="JasmineUPC"/>
              </a:rPr>
              <a:t>เจรจาโดย ใช้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ea typeface="JasmineUPC"/>
              </a:rPr>
              <a:t>TAFTA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cs typeface="JasmineUPC"/>
              </a:rPr>
              <a:t>เป็นพื้นฐานสำหรับการเจรจา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-298440">
              <a:spcBef>
                <a:spcPts val="799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ff"/>
                </a:solidFill>
                <a:latin typeface="Angsana New"/>
                <a:cs typeface="JasmineUPC"/>
              </a:rPr>
              <a:t>ลงนามความตกลงเมื่อวันที่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</a:rPr>
              <a:t>19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cs typeface="JasmineUPC"/>
              </a:rPr>
              <a:t>เมษายน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</a:rPr>
              <a:t>2548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ea typeface="JasmineUPC"/>
              </a:rPr>
              <a:t>      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cs typeface="JasmineUPC"/>
              </a:rPr>
              <a:t>และมีผลบังคับใช้ตั้งแต่วันที่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</a:rPr>
              <a:t>1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  <a:cs typeface="JasmineUPC"/>
              </a:rPr>
              <a:t>กรกฎาคม </a:t>
            </a:r>
            <a:r>
              <a:rPr b="1" lang="th-TH" sz="3200" spc="-1" strike="noStrike">
                <a:solidFill>
                  <a:srgbClr val="ff99ff"/>
                </a:solidFill>
                <a:latin typeface="Angsana New"/>
              </a:rPr>
              <a:t>2548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ff"/>
                </a:solidFill>
                <a:latin typeface="JasmineUPC"/>
              </a:rPr>
              <a:t>หลังความตกลงมีผลบังคับใช้จะเจรจาเปิดตลาดการค้าบริการภายใน </a:t>
            </a:r>
            <a:r>
              <a:rPr b="1" lang="th-TH" sz="3200" spc="-1" strike="noStrike">
                <a:solidFill>
                  <a:srgbClr val="ff99ff"/>
                </a:solidFill>
                <a:latin typeface="JasmineUPC"/>
              </a:rPr>
              <a:t>3 </a:t>
            </a:r>
            <a:r>
              <a:rPr b="1" lang="th-TH" sz="3200" spc="-1" strike="noStrike">
                <a:solidFill>
                  <a:srgbClr val="ff99ff"/>
                </a:solidFill>
                <a:latin typeface="JasmineUPC"/>
              </a:rPr>
              <a:t>ปี โดยในระหว่างที่ยังไม่มีการเจรจาทั้งสองฝ่ายจะอำนวยความสะดวกให้คนเดินทางไปทำงานสะดวกยิ่งขึ้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410-D47D-4E1A-90FC-83E0DE5A806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ccff"/>
                </a:solidFill>
                <a:latin typeface="Angsana New"/>
                <a:cs typeface="JasmineUPC"/>
              </a:rPr>
              <a:t>ไทย </a:t>
            </a:r>
            <a:r>
              <a:rPr b="1" lang="th-TH" sz="4400" spc="-1" strike="noStrike">
                <a:solidFill>
                  <a:srgbClr val="ccccff"/>
                </a:solidFill>
                <a:latin typeface="Angsana New"/>
                <a:ea typeface="JasmineUPC"/>
              </a:rPr>
              <a:t>- </a:t>
            </a:r>
            <a:r>
              <a:rPr b="1" lang="th-TH" sz="4400" spc="-1" strike="noStrike">
                <a:solidFill>
                  <a:srgbClr val="ccccff"/>
                </a:solidFill>
                <a:latin typeface="Angsana New"/>
                <a:cs typeface="JasmineUPC"/>
              </a:rPr>
              <a:t>นิวซีแลนด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ffcccc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cc"/>
                </a:solidFill>
                <a:latin typeface="JasmineUPC"/>
              </a:rPr>
              <a:t>การลดภาษีของไท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cc"/>
                </a:solidFill>
                <a:latin typeface="JasmineUPC"/>
              </a:rPr>
              <a:t>   </a:t>
            </a:r>
            <a:r>
              <a:rPr b="1" lang="th-TH" sz="2800" spc="-1" strike="noStrike">
                <a:solidFill>
                  <a:srgbClr val="ffcccc"/>
                </a:solidFill>
                <a:latin typeface="JasmineUPC"/>
              </a:rPr>
              <a:t>-</a:t>
            </a:r>
            <a:r>
              <a:rPr b="1" lang="th-TH" sz="2800" spc="-1" strike="noStrike">
                <a:solidFill>
                  <a:srgbClr val="ffcccc"/>
                </a:solidFill>
                <a:latin typeface="JasmineUPC"/>
              </a:rPr>
              <a:t>มีระยะเวลาลดที่นานกว่านิวซีแลนด์ โดยทยอยลดเป็น </a:t>
            </a:r>
            <a:r>
              <a:rPr b="1" lang="th-TH" sz="2800" spc="-1" strike="noStrike">
                <a:solidFill>
                  <a:srgbClr val="ffcccc"/>
                </a:solidFill>
                <a:latin typeface="JasmineUPC"/>
              </a:rPr>
              <a:t>0</a:t>
            </a:r>
            <a:r>
              <a:rPr b="1" lang="th-TH" sz="2800" spc="-1" strike="noStrike">
                <a:solidFill>
                  <a:srgbClr val="ffcccc"/>
                </a:solidFill>
                <a:latin typeface="JasmineUPC"/>
              </a:rPr>
              <a:t>ทุกรายการภายใน </a:t>
            </a:r>
            <a:r>
              <a:rPr b="1" lang="th-TH" sz="2800" spc="-1" strike="noStrike">
                <a:solidFill>
                  <a:srgbClr val="ffcccc"/>
                </a:solidFill>
                <a:latin typeface="JasmineUPC"/>
              </a:rPr>
              <a:t>20 </a:t>
            </a:r>
            <a:r>
              <a:rPr b="1" lang="th-TH" sz="2800" spc="-1" strike="noStrike">
                <a:solidFill>
                  <a:srgbClr val="ffcccc"/>
                </a:solidFill>
                <a:latin typeface="JasmineUPC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    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ไทยลดภาษีเหลือ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</a:rPr>
              <a:t>0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</a:rPr>
              <a:t>54%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ของรายการสินค้าทั้งหมดครอบคลุมสินค้าเกษตร และอุตสาหกรรม เช่น อัญมณี และ หนังดิบ หนังฟอ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    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ทยอยลดภาษีเป็น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ในปี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2553(2010)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เช่น ผลิตภัณฑ์หนัง รองเท้าหนังและเครื่องประดับอัญมณี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เงิน โลหะมีค่า และเครื่องประดับเทียม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    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สินค้าอ่อนไหวของไทยทยอยลดภาษีเป็น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ในปี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2558-2563(2015-2020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       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เช่น ผลิตภัณฑ์หนังอื่นๆ</a:t>
            </a:r>
            <a:r>
              <a:rPr b="1" lang="th-TH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(</a:t>
            </a:r>
            <a:r>
              <a:rPr b="1" lang="en-US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HS 420500) </a:t>
            </a:r>
            <a:r>
              <a:rPr b="1" lang="en-US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ไฟเบอร์บอร์ด สิ่งทอ เสื้อผ้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สำหรับสินค้าที่เป็น </a:t>
            </a:r>
            <a:r>
              <a:rPr b="1" lang="en-US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0 </a:t>
            </a:r>
            <a:r>
              <a:rPr b="1" lang="en-US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ในปี</a:t>
            </a:r>
            <a:r>
              <a:rPr b="1" lang="en-US" sz="2800" spc="-1" strike="noStrike">
                <a:solidFill>
                  <a:srgbClr val="ffcccc"/>
                </a:solidFill>
                <a:latin typeface="Angsana New"/>
                <a:ea typeface="JasmineUPC"/>
              </a:rPr>
              <a:t>2568(2025) </a:t>
            </a:r>
            <a:r>
              <a:rPr b="1" lang="en-US" sz="2800" spc="-1" strike="noStrike">
                <a:solidFill>
                  <a:srgbClr val="ffcccc"/>
                </a:solidFill>
                <a:latin typeface="Angsana New"/>
                <a:cs typeface="JasmineUPC"/>
              </a:rPr>
              <a:t>เช่น นม ครีม นมผงขาดมันเน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7FE-4266-426E-9819-64ECA1A073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JasmineUPC"/>
              </a:rPr>
              <a:t>เขตการค้าเสรี </a:t>
            </a:r>
            <a:r>
              <a:rPr b="1" lang="en-US" sz="4000" spc="-1" strike="noStrike">
                <a:solidFill>
                  <a:srgbClr val="ffff00"/>
                </a:solidFill>
                <a:latin typeface="JasmineUPC"/>
              </a:rPr>
              <a:t>(Free Trade Area : FTA)</a:t>
            </a:r>
            <a:r>
              <a:rPr b="1" lang="hi-IN" sz="4000" spc="-1" strike="noStrike">
                <a:solidFill>
                  <a:srgbClr val="ffff00"/>
                </a:solidFill>
                <a:latin typeface="JasmineUPC"/>
              </a:rPr>
              <a:t>คืออะไ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ccff"/>
                </a:solidFill>
                <a:latin typeface="JasmineUPC"/>
              </a:rPr>
              <a:t> 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เป็นความตกลงระหว่างสองประเทศขึ้นไป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 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เพื่อขยายการค้า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/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การลงทุนระหว่างกัน  และสร้า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     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พันธมิตรทางเศรษฐกิจ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พยายามลดอุปสรรคด้านภาษี และไม่ใช่ภาษีให้เหลือน้อยที่สุด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ประเทศคู่สัญญาสามารถเจรจากันได้ว่าจะลดภาษีให้แก่กันในสินค้าใด ลดอย่างไร และใช้ระยะเวลาในการลดนานเท่าใด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ขอบเขตของ </a:t>
            </a:r>
            <a:r>
              <a:rPr b="1" lang="en-US" sz="3200" spc="-1" strike="noStrike">
                <a:solidFill>
                  <a:srgbClr val="ffccff"/>
                </a:solidFill>
                <a:latin typeface="JasmineUPC"/>
              </a:rPr>
              <a:t>FTA 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ครอบคลุมทั้งสินค้า บริการ การลงทุน และความร่วมมือทางเศรษฐกิจ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/</a:t>
            </a:r>
            <a:r>
              <a:rPr b="1" lang="th-TH" sz="3200" spc="-1" strike="noStrike">
                <a:solidFill>
                  <a:srgbClr val="ffccff"/>
                </a:solidFill>
                <a:latin typeface="JasmineUPC"/>
              </a:rPr>
              <a:t>การค้าต่างๆ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AB7-79E6-4070-9F1C-B3CCEBD10C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ccff"/>
                </a:solidFill>
                <a:latin typeface="Angsana New"/>
                <a:cs typeface="JasmineUPC"/>
              </a:rPr>
              <a:t>ไทย </a:t>
            </a:r>
            <a:r>
              <a:rPr b="1" lang="th-TH" sz="4400" spc="-1" strike="noStrike">
                <a:solidFill>
                  <a:srgbClr val="ccccff"/>
                </a:solidFill>
                <a:latin typeface="Angsana New"/>
                <a:ea typeface="JasmineUPC"/>
              </a:rPr>
              <a:t>- </a:t>
            </a:r>
            <a:r>
              <a:rPr b="1" lang="th-TH" sz="4400" spc="-1" strike="noStrike">
                <a:solidFill>
                  <a:srgbClr val="ccccff"/>
                </a:solidFill>
                <a:latin typeface="Angsana New"/>
                <a:cs typeface="JasmineUPC"/>
              </a:rPr>
              <a:t>นิวซีแลนด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99"/>
                </a:solidFill>
                <a:latin typeface="JasmineUPC"/>
              </a:rPr>
              <a:t>การลดภาษีของนิวซีแลนด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99"/>
                </a:solidFill>
                <a:latin typeface="JasmineUPC"/>
              </a:rPr>
              <a:t>  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นิวซีแลนด์ลดภาษีเหลือ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</a:rPr>
              <a:t>0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79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</a:rPr>
              <a:t>%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ของรายการสินค้าทั้งหมดครอบคลุมสินค้าเกษตร และอุตสาหกรรม เช่น อัญมณี และ หนังดิบ หนังฟอก และผลิตภัณฑ์หนังบางรายกา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    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ทยอยลดภาษีเป็น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ในปี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2553(2010)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เช่น เครื่องประดับอัญมณี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    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สินค้าอ่อนไหวของนิวซีแลนด์ทยอยลดภาษีเป็น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ในปี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2558 (2015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     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ทั้งนี้ รองเท้าหนัง ทยอยลดภาษีจากร้อยละ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16-17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ในปี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2548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เป็น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2558</a:t>
            </a:r>
            <a:r>
              <a:rPr b="1" lang="en-US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ผลิตภัณฑ์หนังที่เป็นเครื่องแต่งกาย ทยอยลดภาษีจากร้อยละ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5.5-14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ในปี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2548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เป็น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ea typeface="JasmineUPC"/>
              </a:rPr>
              <a:t>2558    </a:t>
            </a:r>
            <a:r>
              <a:rPr b="1" lang="th-TH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นอกจากนี้  เช่น </a:t>
            </a:r>
            <a:r>
              <a:rPr b="1" lang="en-US" sz="2800" spc="-1" strike="noStrike">
                <a:solidFill>
                  <a:srgbClr val="ffff99"/>
                </a:solidFill>
                <a:latin typeface="Angsana New"/>
                <a:cs typeface="JasmineUPC"/>
              </a:rPr>
              <a:t>สิ่งทอ  เสื้อผ้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399-F664-44A5-B474-F5F78BF015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3399"/>
                </a:solidFill>
                <a:latin typeface="Angsana New"/>
                <a:cs typeface="JasmineUPC"/>
              </a:rPr>
              <a:t>การส่งออก อัญมณี</a:t>
            </a:r>
            <a:r>
              <a:rPr b="1" lang="th-TH" sz="4000" spc="-1" strike="noStrike">
                <a:solidFill>
                  <a:srgbClr val="ff3399"/>
                </a:solidFill>
                <a:latin typeface="Angsana New"/>
                <a:ea typeface="JasmineUPC"/>
              </a:rPr>
              <a:t>/</a:t>
            </a:r>
            <a:r>
              <a:rPr b="1" lang="th-TH" sz="4000" spc="-1" strike="noStrike">
                <a:solidFill>
                  <a:srgbClr val="ff3399"/>
                </a:solidFill>
                <a:latin typeface="Angsana New"/>
                <a:cs typeface="JasmineUPC"/>
              </a:rPr>
              <a:t>เครื่องหนัง</a:t>
            </a:r>
            <a:br>
              <a:rPr sz="4000"/>
            </a:br>
            <a:r>
              <a:rPr b="1" lang="th-TH" sz="4000" spc="-1" strike="noStrike">
                <a:solidFill>
                  <a:srgbClr val="ff3399"/>
                </a:solidFill>
                <a:latin typeface="Angsana New"/>
                <a:cs typeface="JasmineUPC"/>
              </a:rPr>
              <a:t>ของไทยไปนิวซีแลนด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11280" y="1989000"/>
            <a:ext cx="7848360" cy="4752720"/>
            <a:chOff x="611280" y="1989000"/>
            <a:chExt cx="7848360" cy="4752720"/>
          </a:xfrm>
        </p:grpSpPr>
        <p:sp>
          <p:nvSpPr>
            <p:cNvPr id="230" name=""/>
            <p:cNvSpPr/>
            <p:nvPr/>
          </p:nvSpPr>
          <p:spPr>
            <a:xfrm>
              <a:off x="6659640" y="2955960"/>
              <a:ext cx="180000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9.4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88000" y="2955960"/>
              <a:ext cx="1871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0920" y="2955960"/>
              <a:ext cx="129708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280" y="2955960"/>
              <a:ext cx="2879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และ 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และผลิตภัณฑ์หนังฟอกหนังอัด 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องเท้าหนั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59640" y="1989000"/>
              <a:ext cx="180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88000" y="1989000"/>
              <a:ext cx="1871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90920" y="1989000"/>
              <a:ext cx="1297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989000"/>
              <a:ext cx="2879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98900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280" y="295596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280" y="674172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9092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964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1280" y="198900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59640" y="198900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00ff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9900ff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7EA-1D9B-4217-9526-40A7FD974D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99"/>
                </a:solidFill>
                <a:latin typeface="Angsana New"/>
                <a:cs typeface="JasmineUPC"/>
              </a:rPr>
              <a:t>การนำเข้า อัญมณี</a:t>
            </a:r>
            <a:r>
              <a:rPr b="1" lang="th-TH" sz="3600" spc="-1" strike="noStrike">
                <a:solidFill>
                  <a:srgbClr val="ff3399"/>
                </a:solidFill>
                <a:latin typeface="Angsana New"/>
                <a:ea typeface="JasmineUPC"/>
              </a:rPr>
              <a:t>/</a:t>
            </a:r>
            <a:r>
              <a:rPr b="1" lang="th-TH" sz="3600" spc="-1" strike="noStrike">
                <a:solidFill>
                  <a:srgbClr val="ff3399"/>
                </a:solidFill>
                <a:latin typeface="Angsana New"/>
                <a:cs typeface="JasmineUPC"/>
              </a:rPr>
              <a:t>เครื่องหนัง</a:t>
            </a:r>
            <a:br>
              <a:rPr sz="3600"/>
            </a:br>
            <a:r>
              <a:rPr b="1" lang="th-TH" sz="3600" spc="-1" strike="noStrike">
                <a:solidFill>
                  <a:srgbClr val="ff3399"/>
                </a:solidFill>
                <a:latin typeface="Angsana New"/>
                <a:cs typeface="JasmineUPC"/>
              </a:rPr>
              <a:t>ของไทยจากนิวซีแลนด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7200" y="2205000"/>
            <a:ext cx="8136000" cy="4119480"/>
            <a:chOff x="457200" y="2205000"/>
            <a:chExt cx="8136000" cy="4119480"/>
          </a:xfrm>
        </p:grpSpPr>
        <p:sp>
          <p:nvSpPr>
            <p:cNvPr id="254" name=""/>
            <p:cNvSpPr/>
            <p:nvPr/>
          </p:nvSpPr>
          <p:spPr>
            <a:xfrm>
              <a:off x="6708600" y="2765520"/>
              <a:ext cx="188460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6.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51280" y="2765520"/>
              <a:ext cx="1957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.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5520" y="2765520"/>
              <a:ext cx="135576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.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2765520"/>
              <a:ext cx="2938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พชรพลอ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 เงินแท่ง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ทองคำ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ดิบ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ฟอก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8600" y="22050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51280" y="2205000"/>
              <a:ext cx="1957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95520" y="2205000"/>
              <a:ext cx="13557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2205000"/>
              <a:ext cx="2938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2205000"/>
              <a:ext cx="813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276552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632448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9552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128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860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93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00ff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9900ff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500-0926-4E52-B5A3-482A8E6EB7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24000" y="228600"/>
            <a:ext cx="4419720" cy="106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hi-IN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อาเซียน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  <a:ea typeface="JasmineUPC"/>
              </a:rPr>
              <a:t>- </a:t>
            </a:r>
            <a:r>
              <a:rPr b="1" lang="hi-IN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จี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752480"/>
            <a:ext cx="8534520" cy="48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indent="-484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600200"/>
            <a:ext cx="81374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เร่งลดภาษีสินค้าเกษตรกลุ่มแรก ตอนที่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01-08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ตั้งแต่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1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มกราคม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547(2004)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ภาษีจะลดเหลือ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0%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ภายในปี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549(2006)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ก่อนหน้านี้ ไทย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ีนลดภาษีผัก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/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ผลไม้เป็น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0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ตั้งแต่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1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มกราคม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546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ลงนามความตกลงเปิดเสรีการค้าสินค้าเมื่อวันที่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วันที่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9</a:t>
            </a:r>
            <a:r>
              <a:rPr b="0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พฤศจิกายน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547 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เริ่มลดภาษี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0</a:t>
            </a:r>
            <a:r>
              <a:rPr b="0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กรกฎาคม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548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ภาษีจะลดเหลือ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0%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400" spc="-1" strike="noStrike">
                <a:solidFill>
                  <a:srgbClr val="ffff00"/>
                </a:solidFill>
                <a:latin typeface="Angsana New"/>
                <a:ea typeface="JasmineUPC"/>
              </a:rPr>
              <a:t>2553 (2010)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CC4-33A3-4EF0-85F2-A9F75864B1FF}" type="slidenum">
              <a:t>23</a:t>
            </a:fld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6600"/>
                </a:solidFill>
                <a:latin typeface="Angsana New"/>
                <a:cs typeface="JasmineUPC"/>
              </a:rPr>
              <a:t>รูปแบบการลด</a:t>
            </a:r>
            <a:r>
              <a:rPr b="1" lang="th-TH" sz="4000" spc="-1" strike="noStrike">
                <a:solidFill>
                  <a:srgbClr val="336600"/>
                </a:solidFill>
                <a:latin typeface="Angsana New"/>
                <a:ea typeface="JasmineUPC"/>
              </a:rPr>
              <a:t>/</a:t>
            </a:r>
            <a:r>
              <a:rPr b="1" lang="th-TH" sz="4000" spc="-1" strike="noStrike">
                <a:solidFill>
                  <a:srgbClr val="336600"/>
                </a:solidFill>
                <a:latin typeface="Angsana New"/>
                <a:cs typeface="JasmineUPC"/>
              </a:rPr>
              <a:t>เลิกภาษีของสินค้า </a:t>
            </a:r>
            <a:r>
              <a:rPr b="1" lang="en-US" sz="4000" spc="-1" strike="noStrike">
                <a:solidFill>
                  <a:srgbClr val="336600"/>
                </a:solidFill>
                <a:latin typeface="Angsana New"/>
                <a:ea typeface="JasmineUPC"/>
              </a:rPr>
              <a:t>Early Harvest</a:t>
            </a:r>
            <a:br>
              <a:rPr sz="4000"/>
            </a:br>
            <a:r>
              <a:rPr b="1" lang="th-TH" sz="4000" spc="-1" strike="noStrike">
                <a:solidFill>
                  <a:srgbClr val="336600"/>
                </a:solidFill>
                <a:latin typeface="Angsana New"/>
                <a:cs typeface="JasmineUPC"/>
              </a:rPr>
              <a:t>ภายใต้ </a:t>
            </a:r>
            <a:r>
              <a:rPr b="1" lang="en-US" sz="4000" spc="-1" strike="noStrike">
                <a:solidFill>
                  <a:srgbClr val="336600"/>
                </a:solidFill>
                <a:latin typeface="Angsana New"/>
                <a:ea typeface="JasmineUPC"/>
              </a:rPr>
              <a:t>FTA </a:t>
            </a:r>
            <a:r>
              <a:rPr b="1" lang="th-TH" sz="4000" spc="-1" strike="noStrike">
                <a:solidFill>
                  <a:srgbClr val="336600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4000" spc="-1" strike="noStrike">
                <a:solidFill>
                  <a:srgbClr val="336600"/>
                </a:solidFill>
                <a:latin typeface="Angsana New"/>
                <a:ea typeface="JasmineUPC"/>
              </a:rPr>
              <a:t>-</a:t>
            </a:r>
            <a:r>
              <a:rPr b="1" lang="th-TH" sz="4000" spc="-1" strike="noStrike">
                <a:solidFill>
                  <a:srgbClr val="336600"/>
                </a:solidFill>
                <a:latin typeface="Angsana New"/>
                <a:cs typeface="JasmineUPC"/>
              </a:rPr>
              <a:t>จี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68360" y="2133720"/>
            <a:ext cx="8229600" cy="3267000"/>
            <a:chOff x="468360" y="2133720"/>
            <a:chExt cx="8229600" cy="3267000"/>
          </a:xfrm>
        </p:grpSpPr>
        <p:sp>
          <p:nvSpPr>
            <p:cNvPr id="281" name=""/>
            <p:cNvSpPr/>
            <p:nvPr/>
          </p:nvSpPr>
          <p:spPr>
            <a:xfrm>
              <a:off x="7164360" y="4754520"/>
              <a:ext cx="1533600" cy="64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80000" y="4754520"/>
              <a:ext cx="1584360" cy="64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4880" y="4754520"/>
              <a:ext cx="1635120" cy="64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8360" y="4754520"/>
              <a:ext cx="3476520" cy="64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0%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&lt;</a:t>
              </a: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 X &lt; 5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4360" y="4079880"/>
              <a:ext cx="153360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80000" y="4079880"/>
              <a:ext cx="158436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44880" y="4079880"/>
              <a:ext cx="163512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360" y="4079880"/>
              <a:ext cx="347652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5%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&lt;</a:t>
              </a: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 X &lt; 15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64360" y="3435480"/>
              <a:ext cx="1533600" cy="64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80000" y="3435480"/>
              <a:ext cx="1584360" cy="64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44880" y="3435480"/>
              <a:ext cx="1635120" cy="64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8360" y="3435480"/>
              <a:ext cx="3476520" cy="64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X &gt; 15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4360" y="2792520"/>
              <a:ext cx="153360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549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80000" y="2792520"/>
              <a:ext cx="15843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548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44880" y="2792520"/>
              <a:ext cx="1635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547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44880" y="2133720"/>
              <a:ext cx="4753080" cy="65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ตราภาษี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%)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8360" y="2133720"/>
              <a:ext cx="3476520" cy="130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X=Applied MFN tariff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ณ วันที่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1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กรกฎาคม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2546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360" y="343548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407988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8360" y="475452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44880" y="2133720"/>
              <a:ext cx="0" cy="32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44880" y="2792520"/>
              <a:ext cx="47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80000" y="2792520"/>
              <a:ext cx="0" cy="260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4360" y="2792520"/>
              <a:ext cx="0" cy="260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360" y="21337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360" y="2133720"/>
              <a:ext cx="0" cy="3267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97960" y="2133720"/>
              <a:ext cx="0" cy="3267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360" y="54007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5AC-C4CD-4284-A4FE-80D9CA7038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6633"/>
                </a:solidFill>
                <a:latin typeface="Angsana New"/>
                <a:cs typeface="JasmineUPC"/>
              </a:rPr>
              <a:t>รูปแบบการลด</a:t>
            </a:r>
            <a:r>
              <a:rPr b="1" lang="th-TH" sz="4000" spc="-1" strike="noStrike">
                <a:solidFill>
                  <a:srgbClr val="996633"/>
                </a:solidFill>
                <a:latin typeface="Angsana New"/>
                <a:ea typeface="JasmineUPC"/>
              </a:rPr>
              <a:t>/</a:t>
            </a:r>
            <a:r>
              <a:rPr b="1" lang="th-TH" sz="4000" spc="-1" strike="noStrike">
                <a:solidFill>
                  <a:srgbClr val="996633"/>
                </a:solidFill>
                <a:latin typeface="Angsana New"/>
                <a:cs typeface="JasmineUPC"/>
              </a:rPr>
              <a:t>เลิกภาษีของสินค้าปกติ</a:t>
            </a:r>
            <a:br>
              <a:rPr sz="4000"/>
            </a:br>
            <a:r>
              <a:rPr b="1" lang="th-TH" sz="4000" spc="-1" strike="noStrike">
                <a:solidFill>
                  <a:srgbClr val="996633"/>
                </a:solidFill>
                <a:latin typeface="Angsana New"/>
                <a:cs typeface="JasmineUPC"/>
              </a:rPr>
              <a:t>ภายใต้ </a:t>
            </a:r>
            <a:r>
              <a:rPr b="1" lang="en-US" sz="4000" spc="-1" strike="noStrike">
                <a:solidFill>
                  <a:srgbClr val="996633"/>
                </a:solidFill>
                <a:latin typeface="Angsana New"/>
                <a:ea typeface="JasmineUPC"/>
              </a:rPr>
              <a:t>FTA </a:t>
            </a:r>
            <a:r>
              <a:rPr b="1" lang="th-TH" sz="4000" spc="-1" strike="noStrike">
                <a:solidFill>
                  <a:srgbClr val="996633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4000" spc="-1" strike="noStrike">
                <a:solidFill>
                  <a:srgbClr val="996633"/>
                </a:solidFill>
                <a:latin typeface="Angsana New"/>
                <a:ea typeface="JasmineUPC"/>
              </a:rPr>
              <a:t>-</a:t>
            </a:r>
            <a:r>
              <a:rPr b="1" lang="th-TH" sz="4000" spc="-1" strike="noStrike">
                <a:solidFill>
                  <a:srgbClr val="996633"/>
                </a:solidFill>
                <a:latin typeface="Angsana New"/>
                <a:cs typeface="JasmineUPC"/>
              </a:rPr>
              <a:t>จี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57200" y="1600200"/>
            <a:ext cx="8229600" cy="4781520"/>
            <a:chOff x="457200" y="1600200"/>
            <a:chExt cx="8229600" cy="4781520"/>
          </a:xfrm>
        </p:grpSpPr>
        <p:sp>
          <p:nvSpPr>
            <p:cNvPr id="311" name=""/>
            <p:cNvSpPr/>
            <p:nvPr/>
          </p:nvSpPr>
          <p:spPr>
            <a:xfrm>
              <a:off x="7551720" y="5192640"/>
              <a:ext cx="1135080" cy="59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45360" y="5192640"/>
              <a:ext cx="1206360" cy="59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33720" y="5192640"/>
              <a:ext cx="2411640" cy="59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คงอัตราภาษี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7200" y="5192640"/>
              <a:ext cx="3476520" cy="59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X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&lt;</a:t>
              </a: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 5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" y="5786280"/>
              <a:ext cx="822960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ไม่เกิน 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150 </a:t>
              </a: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 ยืดหยุ่นให้ยกเลิกภาษีได้ภายในวันที่ 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1 </a:t>
              </a: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กราคม 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2555(2012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51720" y="4602240"/>
              <a:ext cx="113508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5360" y="4602240"/>
              <a:ext cx="120636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40440" y="4602240"/>
              <a:ext cx="120492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33720" y="4602240"/>
              <a:ext cx="120672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7200" y="4602240"/>
              <a:ext cx="347652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5% &lt; X &lt; 10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51720" y="4006800"/>
              <a:ext cx="113508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45360" y="4006800"/>
              <a:ext cx="120636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40440" y="4006800"/>
              <a:ext cx="120492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33720" y="4006800"/>
              <a:ext cx="120672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" y="4006800"/>
              <a:ext cx="347652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10%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&lt;</a:t>
              </a: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 X &lt; 15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1720" y="3411360"/>
              <a:ext cx="113508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45360" y="3411360"/>
              <a:ext cx="120636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40440" y="3411360"/>
              <a:ext cx="120492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3720" y="3411360"/>
              <a:ext cx="120672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7200" y="3411360"/>
              <a:ext cx="3476520" cy="59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15%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&lt;</a:t>
              </a: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 X &lt; 20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51720" y="2819520"/>
              <a:ext cx="1135080" cy="5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45360" y="2819520"/>
              <a:ext cx="1206360" cy="5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40440" y="2819520"/>
              <a:ext cx="1204920" cy="5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33720" y="2819520"/>
              <a:ext cx="1206720" cy="5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" y="2819520"/>
              <a:ext cx="3476520" cy="5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X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&gt;</a:t>
              </a: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 20%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51720" y="2206800"/>
              <a:ext cx="113508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553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45360" y="2206800"/>
              <a:ext cx="12063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552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40440" y="2206800"/>
              <a:ext cx="12049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550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3720" y="2206800"/>
              <a:ext cx="1206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rial"/>
                </a:rPr>
                <a:t>2548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33720" y="1600200"/>
              <a:ext cx="4753080" cy="60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ตราภาษี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%)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" y="1600200"/>
              <a:ext cx="34765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X=Applied MFN tariff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ณ วันที่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1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กรกฎาคม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2546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" y="281952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341136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7200" y="400680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7200" y="460224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200" y="519264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" y="63817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33720" y="1600200"/>
              <a:ext cx="0" cy="418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33720" y="2206800"/>
              <a:ext cx="47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40440" y="2206800"/>
              <a:ext cx="0" cy="29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45360" y="2206800"/>
              <a:ext cx="0" cy="35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51720" y="2206800"/>
              <a:ext cx="0" cy="35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200" y="578628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200" y="1600200"/>
              <a:ext cx="0" cy="4781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86800" y="1600200"/>
              <a:ext cx="0" cy="4781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356-B052-4FDE-948D-CC6FA27D76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รูปแบบการลด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JasmineUPC"/>
              </a:rPr>
              <a:t>/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เลิกภาษีของสินค้าอ่อนไหว</a:t>
            </a:r>
            <a:br>
              <a:rPr sz="4000"/>
            </a:b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ภายใต้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JasmineUPC"/>
              </a:rPr>
              <a:t>FTA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JasmineUPC"/>
              </a:rPr>
              <a:t>-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JasmineUPC"/>
              </a:rPr>
              <a:t>จี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33520" y="2057400"/>
            <a:ext cx="8229600" cy="3838680"/>
            <a:chOff x="533520" y="2057400"/>
            <a:chExt cx="8229600" cy="3838680"/>
          </a:xfrm>
        </p:grpSpPr>
        <p:sp>
          <p:nvSpPr>
            <p:cNvPr id="359" name=""/>
            <p:cNvSpPr/>
            <p:nvPr/>
          </p:nvSpPr>
          <p:spPr>
            <a:xfrm>
              <a:off x="4010040" y="2057400"/>
              <a:ext cx="4753080" cy="64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พดานอัตราภาษี</a:t>
              </a: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</a:rPr>
                <a:t>%)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520" y="2057400"/>
              <a:ext cx="3476520" cy="64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กลุ่ม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0040" y="5256360"/>
              <a:ext cx="475308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520" y="5256360"/>
              <a:ext cx="347652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ปี </a:t>
              </a: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2558 (2015)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10040" y="4616640"/>
              <a:ext cx="475308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520" y="4616640"/>
              <a:ext cx="347652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7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สินค้าอ่อนไหวสูง</a:t>
              </a:r>
              <a:r>
                <a:rPr b="1" lang="th-TH" sz="27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</a:t>
              </a:r>
              <a:r>
                <a:rPr b="1" lang="th-TH" sz="27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ไ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่เกิน 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100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10040" y="3976920"/>
              <a:ext cx="475308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0-5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3976920"/>
              <a:ext cx="347652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ปี </a:t>
              </a: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2561 (2018)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10040" y="3337200"/>
              <a:ext cx="475308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3337200"/>
              <a:ext cx="347652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ปี </a:t>
              </a: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2555 (2012)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0040" y="2697480"/>
              <a:ext cx="475308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2697480"/>
              <a:ext cx="347652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สินค้าอ่อนไหว</a:t>
              </a: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</a:t>
              </a: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ไม่เกิน </a:t>
              </a: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400</a:t>
              </a: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333720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520" y="397692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461664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525636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10040" y="2057400"/>
              <a:ext cx="0" cy="383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3520" y="269748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3520" y="20574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520" y="2057400"/>
              <a:ext cx="0" cy="3838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63120" y="2057400"/>
              <a:ext cx="0" cy="3838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520" y="589608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4F4-41ED-41F8-9353-19AE57D7E3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ffff"/>
                </a:solidFill>
                <a:latin typeface="JasmineUPC"/>
              </a:rPr>
              <a:t>การลดภาษีสินค้าอัญมณีและเครื่องหนัง</a:t>
            </a:r>
            <a:br>
              <a:rPr sz="4400"/>
            </a:br>
            <a:r>
              <a:rPr b="0" lang="th-TH" sz="4400" spc="-1" strike="noStrike">
                <a:solidFill>
                  <a:srgbClr val="66ffff"/>
                </a:solidFill>
                <a:latin typeface="JasmineUPC"/>
              </a:rPr>
              <a:t>อาเซียน</a:t>
            </a:r>
            <a:r>
              <a:rPr b="0" lang="th-TH" sz="4400" spc="-1" strike="noStrike">
                <a:solidFill>
                  <a:srgbClr val="66ffff"/>
                </a:solidFill>
                <a:latin typeface="JasmineUPC"/>
              </a:rPr>
              <a:t>-</a:t>
            </a:r>
            <a:r>
              <a:rPr b="0" lang="th-TH" sz="4400" spc="-1" strike="noStrike">
                <a:solidFill>
                  <a:srgbClr val="66ffff"/>
                </a:solidFill>
                <a:latin typeface="JasmineUPC"/>
              </a:rPr>
              <a:t>จี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51"/>
              </a:spcBef>
              <a:buClr>
                <a:srgbClr val="ff99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ไทย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   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-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อัญมณีและเครื่องประดับ ส่วนใหญ่ภาษีเป็น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   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-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หนังดิบ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/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หนังฟอก และเครื่องหนัง ลดเป็น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0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ในปี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2553(2010)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     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ขณะที่หนังฟอกและหนังอัดบางรายการเป็น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0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ในปี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2552 (2009)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   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-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รองเท้าหนัง และเครื่องประดับเทียม เป็นสินค้าอ่อนไหว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      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ทยอยลดจนมีภาษี เหลือร้อยละ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5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ในปี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2561(2018)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lnSpc>
                <a:spcPct val="100000"/>
              </a:lnSpc>
              <a:spcBef>
                <a:spcPts val="751"/>
              </a:spcBef>
              <a:buClr>
                <a:srgbClr val="ff99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จีน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  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อัญมณีและเครื่องหนังลดภาษีตามสูตร เช่น ทับทิมและมรกต ลดภาษี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  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จากเดิมร้อยละ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8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เหลือร้อยละ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5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ในปี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2548-2550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เป็น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0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ปี </a:t>
            </a:r>
            <a:r>
              <a:rPr b="1" lang="th-TH" sz="3000" spc="-1" strike="noStrike">
                <a:solidFill>
                  <a:srgbClr val="ff99ff"/>
                </a:solidFill>
                <a:latin typeface="JasmineUPC"/>
              </a:rPr>
              <a:t>2552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EF2-F6AB-4602-BF32-02B57667E0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00cc"/>
                </a:solidFill>
                <a:latin typeface="Angsana New"/>
                <a:cs typeface="JasmineUPC"/>
              </a:rPr>
              <a:t>การส่งออก อัญมณี</a:t>
            </a:r>
            <a:r>
              <a:rPr b="1" lang="th-TH" sz="4000" spc="-1" strike="noStrike">
                <a:solidFill>
                  <a:srgbClr val="cc00cc"/>
                </a:solidFill>
                <a:latin typeface="Angsana New"/>
                <a:ea typeface="JasmineUPC"/>
              </a:rPr>
              <a:t>/</a:t>
            </a:r>
            <a:r>
              <a:rPr b="1" lang="th-TH" sz="4000" spc="-1" strike="noStrike">
                <a:solidFill>
                  <a:srgbClr val="cc00cc"/>
                </a:solidFill>
                <a:latin typeface="Angsana New"/>
                <a:cs typeface="JasmineUPC"/>
              </a:rPr>
              <a:t>เครื่องหนัง</a:t>
            </a:r>
            <a:br>
              <a:rPr sz="4000"/>
            </a:br>
            <a:r>
              <a:rPr b="1" lang="th-TH" sz="4000" spc="-1" strike="noStrike">
                <a:solidFill>
                  <a:srgbClr val="cc00cc"/>
                </a:solidFill>
                <a:latin typeface="Angsana New"/>
                <a:cs typeface="JasmineUPC"/>
              </a:rPr>
              <a:t>ของไทยไปจี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1280" y="1989000"/>
            <a:ext cx="7848360" cy="4752720"/>
            <a:chOff x="611280" y="1989000"/>
            <a:chExt cx="7848360" cy="4752720"/>
          </a:xfrm>
        </p:grpSpPr>
        <p:sp>
          <p:nvSpPr>
            <p:cNvPr id="385" name=""/>
            <p:cNvSpPr/>
            <p:nvPr/>
          </p:nvSpPr>
          <p:spPr>
            <a:xfrm>
              <a:off x="6659640" y="2955960"/>
              <a:ext cx="180000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6.4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54.9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5.0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8000" y="2955960"/>
              <a:ext cx="1871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1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14.1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3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90920" y="2955960"/>
              <a:ext cx="129708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2.1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8.5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280" y="2955960"/>
              <a:ext cx="2879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และ 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และผลิตภัณฑ์หนังฟอกหนังอัด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องเท้าหนั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59640" y="1989000"/>
              <a:ext cx="180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88000" y="1989000"/>
              <a:ext cx="1871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90920" y="1989000"/>
              <a:ext cx="1297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1280" y="1989000"/>
              <a:ext cx="2879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280" y="198900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1280" y="295596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1280" y="674172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9092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8800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5964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280" y="198900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59640" y="198900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cc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3333cc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2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3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5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6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6F2-4CE0-4CE5-9E45-D872345455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cc"/>
                </a:solidFill>
                <a:latin typeface="Angsana New"/>
                <a:cs typeface="JasmineUPC"/>
              </a:rPr>
              <a:t>การนำเข้า อัญมณี</a:t>
            </a:r>
            <a:r>
              <a:rPr b="1" lang="th-TH" sz="3600" spc="-1" strike="noStrike">
                <a:solidFill>
                  <a:srgbClr val="cc00cc"/>
                </a:solidFill>
                <a:latin typeface="Angsana New"/>
                <a:ea typeface="JasmineUPC"/>
              </a:rPr>
              <a:t>/</a:t>
            </a:r>
            <a:r>
              <a:rPr b="1" lang="th-TH" sz="3600" spc="-1" strike="noStrike">
                <a:solidFill>
                  <a:srgbClr val="cc00cc"/>
                </a:solidFill>
                <a:latin typeface="Angsana New"/>
                <a:cs typeface="JasmineUPC"/>
              </a:rPr>
              <a:t>เครื่องหนัง</a:t>
            </a:r>
            <a:br>
              <a:rPr sz="3600"/>
            </a:br>
            <a:r>
              <a:rPr b="1" lang="th-TH" sz="3600" spc="-1" strike="noStrike">
                <a:solidFill>
                  <a:srgbClr val="cc00cc"/>
                </a:solidFill>
                <a:latin typeface="Angsana New"/>
                <a:cs typeface="JasmineUPC"/>
              </a:rPr>
              <a:t>ของไทยจากจี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57200" y="2205000"/>
            <a:ext cx="8136000" cy="4119480"/>
            <a:chOff x="457200" y="2205000"/>
            <a:chExt cx="8136000" cy="4119480"/>
          </a:xfrm>
        </p:grpSpPr>
        <p:sp>
          <p:nvSpPr>
            <p:cNvPr id="409" name=""/>
            <p:cNvSpPr/>
            <p:nvPr/>
          </p:nvSpPr>
          <p:spPr>
            <a:xfrm>
              <a:off x="6708600" y="2765520"/>
              <a:ext cx="188460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8.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.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51280" y="2765520"/>
              <a:ext cx="1957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4.6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.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95520" y="2765520"/>
              <a:ext cx="135576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96.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.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200" y="2765520"/>
              <a:ext cx="2938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พชรพลอ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 เงินแท่ง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ทองคำ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ดิบ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ฟอก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08600" y="22050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51280" y="2205000"/>
              <a:ext cx="1957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95520" y="2205000"/>
              <a:ext cx="13557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7200" y="2205000"/>
              <a:ext cx="2938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7200" y="2205000"/>
              <a:ext cx="813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200" y="276552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632448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9552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5128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0860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93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cc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3333cc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6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9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0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0EF-8052-4DD1-8DC2-E5EA9F3233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ff99"/>
                </a:solidFill>
                <a:latin typeface="JasmineUPC"/>
              </a:rPr>
              <a:t>ทำไมไทยต้องทำ </a:t>
            </a:r>
            <a:r>
              <a:rPr b="1" lang="en-US" sz="4800" spc="-1" strike="noStrike">
                <a:solidFill>
                  <a:srgbClr val="ccff99"/>
                </a:solidFill>
                <a:latin typeface="JasmineUPC"/>
              </a:rPr>
              <a:t>FTA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JasmineUPC"/>
              </a:rPr>
              <a:t>อยู่นิ่งเฉย เท่ากับ ถดถอย หรือเป็นเพียงการตั้งรับ เราอาจสูญเสียตลาด และถูกประเทศคู่แข่งรุกรานด้านการค้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ประเทศคู่ค้าที่สำคัญ เช่น สหรัฐ ญี่ปุ่น สหภาพยุโรป ต่างทำ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FT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JasmineUPC"/>
              </a:rPr>
              <a:t>การค้าระหว่างประเทศ มีผลมากต่อการขับเคลื่อนเศรษฐกิจไท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มูลค่าการค้า การส่งออก และการนำเข้า  คิดเป็นร้อยละ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117 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,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59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และ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58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ตามลำดับ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)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ของ 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GDP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ปี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2547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JasmineUPC"/>
              </a:rPr>
              <a:t>สถานการณ์แข่งขันการค้าโลกรุนแรงและรวดเร็วมากขึ้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ไทยเสียสิทธิทางภาษีที่เคยได้ เช่น </a:t>
            </a:r>
            <a:r>
              <a:rPr b="1" lang="en-US" sz="2800" spc="-1" strike="noStrike">
                <a:solidFill>
                  <a:srgbClr val="ffcc00"/>
                </a:solidFill>
                <a:latin typeface="JasmineUPC"/>
              </a:rPr>
              <a:t>GSP  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ในขณะที่แอฟริกา  และ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   </a:t>
            </a:r>
            <a:r>
              <a:rPr b="1" lang="th-TH" sz="2800" spc="-1" strike="noStrike">
                <a:solidFill>
                  <a:srgbClr val="ffcc00"/>
                </a:solidFill>
                <a:latin typeface="JasmineUPC"/>
              </a:rPr>
              <a:t>อเมริกาใต้ยังได้อยู่  ดังนั้นไทยจึงเสียเปรียบและอาจเสียส่วนแบ่งตลา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JasmineUPC"/>
              </a:rPr>
              <a:t>“</a:t>
            </a:r>
            <a:r>
              <a:rPr b="1" lang="th-TH" sz="3200" spc="-1" strike="noStrike">
                <a:solidFill>
                  <a:srgbClr val="ffcc00"/>
                </a:solidFill>
                <a:latin typeface="JasmineUPC"/>
              </a:rPr>
              <a:t>รุก” ในส่วนที่ทำได้  จึงดีกว่ารอรับอย่างเดียว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BA5-E82F-4D16-8BC8-32DD6260A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7760" y="790200"/>
            <a:ext cx="3352680" cy="663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1" lang="hi-IN" sz="4800" spc="-1" strike="noStrike">
                <a:solidFill>
                  <a:srgbClr val="000000"/>
                </a:solidFill>
                <a:latin typeface="Cordia New"/>
                <a:cs typeface="JasmineUPC"/>
              </a:rPr>
              <a:t>ไทย </a:t>
            </a:r>
            <a:r>
              <a:rPr b="1" lang="en-US" sz="4800" spc="-1" strike="noStrike">
                <a:solidFill>
                  <a:srgbClr val="000000"/>
                </a:solidFill>
                <a:latin typeface="Cordia New"/>
                <a:ea typeface="JasmineUPC"/>
              </a:rPr>
              <a:t>- </a:t>
            </a:r>
            <a:r>
              <a:rPr b="1" lang="hi-IN" sz="4800" spc="-1" strike="noStrike">
                <a:solidFill>
                  <a:srgbClr val="ff3300"/>
                </a:solidFill>
                <a:latin typeface="Cordia New"/>
                <a:cs typeface="JasmineUPC"/>
              </a:rPr>
              <a:t>อินเดี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1844640"/>
            <a:ext cx="8515080" cy="85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99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ตกลงเร่งลดภาษีสินค้าบางส่วน จำนวน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82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รายการ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   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เช่น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ผลไม้ 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(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เงาะ  มังคุด  ลำไย  ทุเรียน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)  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อาหารทะเล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    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กระป๋อง 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เคมีภัณฑ์ อะลูมิเนียม 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เครื่องใช้ไฟฟ้า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เป็นต้น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ลดภาษีเหลือ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0</a:t>
            </a:r>
            <a:r>
              <a:rPr b="1" lang="en-US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%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ภายใน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3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ปี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99"/>
                </a:solidFill>
                <a:latin typeface="Arial Black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ตั้งแต่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กันยายน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2547(2004) - 1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กันยายน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2549(2006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ทั้งนี้ มีอัญมณีและเครื่องประดับ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4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รายการ ได้แก่ รัตนชาติ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99"/>
                </a:solidFill>
                <a:latin typeface="JasmineUPC"/>
                <a:ea typeface="JasmineUPC"/>
              </a:rPr>
              <a:t>    </a:t>
            </a:r>
            <a:r>
              <a:rPr b="1" lang="th-TH" sz="3200" spc="-1" strike="noStrike">
                <a:solidFill>
                  <a:srgbClr val="ffcc99"/>
                </a:solidFill>
                <a:latin typeface="JasmineUPC"/>
                <a:cs typeface="JasmineUPC"/>
              </a:rPr>
              <a:t>กึ่งรัตนชาติ  ฝุ่นผงของเพชร และเครื่</a:t>
            </a:r>
            <a:r>
              <a:rPr b="1" lang="th-TH" sz="3600" spc="-1" strike="noStrike">
                <a:solidFill>
                  <a:srgbClr val="ffcc99"/>
                </a:solidFill>
                <a:latin typeface="JasmineUPC"/>
                <a:cs typeface="JasmineUPC"/>
              </a:rPr>
              <a:t>องประดับแท้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99"/>
                </a:solidFill>
                <a:latin typeface="Arial Black"/>
                <a:ea typeface="JasmineUP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984-2E86-4988-BB06-BBF512123A0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ส่งออก อัญมณี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JasmineUPC"/>
              </a:rPr>
              <a:t>/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หนัง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ไทยไปอินเดี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11280" y="1989000"/>
            <a:ext cx="7848360" cy="4752720"/>
            <a:chOff x="611280" y="1989000"/>
            <a:chExt cx="7848360" cy="4752720"/>
          </a:xfrm>
        </p:grpSpPr>
        <p:sp>
          <p:nvSpPr>
            <p:cNvPr id="435" name=""/>
            <p:cNvSpPr/>
            <p:nvPr/>
          </p:nvSpPr>
          <p:spPr>
            <a:xfrm>
              <a:off x="6659640" y="2955960"/>
              <a:ext cx="180000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8.3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0.0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88000" y="2955960"/>
              <a:ext cx="1871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.9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1.6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90920" y="2955960"/>
              <a:ext cx="129708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3.0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1280" y="2955960"/>
              <a:ext cx="287964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และ 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และผลิตภัณฑ์หนังฟอกหนังอัด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องเท้าหนั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59640" y="1989000"/>
              <a:ext cx="180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8000" y="1989000"/>
              <a:ext cx="1871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30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90920" y="1989000"/>
              <a:ext cx="1297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1280" y="1989000"/>
              <a:ext cx="28796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3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1280" y="198900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1280" y="295596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1280" y="674172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9092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8800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59640" y="1989000"/>
              <a:ext cx="0" cy="47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1280" y="198900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59640" y="1989000"/>
              <a:ext cx="0" cy="475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9900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009900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F6C-A878-48BD-B0AD-769CAD618C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นำเข้า อัญมณี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JasmineUPC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หนัง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ไทยจากอินเดี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57200" y="2205000"/>
            <a:ext cx="8136000" cy="4119480"/>
            <a:chOff x="457200" y="2205000"/>
            <a:chExt cx="8136000" cy="4119480"/>
          </a:xfrm>
        </p:grpSpPr>
        <p:sp>
          <p:nvSpPr>
            <p:cNvPr id="459" name=""/>
            <p:cNvSpPr/>
            <p:nvPr/>
          </p:nvSpPr>
          <p:spPr>
            <a:xfrm>
              <a:off x="6708600" y="2765520"/>
              <a:ext cx="188460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.3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1.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3.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51280" y="2765520"/>
              <a:ext cx="1957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2.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5520" y="2765520"/>
              <a:ext cx="135576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74.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.9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7200" y="2765520"/>
              <a:ext cx="2938320" cy="35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พชรพลอ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 เงินแท่ง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ทองคำ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เครื่องประด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อัญมณี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buClr>
                  <a:srgbClr val="000000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ดิบและ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หนังฟอก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8600" y="22050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ขยายตัว 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(%)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-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2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 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51280" y="2205000"/>
              <a:ext cx="1957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ค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-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มิย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JasmineUPC"/>
                </a:rPr>
                <a:t>.4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95520" y="2205000"/>
              <a:ext cx="13557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254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" y="2205000"/>
              <a:ext cx="2938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  <a:cs typeface="JasmineUPC"/>
                </a:rPr>
                <a:t>รายการ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200" y="2205000"/>
              <a:ext cx="813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7200" y="276552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7200" y="6324480"/>
              <a:ext cx="81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9552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5128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08600" y="2205000"/>
              <a:ext cx="0" cy="41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93200" y="2205000"/>
              <a:ext cx="0" cy="411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859280" y="9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9900"/>
                </a:solidFill>
                <a:latin typeface="Tahoma"/>
                <a:cs typeface="JasmineUPC"/>
              </a:rPr>
              <a:t>หน่วย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  <a:ea typeface="JasmineUPC"/>
              </a:rPr>
              <a:t>: </a:t>
            </a:r>
            <a:r>
              <a:rPr b="1" lang="hi-IN" sz="2800" spc="-1" strike="noStrike">
                <a:solidFill>
                  <a:srgbClr val="009900"/>
                </a:solidFill>
                <a:latin typeface="Tahoma"/>
                <a:cs typeface="JasmineUPC"/>
              </a:rPr>
              <a:t>ล้านเหรียญสหรัฐฯ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"/>
          <p:cNvSpPr/>
          <p:nvPr/>
        </p:nvSpPr>
        <p:spPr>
          <a:xfrm>
            <a:off x="6227640" y="234936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7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443640" y="2565000"/>
            <a:ext cx="216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9" name=""/>
          <p:cNvSpPr/>
          <p:nvPr/>
        </p:nvSpPr>
        <p:spPr>
          <a:xfrm>
            <a:off x="6227640" y="2492280"/>
            <a:ext cx="25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0" name=""/>
          <p:cNvSpPr/>
          <p:nvPr/>
        </p:nvSpPr>
        <p:spPr>
          <a:xfrm>
            <a:off x="7524720" y="2708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A03-D784-4794-B9EC-9E58494B1F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9900"/>
                </a:solidFill>
                <a:latin typeface="JasmineUPC"/>
              </a:rPr>
              <a:t>ความคืบหน้าของ </a:t>
            </a:r>
            <a:r>
              <a:rPr b="0" lang="en-US" sz="4400" spc="-1" strike="noStrike">
                <a:solidFill>
                  <a:srgbClr val="ff9900"/>
                </a:solidFill>
                <a:latin typeface="JasmineUPC"/>
              </a:rPr>
              <a:t>FTA </a:t>
            </a:r>
            <a:r>
              <a:rPr b="0" lang="th-TH" sz="4400" spc="-1" strike="noStrike">
                <a:solidFill>
                  <a:srgbClr val="ff9900"/>
                </a:solidFill>
                <a:latin typeface="JasmineUPC"/>
              </a:rPr>
              <a:t>ภายใต้กรอบอื่นๆ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ไทย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-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ญี่ปุ่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-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การเจรจาได้ข้อยุติในประเด็นสำคัญที่ไม่สามารถตกลงกันได้ คาดว่าจะลงนามเดือนเมษายน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2549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และมีผลบังคับใช้ ปลายปี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2549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ไทย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-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สหรัฐฯ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-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การเจรจาครอบคลุม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21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สาขา มีเป้าหมายให้เสร็จในปี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  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2548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โดยล่าสุดมีการเจรจาครั้งที่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4 </a:t>
            </a:r>
            <a:r>
              <a:rPr b="1" lang="th-TH" sz="3200" spc="-1" strike="noStrike">
                <a:solidFill>
                  <a:srgbClr val="66ffff"/>
                </a:solidFill>
                <a:latin typeface="JasmineUPC"/>
              </a:rPr>
              <a:t>ที่สหรัฐฯ เป็นการแลกเปลี่ยนข้อมูลและหลักการในภาพกว้า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0FE-22B0-4DEF-9431-CC875514BA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ffff"/>
                </a:solidFill>
                <a:latin typeface="JasmineUPC"/>
              </a:rPr>
              <a:t>ความคืบหน้าของ </a:t>
            </a:r>
            <a:r>
              <a:rPr b="0" lang="en-US" sz="4400" spc="-1" strike="noStrike">
                <a:solidFill>
                  <a:srgbClr val="66ffff"/>
                </a:solidFill>
                <a:latin typeface="JasmineUPC"/>
              </a:rPr>
              <a:t>FTA </a:t>
            </a:r>
            <a:r>
              <a:rPr b="0" lang="th-TH" sz="4400" spc="-1" strike="noStrike">
                <a:solidFill>
                  <a:srgbClr val="66ffff"/>
                </a:solidFill>
                <a:latin typeface="JasmineUPC"/>
              </a:rPr>
              <a:t>ภายใต้กรอบอื่นๆ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ไทย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เปรู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-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การเจรจาสามารถตกลงกันได้ในเรื่องสินค้าที่ลดภาษี เหลือประเด็นสินค้าอ่อนไหว กำหนดจะเจรจาครั้งที่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6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วันที่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16-18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สิงหาคม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2548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ที่เปรู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ไทย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บาห์เร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-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เมื่อปลายปี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2547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บาห์เรนแจ้งว่ามีปัญหาในการดำเนินการภายในที่จะลดภาษีสินค้าเร่งลดภาษี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(</a:t>
            </a:r>
            <a:r>
              <a:rPr b="1" lang="en-US" sz="3200" spc="-1" strike="noStrike">
                <a:solidFill>
                  <a:srgbClr val="ff9900"/>
                </a:solidFill>
                <a:latin typeface="JasmineUPC"/>
              </a:rPr>
              <a:t>Earl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JasmineUPC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JasmineUPC"/>
              </a:rPr>
              <a:t>Harvest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) </a:t>
            </a:r>
            <a:r>
              <a:rPr b="1" lang="th-TH" sz="3200" spc="-1" strike="noStrike">
                <a:solidFill>
                  <a:srgbClr val="ff9900"/>
                </a:solidFill>
                <a:latin typeface="JasmineUPC"/>
              </a:rPr>
              <a:t>จึงขอเปลี่ยนรูปแบบการเจรจาให้ครอบคลุมทุกรายการสินค้ารวมอยู่ในความตกลงฉบับเดียวกั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10D-F139-4D68-849C-F4FA8864D9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cc99ff"/>
                </a:solidFill>
                <a:latin typeface="JasmineUPC"/>
              </a:rPr>
              <a:t>ความคืบหน้าของ </a:t>
            </a:r>
            <a:r>
              <a:rPr b="0" lang="en-US" sz="4400" spc="-1" strike="noStrike">
                <a:solidFill>
                  <a:srgbClr val="cc99ff"/>
                </a:solidFill>
                <a:latin typeface="JasmineUPC"/>
              </a:rPr>
              <a:t>FTA </a:t>
            </a:r>
            <a:r>
              <a:rPr b="0" lang="th-TH" sz="4400" spc="-1" strike="noStrike">
                <a:solidFill>
                  <a:srgbClr val="cc99ff"/>
                </a:solidFill>
                <a:latin typeface="JasmineUPC"/>
              </a:rPr>
              <a:t>ภายใต้กรอบอื่นๆ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ไทย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JasmineUPC"/>
              </a:rPr>
              <a:t>BIMSTEC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-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การเจรจาอยู่ในระหว่างการพิจารณาร่างความตกลง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    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การค้าสินค้า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/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รูปแบบการลดภาษี ซึ่งการเจรจาค่อนข้า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    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มีความคืบหน้า แต่การเจรจาประกอบด้วยหลายประเทศ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    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จึงต้องใช้เวลา คาดว่าคณะเจรจาพยายามจะให้ได้ข้อยุติ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    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ในสิ้นปี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2548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ไทย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JasmineUPC"/>
              </a:rPr>
              <a:t>EFTA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-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มีการเจรจาแล้ว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2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ครั้ง โดยเป็นการแลกเปลี่ยนข้อมูล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และหยั่งท่าทีการเจรจา จะประชุมครั้งต่อไป เดือนตุลาคม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2548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ที่ภูเก็ต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C90-5063-4D06-A2C1-805B91E3E8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600" spc="-1" strike="noStrike">
                <a:solidFill>
                  <a:srgbClr val="ffcc99"/>
                </a:solidFill>
                <a:latin typeface="Angsana New"/>
                <a:cs typeface="JasmineUPC"/>
              </a:rPr>
              <a:t>ข้อมูลเพิ่มเติม</a:t>
            </a:r>
            <a:endParaRPr b="0" lang="en-US" sz="8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ff99"/>
                </a:solidFill>
                <a:latin typeface="Angsana New"/>
                <a:ea typeface="JasmineUPC"/>
              </a:rPr>
              <a:t>www.dtn.moc.go.th</a:t>
            </a:r>
            <a:r>
              <a:rPr b="1" lang="th-TH" sz="7200" spc="-1" strike="noStrike">
                <a:solidFill>
                  <a:srgbClr val="99ff99"/>
                </a:solidFill>
                <a:latin typeface="Angsana New"/>
                <a:ea typeface="JasmineUP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ff99"/>
                </a:solidFill>
                <a:latin typeface="Angsana New"/>
                <a:ea typeface="JasmineUPC"/>
              </a:rPr>
              <a:t>www.thaifta.com</a:t>
            </a:r>
            <a:r>
              <a:rPr b="1" lang="th-TH" sz="4000" spc="-1" strike="noStrike">
                <a:solidFill>
                  <a:srgbClr val="99ff99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99"/>
                </a:solidFill>
                <a:latin typeface="Angsana New"/>
                <a:ea typeface="JasmineUPC"/>
              </a:rPr>
              <a:t>FTA Unit</a:t>
            </a:r>
            <a:r>
              <a:rPr b="1" lang="th-TH" sz="4000" spc="-1" strike="noStrike">
                <a:solidFill>
                  <a:srgbClr val="99ff99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ff99"/>
                </a:solidFill>
                <a:latin typeface="Angsana New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99ff99"/>
                </a:solidFill>
                <a:latin typeface="Angsana New"/>
                <a:ea typeface="JasmineUPC"/>
              </a:rPr>
              <a:t>. 0 2507 7444      0 2507 7555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ff99"/>
                </a:solidFill>
                <a:latin typeface="Angsana New"/>
                <a:ea typeface="JasmineUPC"/>
              </a:rPr>
              <a:t>                     </a:t>
            </a:r>
            <a:r>
              <a:rPr b="1" lang="th-TH" sz="4000" spc="-1" strike="noStrike">
                <a:solidFill>
                  <a:srgbClr val="99ff99"/>
                </a:solidFill>
                <a:latin typeface="Angsana New"/>
                <a:ea typeface="JasmineUPC"/>
              </a:rPr>
              <a:t>0 2507 7680      0 2507 7687                  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B16-1D7A-4616-A1B0-E2221C832F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33cc"/>
                </a:solidFill>
                <a:latin typeface="JasmineUPC"/>
              </a:rPr>
              <a:t>ไทยได้อะไรจาก </a:t>
            </a:r>
            <a:r>
              <a:rPr b="1" lang="en-US" sz="4800" spc="-1" strike="noStrike">
                <a:solidFill>
                  <a:srgbClr val="ff33cc"/>
                </a:solidFill>
                <a:latin typeface="JasmineUPC"/>
              </a:rPr>
              <a:t>FTA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901"/>
              </a:spcBef>
              <a:buClr>
                <a:srgbClr val="66ff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ffff"/>
                </a:solidFill>
                <a:latin typeface="JasmineUPC"/>
              </a:rPr>
              <a:t>ยกระดับความสามารถการแข่งขันทางการผลิตของไท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1" marL="713160" indent="-27432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ff"/>
                </a:solidFill>
                <a:latin typeface="JasmineUPC"/>
              </a:rPr>
              <a:t>วัตถุดิบถูกล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13160" indent="-27432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ff"/>
                </a:solidFill>
                <a:latin typeface="JasmineUPC"/>
              </a:rPr>
              <a:t>เพิ่มขีดความสามารถในการแข่งขั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13160" indent="-27432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ff"/>
                </a:solidFill>
                <a:latin typeface="JasmineUPC"/>
              </a:rPr>
              <a:t>ภาษีต่ำกว่าคู่แข่งขั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13160" indent="-27432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ff"/>
                </a:solidFill>
                <a:latin typeface="JasmineUPC"/>
              </a:rPr>
              <a:t>ความร่วมมือด้านเทคโนโลยีใหม่ๆ พัฒนาสินค้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66ff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ffff"/>
                </a:solidFill>
                <a:latin typeface="JasmineUPC"/>
              </a:rPr>
              <a:t>นักลงทุนมีความเชื่อมั่นมากขึ้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1" marL="713160" indent="-27432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ff"/>
                </a:solidFill>
                <a:latin typeface="JasmineUPC"/>
              </a:rPr>
              <a:t>การลงทุนจากต่างประเทศไหลเข้าสู่ไทย</a:t>
            </a:r>
            <a:r>
              <a:rPr b="1" lang="en-US" sz="3200" spc="-1" strike="noStrike">
                <a:solidFill>
                  <a:srgbClr val="66ffff"/>
                </a:solidFill>
                <a:latin typeface="JasmineUPC"/>
              </a:rPr>
              <a:t>/</a:t>
            </a:r>
            <a:r>
              <a:rPr b="1" lang="hi-IN" sz="3200" spc="-1" strike="noStrike">
                <a:solidFill>
                  <a:srgbClr val="66ffff"/>
                </a:solidFill>
                <a:latin typeface="JasmineUPC"/>
              </a:rPr>
              <a:t>มองเห็นตลาดที่กว้างขึ้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66ff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ffff"/>
                </a:solidFill>
                <a:latin typeface="JasmineUPC"/>
              </a:rPr>
              <a:t>สร้างพันธมิตรที่จะเกื้อกูลกันทางเศรษฐกิจ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1" marL="713160" indent="-274320">
              <a:lnSpc>
                <a:spcPct val="80000"/>
              </a:lnSpc>
              <a:spcBef>
                <a:spcPts val="799"/>
              </a:spcBef>
              <a:buClr>
                <a:srgbClr val="66ffff"/>
              </a:buClr>
              <a:buFont typeface="Jasmine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ff"/>
                </a:solidFill>
                <a:latin typeface="JasmineUPC"/>
              </a:rPr>
              <a:t>เพิ่มอำนาจต่อรองของไทยในเวทีโลก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980-FF82-422E-8C73-B57F2F579E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ffff"/>
                </a:solidFill>
                <a:latin typeface="JasmineUPC"/>
              </a:rPr>
              <a:t>ผลกระทบ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การทำ </a:t>
            </a:r>
            <a:r>
              <a:rPr b="1" lang="en-US" sz="3200" spc="-1" strike="noStrike">
                <a:solidFill>
                  <a:srgbClr val="ffff00"/>
                </a:solidFill>
                <a:latin typeface="JasmineUPC"/>
              </a:rPr>
              <a:t>FTA </a:t>
            </a:r>
            <a:r>
              <a:rPr b="1" lang="th-TH" sz="3200" spc="-1" strike="noStrike">
                <a:solidFill>
                  <a:srgbClr val="ffff00"/>
                </a:solidFill>
                <a:latin typeface="JasmineUPC"/>
              </a:rPr>
              <a:t>มีทั้งประโยชน์ และผลกระทบ ต้องยอมรับว่าไม่มีที่ไหนในโลกที่มีแต่ได้โดยไม่ยอมเสีย  จึงต้องมีการเสียบางส่วนเพื่อประโยชน์โดยรว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JasmineUPC"/>
              </a:rPr>
              <a:t>    </a:t>
            </a:r>
            <a:r>
              <a:rPr b="1" lang="th-TH" sz="36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JasmineUPC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JasmineUPC"/>
              </a:rPr>
              <a:t>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ผู้ผลิตบางสาขาต้องเผชิญกับการแข่งขันเพิ่มขึ้น โดยเฉพาะ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JasmineUPC"/>
              </a:rPr>
              <a:t>SMEs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ต้องมีการปรับตัวพัฒนาให้มีความพร้อม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    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-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ผู้ผลิตในอุตสาหกรรมเกิดใหม่ที่ต้องการการปกป้องจากรัฐ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    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-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ผู้ผลิตที่ไม่พร้อมจะแข่งขัน รัฐได้ช่วยเหลือโดย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       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*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เจรจายืดเวลาการลดภาษีออกไป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5-20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ปีให้มีการปรับตัว เช่น เรื่องนมกับออสเตรเลีย ใช้เวลา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20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ปี ในการลดภาษีเป็น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0 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       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*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ความช่วยเหลือเพื่อพัฒนาประสิทธิภาพ  เช่น รัฐอนุมัติ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            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วงเงิน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10</a:t>
            </a:r>
            <a:r>
              <a:rPr b="1" lang="en-US" sz="3000" spc="-1" strike="noStrike">
                <a:solidFill>
                  <a:srgbClr val="ffff00"/>
                </a:solidFill>
                <a:latin typeface="JasmineUPC"/>
              </a:rPr>
              <a:t>,000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th-TH" sz="3000" spc="-1" strike="noStrike">
                <a:solidFill>
                  <a:srgbClr val="ffff00"/>
                </a:solidFill>
                <a:latin typeface="JasmineUPC"/>
              </a:rPr>
              <a:t>ล้านบาท เพื่อการปรับโครงสร้างภาคเกษตร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43D-8450-4419-A059-737B02DC08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25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ffff"/>
                </a:solidFill>
                <a:latin typeface="JasmineUPC"/>
              </a:rPr>
              <a:t>การเลือกคู่เจรจ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5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99ff"/>
                </a:solidFill>
                <a:latin typeface="JasmineUPC"/>
              </a:rPr>
              <a:t> </a:t>
            </a:r>
            <a:r>
              <a:rPr b="1" lang="th-TH" sz="3600" spc="-1" strike="noStrike">
                <a:solidFill>
                  <a:srgbClr val="ff99ff"/>
                </a:solidFill>
                <a:latin typeface="JasmineUPC"/>
              </a:rPr>
              <a:t>-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ตลาดดั้งเดิม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/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คู่ค้าหลักของไทย  เช่น สหรัฐฯ และ ญี่ปุ่น 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-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เป็นประตูการค้า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/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การลงทุน เช่น บาห์เรน อินเดีย และเปรู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-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ตลาดใหม่ที่มีศักยภาพ  เช่น จีน อินเดีย ออสเตรเลีย และ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     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นิวซีแลนด์ 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-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มีอุปสรรคในการเข้าสู่ตลาด โดยเฉพาะมาตรการสุขอนามัย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- </a:t>
            </a:r>
            <a:r>
              <a:rPr b="1" lang="th-TH" sz="3400" spc="-1" strike="noStrike">
                <a:solidFill>
                  <a:srgbClr val="ff99ff"/>
                </a:solidFill>
                <a:latin typeface="JasmineUPC"/>
              </a:rPr>
              <a:t>กลุ่มประเทศ ที่มีการรวมตัวอย่างเป็นรูปธรรม  เพื่อประหยัดเวลา ทรัพยากร ได้ผลในการเจรจา เช่น </a:t>
            </a:r>
            <a:r>
              <a:rPr b="1" lang="en-US" sz="3400" spc="-1" strike="noStrike">
                <a:solidFill>
                  <a:srgbClr val="ff99ff"/>
                </a:solidFill>
                <a:latin typeface="JasmineUPC"/>
              </a:rPr>
              <a:t>EFTA</a:t>
            </a:r>
            <a:r>
              <a:rPr b="1" lang="en-US" sz="3600" spc="-1" strike="noStrike">
                <a:solidFill>
                  <a:srgbClr val="ff99ff"/>
                </a:solidFill>
                <a:latin typeface="JasmineUPC"/>
              </a:rPr>
              <a:t> </a:t>
            </a:r>
            <a:r>
              <a:rPr b="1" lang="th-TH" sz="3600" spc="-1" strike="noStrike">
                <a:solidFill>
                  <a:srgbClr val="ff99ff"/>
                </a:solidFill>
                <a:latin typeface="JasmineUPC"/>
              </a:rPr>
              <a:t>และ</a:t>
            </a:r>
            <a:r>
              <a:rPr b="1" lang="en-US" sz="3600" spc="-1" strike="noStrike">
                <a:solidFill>
                  <a:srgbClr val="ff99ff"/>
                </a:solidFill>
                <a:latin typeface="JasmineUPC"/>
              </a:rPr>
              <a:t>BIMSTEC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7DC-B2B3-45F2-B4FE-8ADCF0CFD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JasmineUPC"/>
              </a:rPr>
              <a:t> </a:t>
            </a:r>
            <a:r>
              <a:rPr b="1" lang="hi-IN" sz="5400" spc="-1" strike="noStrike">
                <a:solidFill>
                  <a:srgbClr val="ccccff"/>
                </a:solidFill>
                <a:latin typeface="JasmineUPC"/>
              </a:rPr>
              <a:t>การเตรียมพร้อมในการเจรจา</a:t>
            </a:r>
            <a:r>
              <a:rPr b="0" lang="en-US" sz="5400" spc="-1" strike="noStrike">
                <a:solidFill>
                  <a:srgbClr val="ccccff"/>
                </a:solidFill>
                <a:latin typeface="JasmineUP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100"/>
              </a:spcBef>
              <a:buClr>
                <a:srgbClr val="ff66ff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66ff"/>
                </a:solidFill>
                <a:latin typeface="JasmineUPC"/>
              </a:rPr>
              <a:t>ก่อนการเจรจา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66ff"/>
                </a:solidFill>
                <a:latin typeface="JasmineUPC"/>
              </a:rPr>
              <a:t>     </a:t>
            </a:r>
            <a:r>
              <a:rPr b="1" lang="th-TH" sz="4000" spc="-1" strike="noStrike">
                <a:solidFill>
                  <a:srgbClr val="ff66ff"/>
                </a:solidFill>
                <a:latin typeface="JasmineUPC"/>
              </a:rPr>
              <a:t>- </a:t>
            </a:r>
            <a:r>
              <a:rPr b="1" lang="th-TH" sz="4000" spc="-1" strike="noStrike">
                <a:solidFill>
                  <a:srgbClr val="ff66ff"/>
                </a:solidFill>
                <a:latin typeface="JasmineUPC"/>
              </a:rPr>
              <a:t>ได้มีการศึกษาวิเคราะห์ในภาพรวม ในการจัดทำ </a:t>
            </a:r>
            <a:r>
              <a:rPr b="1" lang="th-TH" sz="3600" spc="-1" strike="noStrike">
                <a:solidFill>
                  <a:srgbClr val="ff66ff"/>
                </a:solidFill>
                <a:latin typeface="JasmineUPC"/>
              </a:rPr>
              <a:t>FTA</a:t>
            </a:r>
            <a:r>
              <a:rPr b="1" lang="th-TH" sz="4800" spc="-1" strike="noStrike">
                <a:solidFill>
                  <a:srgbClr val="ff66ff"/>
                </a:solidFill>
                <a:latin typeface="JasmineUPC"/>
              </a:rPr>
              <a:t> </a:t>
            </a:r>
            <a:r>
              <a:rPr b="1" lang="th-TH" sz="4000" spc="-1" strike="noStrike">
                <a:solidFill>
                  <a:srgbClr val="ff66ff"/>
                </a:solidFill>
                <a:latin typeface="JasmineUPC"/>
              </a:rPr>
              <a:t>ไทยจะได้ประโยชน์หรือเสียประโยชน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66ff"/>
                </a:solidFill>
                <a:latin typeface="JasmineUPC"/>
              </a:rPr>
              <a:t>     </a:t>
            </a:r>
            <a:r>
              <a:rPr b="1" lang="th-TH" sz="4000" spc="-1" strike="noStrike">
                <a:solidFill>
                  <a:srgbClr val="ff66ff"/>
                </a:solidFill>
                <a:latin typeface="JasmineUPC"/>
              </a:rPr>
              <a:t>- </a:t>
            </a:r>
            <a:r>
              <a:rPr b="1" lang="th-TH" sz="4000" spc="-1" strike="noStrike">
                <a:solidFill>
                  <a:srgbClr val="ff66ff"/>
                </a:solidFill>
                <a:latin typeface="JasmineUPC"/>
              </a:rPr>
              <a:t>เตรียมพร้อมในบริหารการเจรจา อย่างเป็นระบบ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66ff"/>
                </a:solidFill>
                <a:latin typeface="JasmineUPC"/>
              </a:rPr>
              <a:t>	</a:t>
            </a:r>
            <a:r>
              <a:rPr b="0" lang="th-TH" sz="2800" spc="-1" strike="noStrike">
                <a:solidFill>
                  <a:srgbClr val="ff66ff"/>
                </a:solidFill>
                <a:latin typeface="JasmineUP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3D0-4E28-47E4-AAB0-E17C1C6364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hi-IN" sz="4400" spc="-1" strike="noStrike">
                <a:solidFill>
                  <a:srgbClr val="ffff00"/>
                </a:solidFill>
                <a:latin typeface="JasmineUPC"/>
              </a:rPr>
              <a:t>การเตรียมพร้อมในการเจรจา</a:t>
            </a:r>
            <a:r>
              <a:rPr b="0" lang="en-US" sz="4400" spc="-1" strike="noStrike">
                <a:solidFill>
                  <a:srgbClr val="ffff00"/>
                </a:solidFill>
                <a:latin typeface="JasmineUP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ประเด็นที่มีการเจรจา </a:t>
            </a:r>
            <a:r>
              <a:rPr b="1" lang="en-US" sz="3200" spc="-1" strike="noStrike">
                <a:solidFill>
                  <a:srgbClr val="ccccff"/>
                </a:solidFill>
                <a:latin typeface="JasmineUPC"/>
              </a:rPr>
              <a:t>FTA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และหน่วยงานหลักที่รับผิดชอบ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- 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ารเปิดตลาด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ระทรวงพาณิชย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-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แหล่งกำเนิดสินค้า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ระทรวงการคลัง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-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ารลดเลิกอุปสรรคทางการค้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-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มาตรการสุขอนามัย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ระทรวงเกษตรฯ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  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-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มาตรฐานสินค้า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ระทรวงอุตสาหกรร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-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ารค้าบริการ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ระทรวงพาณิชย์และหน่วยงาน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-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ารลงทุน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สำนักงานคณะกรรมการส่งเสริมการลงทุน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(BOI)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-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ทรัพย์สินทางปัญญา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: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รมทรัพย์สินทางปัญญ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JasmineUPC"/>
              </a:rPr>
              <a:t>  E- Commerce :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  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กระทรวงเทคโนโลยีสารสนเทศและการสื่อสาร</a:t>
            </a:r>
            <a:r>
              <a:rPr b="1" lang="en-US" sz="3200" spc="-1" strike="noStrike">
                <a:solidFill>
                  <a:srgbClr val="ccccff"/>
                </a:solidFill>
                <a:latin typeface="JasmineUPC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JasmineUPC"/>
              </a:rPr>
              <a:t>(ICT)</a:t>
            </a:r>
            <a:r>
              <a:rPr b="1" lang="th-TH" sz="3200" spc="-1" strike="noStrike">
                <a:solidFill>
                  <a:srgbClr val="ccccff"/>
                </a:solidFill>
                <a:latin typeface="Jasmine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C71-E234-43EE-94A7-659B23CE84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5050"/>
                </a:solidFill>
                <a:latin typeface="JasmineUPC"/>
              </a:rPr>
              <a:t>การเตรียมพร้อมในการเจรจา</a:t>
            </a:r>
            <a:r>
              <a:rPr b="0" lang="en-US" sz="6600" spc="-1" strike="noStrike">
                <a:solidFill>
                  <a:srgbClr val="ff5050"/>
                </a:solidFill>
                <a:latin typeface="Angsana New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Jasmine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ระหว่างการเจรจ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 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-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ได้มีการจ้างสถาบันศึกษาต่างๆศึกษาผลดี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/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ผลเสียเป็น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JasmineUPC"/>
              </a:rPr>
              <a:t>รายสินค้า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พร้อมทั้งให้ข้อเสนอแนะ และมาตรการรองรั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  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-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ได้มีการประชุมหารือกับหน่วยงานที่เกี่ยวข้องอย่างใกล้ชิดทั้งภาครัฐ และเอกชน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-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เปิดรับฟังข้อคิดเห็น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/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เผยแพร่ข้อมูลจากภาคเอกชน ประชาชนทั่วไป และชี้แจงข้อมูลและความคืบหน้า 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FTA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เช่น รัฐสภา  กรรมาธิการฯ</a:t>
            </a:r>
            <a:r>
              <a:rPr b="0" lang="th-TH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JasmineUPC"/>
              </a:rPr>
              <a:t>มี</a:t>
            </a:r>
            <a:r>
              <a:rPr b="0" lang="en-US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websit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JasmineUPC"/>
                <a:hlinkClick r:id="rId1"/>
              </a:rPr>
              <a:t>www.dtn.moc.go.th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หรือ 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thaifta.com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และ 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Call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Center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โทร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. 025077444 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และ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025077555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-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จัดหน่วยเจาะตลาดเชิงรุก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(Trade Commando)</a:t>
            </a:r>
            <a:r>
              <a:rPr b="1" lang="en-US" sz="2800" spc="-1" strike="noStrike">
                <a:solidFill>
                  <a:srgbClr val="ffff00"/>
                </a:solidFill>
                <a:latin typeface="JasmineUPC"/>
              </a:rPr>
              <a:t>เข้าไปหาข้อมูลเชิงลึก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  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-  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การเตรียมพร้อมปรับมาตรการของไทยเพื่อให้เหมาะสม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	</a:t>
            </a:r>
            <a:r>
              <a:rPr b="1" lang="th-TH" sz="2800" spc="-1" strike="noStrike">
                <a:solidFill>
                  <a:srgbClr val="ffff00"/>
                </a:solidFill>
                <a:latin typeface="Jasmine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286-3BCE-4AEF-A0FB-E2093AF5E4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2:47:54Z</dcterms:created>
  <dc:creator>saowanit</dc:creator>
  <dc:description/>
  <dc:language>en-US</dc:language>
  <cp:lastModifiedBy>saowanit</cp:lastModifiedBy>
  <cp:lastPrinted>2005-08-15T05:15:42Z</cp:lastPrinted>
  <dcterms:modified xsi:type="dcterms:W3CDTF">2005-08-15T06:22:11Z</dcterms:modified>
  <cp:revision>52</cp:revision>
  <dc:subject/>
  <dc:title>ความคืบหน้าการทำข้อตกลงเขตการค้าเสรี ของประเทศไทย</dc:title>
</cp:coreProperties>
</file>