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259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ใช้สิทธิประโยชน์พิเศษ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ด้านอากรขาเข้า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ภายใต้ความตกลงเขต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ดร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นิลสุวรรณ ลีลารัศม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ประธานคณะกรรมการกฎว่าด้วย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และมาตรการกีดกันทางการค้าที่มิใช่ภาษ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สภาอุตสาหกรรมแห่งประเทศไท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127008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70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270080" y="141120"/>
            <a:ext cx="1612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0"/>
          <a:ext cx="14475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0"/>
                    <a:ext cx="1447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238880" y="0"/>
            <a:ext cx="190512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ffff"/>
                </a:solidFill>
                <a:latin typeface="AngsanaUPC"/>
                <a:ea typeface="Cordia New"/>
              </a:rPr>
              <a:t>FT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07732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620120" y="2133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ขนาดตลาด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เมินจากประชากร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ASEA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53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8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6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US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28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.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8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China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35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0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0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FTA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ประชากร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UPC"/>
              </a:rPr>
              <a:t>    ประเมิน  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ea typeface="AngsanaUPC"/>
              </a:rPr>
              <a:t>%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ำลังซื้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AUS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15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0.2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.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JP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350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5.5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10 %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Indi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00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16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320 % </a:t>
            </a:r>
            <a:r>
              <a:rPr b="1" lang="th-TH" sz="66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ลาดส่งออกของไทย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2546 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ูลค่า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: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US$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57400"/>
            <a:ext cx="9144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. ASEAN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,53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8954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. USA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3,618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. EU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761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ูลค่า         สัดส่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(%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4. JPN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39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Others (FTAs)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6,926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3.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638680"/>
            <a:ext cx="9144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รวม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80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,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239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  100 %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14400"/>
            <a:ext cx="46483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มากว่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21,000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้าน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US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ัจจัยการผลิตที่ต้องคำนึงใ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1124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ขนาดกำลังการผลิต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พิ่มหรือล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โรงงาน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779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วัตถุดิบ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นำเข้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นประเทศ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ารจัดซื้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923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ครื่องจักร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ก่า ใหม่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จำนว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นำเข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9067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คโนโลยี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ช้มากขึ้น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พัฒน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?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21120"/>
            <a:ext cx="9144000" cy="97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งินลงทุ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ต้องขยายมาก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ู้ หุ้นเพิ่มทุ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บุคลากร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แรงงา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ารตลา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ภาษ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ฝึกอบ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4960" y="3749760"/>
            <a:ext cx="5256360" cy="2590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2680" y="457200"/>
            <a:ext cx="2735280" cy="128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ngsana New"/>
              </a:rPr>
              <a:t>F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98900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057400"/>
            <a:ext cx="64706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Framework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เลือกเจรจาประเด็นตกลงเงื่อนไขที่ต้องกา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50532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97360"/>
            <a:ext cx="30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อินเดีย  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7080" y="3902040"/>
            <a:ext cx="192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66ff"/>
                </a:solidFill>
                <a:latin typeface="Angsana New"/>
                <a:ea typeface="Angsana New"/>
              </a:rPr>
              <a:t>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9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962520"/>
            <a:ext cx="287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EHS 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ngsana New"/>
              </a:rPr>
              <a:t>Early Harvest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6483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อาเซียน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จีน  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07-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648320"/>
            <a:ext cx="18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4100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ร์เรน 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6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410080"/>
            <a:ext cx="19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9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1676520"/>
            <a:ext cx="792360" cy="2057400"/>
          </a:xfrm>
          <a:prstGeom prst="upArrow">
            <a:avLst>
              <a:gd name="adj1" fmla="val 50000"/>
              <a:gd name="adj2" fmla="val 649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7200"/>
            <a:ext cx="53229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อสเตรเลี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25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ิวซีแลนด์ 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9 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ม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548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เด็นหลักใน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การเจรจาเปิดการค้าเสร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52480"/>
            <a:ext cx="9134640" cy="11271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ลดภาษีนำเข้าระหว่างกัน 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เลือกกลุ่มสินค้าได้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efefe"/>
              </a:gs>
              <a:gs pos="100000">
                <a:srgbClr val="3333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มีเงื่อนไขแหล่งกำเนิดสินค้าที่ผลิตและส่งออ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2670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อำนวยความสะดวก ขนผ่านด่านศุลกากร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4. </a:t>
            </a:r>
            <a:r>
              <a:rPr b="1" lang="th-TH" sz="5400" spc="-1" strike="noStrike">
                <a:solidFill>
                  <a:srgbClr val="000000"/>
                </a:solidFill>
                <a:latin typeface="AngsanaUPC"/>
              </a:rPr>
              <a:t>เพิ่ม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กรอบความร่วมมือด้านอื่น และลด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NT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การลดภาษีของไทยกับ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</a:rPr>
              <a:t>F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nilater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ฝ่ายเดียว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0%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ได้ทันท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810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eciprocal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ต่างตอบแทน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0%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4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orm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มีแผน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ภาษี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0% 2550 - 5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181480"/>
            <a:ext cx="9144000" cy="838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thers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ระบุรายละเอียดและมีเหตุผ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343400"/>
            <a:ext cx="91440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entitive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ยังขอภาษีคุ้มครอง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53-5 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IN, AUS, JPN, PERU,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USA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, CHN, N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A (RTA) Tariff Updat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 IN 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N PERU MEX CHILE 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SE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-5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Bahra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62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hi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CH. 07 – 08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A (RTA)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US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98% Tariff line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 Tariff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JP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Negotia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India(Interim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82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220968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เป็นความตกลงระหว่างประเทศคู่สัญญาที่เอื้อผลประโยชน์ระหว่างกันให้ดีกว่า หรือมากกว่าเงื่อนไขความตกลงของ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ไม่ว่าประเทศเหล่านั้นจะเป็นสมาชิก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หรือไม่ก็ตา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295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TO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 “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การรวมกลุ่มทางการค้า คือ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T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2209680"/>
          <a:ext cx="160020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16002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401840"/>
            <a:ext cx="81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RTAs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Regional Trad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88080"/>
            <a:ext cx="9144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mic Sans MS"/>
              </a:rPr>
              <a:t>Bilateral Free Trade Agreeme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ngsana New"/>
              </a:rPr>
              <a:t>: BF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้าหมายของการเปิดการค้าเสร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ช้เงื่อนไขความพร้อมและมีกำหนดระยะเวลาให้เตรียมการก่อนเปิด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อบคลุมประเด็นที่เกี่ยวข้องกับการค้าทุกชนิด แบ่งออกได้เป็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2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ลุ่ม คือ การค้าสินค้า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Goods)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และ บริการ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Servic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~2553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ทยจะเปิดการค้าเสรีเต็มรูปแบ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762120"/>
            <a:ext cx="84582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IrisUPC"/>
                <a:cs typeface="Angsana New"/>
              </a:rPr>
              <a:t>ประเด็นเจรจา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3640" cy="51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92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957480"/>
            <a:ext cx="211608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Textiles </a:t>
            </a:r>
            <a:r>
              <a:rPr b="1" lang="en-US" sz="2800" spc="-1" strike="noStrike">
                <a:solidFill>
                  <a:srgbClr val="ffffff"/>
                </a:solidFill>
                <a:latin typeface="AngsanaUPC"/>
                <a:ea typeface="IrisUPC"/>
              </a:rPr>
              <a:t>&amp;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 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929120"/>
            <a:ext cx="1981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-Co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0" y="395748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ustom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&amp;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784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ompetition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86584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Trade Reme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(SG, AD &amp; C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784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overnment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784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ross Border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rv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78200" y="20145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IrisUPC"/>
              </a:rPr>
              <a:t>TB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64400" y="492912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Temporary Entry (Mobility)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 of Business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64400" y="201456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cience &amp; Tech./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R &amp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4400" y="2986200"/>
            <a:ext cx="21589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Dispute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943600"/>
            <a:ext cx="43178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eneral (Preamble, Definitions,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Exception, Final Prov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784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IrisUPC"/>
              </a:rPr>
              <a:t>R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78200" y="10796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8200" y="492912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Telec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492912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840" y="586584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  <a:ea typeface="IrisUPC"/>
              </a:rPr>
              <a:t>S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nv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78200" y="29862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S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863640" cy="51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  <a:ea typeface="AngsanaUPC"/>
              </a:rPr>
              <a:t>(Trade in Good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80773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เปิดเสรี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ด้วยการลดอากรขาเข้า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Tariff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ระหว่างกัน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จนในที่สุดมีอัตราร้อยละ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0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ุกรายก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อุดหนุน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Subsidy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ของรัฐ เพื่อไม่ให้มีการบิดเบือนราคาสินค้าส่งออกที่ต่ำกว่าความเป็นจริ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กีดกันทางการค้า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Non-Tariff Barrier: NTB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ี่ไม่เป็นธร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12840" y="3048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3048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535932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593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บริการ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(Trade in Service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193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ภัตตาคาร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แพทย์แผนไท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บริการธุรกิ</a:t>
            </a:r>
            <a:r>
              <a:rPr b="1" lang="th-TH" sz="4400" spc="-1" strike="noStrike">
                <a:solidFill>
                  <a:srgbClr val="339933"/>
                </a:solidFill>
                <a:latin typeface="AngsanaUPC"/>
              </a:rPr>
              <a:t>จ</a:t>
            </a:r>
            <a:r>
              <a:rPr b="1" lang="th-TH" sz="4400" spc="-1" strike="noStrike">
                <a:solidFill>
                  <a:srgbClr val="ffcc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cs typeface="AngsanaUPC"/>
              </a:rPr>
              <a:t>ศึกษา 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สื่อส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ea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การก่อสร้างและวิศวกรรม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สิ่งแวดล้อม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 การเงิน การจัดจำหน่าย นันทนาการ วัฒนธรรมและการกีฬา  การท่องเที่ยว และ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ขนส่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ไทยได้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เปิด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เสร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 การเงิน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1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ม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ค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 42)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และโทรคมนาคมขั้นพื้นฐาน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254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ผูกพันเท่าที่กฎหมา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ไทยใน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ปัจจุบันให้อำนาจไว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04920" y="4191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12840" y="584208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840" y="584208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เปิดสาขาทรัพยสินทางปัญญา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5436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660033"/>
                </a:solidFill>
                <a:latin typeface="Times New Roman"/>
              </a:rPr>
              <a:t>®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  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cs typeface="AngsanaUPC"/>
              </a:rPr>
              <a:t>เปิดตามกรอบความตกลงของ </a:t>
            </a:r>
            <a:r>
              <a:rPr b="1" lang="en-US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W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เน้นความร่วมมือถ่ายทอดเทคโนโลยี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   โดยเฉพาะอย่างยิ่งด้านสิทธิบัต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cs typeface="Angsana New"/>
              </a:rPr>
              <a:t>เน้นการรักษาภูมิปัญญาท้องถิ่น พันธุ์พืช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   และพันธุ์สัตว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2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 </a:t>
            </a:r>
            <a:r>
              <a:rPr b="1" lang="en-US" sz="66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จากการขาย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แหล่งกำเนิ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9625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272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3810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กำลังซื้อจีนเพิ่ม</a:t>
            </a:r>
            <a:r>
              <a:rPr b="1" lang="th-TH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7:1 (x20 </a:t>
            </a: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เท่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7:49:00Z</dcterms:created>
  <dc:creator>Rey</dc:creator>
  <dc:description/>
  <dc:language>en-US</dc:language>
  <cp:lastModifiedBy>Nilsuwan</cp:lastModifiedBy>
  <cp:lastPrinted>2002-09-17T06:51:31Z</cp:lastPrinted>
  <dcterms:modified xsi:type="dcterms:W3CDTF">2005-04-25T04:34:42Z</dcterms:modified>
  <cp:revision>135</cp:revision>
  <dc:subject/>
  <dc:title>No Slide Title</dc:title>
</cp:coreProperties>
</file>