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45D-4A3B-4216-9828-818A717C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10C-B2F4-4E38-90EC-43DA3B1E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50D-6BFD-43F8-BC87-9486DCBA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191-40CA-4941-9643-0CE24C74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E405-5076-409B-9FCA-67FB140B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7EC-196D-4270-8BD9-E13D032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50C-848A-4034-859D-F2A4890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9E2-8376-48FE-9F3B-D155A2F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F370-9DD8-4B53-9A6E-63BF037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EABA-DAFC-4AA4-BF7C-058250D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4177-49C9-48DD-9E42-DABD20F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C3F-07C6-4846-ABDD-6AB8F1D6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5767-59E7-43F5-9CCA-B0BBEC0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7A29-6584-4446-B840-C009088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46D7-7B2B-41C0-8762-23C8928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AB85-49B2-4802-9A73-60B400C0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05EB-70D1-45FD-9685-3061647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AFB-E4B1-4581-B7E2-DDA636E4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D11-8EBF-47FD-99D2-4FBF9E52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8C4-75B2-4559-912E-D1F269B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D7B-5FD5-446B-BEF1-EFEDDA3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58C-A842-4A5E-B432-64F3203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C94-55B6-4969-A179-896658A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801-7F34-4962-9A28-F86FA3D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F895-0EFB-49CC-BC3A-AF905F5D6C2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3C4E-63BC-481F-8461-1E814220E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CBC2-5C30-44B1-B15E-F2218B3C208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C75-BA7F-44D5-ACAC-51CC42D31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26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3333ff"/>
                </a:solidFill>
                <a:latin typeface="Angsana New"/>
                <a:cs typeface="Angsana New"/>
              </a:rPr>
              <a:t>อุตสากรรมสิ่งทอและเครื่องนุ่งห่ม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ngsana New"/>
                <a:ea typeface="Angsana New"/>
              </a:rPr>
              <a:t>H.S. CHAPTERs 50-6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573360"/>
            <a:ext cx="914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ดร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. 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นิลสุวรรณ ลีลารัศม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ประธานคณะกรรมการกฎว่าด้วย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และมาตรการกีดกันทางการค้าที่มิใช่ภาษ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สภาอุตสาหกรรมแห่งประเทศไท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077320" y="328464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89000"/>
            <a:ext cx="777384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ินค้าในกลุ่มสิ่งทอ</a:t>
            </a: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s 50-6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251000"/>
            <a:ext cx="467964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0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หม ด้ายไหม ผ้าไห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นแกะ ขนสัตว์อื่น ด้ายและผ้าทอจากขนสัตว์ต่าง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2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ฝ้าย ด้ายและผ้าท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3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้นใย ด้ายจากพืชอื่น และผ้าท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4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ย ด้ายและผ้าทอจากเส้นใย</a:t>
            </a:r>
            <a:r>
              <a:rPr b="1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ยาว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ดิษฐ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5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ใย ด้ายและผ้าทอจากเส้นใย</a:t>
            </a:r>
            <a:r>
              <a:rPr b="1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สั้น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ประดิษฐ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1268280"/>
            <a:ext cx="381492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6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วดดิ้ง สักหลาด เชือกเคเบิล และของที่ทำจาก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7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รมและสิ่งทอปูพื้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8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้าทอชนิดปุย ผ้าลูกไม้ ผ้าปัก ผ้าที่ใช้ตกแต่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59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้าสิ่งทอ เคลือบ หุ้มหรืออัดเป็นชั้นๆ ใช้ในอุตสาห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6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้าถักแบบนิตหรือโครเชต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E8A-14B2-4828-91B7-7235101E8B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23432-A185-4981-80A7-822B54C190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89000"/>
            <a:ext cx="777384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ินค้าในกลุ่มเครื่องนุ่งห่ม</a:t>
            </a: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s 61-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268280"/>
            <a:ext cx="7848360" cy="74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Ch. 61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่องแต่งกายและของที่ใช้ประกอบกับเครื่องแต่งกาย ถักแบบนิตหรือแบบโครเชต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Ch. 62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ครื่องแต่งกายและของที่ใช้ประกอบกับเครื่องแต่งกาย </a:t>
            </a:r>
            <a:r>
              <a:rPr b="1" lang="th-TH" sz="40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ไม่ได้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ถักแบบนิตหรือแบบโครเชต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Ch. 63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งทำด้วยสิ่งทอที่จัดทำแล้วอื่นๆ ของเป็นชุด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ผ้าห่ม ม่าน ผ้าคลุมโต๊ะ กระสอบ ผ้าใบ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)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ื้อผ้าใช้แล้ว ผ้าขี้ริ้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0F2-77D6-4EEE-A30E-E6B8E090723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F2BB4-A27A-4519-9645-997A71CAB3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ff"/>
                </a:solidFill>
                <a:latin typeface="Angsana New"/>
                <a:cs typeface="AngsanaUPC"/>
              </a:rPr>
              <a:t>ลักษณะเด่นของการผลิตสินค้าตอนที่ </a:t>
            </a: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50 – 6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557360"/>
            <a:ext cx="8353440" cy="71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1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นค้าผลิตมาจากการแปรรูปวัตถุดิบโดยตรง มีการย้อมสี ตั้งแต่ เส้นใย ด้าย ผ้าผืน เสื้อผ้า และของต่างๆ ซึ่งใช้การเย็บประกอบ </a:t>
            </a:r>
            <a:r>
              <a:rPr b="1" lang="en-US" sz="4000" spc="-1" strike="noStrike">
                <a:solidFill>
                  <a:srgbClr val="990033"/>
                </a:solidFill>
                <a:latin typeface="Angsana New"/>
                <a:ea typeface="MS PGothic"/>
              </a:rPr>
              <a:t>(Assembly)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ากชิ้นส่วนได้ด้วย และมีการเปลี่ยนพิกัดอัตราศุลกากรในระดับ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2 4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6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1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้นค้ามีหลากหลายตามรสนิยม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(Fashion)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ึงมีมูลค่าสูง โดยเฉพาะอย่างในตอนที่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61 62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D4F-53D2-4CD7-A4BE-D55DD55DE59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6A844-3861-43C1-B6CA-46F2D6781D85}" type="datetime1">
              <a:rPr lang="en-US"/>
              <a:t>07/31/26</a:t>
            </a:fld>
          </a:p>
        </p:txBody>
      </p: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Garment &amp; Textile Industry (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ลิตจากเส้นใยสังเคราะห์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05120"/>
            <a:ext cx="1746000" cy="1752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Polye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H.S. 39.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3907.60 P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1844640"/>
            <a:ext cx="16286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Man-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H.S. 54.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1700280"/>
            <a:ext cx="2089080" cy="20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Y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H.S. 54.02 54.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a50021"/>
                </a:solidFill>
                <a:latin typeface="AngsanaUPC"/>
                <a:ea typeface="Angsana New"/>
              </a:rPr>
              <a:t>Monofi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a50021"/>
                </a:solidFill>
                <a:latin typeface="AngsanaUPC"/>
                <a:ea typeface="Angsana New"/>
              </a:rPr>
              <a:t>H.S. 54.04 54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a50021"/>
                </a:solidFill>
                <a:latin typeface="AngsanaUPC"/>
                <a:ea typeface="Angsana New"/>
              </a:rPr>
              <a:t>54.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4581360"/>
            <a:ext cx="2016360" cy="1828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Woven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H.S. 54.07 54.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508640"/>
            <a:ext cx="2643120" cy="2089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UPC"/>
                <a:ea typeface="Angsana New"/>
              </a:rPr>
              <a:t>Articles of Appa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ngsanaUPC"/>
                <a:ea typeface="AngsanaUPC"/>
              </a:rPr>
              <a:t>Textile </a:t>
            </a:r>
            <a:r>
              <a:rPr b="1" lang="th-TH" sz="3200" spc="-1" strike="noStrike">
                <a:solidFill>
                  <a:srgbClr val="ffff00"/>
                </a:solidFill>
                <a:latin typeface="AngsanaUPC"/>
                <a:ea typeface="Angsana New"/>
              </a:rPr>
              <a:t>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UPC"/>
                <a:ea typeface="Angsana New"/>
              </a:rPr>
              <a:t>Access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ngsanaUPC"/>
                <a:ea typeface="AngsanaUPC"/>
              </a:rPr>
              <a:t>H.S. 61 62 &amp; 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1268280"/>
            <a:ext cx="165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Extr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1197000"/>
            <a:ext cx="2016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Sp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373720"/>
            <a:ext cx="1296720" cy="52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W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364500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278136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278136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916000" y="53737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95280"/>
            <a:ext cx="174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UPC"/>
                <a:ea typeface="Angsana New"/>
              </a:rPr>
              <a:t>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2133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ngsana New"/>
                <a:ea typeface="Angsana New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2133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ngsana New"/>
                <a:ea typeface="Angsana New"/>
              </a:rPr>
              <a:t>C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422100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ngsana New"/>
                <a:ea typeface="Angsana New"/>
              </a:rPr>
              <a:t>C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8690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ngsana New"/>
                <a:ea typeface="Angsana New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809880"/>
            <a:ext cx="5904000" cy="627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Bleaching, Dyeing or Printing    CT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5516640"/>
            <a:ext cx="24494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Cutting &amp; Stit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3EA-CB1C-4BAE-A889-6DB4343F26B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37171-6A4F-4A4C-8590-70D4E27AE6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4391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การนำเข้าส่งออกสินค้าตอนที่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50-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341360"/>
            <a:ext cx="896472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3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ไหม ด้ายและผ้าไหม มีทั้งผลิตและนำเข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484280"/>
            <a:ext cx="657360" cy="685800"/>
          </a:xfrm>
          <a:custGeom>
            <a:avLst/>
            <a:gdLst>
              <a:gd name="textAreaLeft" fmla="*/ 150120 w 657360"/>
              <a:gd name="textAreaRight" fmla="*/ 507240 w 6573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637000"/>
            <a:ext cx="896472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5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ใยประดิษฐ์และสิ่งทอ มีผลิตในประเทศและส่งออ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ยกเว้นที่มีราคาแพงและใช้เทคโนโลยีชั้นสู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708280"/>
            <a:ext cx="657360" cy="685800"/>
          </a:xfrm>
          <a:custGeom>
            <a:avLst/>
            <a:gdLst>
              <a:gd name="textAreaLeft" fmla="*/ 150120 w 657360"/>
              <a:gd name="textAreaRight" fmla="*/ 507240 w 6573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653000"/>
            <a:ext cx="896472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f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เครื่องนุ่งห่ม ยังต้องนำเข้าผ้าผืนและสิ่งทอที่มีคุ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สมบัติเฉพาะมาเป็นส่วนประกอบตัดเย็บก่อนส่งออ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869000"/>
            <a:ext cx="657360" cy="685800"/>
          </a:xfrm>
          <a:custGeom>
            <a:avLst/>
            <a:gdLst>
              <a:gd name="textAreaLeft" fmla="*/ 150120 w 657360"/>
              <a:gd name="textAreaRight" fmla="*/ 507240 w 6573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8F8-DA77-47FB-9C5A-3D1703F4BA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AE385-B6E5-4616-A4E2-60E750814C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การคิดคำนวณสัดส่วนอย่างง่า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ตถุดิบนำเข้าจากต่างประเท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วัตถุดิบในประเทศไทย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ค่าแรงงาน เงินเดือน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ค่าผลิตสินค้า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กำไร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หมด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5516640"/>
            <a:ext cx="76327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ัดส่วนคำนวณ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=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45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F23-38C6-4EED-A1CA-A112506A50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DBF0D-264C-4C85-9881-9E504D87E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2:06:59Z</dcterms:created>
  <dc:creator>Hiroshi IMAGAWA</dc:creator>
  <dc:description/>
  <dc:language>en-US</dc:language>
  <cp:lastModifiedBy>Nilsuwan</cp:lastModifiedBy>
  <cp:lastPrinted>2002-04-22T15:17:34Z</cp:lastPrinted>
  <dcterms:modified xsi:type="dcterms:W3CDTF">2005-04-25T04:44:59Z</dcterms:modified>
  <cp:revision>99</cp:revision>
  <dc:subject/>
  <dc:title>ITEM 13  MACHINERY, TRANSPORT EQUIPMENT, OPTICAL GOODS, ETC </dc:title>
</cp:coreProperties>
</file>