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283-0426-414A-B24A-B4A3E98D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650-2611-47D5-A19D-DF9B0978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3EC-370D-4EEE-8158-F04DDB16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1DB-62AC-42B5-BA62-D2184D37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A40E-A033-4BCF-B12E-FCEA90D5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2147-1D71-4E82-ADA3-490617BB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0DCD-7152-41FF-99E1-BDAC8F69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A4FA-D87A-41CF-906C-A0A0A513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2C8E-4A15-4EFC-B62E-B8C1BDF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13A5-87C5-4E05-B0A7-EC909CB3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D518-5A20-41F4-A525-B03B3336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BAB-4B55-44B4-8F68-8D4AD1CA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3604-A943-46A2-9EC7-EE5B45B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7097-41FD-4F66-B539-0FDFC22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020B-775D-43CD-BFE2-CFFC9274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FC41-4FF3-45D9-9AB2-FA2D6FEE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352C-6B00-41F9-9EB1-BEBFFD29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D0C-6E55-4D24-833B-1DAA798C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4FD-E0C7-475B-BEE5-06609BBB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C44-5DEA-4CF4-971F-A0EA69A0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320-C8EC-4AB8-91F5-91A481DB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A6E-9044-444A-960C-20DEFB5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98B-93AE-4CD0-AB9A-C85D55C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58F-9BD6-4E3E-A5FA-7BD6464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Cordia Ne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rdia New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Cordia Ne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7DD4-EFB4-49B6-9C43-542C6F0B9DC7}" type="slidenum"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Cordia Ne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470F-C077-44F0-863C-981FE80C6064}" type="slidenum">
              <a:rPr b="0" lang="en-US" sz="1400" spc="-1" strike="noStrike">
                <a:solidFill>
                  <a:srgbClr val="ff9966"/>
                </a:solidFill>
                <a:latin typeface="Cordi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UPC"/>
              </a:rPr>
              <a:t>การลดอากรขาเข้าระหว่างประเทศสมาชิก 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</a:rPr>
              <a:t>ASEAN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C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ommon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E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ffective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P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referential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T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</a:rPr>
              <a:t>ariff : </a:t>
            </a:r>
            <a:r>
              <a:rPr b="1" lang="en-US" sz="4800" spc="-1" strike="noStrike">
                <a:solidFill>
                  <a:srgbClr val="010000"/>
                </a:solidFill>
                <a:latin typeface="AngsanaUPC"/>
              </a:rPr>
              <a:t>CEPT</a:t>
            </a:r>
            <a:endParaRPr b="1" lang="en-US" sz="48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2546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สินค้าทั้งหมดมีอัตราอากรขาเข้าร้อยละ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0-5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(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ประเทศไทยมีทั้งหมด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9110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รายการ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2546 </a:t>
            </a: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ใช้อัตราอากรร้อยละ </a:t>
            </a:r>
            <a:r>
              <a:rPr b="1" lang="en-US" sz="4000" spc="-1" strike="noStrike">
                <a:solidFill>
                  <a:srgbClr val="993300"/>
                </a:solidFill>
                <a:latin typeface="AngsanaUPC"/>
              </a:rPr>
              <a:t>0 </a:t>
            </a: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(</a:t>
            </a:r>
            <a:r>
              <a:rPr b="1" lang="en-US" sz="4000" spc="-1" strike="noStrike">
                <a:solidFill>
                  <a:srgbClr val="993300"/>
                </a:solidFill>
                <a:latin typeface="AngsanaUPC"/>
              </a:rPr>
              <a:t>5466 </a:t>
            </a:r>
            <a:r>
              <a:rPr b="1" lang="th-TH" sz="4000" spc="-1" strike="noStrike">
                <a:solidFill>
                  <a:srgbClr val="993300"/>
                </a:solidFill>
                <a:latin typeface="AngsanaUPC"/>
              </a:rPr>
              <a:t>รายการหรือ </a:t>
            </a:r>
            <a:r>
              <a:rPr b="1" lang="en-US" sz="4000" spc="-1" strike="noStrike">
                <a:solidFill>
                  <a:srgbClr val="993300"/>
                </a:solidFill>
                <a:latin typeface="AngsanaUPC"/>
              </a:rPr>
              <a:t>60%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2549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AngsanaUPC"/>
              </a:rPr>
              <a:t>สินค้า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9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AngsanaUPC"/>
              </a:rPr>
              <a:t>กลุ่มอุตสาหกรรมจะมีอัตราภาษีร้อยละ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0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 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(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85%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cs typeface="AngsanaUPC"/>
              </a:rPr>
              <a:t>ต่อกลุ่มสินค้า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) </a:t>
            </a:r>
            <a:r>
              <a:rPr b="1" i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Roadmap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2553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ใช้อัตราอากรร้อยละ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</a:rPr>
              <a:t>0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</a:rPr>
              <a:t>ทั้งหมด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(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AngsanaUPC"/>
              </a:rPr>
              <a:t>FTA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2563 </a:t>
            </a: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เปิดเสรีทุกรูปแบบ </a:t>
            </a: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(</a:t>
            </a:r>
            <a:r>
              <a:rPr b="1" i="1" lang="th-TH" sz="4000" spc="-1" strike="noStrike">
                <a:solidFill>
                  <a:srgbClr val="660066"/>
                </a:solidFill>
                <a:latin typeface="AngsanaUPC"/>
              </a:rPr>
              <a:t>Hanoi Action Plan</a:t>
            </a:r>
            <a:r>
              <a:rPr b="1" lang="th-TH" sz="4000" spc="-1" strike="noStrike">
                <a:solidFill>
                  <a:srgbClr val="660066"/>
                </a:solidFill>
                <a:latin typeface="AngsanaUPC"/>
              </a:rPr>
              <a:t>)</a:t>
            </a:r>
            <a:endParaRPr b="0" lang="en-US" sz="4000" spc="-1" strike="noStrike">
              <a:solidFill>
                <a:srgbClr val="009999"/>
              </a:solidFill>
              <a:latin typeface="Cordia Ne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96080" y="5410080"/>
          <a:ext cx="14479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410080"/>
                    <a:ext cx="1447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04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เงื่อนไข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</a:rPr>
              <a:t>AFTA (CEPT)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ใช้กับการลดภาษี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47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1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แหล่งกำเนิดสินค้า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Content 40%  </a:t>
            </a:r>
            <a:r>
              <a:rPr b="1" i="1" lang="en-US" sz="5400" spc="-1" strike="noStrike">
                <a:solidFill>
                  <a:srgbClr val="ffff00"/>
                </a:solidFill>
                <a:latin typeface="AngsanaUPC"/>
                <a:ea typeface="AngsanaUPC"/>
              </a:rPr>
              <a:t>2535</a:t>
            </a:r>
            <a:r>
              <a:rPr b="1" i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438280"/>
            <a:ext cx="9144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2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Content 20%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ขึ้นไปมาสะสมใน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CEPT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จนถึง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40%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(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ASEAN Cumulative Rule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of Origin: CRO)  </a:t>
            </a:r>
            <a:r>
              <a:rPr b="1" i="1" lang="en-US" sz="5400" spc="-1" strike="noStrike">
                <a:solidFill>
                  <a:srgbClr val="ffff00"/>
                </a:solidFill>
                <a:latin typeface="AngsanaUPC"/>
                <a:ea typeface="AngsanaUPC"/>
              </a:rPr>
              <a:t>2548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3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เกณฑ์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Substantial Transformation 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สำหรับสินค้าที่มี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Content &lt; 40% </a:t>
            </a:r>
            <a:r>
              <a:rPr b="1" i="1" lang="en-US" sz="5400" spc="-1" strike="noStrike">
                <a:solidFill>
                  <a:srgbClr val="ffff00"/>
                </a:solidFill>
                <a:latin typeface="Angsana New"/>
              </a:rPr>
              <a:t>2549RM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3300"/>
                </a:solidFill>
                <a:latin typeface="AngsanaUPC"/>
                <a:cs typeface="Cordia New"/>
              </a:rPr>
              <a:t>การคำนวณค่า </a:t>
            </a:r>
            <a:r>
              <a:rPr b="1" lang="th-TH" sz="4400" spc="-1" strike="noStrike">
                <a:solidFill>
                  <a:srgbClr val="ff3300"/>
                </a:solidFill>
                <a:latin typeface="AngsanaUPC"/>
                <a:ea typeface="Cordia New"/>
              </a:rPr>
              <a:t>% Local Content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76212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Originating Materials</a:t>
            </a:r>
            <a:r>
              <a:rPr b="1" lang="th-TH" sz="4000" spc="-1" strike="noStrike">
                <a:solidFill>
                  <a:srgbClr val="4c0098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4c0098"/>
                </a:solidFill>
                <a:latin typeface="Angsana New"/>
              </a:rPr>
              <a:t>  </a:t>
            </a:r>
            <a:r>
              <a:rPr b="1" lang="th-TH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วัตถุดิบในประเทศ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Production Cost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  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ต้นทุนการผลิต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Other Costs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             </a:t>
            </a:r>
            <a:r>
              <a:rPr b="1" lang="en-US" sz="4000" spc="-1" strike="noStrike">
                <a:solidFill>
                  <a:srgbClr val="4c0098"/>
                </a:solidFill>
                <a:latin typeface="AngsanaUPC"/>
                <a:cs typeface="Cordia New"/>
              </a:rPr>
              <a:t>ค่าใช้จ่าย ต้นทุนอื่นๆ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590920"/>
            <a:ext cx="8839080" cy="557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ngsanaUPC"/>
                <a:ea typeface="Cordia New"/>
              </a:rPr>
              <a:t>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SUM =  Local Content      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cs typeface="Cordia New"/>
              </a:rPr>
              <a:t>ส่วนที่ใช้ในประเทศ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%Local Content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=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</a:t>
            </a:r>
            <a:r>
              <a:rPr b="1" lang="en-US" sz="4000" spc="-1" strike="noStrike" u="sng">
                <a:solidFill>
                  <a:srgbClr val="010000"/>
                </a:solidFill>
                <a:uFillTx/>
                <a:latin typeface="AngsanaUPC"/>
                <a:ea typeface="Cordia New"/>
              </a:rPr>
              <a:t>Local Content  x  100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(40)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10000"/>
                </a:solidFill>
                <a:latin typeface="Angsana New"/>
              </a:rPr>
              <a:t>        </a:t>
            </a:r>
            <a:r>
              <a:rPr b="1" lang="th-TH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F.O.B. Price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%Non-ASEAN Content   =   </a:t>
            </a:r>
            <a:r>
              <a:rPr b="1" lang="en-US" sz="4000" spc="-1" strike="noStrike" u="sng">
                <a:solidFill>
                  <a:srgbClr val="010000"/>
                </a:solidFill>
                <a:uFillTx/>
                <a:latin typeface="AngsanaUPC"/>
                <a:ea typeface="Cordia New"/>
              </a:rPr>
              <a:t>Non-ASEAN Content x 100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(60)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10000"/>
                </a:solidFill>
                <a:latin typeface="Angsana New"/>
              </a:rPr>
              <a:t>        </a:t>
            </a:r>
            <a:r>
              <a:rPr b="1" lang="en-US" sz="4000" spc="-1" strike="noStrike">
                <a:solidFill>
                  <a:srgbClr val="010000"/>
                </a:solidFill>
                <a:latin typeface="AngsanaUPC"/>
                <a:ea typeface="Cordia New"/>
              </a:rPr>
              <a:t>F.O.B. Price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562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66"/>
                </a:solidFill>
                <a:latin typeface="AngsanaUPC"/>
                <a:ea typeface="Cordia New"/>
              </a:rPr>
              <a:t>Non-ASEAN Content</a:t>
            </a:r>
            <a:r>
              <a:rPr b="1" lang="th-TH" sz="4000" spc="-1" strike="noStrike">
                <a:solidFill>
                  <a:srgbClr val="009999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is calculated from the summation of C.I.F prices of non-ASEAN originating materials</a:t>
            </a:r>
            <a:endParaRPr b="0" lang="en-US" sz="40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>
                <a:solidFill>
                  <a:srgbClr val="ffffff"/>
                </a:solidFill>
                <a:latin typeface="AngsanaUPC"/>
              </a:rPr>
              <a:t>ASEAN and Other Regional Areas</a:t>
            </a:r>
            <a:endParaRPr b="1" lang="en-US" sz="6000" spc="-1" strike="noStrike">
              <a:solidFill>
                <a:srgbClr val="336699"/>
              </a:solidFill>
              <a:latin typeface="Cordia New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124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1. AFTA CER (Australia &amp; New Zealand)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534960" y="3962520"/>
            <a:ext cx="830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2. AFTA + 3 (China, Japan, Korea)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864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AngsanaUPC"/>
              </a:rPr>
              <a:t>Negotiation is </a:t>
            </a:r>
            <a:r>
              <a:rPr b="1" lang="en-US" sz="5400" spc="-1" strike="noStrike">
                <a:solidFill>
                  <a:srgbClr val="ffff00"/>
                </a:solidFill>
                <a:latin typeface="AngsanaUPC"/>
                <a:ea typeface="AngsanaUPC"/>
              </a:rPr>
              <a:t>at </a:t>
            </a:r>
            <a:r>
              <a:rPr b="1" lang="th-TH" sz="5400" spc="-1" strike="noStrike">
                <a:solidFill>
                  <a:srgbClr val="ffff00"/>
                </a:solidFill>
                <a:latin typeface="AngsanaUPC"/>
              </a:rPr>
              <a:t>on-going process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066680"/>
          <a:ext cx="4190760" cy="19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190760" cy="1946520"/>
                  </a:xfrm>
                  <a:prstGeom prst="rect">
                    <a:avLst/>
                  </a:prstGeom>
                  <a:ln w="5724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33520" y="4648320"/>
            <a:ext cx="830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</a:rPr>
              <a:t>3. 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ASEAN-China, ASEAN-India, ASEAN-Japan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066680"/>
            <a:ext cx="3733920" cy="1981440"/>
          </a:xfrm>
          <a:prstGeom prst="rect">
            <a:avLst/>
          </a:prstGeom>
          <a:solidFill>
            <a:srgbClr val="6600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ลดอากรขาเข้า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Sensitive List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ROO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UPC"/>
                <a:ea typeface="AngsanaUPC"/>
              </a:rPr>
              <a:t>ASEAN Roadmap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UPC"/>
                <a:ea typeface="AngsanaUPC"/>
              </a:rPr>
              <a:t>Sector: Textiles &amp; Apparel Products</a:t>
            </a:r>
            <a:endParaRPr b="0" lang="en-US" sz="60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1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มาเลเซียเป็นผู้ร่างข้อกำหนดใน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Roadmap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8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</a:rPr>
              <a:t>2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อัตราอากร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0%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นปี </a:t>
            </a:r>
            <a:r>
              <a:rPr b="1" lang="en-US" sz="5400" spc="-1" strike="noStrike">
                <a:solidFill>
                  <a:srgbClr val="ffff00"/>
                </a:solidFill>
                <a:latin typeface="AngsanaUPC"/>
                <a:ea typeface="AngsanaUPC"/>
              </a:rPr>
              <a:t>2550 CLMV 2555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526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3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ใช้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Substantial Transformation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ป็นเกณฑ์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ด้แหล่งกำเนิดร่วมกับ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Content 40% </a:t>
            </a:r>
            <a:r>
              <a:rPr b="1" i="1" lang="en-US" sz="5400" spc="-1" strike="noStrike">
                <a:solidFill>
                  <a:srgbClr val="ff3300"/>
                </a:solidFill>
                <a:latin typeface="Angsana New"/>
              </a:rPr>
              <a:t>2547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4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. 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ตกลงให้มี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MRA: Mutual Recognition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Agreement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สำหรับ </a:t>
            </a:r>
            <a:r>
              <a:rPr b="1" lang="en-US" sz="5400" spc="-1" strike="noStrike">
                <a:solidFill>
                  <a:srgbClr val="ffffff"/>
                </a:solidFill>
                <a:latin typeface="AngsanaUPC"/>
                <a:ea typeface="AngsanaUPC"/>
              </a:rPr>
              <a:t>Test Report    </a:t>
            </a:r>
            <a:r>
              <a:rPr b="1" lang="en-US" sz="5400" spc="-1" strike="noStrike">
                <a:solidFill>
                  <a:srgbClr val="ffff00"/>
                </a:solidFill>
                <a:latin typeface="AngsanaUPC"/>
                <a:ea typeface="AngsanaUPC"/>
              </a:rPr>
              <a:t>1/</a:t>
            </a:r>
            <a:r>
              <a:rPr b="1" i="1" lang="en-US" sz="5400" spc="-1" strike="noStrike">
                <a:solidFill>
                  <a:srgbClr val="ffff00"/>
                </a:solidFill>
                <a:latin typeface="Angsana New"/>
              </a:rPr>
              <a:t>2548</a:t>
            </a:r>
            <a:endParaRPr b="0" lang="en-US" sz="54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ประเด็นพิจารณาโอกาสและอุปสรรคการเปิดการค้าเสรี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กลุ่มอุตสาหกรรมสิ่ง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ทอ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และ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เครื่องนุ่งห่ม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828800"/>
            <a:ext cx="914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1.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วัตถุดิบ เช่น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โ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พล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ิเมอริกไฟเบอร์ ฝ้าย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ฯลฯ 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819520"/>
            <a:ext cx="914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2.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เครื่องจักร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(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ใหญ่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-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เล็ก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)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อุปกรณ์อิเล็กทรอนิกส์ คอมพิวเตอร์ 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809880"/>
            <a:ext cx="91440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000"/>
                </a:solidFill>
                <a:latin typeface="AngsanaUPC"/>
              </a:rPr>
              <a:t>3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. Technology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การ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ปั่นด้าย ย้อม</a:t>
            </a:r>
            <a:r>
              <a:rPr b="1" lang="en-US" sz="4400" spc="-1" strike="noStrike">
                <a:solidFill>
                  <a:srgbClr val="010000"/>
                </a:solidFill>
                <a:latin typeface="AngsanaUPC"/>
                <a:ea typeface="AngsanaUPC"/>
              </a:rPr>
              <a:t>/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พิมพ์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สี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cs typeface="AngsanaUPC"/>
              </a:rPr>
              <a:t>ท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อ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  <a:ea typeface="AngsanaUPC"/>
              </a:rPr>
              <a:t> เปียกน้ำ ฯลฯ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00600"/>
            <a:ext cx="914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4. </a:t>
            </a:r>
            <a:r>
              <a:rPr b="1" lang="th-TH" sz="4400" spc="-1" strike="noStrike">
                <a:solidFill>
                  <a:srgbClr val="010000"/>
                </a:solidFill>
                <a:latin typeface="AngsanaUPC"/>
              </a:rPr>
              <a:t>ความรู้ ความเชี่ยวชาญของบุคลากร การศึกษาและภาษา 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91320"/>
            <a:ext cx="91440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5. 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การปรับตัวของผู้บริหาร 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เจ้าของกิจการ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4400" spc="-1" strike="noStrike">
              <a:solidFill>
                <a:srgbClr val="009999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1828800"/>
            <a:ext cx="2514600" cy="838080"/>
          </a:xfrm>
          <a:prstGeom prst="rect">
            <a:avLst/>
          </a:prstGeom>
          <a:solidFill>
            <a:srgbClr val="66ff3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10000"/>
                </a:solidFill>
                <a:latin typeface="Angsana New"/>
              </a:rPr>
              <a:t>โครงสร้างภาษี</a:t>
            </a:r>
            <a:endParaRPr b="0" lang="en-US" sz="4800" spc="-1" strike="noStrike">
              <a:solidFill>
                <a:srgbClr val="009999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05:57:10Z</dcterms:created>
  <dc:creator>toshiba</dc:creator>
  <dc:description/>
  <dc:language>en-US</dc:language>
  <cp:lastModifiedBy>Nilsuwan</cp:lastModifiedBy>
  <dcterms:modified xsi:type="dcterms:W3CDTF">2005-04-25T04:37:44Z</dcterms:modified>
  <cp:revision>37</cp:revision>
  <dc:subject/>
  <dc:title>ASEAN = Association of Southeast Asian Nations (สมาคมอาเซียน)</dc:title>
</cp:coreProperties>
</file>