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22C-2CFD-4D23-ABAD-E4977FBAB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0B8-E362-43B9-B036-02EAEE0F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6380-E144-4A6F-84A2-2BC6A809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D1DF-83AA-4707-B3F2-AA4611E4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D417-4D56-4DCF-B728-42A3F68B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B503-0CF0-4FB9-A2E1-C9DDD81B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9A4A-444A-4D6C-88AF-51DF3B86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7FDBE-99EC-4C6B-B5CE-9DDE91D4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254F-FE6A-43F9-AB5C-FF884DA2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52CB-F4C7-43FD-AEF7-30C09846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0B0C-13D6-41B2-965C-04F52E5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9CF-D129-4732-8E2A-CBD4AB5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8CB8-5806-4EFF-B506-C948EA6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4118-ACDA-4824-888E-EE73FA5B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A5B5-F6B4-4A17-9E9A-9661C24B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C4CE-14BD-4689-8D85-1E0D3BBC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6F64-EF65-430C-9806-23BFE13D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A5D-03E0-44C6-8A50-8DB29A0E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62A6-F567-4456-9686-8431BC17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3CD4-E14A-489A-813F-0D7D869A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000" y="277920"/>
            <a:ext cx="89154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22AA-AF51-4606-A0E9-A7542004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B05-5006-4D8E-ACEE-608B6044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416-DF00-4A9A-96A7-6AB4CABA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090-990E-44C8-B188-8DD9F652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797F-955C-471D-A651-487E146F5B27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684240" cy="2949480"/>
            <a:chOff x="0" y="3902040"/>
            <a:chExt cx="368424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68424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318888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300132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300132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9640" y="4419720"/>
              <a:ext cx="14760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41680" y="6165720"/>
              <a:ext cx="15804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60440" y="4322880"/>
              <a:ext cx="20808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ngsana New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2680" y="1873080"/>
            <a:ext cx="84200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  <a:ea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3C620-5554-4A1B-82E7-A8B3260CC441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76360" y="476280"/>
            <a:ext cx="89852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  <a:cs typeface="IrisUPC"/>
              </a:rPr>
              <a:t>การตรวจสอบคุณสมบัติทางด้านแหล่งกำเนิดสินค้าที่จะขอรับ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ffcc66"/>
                </a:solidFill>
                <a:latin typeface="IrisUPC"/>
              </a:rPr>
              <a:t>สิทธิพิเศษทางภาษีศุลกากร</a:t>
            </a:r>
            <a:endParaRPr b="0" lang="en-US" sz="7200" spc="-1" strike="noStrike">
              <a:solidFill>
                <a:srgbClr val="ffffff"/>
              </a:solidFill>
              <a:latin typeface="Angsana New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4413240"/>
            <a:ext cx="3136680" cy="1752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32160" y="4572000"/>
            <a:ext cx="5486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โดย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นายชาย  สังขะเวส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สำนักป้องกันการแอบอ้างสิทธิ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ea typeface="IrisUPC"/>
              </a:rPr>
              <a:t>	</a:t>
            </a:r>
            <a:r>
              <a:rPr b="1" lang="th-TH" sz="4000" spc="-1" strike="noStrike">
                <a:solidFill>
                  <a:srgbClr val="ffffef"/>
                </a:solidFill>
                <a:latin typeface="IrisUPC"/>
                <a:cs typeface="IrisUPC"/>
              </a:rPr>
              <a:t>กรมการค้าต่าง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FFFE-0605-4930-8494-8F51403F9360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20800" y="270000"/>
            <a:ext cx="5740920" cy="105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lang="en-US" sz="6600" spc="-1" strike="noStrike">
                <a:solidFill>
                  <a:srgbClr val="ff7c80"/>
                </a:solidFill>
                <a:latin typeface="IrisUPC"/>
              </a:rPr>
              <a:t>GST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105240" y="447840"/>
            <a:ext cx="2889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(48 </a:t>
            </a:r>
            <a:r>
              <a:rPr b="1" lang="hi-IN" sz="4600" spc="-1" strike="noStrike">
                <a:solidFill>
                  <a:srgbClr val="ff7c80"/>
                </a:solidFill>
                <a:latin typeface="IrisUPC"/>
              </a:rPr>
              <a:t>ประเทศ</a:t>
            </a:r>
            <a:r>
              <a:rPr b="1" lang="en-US" sz="4600" spc="-1" strike="noStrike">
                <a:solidFill>
                  <a:srgbClr val="ff7c80"/>
                </a:solidFill>
                <a:latin typeface="IrisUPC"/>
              </a:rPr>
              <a:t>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792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อล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ังคลาเทศ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บลี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ค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รู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คิวบ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อกวาดอ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ย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า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โด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รั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มาเล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ซัมบิ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นจีเร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2971800" y="1204920"/>
            <a:ext cx="165096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าร์เจนติน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บนิ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บราซิล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ชิล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เหนือ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ียิปต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ินี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นเด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ิหร่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ลิ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ม็กซิ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นิการากั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ปากีสถ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1204920"/>
            <a:ext cx="1816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ปรู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กาหลีใต้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สิงคโป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ซูดาน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ทนซ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ยูโกสลาเว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ังโก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  <a:cs typeface="IrisUPC"/>
              </a:rPr>
              <a:t>ไฮ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ิ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กาตา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เนซูเอล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ฟิลิปปินส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รมาเน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ศรีลังกา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7512120" y="24084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รินิแดด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   </a:t>
            </a: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และโตเบ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ไท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ตูนีเซ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เวียดนาม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ิมบับเว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คลัมเบี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โมร๊อกโก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อุรุกวัย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cdce"/>
                </a:solidFill>
                <a:latin typeface="IrisUPC"/>
              </a:rPr>
              <a:t>ซาอีร์</a:t>
            </a: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9862-CC5F-4515-95A9-1C8E7116ADD0}" type="slidenum">
              <a:t>10</a:t>
            </a:fld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54560" y="525960"/>
            <a:ext cx="2997000" cy="126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900" spc="-1" strike="noStrike">
                <a:solidFill>
                  <a:srgbClr val="ffcc66"/>
                </a:solidFill>
                <a:latin typeface="IrisUPC"/>
              </a:rPr>
              <a:t>FTAs</a:t>
            </a:r>
            <a:endParaRPr b="0" lang="en-US" sz="129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227240" y="1916280"/>
            <a:ext cx="797400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บบสิทธิพิเศษทางภาษีศุลกากรที่ไทย</a:t>
            </a:r>
            <a:br>
              <a:rPr sz="5400"/>
            </a:b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ตกลงกับประเทศคู่ค้าที่มีศักยภาพใน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ขยายตลาดส่งออกเพื่อลดหย่อนภาษีขาเข้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cc"/>
                </a:solidFill>
                <a:latin typeface="Arial"/>
              </a:rPr>
              <a:t>ระหว่างกันสำหรับสินค้าบางรายการ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6418-A63F-4E69-85EB-0543F42FC3C3}" type="slidenum">
              <a:t>11</a:t>
            </a:fld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89920" y="374040"/>
            <a:ext cx="5901840" cy="103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cc66"/>
                </a:solidFill>
                <a:latin typeface="IrisUPC"/>
              </a:rPr>
              <a:t>FTAs  </a:t>
            </a:r>
            <a:r>
              <a:rPr b="1" i="1" lang="en-US" sz="5400" spc="-1" strike="noStrike">
                <a:solidFill>
                  <a:srgbClr val="ffcc66"/>
                </a:solidFill>
                <a:latin typeface="IrisUPC"/>
              </a:rPr>
              <a:t>ของไทยในปัจจุบัน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064880" y="1412640"/>
            <a:ext cx="820908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ินเด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กันยา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อสเตรเลีย  เริ่มตั้งแต่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1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มกราคม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254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487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3.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อาเซียน </a:t>
            </a:r>
            <a:r>
              <a:rPr b="1" lang="en-US" sz="4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hi-IN" sz="4800" spc="-1" strike="noStrike">
                <a:solidFill>
                  <a:srgbClr val="ffffcc"/>
                </a:solidFill>
                <a:latin typeface="Arial"/>
              </a:rPr>
              <a:t>จี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4880" y="3716280"/>
            <a:ext cx="8772480" cy="25923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1603440" indent="-1603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IrisUPC"/>
                <a:cs typeface="Angsana New"/>
              </a:rPr>
              <a:t>อนาคต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 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USA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นิวซีแลนด์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บาห์เร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br>
              <a:rPr sz="5400"/>
            </a:b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ญี่ปุ่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เปรู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–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BIMSTEC /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าเซียน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ea typeface="Angsana New"/>
              </a:rPr>
              <a:t>- </a:t>
            </a:r>
            <a:r>
              <a:rPr b="1" i="1" lang="en-US" sz="5400" spc="-1" strike="noStrike">
                <a:solidFill>
                  <a:srgbClr val="ccffff"/>
                </a:solidFill>
                <a:latin typeface="IrisUPC"/>
                <a:cs typeface="Angsana New"/>
              </a:rPr>
              <a:t>อินเดีย</a:t>
            </a:r>
            <a:endParaRPr b="0" lang="en-US" sz="5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6DA-445D-426F-B603-09AB729CD6DD}" type="slidenum">
              <a:t>12</a:t>
            </a:fld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15800" y="793800"/>
            <a:ext cx="929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IrisUPC"/>
                <a:cs typeface="IrisUPC"/>
              </a:rPr>
              <a:t>คุณสมบัติของ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</a:rPr>
              <a:t>สินค้า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  </a:t>
            </a:r>
            <a:r>
              <a:rPr b="1" i="1" lang="en-US" sz="6000" spc="-1" strike="noStrike">
                <a:solidFill>
                  <a:srgbClr val="ffcc66"/>
                </a:solidFill>
                <a:latin typeface="IrisUPC"/>
                <a:ea typeface="IrisUPC"/>
              </a:rPr>
              <a:t>(Origin Criterion)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920880" y="1766880"/>
            <a:ext cx="885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ภายในประเทศทั้งหมด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Wholly  Obtained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ผลิตจากวัตถุดิบนำเข้าจากต่างประเทศ  ต้องได้รับกา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แปรสภาพอย่างเพียงพ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Substantial  Transformation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1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พิกัดศุลกากร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2.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จารณาจากสัดส่วนการใช้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/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าคา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48C-23C4-43D5-9F48-38D012BF5484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-360" y="1471680"/>
            <a:ext cx="9448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72000"/>
          </a:bodyPr>
          <a:p>
            <a:pPr lvl="1" marL="139320" indent="-216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European Unio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Switzerland/Norway/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ุรก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Japan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%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U.S.A.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ของวัตถุดิบภาย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+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ต้นทุนการผลิตทางตรงไม่น้อยกว่า</a:t>
            </a:r>
            <a:br>
              <a:rPr sz="3000"/>
            </a:b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35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spcBef>
                <a:spcPts val="751"/>
              </a:spcBef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anad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 factory price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0">
              <a:lnSpc>
                <a:spcPct val="90000"/>
              </a:lnSpc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7880" indent="-194040">
              <a:lnSpc>
                <a:spcPct val="90000"/>
              </a:lnSpc>
              <a:buClr>
                <a:srgbClr val="3399ff"/>
              </a:buClr>
              <a:buSzPct val="80000"/>
              <a:buFont typeface="Wingdings" charset="2"/>
              <a:buChar char="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2880" y="1413000"/>
            <a:ext cx="0" cy="527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143352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484280"/>
            <a:ext cx="41400" cy="518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5562720" y="1433520"/>
            <a:ext cx="38160" cy="516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632880" y="1433520"/>
            <a:ext cx="44640" cy="5235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2081160"/>
            <a:ext cx="944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2922480" y="3429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2922480" y="436572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2922480" y="5661000"/>
            <a:ext cx="6718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58840" y="6669000"/>
            <a:ext cx="9447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128520" y="6228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5C8-72A4-4F80-A39A-43CA4BA4B1D2}" type="slidenum">
              <a:t>14</a:t>
            </a:fld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1460520"/>
            <a:ext cx="9677520" cy="66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</a:rPr>
              <a:t>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ประเทศ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     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Russian Federation/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A Certificate)     Bulgar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Ex-factory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CEPT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ASEAN countries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มูลค่าวัตถุดิบและต้นทุนการผลิต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D Certificate)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ในประเทศ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ASEAN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40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ประเทศสมาชิก         มูลค่าวัตถุดิบนำเข้าไม่เกิน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50 %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(Form GSTP)              GSTP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FOB price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43820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200160" y="314172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20858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533556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9753480" y="1438200"/>
            <a:ext cx="0" cy="4768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200160" y="4581360"/>
            <a:ext cx="9537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6200640"/>
            <a:ext cx="9537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1BB-A275-4175-99F0-EC8D4C6C8445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82680" y="333360"/>
            <a:ext cx="898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420840" y="1460520"/>
            <a:ext cx="914076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1ffff"/>
                </a:solidFill>
                <a:latin typeface="IrisUPC"/>
                <a:ea typeface="IrisUPC"/>
              </a:rPr>
              <a:t>    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ระบบ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    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   หลักเกณฑ์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ea typeface="IrisUPC"/>
              </a:rPr>
              <a:t>/ </a:t>
            </a:r>
            <a:r>
              <a:rPr b="1" lang="en-US" sz="3000" spc="-1" strike="noStrike">
                <a:solidFill>
                  <a:srgbClr val="b5ffff"/>
                </a:solidFill>
                <a:latin typeface="IrisUPC"/>
                <a:cs typeface="IrisUPC"/>
              </a:rPr>
              <a:t>เงื่อนไข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- India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2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%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                                        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เปลี่ยนแปลง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TA  Thailand – Australia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มูลค่าต้นทุนในประเทศไม่น้อยกว่า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40 </a:t>
            </a:r>
            <a:r>
              <a:rPr b="1" lang="th-TH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55%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ของ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FOB Price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และ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/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หรือ มีการเปลี่ยนแปลง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05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	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ea typeface="IrisUPC"/>
              </a:rPr>
              <a:t> </a:t>
            </a:r>
            <a:r>
              <a:rPr b="1" lang="en-US" sz="3000" spc="-1" strike="noStrike">
                <a:solidFill>
                  <a:srgbClr val="51ffff"/>
                </a:solidFill>
                <a:latin typeface="IrisUPC"/>
                <a:cs typeface="IrisUPC"/>
              </a:rPr>
              <a:t>พิกัดวัตถุดิบนำเข้า</a:t>
            </a:r>
            <a:endParaRPr b="0" lang="en-US" sz="3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344160" y="1438200"/>
            <a:ext cx="468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349200" y="1438200"/>
            <a:ext cx="921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349200" y="2085840"/>
            <a:ext cx="921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3800520" y="1438200"/>
            <a:ext cx="237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9499680" y="1438200"/>
            <a:ext cx="48960" cy="4438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408456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344520" y="5877000"/>
            <a:ext cx="9140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128520" y="67320"/>
            <a:ext cx="9705960" cy="14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หลักเกณฑ์การผลิตถูกต้องตามก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ฎ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</a:rPr>
              <a:t>แหล่งกำเนิด</a:t>
            </a:r>
            <a:r>
              <a:rPr b="1" lang="hi-IN" sz="5000" spc="-1" strike="noStrike">
                <a:solidFill>
                  <a:srgbClr val="ffffff"/>
                </a:solidFill>
                <a:latin typeface="IrisUPC"/>
                <a:cs typeface="IrisUPC"/>
              </a:rPr>
              <a:t>สินค้า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938-D8F5-4656-994D-BB19C6F0EA14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022400" y="44280"/>
            <a:ext cx="8683560" cy="9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โครงสร้างต้นทุนการผลิตสินค้า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1 </a:t>
            </a:r>
            <a:r>
              <a:rPr b="1" lang="en-US" sz="5000" spc="-1" strike="noStrike" u="sng">
                <a:solidFill>
                  <a:srgbClr val="ffcc66"/>
                </a:solidFill>
                <a:uFillTx/>
                <a:latin typeface="IrisUPC"/>
              </a:rPr>
              <a:t>หน่วย</a:t>
            </a:r>
            <a:endParaRPr b="0" lang="en-US" sz="5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1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ใน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ข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วัตถุดิบนำเข้าจากต่างประเทศ หรือไม่ทราบแหล่งที่ม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2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อื่น ๆ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production cost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โสหุ้ยโ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บบพิมพ์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ทดสอบ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แรงง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R &amp; D,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น้ำค่าไฟฟ้า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บริหาร ฯลฯ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3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ต่อหน่วย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4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วัตถุดิบ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ต้นทุนการผลิต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ำไร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5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่าใช้จ่ายในการขนส่งสินค้าเพื่อการส่งออก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ท่าอากาศยา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ด่านชายแดน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6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สินค้า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FOB  (=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ราคาสินค้าโรงงาน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+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คชจ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.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ในการขนส่ง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7.   </a:t>
            </a:r>
            <a:r>
              <a:rPr b="1" lang="en-US" sz="3200" spc="-1" strike="noStrike">
                <a:solidFill>
                  <a:srgbClr val="ffffff"/>
                </a:solidFill>
                <a:latin typeface="IrisUPC"/>
              </a:rPr>
              <a:t>การคำนวณอัตราส่วน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8CE7-0893-4909-BB3A-4AC690A96D4B}" type="slidenum">
              <a:t>17</a:t>
            </a:fld>
          </a:p>
        </p:txBody>
      </p:sp>
    </p:spTree>
  </p:cSld>
  <p:transition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60240" y="533520"/>
            <a:ext cx="657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ภายในประเทศ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180180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้องเป็นวัตถุดิบที่ผลิตขึ้นภายในประเทศและถูกต้อง</a:t>
            </a:r>
            <a:br>
              <a:rPr sz="4500"/>
            </a:br>
            <a:r>
              <a:rPr b="1" lang="hi-IN" sz="4500" spc="-1" strike="noStrike">
                <a:solidFill>
                  <a:srgbClr val="ffff99"/>
                </a:solidFill>
                <a:latin typeface="IrisUPC"/>
              </a:rPr>
              <a:t>ตามหลักเกณฑ์แหล่งกำเนิดของประเทศผู้ให้สิทธิพิเศษ</a:t>
            </a:r>
            <a:endParaRPr b="0" lang="en-US" sz="45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725400" y="3465360"/>
            <a:ext cx="9104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กรณีใช้ </a:t>
            </a:r>
            <a:r>
              <a:rPr b="1" i="1" lang="en-US" sz="4400" spc="-1" strike="noStrike">
                <a:solidFill>
                  <a:srgbClr val="ffffef"/>
                </a:solidFill>
                <a:latin typeface="IrisUPC"/>
              </a:rPr>
              <a:t>CUMULATION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ต้องแสดงหลักฐานรับรองตามที่ประเทศผู้ให้สิทธิกำหนด เช่น สหภาพยุโรป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EUR1,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อาเซียน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</a:rPr>
              <a:t>= Form D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      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FTA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ไทย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-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4400" spc="-1" strike="noStrike">
                <a:solidFill>
                  <a:srgbClr val="ffffef"/>
                </a:solidFill>
                <a:latin typeface="IrisUPC"/>
                <a:ea typeface="IrisUPC"/>
              </a:rPr>
              <a:t>= Form FTA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9D4-B526-49C2-9119-FC2E2131D9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85800"/>
            <a:ext cx="5365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วัตถุดิบนำเข้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2330280" y="1704960"/>
            <a:ext cx="5747040" cy="77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วัตถุดิบที่ใช้ในการผลิตที่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นำเข้าจากต่างประเทศ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  <a:ea typeface="IrisUPC"/>
              </a:rPr>
              <a:t>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C.I.F.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นการคำนวณต้นทุน</a:t>
            </a:r>
            <a:r>
              <a:rPr b="1" lang="en-US" sz="3200" spc="-1" strike="noStrike">
                <a:solidFill>
                  <a:srgbClr val="ffffcc"/>
                </a:solidFill>
                <a:latin typeface="Angsana New"/>
                <a:ea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ซื้อจากผู้นำเข้า  หรือ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ไม่ทราบแหล่งที่ม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ngsana New"/>
                <a:ea typeface="IrisUPC"/>
              </a:rPr>
              <a:t>        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ใช้ราคาตาม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ea typeface="IrisUPC"/>
              </a:rPr>
              <a:t>Invoice </a:t>
            </a:r>
            <a:r>
              <a:rPr b="1" lang="en-US" sz="3600" spc="-1" strike="noStrike">
                <a:solidFill>
                  <a:srgbClr val="ffffcc"/>
                </a:solidFill>
                <a:latin typeface="Angsana New"/>
                <a:cs typeface="IrisUPC"/>
              </a:rPr>
              <a:t>ที่ซื้อขายจริง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88BF-B85C-417D-B51A-52514BCA45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95400" y="2637000"/>
            <a:ext cx="8034480" cy="417672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992160" y="152280"/>
            <a:ext cx="8034480" cy="2340000"/>
          </a:xfrm>
          <a:prstGeom prst="rect">
            <a:avLst/>
          </a:prstGeom>
          <a:solidFill>
            <a:srgbClr val="ffffef"/>
          </a:solidFill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>
            <a:off x="1282680" y="320760"/>
            <a:ext cx="7485120" cy="34286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P (Generalized System of Preference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CEPT (Common Effective Preferential Tariff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GSTP (The Global System of Trade Preference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cs typeface="IrisUPC"/>
              </a:rPr>
              <a:t>ข้อตกลงการค้าเสรี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3333600" y="2757600"/>
            <a:ext cx="3410280" cy="57132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3399"/>
                </a:solidFill>
                <a:latin typeface="IrisUPC"/>
              </a:rPr>
              <a:t>กฎแหล่งกำเนิดสินค้า</a:t>
            </a:r>
            <a:endParaRPr b="0" lang="en-US" sz="3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1284120" y="3456000"/>
            <a:ext cx="7485120" cy="142884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1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หลักเกณฑ์ว่าด้วยแหล่งกำเนิดสินค้า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(Rules of Origin)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ภายในประเทศทั้งหมด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สินค้าผลิตด้วยวัตถุดิบนำเข้าจาก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3067200" y="5037120"/>
            <a:ext cx="3838320" cy="52236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2. </a:t>
            </a: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เงื่อนไขการส่งมอบสิน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>
            <a:off x="1257480" y="5675400"/>
            <a:ext cx="7467480" cy="9936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3.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เอกสารที่ใช้เป็นหลักฐานออกโดยกรมการค้าต่างประเทศ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 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A    - Form D  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</a:rPr>
              <a:t>- Form GSTP</a:t>
            </a:r>
            <a:r>
              <a:rPr b="1" lang="en-US" sz="3200" spc="-1" strike="noStrike">
                <a:solidFill>
                  <a:srgbClr val="003399"/>
                </a:solidFill>
                <a:latin typeface="IrisUPC"/>
                <a:ea typeface="IrisUPC"/>
              </a:rPr>
              <a:t>    - Form FTA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870440" y="32083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861080" y="47815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>
            <a:off x="4835520" y="5442120"/>
            <a:ext cx="330120" cy="360360"/>
          </a:xfrm>
          <a:prstGeom prst="downArrow">
            <a:avLst>
              <a:gd name="adj1" fmla="val 41667"/>
              <a:gd name="adj2" fmla="val 5116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2276640"/>
            <a:ext cx="330120" cy="436320"/>
          </a:xfrm>
          <a:prstGeom prst="downArrow">
            <a:avLst>
              <a:gd name="adj1" fmla="val 50000"/>
              <a:gd name="adj2" fmla="val 4543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517B-46D1-4740-A628-0A6D0AD3489D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533520"/>
            <a:ext cx="462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ต้นทุนการผลิตอื่นๆ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5349960" y="2795760"/>
            <a:ext cx="4572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จ้างในการบริหาร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เงินเดือนพนักงาน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ใช้จ่ายในการอบรม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   พนักงาน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ขนส่งวัตถุดิบ  ฯลฯ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413000"/>
            <a:ext cx="937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ต้นทุนอื่นที่เกิดจากการผลิต ทั้งทางตรงและทางอ้อม เช่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704880" y="2997360"/>
            <a:ext cx="4572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แรงในการผลิต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เสื่อมราคาเครื่องจักร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ตรวจสอบ   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4400" spc="-1" strike="noStrike">
                <a:solidFill>
                  <a:srgbClr val="ffffff"/>
                </a:solidFill>
                <a:latin typeface="IrisUPC"/>
              </a:rPr>
              <a:t>ค่าออกแบบผลิตภัณฑ์</a:t>
            </a:r>
            <a:endParaRPr b="0" lang="en-US" sz="4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07B-653A-4632-A6CF-EFBA29263D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2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0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93760" y="685800"/>
            <a:ext cx="2311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ค่าขนส่ง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2075040" y="2077920"/>
            <a:ext cx="52876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ค่าขนส่งสินค้า </a:t>
            </a:r>
            <a:r>
              <a:rPr b="1" lang="en-US" sz="4800" spc="-1" strike="noStrike">
                <a:solidFill>
                  <a:srgbClr val="ffffff"/>
                </a:solidFill>
                <a:latin typeface="IrisUPC"/>
              </a:rPr>
              <a:t>1 </a:t>
            </a: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หน่วย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จากโรงงานไปยังท่าเรือ หรือ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ff"/>
                </a:solidFill>
                <a:latin typeface="IrisUPC"/>
              </a:rPr>
              <a:t>ท่าอากาศยาน ที่จะส่งออก  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15F-3658-406A-9189-CD355DEE43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04880" y="105264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การขอรับ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</a:rPr>
              <a:t>CERTIFICATE : </a:t>
            </a:r>
            <a:r>
              <a:rPr b="1" i="1" lang="en-US" sz="6000" spc="-1" strike="noStrike" u="sng">
                <a:solidFill>
                  <a:srgbClr val="ffcc66"/>
                </a:solidFill>
                <a:uFillTx/>
                <a:latin typeface="IrisUPC"/>
                <a:ea typeface="IrisUPC"/>
              </a:rPr>
              <a:t>Form FTA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865080" y="2133720"/>
            <a:ext cx="81201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1-08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ได้เล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พิกัดศุลกากรที่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09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cs typeface="IrisUPC"/>
              </a:rPr>
              <a:t>ขึ้นไป </a:t>
            </a:r>
            <a:r>
              <a:rPr b="1" lang="en-US" sz="4000" spc="-1" strike="noStrike" u="sng">
                <a:solidFill>
                  <a:srgbClr val="ff9966"/>
                </a:solidFill>
                <a:uFillTx/>
                <a:latin typeface="IrisUPC"/>
                <a:cs typeface="IrisUPC"/>
              </a:rPr>
              <a:t>ต้อง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รับการตรวจสอบ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แหล่งกำเนิดสินค้าถูกต้องตามหลักเกณฑ์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 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IrisUPC"/>
                <a:cs typeface="IrisUPC"/>
              </a:rPr>
              <a:t>ก่อ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 ขอ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Form FTA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122-C2B7-4F63-AE78-540CAF4FE0E4}" type="slidenum">
              <a:t>22</a:t>
            </a:fld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09600" y="33336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risUPC"/>
              </a:rPr>
              <a:t> </a:t>
            </a:r>
            <a:r>
              <a:rPr b="1" lang="hi-IN" sz="6000" spc="-1" strike="noStrike">
                <a:solidFill>
                  <a:srgbClr val="ffcc66"/>
                </a:solidFill>
                <a:latin typeface="IrisUPC"/>
              </a:rPr>
              <a:t>เอกสารประกอบการพิจารณา</a:t>
            </a:r>
            <a:endParaRPr b="0" lang="en-US" sz="6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920880" y="1268280"/>
            <a:ext cx="8208720" cy="98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1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แบบคำขอให้ตรวจ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/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รับรองแหล่งกำเนิด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2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คำรับรองและรายละเอียดต้นทุนการผลิตสินค้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3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หนังสือรับรองการจดทะเบียนเป็นนิติบุคคล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4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ทะเบียนภาษีมูลค่าเพิ่ม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ภ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พ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.20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5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ใบอนุญาตประกอบกิจการโรงงา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</a:rPr>
              <a:t>6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ยื่นและรับ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7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สำเนาบัตรประจำตัวผู้ลงนามและผู้ยื่น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-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รับ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</a:rPr>
              <a:t>เอกสาร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8. 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หนังสือมอบอำนาจให้ลงนามแทน 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(</a:t>
            </a:r>
            <a:r>
              <a:rPr b="1" lang="hi-IN" sz="4000" spc="-1" strike="noStrike">
                <a:solidFill>
                  <a:srgbClr val="ffffff"/>
                </a:solidFill>
                <a:latin typeface="IrisUPC"/>
                <a:cs typeface="IrisUPC"/>
              </a:rPr>
              <a:t>ถ้ามี</a:t>
            </a:r>
            <a:r>
              <a:rPr b="1" lang="en-US" sz="4000" spc="-1" strike="noStrike">
                <a:solidFill>
                  <a:srgbClr val="ffffff"/>
                </a:solidFill>
                <a:latin typeface="IrisUPC"/>
                <a:ea typeface="IrisUPC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22B1-D917-45FA-AAB3-4B04FAEBD7B8}" type="slidenum">
              <a:t>23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898640" y="1981080"/>
            <a:ext cx="3189240" cy="41911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457880" y="914400"/>
            <a:ext cx="3466800" cy="1371600"/>
          </a:xfrm>
          <a:prstGeom prst="wedgeEllipseCallout">
            <a:avLst>
              <a:gd name="adj1" fmla="val -58629"/>
              <a:gd name="adj2" fmla="val 71412"/>
            </a:avLst>
          </a:prstGeom>
          <a:solidFill>
            <a:srgbClr val="ffffdd"/>
          </a:solidFill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990033"/>
                </a:solidFill>
                <a:latin typeface="JasmineUPC"/>
              </a:rPr>
              <a:t>จบแล้วครับ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B680-4D53-4769-8D95-A4E4A945FA9E}" type="slidenum">
              <a:t>24</a:t>
            </a:fld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29600" y="424800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>
            <a:off x="7329600" y="5002200"/>
            <a:ext cx="0" cy="765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3728880" y="42386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352520" y="422280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7329600" y="3357720"/>
            <a:ext cx="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2505240" y="1789200"/>
            <a:ext cx="0" cy="1162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7329600" y="2576520"/>
            <a:ext cx="0" cy="368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2938320" y="144360"/>
            <a:ext cx="4102200" cy="4762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3399"/>
                </a:solidFill>
                <a:latin typeface="IrisUPC"/>
              </a:rPr>
              <a:t>ระบบสิทธิพิเศษทางการค้า</a:t>
            </a:r>
            <a:endParaRPr b="0" lang="en-US" sz="32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488880" y="3813120"/>
            <a:ext cx="41036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488880" y="2952720"/>
            <a:ext cx="892800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หลักเกณฑ์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แหล่ง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กำเนิดสินค้า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ด้านการผลิต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) :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</a:rPr>
              <a:t>Rules of Origin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Origin Criteria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488880" y="4394160"/>
            <a:ext cx="17305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487440" y="5780160"/>
            <a:ext cx="892944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IrisUPC"/>
                <a:cs typeface="IrisUPC"/>
              </a:rPr>
              <a:t>ขั้นตอนการตรวจสอบย้อนหลัง  </a:t>
            </a:r>
            <a:r>
              <a:rPr b="1" lang="en-US" sz="2400" spc="-1" strike="noStrike">
                <a:solidFill>
                  <a:srgbClr val="003399"/>
                </a:solidFill>
                <a:latin typeface="IrisUPC"/>
                <a:ea typeface="IrisUPC"/>
              </a:rPr>
              <a:t>(Post Administrative Control)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487440" y="1185840"/>
            <a:ext cx="4113000" cy="10080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สิทธิพิเศษ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เป็นการทั่วไป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CEPT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                         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ระบบ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</a:rPr>
              <a:t>GSTP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>
            <a:off x="5311800" y="1185840"/>
            <a:ext cx="4113360" cy="151308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ภายใต้ข้อตกลงการค้าเสรี 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Free Trade Agreements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ก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7)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อสเตรเลีย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(1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ม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ค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.48)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สหรัฐอเมริกา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นิวซีแลนด์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ินเดีย 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cxnSp>
        <p:nvCxnSpPr>
          <p:cNvPr id="126" name=""/>
          <p:cNvCxnSpPr>
            <a:stCxn id="125" idx="0"/>
            <a:endCxn id="124" idx="0"/>
          </p:cNvCxnSpPr>
          <p:nvPr/>
        </p:nvCxnSpPr>
        <p:spPr>
          <a:xfrm rot="5400000">
            <a:off x="4955400" y="-1235160"/>
            <a:ext cx="2160" cy="4825080"/>
          </a:xfrm>
          <a:prstGeom prst="bentConnector3">
            <a:avLst>
              <a:gd name="adj1" fmla="val -13800000"/>
            </a:avLst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H="1">
            <a:off x="4985640" y="556920"/>
            <a:ext cx="3960" cy="4021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311800" y="3813120"/>
            <a:ext cx="410508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3399"/>
                </a:solidFill>
                <a:latin typeface="IrisUPC"/>
                <a:cs typeface="IrisUPC"/>
              </a:rPr>
              <a:t>กระบวนการตรวจสอบคุณสมบัติ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2865600" y="4394160"/>
            <a:ext cx="1728720" cy="457200"/>
          </a:xfrm>
          <a:prstGeom prst="rect">
            <a:avLst/>
          </a:prstGeom>
          <a:solidFill>
            <a:srgbClr val="e9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HS 84-97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2505240" y="3375000"/>
            <a:ext cx="0" cy="430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250524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2643120" y="3452760"/>
            <a:ext cx="2309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A / Form D / Form GSTP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3430440"/>
            <a:ext cx="1806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ขอรับหนังสือรับรองฯ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Form FTAs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7329600" y="3562200"/>
            <a:ext cx="215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5" name=""/>
          <p:cNvSpPr/>
          <p:nvPr/>
        </p:nvSpPr>
        <p:spPr>
          <a:xfrm>
            <a:off x="5097600" y="654120"/>
            <a:ext cx="26636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เพื่อลดหย่อน หรือยกเว้น อากรขาเข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4991040" y="776160"/>
            <a:ext cx="2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7761240" y="1379520"/>
            <a:ext cx="1800360" cy="13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บาห์เรน</a:t>
            </a:r>
            <a:r>
              <a:rPr b="1" lang="en-US" sz="2400" spc="-1" strike="noStrike">
                <a:solidFill>
                  <a:srgbClr val="bc3700"/>
                </a:solidFill>
                <a:latin typeface="Times New Roman"/>
                <a:ea typeface="IrisUP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IrisUPC"/>
              </a:rPr>
              <a:t>เปรู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ไทย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ญี่ปุ่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จีน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 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cs typeface="IrisUPC"/>
              </a:rPr>
              <a:t>อาเซียน</a:t>
            </a:r>
            <a:r>
              <a:rPr b="1" lang="en-US" sz="2000" spc="-1" strike="noStrike">
                <a:solidFill>
                  <a:srgbClr val="003399"/>
                </a:solidFill>
                <a:latin typeface="IrisUPC"/>
                <a:ea typeface="IrisUPC"/>
              </a:rPr>
              <a:t>-BIMSTEC</a:t>
            </a:r>
            <a:endParaRPr b="0" lang="en-US" sz="2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5530680" y="4332240"/>
            <a:ext cx="3598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ทุกรายการสินค้า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 ชี้แจงข้อมูลการผลิต มีความถูกต้องตาม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หลักเกณฑ์แหล่งกำเนิดสินค้า และผูกพันกับภาครัฐ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2720880" y="4941720"/>
            <a:ext cx="266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ผลิต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ส่งออก พิสูจน์ความถูกต้องตามหลักเกณฑ์แหล่งกำเนิดสินค้า โดยแสดงเอกสาร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/</a:t>
            </a: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หลักฐานการใช้วัตถุดิบ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374004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200160" y="4946760"/>
            <a:ext cx="252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ff"/>
                </a:solidFill>
                <a:latin typeface="IrisUPC"/>
                <a:cs typeface="IrisUPC"/>
              </a:rPr>
              <a:t>ผู้ขอรับหนังสือรับรองฯ ชี้แจงข้อมูลการผลิต มีความถูกต้องตามหลักเกณฑ์และผูกพันกับภาครัฐ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1352520" y="5516640"/>
            <a:ext cx="0" cy="250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1281240" y="6281640"/>
            <a:ext cx="777528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ตามคำขอให้ดำเนินการของศุลกากรประเทศผู้นำเข้า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th-TH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ว่าแสดงเอกสารเท็จ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กรณีมีข้อสงสัยเกี่ยวกับข</a:t>
            </a:r>
            <a:r>
              <a:rPr b="1" lang="th-TH" sz="1800" spc="-1" strike="noStrike">
                <a:solidFill>
                  <a:srgbClr val="ffffff"/>
                </a:solidFill>
                <a:latin typeface="IrisUPC"/>
                <a:cs typeface="IrisUPC"/>
              </a:rPr>
              <a:t>้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อมูลที่ผูกพันกับภาครัฐ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cs typeface="IrisUPC"/>
              </a:rPr>
              <a:t>สุ่มตรวจสอบ </a:t>
            </a:r>
            <a:r>
              <a:rPr b="1" lang="en-US" sz="1800" spc="-1" strike="noStrike">
                <a:solidFill>
                  <a:srgbClr val="ffffff"/>
                </a:solidFill>
                <a:latin typeface="IrisUPC"/>
                <a:ea typeface="IrisUPC"/>
              </a:rPr>
              <a:t>(Random Check)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D9C-F1C4-4763-95F4-BB94F33C71BD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72600" y="303120"/>
            <a:ext cx="9139320" cy="10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7200" spc="-1" strike="noStrike">
                <a:solidFill>
                  <a:srgbClr val="3399ff"/>
                </a:solidFill>
                <a:latin typeface="IrisUPC"/>
              </a:rPr>
              <a:t>ระบบสิทธิพิเศษทางภาษีศุลกากร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6816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P   (Generalized System of Preferenc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CEPT (Common Effective Preferential Tariff </a:t>
            </a:r>
            <a:br>
              <a:rPr sz="5400"/>
            </a:b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       Scheme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GSTP (Global System of Trade Preference</a:t>
            </a:r>
            <a:br>
              <a:rPr sz="5400"/>
            </a:br>
            <a:r>
              <a:rPr b="1" lang="en-US" sz="5400" spc="-1" strike="noStrike">
                <a:solidFill>
                  <a:srgbClr val="ffe6b3"/>
                </a:solidFill>
                <a:latin typeface="IrisUPC"/>
              </a:rPr>
              <a:t>        Among Developing Countrie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26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IrisUPC"/>
              </a:rPr>
              <a:t>Free Trade Agreements (FTAs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EA4E-33AA-4CD7-9FAC-99D34C71952D}" type="slidenum">
              <a:t>4</a:t>
            </a:fld>
          </a:p>
        </p:txBody>
      </p:sp>
    </p:spTree>
  </p:cSld>
  <p:transition>
    <p:blinds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907200" y="40320"/>
            <a:ext cx="8076600" cy="183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P 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Generalized System of Preference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31800" y="187308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0000"/>
          </a:bodyPr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บบสิทธิพิเศษทางภาษีศุลกากรเป็นการทั่วไป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ประเทศพัฒนาแล้ว ให้สิทธิพิเศษทางภาษีศุลกากร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แก่สินค้าที่มีแหล่งกำเนิดจากประเทศกำลังพัฒนา 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ลดหย่อนหรือยกเว้นภาษีศุลกากรให้แก่สินค้าที่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อยู่ในข่ายได้รับสิทธิฯ    ทั้งนี้ ประเทศผู้ให้สิทธิฯ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จะเป็นผู้ให้ฝ่ายเดียวโดยไม่หวังผลตอบแทน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AD7-BF67-46A1-B6BA-E5948A9DF139}" type="slidenum">
              <a:t>5</a:t>
            </a:fld>
          </a:p>
        </p:txBody>
      </p:sp>
    </p:spTree>
  </p:cSld>
  <p:transition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48560" y="507240"/>
            <a:ext cx="902664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3399ff"/>
                </a:solidFill>
                <a:latin typeface="IrisUPC"/>
              </a:rPr>
              <a:t>ประเทศที่ให้สิทธิพิเศษ </a:t>
            </a:r>
            <a:r>
              <a:rPr b="1" lang="en-US" sz="6600" spc="-1" strike="noStrike">
                <a:solidFill>
                  <a:srgbClr val="3399ff"/>
                </a:solidFill>
                <a:latin typeface="IrisUPC"/>
              </a:rPr>
              <a:t>GSP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380600" y="1628640"/>
            <a:ext cx="52009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ัจจุบัน มี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3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4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ประเทศ 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แบ่งได้เป็น </a:t>
            </a:r>
            <a:r>
              <a:rPr b="1" lang="en-US" sz="4600" spc="-1" strike="noStrike">
                <a:solidFill>
                  <a:srgbClr val="ffffcc"/>
                </a:solidFill>
                <a:latin typeface="IrisUPC"/>
              </a:rPr>
              <a:t>10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 </a:t>
            </a:r>
            <a:r>
              <a:rPr b="1" lang="th-TH" sz="4600" spc="-1" strike="noStrike">
                <a:solidFill>
                  <a:srgbClr val="ffffcc"/>
                </a:solidFill>
                <a:latin typeface="IrisUPC"/>
              </a:rPr>
              <a:t>ระบบ คือ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59120" y="3276720"/>
            <a:ext cx="4073400" cy="30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รัฐอเมริก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หภาพยุโรป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ea typeface="IrisUPC"/>
              </a:rPr>
              <a:t>2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5 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ประเทศ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นอรเว</a:t>
            </a: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ย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สวิตเซอร์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ญี่ปุ่น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6681960" y="3463920"/>
            <a:ext cx="192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Angsana New"/>
              </a:rPr>
              <a:t>แคนาดา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บัลแกเร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</a:rPr>
              <a:t>รัสเซีย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ตุรกี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IrisUPC"/>
                <a:cs typeface="IrisUPC"/>
              </a:rPr>
              <a:t>นิวซีแลนด์</a:t>
            </a:r>
            <a:endParaRPr b="0" lang="en-US" sz="40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D23A-46A5-4F1F-A5EE-E01EE2C51D1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12960" y="1080"/>
            <a:ext cx="8570880" cy="197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CEPT</a:t>
            </a:r>
            <a:br>
              <a:rPr sz="8800"/>
            </a:br>
            <a:r>
              <a:rPr b="1" lang="en-US" sz="6000" spc="-1" strike="noStrike">
                <a:solidFill>
                  <a:srgbClr val="99b1ff"/>
                </a:solidFill>
                <a:latin typeface="IrisUPC"/>
              </a:rPr>
              <a:t>Common Effective Preferential Tariff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5200" y="2209680"/>
            <a:ext cx="85104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ข้อตกลงว่าด้วยอัตราภาษีศุลกากรพิเศษ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ที่เท่ากันภายใต้เขตการค้าเสรีอาเซียน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โดยมีเป้าหมายเพื่อลดอัตราภาษีนำเข้า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ระหว่างประเทศสมาชิกอาเซียน ให้เหลือ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0-5 % </a:t>
            </a:r>
            <a:br>
              <a:rPr sz="4600"/>
            </a:b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ภายในระยะเวลา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10 </a:t>
            </a:r>
            <a:r>
              <a:rPr b="1" lang="hi-IN" sz="4600" spc="-1" strike="noStrike">
                <a:solidFill>
                  <a:srgbClr val="cdd9ff"/>
                </a:solidFill>
                <a:latin typeface="IrisUPC"/>
              </a:rPr>
              <a:t>ปี </a:t>
            </a:r>
            <a:r>
              <a:rPr b="1" lang="en-US" sz="4600" spc="-1" strike="noStrike">
                <a:solidFill>
                  <a:srgbClr val="cdd9ff"/>
                </a:solidFill>
                <a:latin typeface="IrisUPC"/>
              </a:rPr>
              <a:t>(2536-2546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073-7C89-4BC6-B68F-0EBADCF45751}" type="slidenum">
              <a:t>7</a:t>
            </a:fld>
          </a:p>
        </p:txBody>
      </p:sp>
    </p:spTree>
  </p:cSld>
  <p:transition>
    <p:zoom dir="in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491480" y="507240"/>
            <a:ext cx="6580080" cy="127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ประเทศสมาชิก </a:t>
            </a:r>
            <a:r>
              <a:rPr b="1" i="1" lang="en-US" sz="6600" spc="-1" strike="noStrike">
                <a:solidFill>
                  <a:srgbClr val="ff7c80"/>
                </a:solidFill>
                <a:latin typeface="IrisUPC"/>
              </a:rPr>
              <a:t>ASEAN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97172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อินโดนี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มาเลเซี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ฟิลิปปินส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สิงคโปร์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บรูไน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5283360" y="1981080"/>
            <a:ext cx="24764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เวียดนาม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ลาว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พม่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กัมพูชา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b3b5"/>
                </a:solidFill>
                <a:latin typeface="IrisUPC"/>
              </a:rPr>
              <a:t>ไทย</a:t>
            </a:r>
            <a:endParaRPr b="0" lang="en-US" sz="4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DB5-D61D-4F8C-8408-F2034E9653C3}" type="slidenum">
              <a:t>8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78280" y="-34200"/>
            <a:ext cx="8277480" cy="267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99b1ff"/>
                </a:solidFill>
                <a:latin typeface="IrisUPC"/>
              </a:rPr>
              <a:t>GSTP</a:t>
            </a:r>
            <a:br>
              <a:rPr sz="8800"/>
            </a:br>
            <a:r>
              <a:rPr b="1" lang="en-US" sz="5400" spc="-1" strike="noStrike">
                <a:solidFill>
                  <a:srgbClr val="99b1ff"/>
                </a:solidFill>
                <a:latin typeface="IrisUPC"/>
              </a:rPr>
              <a:t>The Global System of Trade Preferences Among Developing Countri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71560" y="2666520"/>
            <a:ext cx="8618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25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9ff"/>
                </a:solidFill>
                <a:latin typeface="IrisUPC"/>
              </a:rPr>
              <a:t>        </a:t>
            </a: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ระบบสิทธิพิเศษทางการค้าระหว่างประเทศ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ที่กำลังพัฒนา ที่ตกลงจะลดหย่อนภาษีแก่สินค้า</a:t>
            </a:r>
            <a:br>
              <a:rPr sz="4800"/>
            </a:br>
            <a:r>
              <a:rPr b="1" lang="hi-IN" sz="4800" spc="-1" strike="noStrike">
                <a:solidFill>
                  <a:srgbClr val="cdd9ff"/>
                </a:solidFill>
                <a:latin typeface="IrisUPC"/>
              </a:rPr>
              <a:t>บางรายการระหว่างกัน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0FB0-8D3A-4B08-A388-CF40D64E0533}" type="slidenum">
              <a:t>9</a:t>
            </a:fld>
          </a:p>
        </p:txBody>
      </p:sp>
    </p:spTree>
  </p:cSld>
  <p:transition>
    <p:pull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01:47:50Z</dcterms:created>
  <dc:creator>กองสิทธิประโยชน์ทางการค้า</dc:creator>
  <dc:description/>
  <dc:language>en-US</dc:language>
  <cp:lastModifiedBy>padungsak</cp:lastModifiedBy>
  <cp:lastPrinted>2004-06-08T04:42:39Z</cp:lastPrinted>
  <dcterms:modified xsi:type="dcterms:W3CDTF">2005-04-22T20:17:34Z</dcterms:modified>
  <cp:revision>91</cp:revision>
  <dc:subject/>
  <dc:title>ROO3</dc:title>
</cp:coreProperties>
</file>