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5D0D-65B9-4FC9-AC6A-B0CFCC45C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89DC-6AA3-426B-A0D6-93110F9A1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C101-5AC5-40DC-A786-8C56C39B3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DFBC-E16E-4280-86CA-4EEF0EC44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639E-F685-4D10-BCA4-36ED86CE4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DF6B-5CED-4CD9-BA20-AB761977C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3B97-FF72-4E09-A9E9-B83DE67D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027C-145D-4D2E-8EAC-3A21BD75B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055F-F803-4493-8FA3-CFDE9C919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DC6E-49FD-42E5-8D2C-F3603A332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86FD-47C8-41BA-97B4-CA5E0E556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535F-6633-4C64-A2F6-5F882C3D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066B-5200-4792-84D8-46DE2F768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E68E-3639-4648-BBC9-F5A5D8EB6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8CBD-3D2D-4A13-83E4-347BCA00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ABEB-365B-48E9-9B23-1A2F200C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A5DB-226A-4A5A-B2EF-276B979B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EA1BE-3E3C-42F1-AC19-80F2226D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C814-8CA8-46A1-8C5A-92E4E25A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F8F0-EB79-4EBA-9B30-4B467910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7EEF-B3FD-4243-90FC-DE8F2DF3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4B54-A747-4DB6-B08E-9698D008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A0F3-5E24-456B-BA05-C8BEC7B4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0D6D-FCE0-4818-96EC-8E44F812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FE6E-435F-46AA-959C-774B4E05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C30B-4D6E-470F-A243-D44D98B9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59B7-B01A-44F2-91ED-F98CA127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9201-0498-4583-B0D0-FEC5242E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1824-E5DC-4184-BE3B-7C99EB7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7FAE-5C30-45D1-842D-6B697E9F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DC5F-0062-4B7A-9C04-B5431A4D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B5D1-B9C0-457C-9E2D-A238AAAD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F7E1-CD2F-4E03-B9A8-E492ECB8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24BC-AB56-4F8D-B980-7C4D257B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142B-377E-455D-8A61-02EFE1D0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A7A0-52FF-4AFD-BECB-39B5C0F4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FBEE-0D3C-4F4D-9F47-AE082A1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C637-8CA7-46A9-BC68-18370BB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CB6BB-1242-4396-9454-3679E64F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5BAC-7836-4B5C-82FB-906C1EBD865F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E218-DE0B-4B52-8998-B8FBA1272D03}" type="slidenum">
              <a:rPr b="0" lang="en-US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758520"/>
            <a:ext cx="838224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Tahoma"/>
                <a:cs typeface="JasmineUPC"/>
              </a:rPr>
              <a:t>ความคืบหน้าการทำความตกลง</a:t>
            </a:r>
            <a:br>
              <a:rPr sz="5600"/>
            </a:br>
            <a:r>
              <a:rPr b="1" lang="th-TH" sz="56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เสรีของประเทศไทย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โดย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นายณัฐวัชร์ จันทร์วิเมลือ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กรมเจรจาการค้าระหว่างประเท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วันอังคารที่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6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เมษายน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48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ณ ห้องกมลทิพย์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โรงแรมสยามซิตี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7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เปิดตลาดสิ่งทอ</a:t>
            </a:r>
            <a:endParaRPr b="0" lang="en-US" sz="67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260280"/>
            <a:ext cx="8839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Tahoma"/>
                <a:ea typeface="JasmineUPC"/>
              </a:rPr>
              <a:t> </a:t>
            </a:r>
            <a:r>
              <a:rPr b="1" lang="th-TH" sz="5400" spc="-1" strike="noStrike">
                <a:solidFill>
                  <a:srgbClr val="ffff00"/>
                </a:solidFill>
                <a:latin typeface="Cordia New"/>
                <a:cs typeface="JasmineUPC"/>
              </a:rPr>
              <a:t>การลดภาษีสิ่งทอของไทย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90720" y="2133720"/>
          <a:ext cx="7248240" cy="792000"/>
        </p:xfrm>
        <a:graphic>
          <a:graphicData uri="http://schemas.openxmlformats.org/drawingml/2006/table">
            <a:tbl>
              <a:tblPr/>
              <a:tblGrid>
                <a:gridCol w="1276200"/>
                <a:gridCol w="995400"/>
                <a:gridCol w="995400"/>
                <a:gridCol w="995400"/>
                <a:gridCol w="995400"/>
                <a:gridCol w="995400"/>
                <a:gridCol w="99504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&gt;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12680" y="388620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&gt;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99640" y="1998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Cordia New"/>
                <a:cs typeface="JasmineUPC"/>
              </a:rPr>
              <a:t>กฎแหล่งกำเนิดสินค้า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1844640"/>
            <a:ext cx="7777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ubstantial Transformation</a:t>
            </a:r>
            <a:r>
              <a:rPr b="1" lang="en-US" sz="4400" spc="-1" strike="noStrike">
                <a:solidFill>
                  <a:srgbClr val="ffffff"/>
                </a:solidFill>
                <a:latin typeface="Cordia New"/>
                <a:ea typeface="JasmineUPC"/>
              </a:rPr>
              <a:t> </a:t>
            </a:r>
            <a:r>
              <a:rPr b="1" i="1" lang="th-TH" sz="4800" spc="-1" strike="noStrike">
                <a:solidFill>
                  <a:srgbClr val="ffff00"/>
                </a:solidFill>
                <a:latin typeface="Cordia New"/>
                <a:cs typeface="JasmineUPC"/>
              </a:rPr>
              <a:t>และ</a:t>
            </a:r>
            <a:r>
              <a:rPr b="1" i="1" lang="en-US" sz="4800" spc="-1" strike="noStrike">
                <a:solidFill>
                  <a:srgbClr val="ffffff"/>
                </a:solidFill>
                <a:latin typeface="Cordia New"/>
                <a:ea typeface="JasmineUPC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rdia New"/>
                <a:ea typeface="JasmineUPC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gional Value Content</a:t>
            </a:r>
            <a:r>
              <a:rPr b="1" lang="en-US" sz="4400" spc="-1" strike="noStrike">
                <a:solidFill>
                  <a:srgbClr val="ffffff"/>
                </a:solidFill>
                <a:latin typeface="Cordia New"/>
                <a:ea typeface="JasmineUPC"/>
              </a:rPr>
              <a:t> </a:t>
            </a:r>
            <a:r>
              <a:rPr b="1" lang="th-TH" sz="4400" spc="-1" strike="noStrike">
                <a:solidFill>
                  <a:srgbClr val="ffff00"/>
                </a:solidFill>
                <a:latin typeface="Cordia New"/>
                <a:cs typeface="JasmineUPC"/>
              </a:rPr>
              <a:t>ไม่น้อยกว่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rdia New"/>
                <a:ea typeface="JasmineUPC"/>
              </a:rPr>
              <a:t>   </a:t>
            </a:r>
            <a:r>
              <a:rPr b="1" lang="th-TH" sz="4400" spc="-1" strike="noStrike">
                <a:solidFill>
                  <a:srgbClr val="ffff00"/>
                </a:solidFill>
                <a:latin typeface="Cordia New"/>
                <a:cs typeface="JasmineUPC"/>
              </a:rPr>
              <a:t>ร้อยละ</a:t>
            </a:r>
            <a:r>
              <a:rPr b="1" lang="en-US" sz="4400" spc="-1" strike="noStrike">
                <a:solidFill>
                  <a:srgbClr val="ffff00"/>
                </a:solidFill>
                <a:latin typeface="Cordi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5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4005360"/>
            <a:ext cx="7308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Cordia New"/>
                <a:ea typeface="Cordia New"/>
              </a:rPr>
              <a:t>    </a:t>
            </a:r>
            <a:r>
              <a:rPr b="1" lang="th-TH" sz="4000" spc="-1" strike="noStrike">
                <a:solidFill>
                  <a:srgbClr val="ffffff"/>
                </a:solidFill>
                <a:latin typeface="Cordia New"/>
                <a:cs typeface="JasmineUPC"/>
              </a:rPr>
              <a:t>อย่างน้อยร้อยละ </a:t>
            </a:r>
            <a:r>
              <a:rPr b="1" lang="th-TH" sz="4000" spc="-1" strike="noStrike">
                <a:solidFill>
                  <a:srgbClr val="ffffff"/>
                </a:solidFill>
                <a:latin typeface="Cordia New"/>
                <a:ea typeface="JasmineUPC"/>
              </a:rPr>
              <a:t>30 </a:t>
            </a:r>
            <a:r>
              <a:rPr b="1" lang="th-TH" sz="4000" spc="-1" strike="noStrike">
                <a:solidFill>
                  <a:srgbClr val="ffffff"/>
                </a:solidFill>
                <a:latin typeface="Cordia New"/>
                <a:cs typeface="JasmineUPC"/>
              </a:rPr>
              <a:t>ของมูลค่าวัตถุดิ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Cordia New"/>
                <a:ea typeface="JasmineUPC"/>
              </a:rPr>
              <a:t>    </a:t>
            </a:r>
            <a:r>
              <a:rPr b="1" lang="th-TH" sz="4000" spc="-1" strike="noStrike">
                <a:solidFill>
                  <a:srgbClr val="ffffff"/>
                </a:solidFill>
                <a:latin typeface="Cordia New"/>
                <a:cs typeface="JasmineUPC"/>
              </a:rPr>
              <a:t>จากประเทศไท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2aa68"/>
                </a:solidFill>
                <a:latin typeface="Cordia New"/>
                <a:ea typeface="Cordia New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2aa68"/>
                </a:solidFill>
                <a:latin typeface="Cordia New"/>
                <a:ea typeface="Cordia New"/>
              </a:rPr>
              <a:t>    </a:t>
            </a:r>
            <a:r>
              <a:rPr b="1" lang="th-TH" sz="4000" spc="-1" strike="noStrike">
                <a:solidFill>
                  <a:srgbClr val="ffff00"/>
                </a:solidFill>
                <a:latin typeface="Cordia New"/>
                <a:cs typeface="JasmineUPC"/>
              </a:rPr>
              <a:t>ที่เหลือร้อยละ </a:t>
            </a:r>
            <a:r>
              <a:rPr b="1" lang="th-TH" sz="4000" spc="-1" strike="noStrike">
                <a:solidFill>
                  <a:srgbClr val="ffff00"/>
                </a:solidFill>
                <a:latin typeface="Cordia New"/>
                <a:ea typeface="JasmineUPC"/>
              </a:rPr>
              <a:t>25 </a:t>
            </a:r>
            <a:r>
              <a:rPr b="1" lang="th-TH" sz="4000" spc="-1" strike="noStrike">
                <a:solidFill>
                  <a:srgbClr val="ffff00"/>
                </a:solidFill>
                <a:latin typeface="Cordia New"/>
                <a:cs typeface="JasmineUPC"/>
              </a:rPr>
              <a:t>ของมูลค่าวัตถุดิบจา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Cordia New"/>
                <a:ea typeface="JasmineUPC"/>
              </a:rPr>
              <a:t>    </a:t>
            </a:r>
            <a:r>
              <a:rPr b="1" lang="th-TH" sz="4000" spc="-1" strike="noStrike">
                <a:solidFill>
                  <a:srgbClr val="ffff00"/>
                </a:solidFill>
                <a:latin typeface="Cordia New"/>
                <a:cs typeface="JasmineUPC"/>
              </a:rPr>
              <a:t>ประเทศกำลังพัฒน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99640" y="2938320"/>
            <a:ext cx="64764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4221000"/>
            <a:ext cx="1224000" cy="144720"/>
          </a:xfrm>
          <a:prstGeom prst="rightArrow">
            <a:avLst>
              <a:gd name="adj1" fmla="val 50000"/>
              <a:gd name="adj2" fmla="val 211443"/>
            </a:avLst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85960" y="537372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924280"/>
            <a:ext cx="0" cy="25207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68360" y="476280"/>
            <a:ext cx="8136000" cy="15562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rial"/>
                <a:cs typeface="JasmineUPC"/>
              </a:rPr>
              <a:t>การลดภาษีสิ่งทอของออสเตรเลี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280" y="4640400"/>
          <a:ext cx="8820000" cy="1150920"/>
        </p:xfrm>
        <a:graphic>
          <a:graphicData uri="http://schemas.openxmlformats.org/drawingml/2006/table">
            <a:tbl>
              <a:tblPr/>
              <a:tblGrid>
                <a:gridCol w="1212840"/>
                <a:gridCol w="691920"/>
                <a:gridCol w="690840"/>
                <a:gridCol w="690480"/>
                <a:gridCol w="691920"/>
                <a:gridCol w="693720"/>
                <a:gridCol w="690840"/>
                <a:gridCol w="691920"/>
                <a:gridCol w="690840"/>
                <a:gridCol w="691920"/>
                <a:gridCol w="690480"/>
                <a:gridCol w="692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Base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1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1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1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1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1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765440" y="2924280"/>
            <a:ext cx="611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2680" y="3008160"/>
          <a:ext cx="8304120" cy="935280"/>
        </p:xfrm>
        <a:graphic>
          <a:graphicData uri="http://schemas.openxmlformats.org/drawingml/2006/table">
            <a:tbl>
              <a:tblPr/>
              <a:tblGrid>
                <a:gridCol w="1390680"/>
                <a:gridCol w="1152360"/>
                <a:gridCol w="1150920"/>
                <a:gridCol w="1152720"/>
                <a:gridCol w="1150920"/>
                <a:gridCol w="1155600"/>
                <a:gridCol w="11509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Base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68360" y="1557360"/>
          <a:ext cx="8135640" cy="934920"/>
        </p:xfrm>
        <a:graphic>
          <a:graphicData uri="http://schemas.openxmlformats.org/drawingml/2006/table">
            <a:tbl>
              <a:tblPr/>
              <a:tblGrid>
                <a:gridCol w="1626120"/>
                <a:gridCol w="1628280"/>
                <a:gridCol w="1626120"/>
                <a:gridCol w="1629000"/>
                <a:gridCol w="16261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Base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ntique Olive Compact"/>
                          <a:ea typeface="JasmineUPC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143000" y="1828800"/>
          <a:ext cx="7075440" cy="4560840"/>
        </p:xfrm>
        <a:graphic>
          <a:graphicData uri="http://schemas.openxmlformats.org/drawingml/2006/table">
            <a:tbl>
              <a:tblPr/>
              <a:tblGrid>
                <a:gridCol w="2960640"/>
                <a:gridCol w="2286000"/>
                <a:gridCol w="1828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จำนวนรายการ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สัดส่วน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ลดเหลือ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%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ก่อนแล้ว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1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17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ลดเหลือ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%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0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ลดเหลือ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%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1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18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ลดเหลือ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%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3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39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ลดเหลือ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0%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ป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1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2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24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รว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100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468360" y="228600"/>
            <a:ext cx="8136000" cy="2287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rial"/>
                <a:cs typeface="JasmineUPC"/>
              </a:rPr>
              <a:t>สัดส่วนของรายการสินค้าสิ่งทอ                     ที่ออสเตรเลียลดภาษีให้ไท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ระหว่างไทย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5000" spc="-1" strike="noStrike">
                <a:solidFill>
                  <a:srgbClr val="ffff00"/>
                </a:solidFill>
                <a:latin typeface="Tahoma"/>
                <a:cs typeface="JasmineUPC"/>
              </a:rPr>
              <a:t>ออสเตรเลีย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994040"/>
          <a:ext cx="8229600" cy="4494240"/>
        </p:xfrm>
        <a:graphic>
          <a:graphicData uri="http://schemas.openxmlformats.org/drawingml/2006/table">
            <a:tbl>
              <a:tblPr/>
              <a:tblGrid>
                <a:gridCol w="2438280"/>
                <a:gridCol w="1981440"/>
                <a:gridCol w="1981080"/>
                <a:gridCol w="1828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พ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กพ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,6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7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สิ่งท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สื้อผ้าสำเร็จรูป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ผ้าผืนและด้า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4 (1.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9 (1.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1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1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3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ดุลการค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6,6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6653160" y="95796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ไทย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ea typeface="JasmineUPC"/>
              </a:rPr>
              <a:t>-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นิวซีแลนด์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การเจรจา ใช้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TAFTA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เป็นพื้นฐาน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คณะรัฐมนตรีให้ความเห็นชอบผลการเจรจาด้วยแล้ว รวมทั้งนายกรัฐมนตรีทั้งสองฝ่ายได้ประกาศสรุปผลการเจรจาเมื่อ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30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พฤศจิกาย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547 </a:t>
            </a: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JasmineUPC"/>
              </a:rPr>
              <a:t>ณ กรุงเวียงจันทน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ได้ลงนามความตกลงเมื่อวันที่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9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เมษายน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48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     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และมีผลบังคับใช้ในวันที่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กรกฎาคม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</a:rPr>
              <a:t>254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ไทย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ea typeface="JasmineUPC"/>
              </a:rPr>
              <a:t>- </a:t>
            </a:r>
            <a:r>
              <a:rPr b="1" lang="th-TH" sz="6200" spc="-1" strike="noStrike">
                <a:solidFill>
                  <a:srgbClr val="ffff00"/>
                </a:solidFill>
                <a:latin typeface="Tahoma"/>
                <a:cs typeface="JasmineUPC"/>
              </a:rPr>
              <a:t>นิวซีแลนด์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สรุปสาระสำคัญ ดังนี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๏ 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ในเรื่องการเปิดตลาดและการลดภาษี ทันทีที่ความตกลงมีผลบังคับใช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ไทย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มาณ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54%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รายการสินค้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นิวซีแลนด์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0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มาณ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79%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ของรายการสินค้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ไทยยังมีใช้มาตรการโควตาภาษีและมาตรการปกป้องพิเศษในบางสินค้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 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๏ </a:t>
            </a:r>
            <a:r>
              <a:rPr b="1" lang="th-TH" sz="32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บริการ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จะเริ่มเจรจาใน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3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ปีหลังจากที่ความตกลงมีผลบังคับใช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7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เปิดตลาดสิ่งทอ</a:t>
            </a:r>
            <a:endParaRPr b="0" lang="en-US" sz="67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280" y="260280"/>
            <a:ext cx="8839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Tahoma"/>
                <a:ea typeface="JasmineUPC"/>
              </a:rPr>
              <a:t> </a:t>
            </a:r>
            <a:r>
              <a:rPr b="1" lang="th-TH" sz="5400" spc="-1" strike="noStrike">
                <a:solidFill>
                  <a:srgbClr val="ffff00"/>
                </a:solidFill>
                <a:latin typeface="Cordia New"/>
                <a:cs typeface="JasmineUPC"/>
              </a:rPr>
              <a:t>การลดภาษีสิ่งทอของไทย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2680" y="335268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.5,1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17360" y="137160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5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19160" y="236232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5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09440" y="4343400"/>
          <a:ext cx="895536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700200"/>
                <a:gridCol w="699840"/>
                <a:gridCol w="701640"/>
                <a:gridCol w="700200"/>
                <a:gridCol w="700200"/>
                <a:gridCol w="701640"/>
                <a:gridCol w="7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.5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19160" y="535932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699840"/>
                <a:gridCol w="701640"/>
                <a:gridCol w="700200"/>
                <a:gridCol w="700200"/>
                <a:gridCol w="701640"/>
                <a:gridCol w="700200"/>
                <a:gridCol w="699840"/>
                <a:gridCol w="701640"/>
                <a:gridCol w="7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00"/>
                </a:solidFill>
                <a:latin typeface="Angsana New"/>
                <a:ea typeface="JasmineUPC"/>
              </a:rPr>
              <a:t>FTA </a:t>
            </a:r>
            <a:r>
              <a:rPr b="1" lang="th-TH" sz="6900" spc="-1" strike="noStrike">
                <a:solidFill>
                  <a:srgbClr val="ffff00"/>
                </a:solidFill>
                <a:latin typeface="Angsana New"/>
                <a:cs typeface="JasmineUPC"/>
              </a:rPr>
              <a:t>คืออะไร</a:t>
            </a:r>
            <a:endParaRPr b="0" lang="en-US" sz="6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040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เขตการค้าเสรี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JasmineUPC"/>
              </a:rPr>
              <a:t>(Free Trade Area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JasmineUPC"/>
              </a:rPr>
              <a:t>-FTA)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JasmineUPC"/>
              </a:rPr>
              <a:t> </a:t>
            </a: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ประกอบด้ว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สองประเทศขึ้นไ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ตกลงจะขยายการค้าและการลงทุนระหว่างกั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พยายามจะลดอุปสรรคทั้งด้านภาษีและไม่ใช่ภาษีให้เหลือน้อยที่สุด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9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ahoma"/>
                <a:cs typeface="JasmineUPC"/>
              </a:rPr>
              <a:t>ครอบคลุมทั้งสินค้า บริการและการลงทุ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280" y="260280"/>
            <a:ext cx="8839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Tahoma"/>
                <a:ea typeface="JasmineUPC"/>
              </a:rPr>
              <a:t> </a:t>
            </a:r>
            <a:r>
              <a:rPr b="1" lang="th-TH" sz="5400" spc="-1" strike="noStrike">
                <a:solidFill>
                  <a:srgbClr val="ffff00"/>
                </a:solidFill>
                <a:latin typeface="Cordia New"/>
                <a:cs typeface="JasmineUPC"/>
              </a:rPr>
              <a:t>การลดภาษีสิ่งทอของไทย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2680" y="467352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0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,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2680" y="170172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.5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19160" y="368316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699840"/>
                <a:gridCol w="701640"/>
                <a:gridCol w="700200"/>
                <a:gridCol w="700200"/>
                <a:gridCol w="701640"/>
                <a:gridCol w="700200"/>
                <a:gridCol w="699840"/>
                <a:gridCol w="701640"/>
                <a:gridCol w="7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19160" y="269244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699840"/>
                <a:gridCol w="701640"/>
                <a:gridCol w="700200"/>
                <a:gridCol w="700200"/>
                <a:gridCol w="701640"/>
                <a:gridCol w="700200"/>
                <a:gridCol w="699840"/>
                <a:gridCol w="701640"/>
                <a:gridCol w="7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99640" y="1998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Cordia New"/>
                <a:cs typeface="JasmineUPC"/>
              </a:rPr>
              <a:t>กฎแหล่งกำเนิดสินค้า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7777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ubstantial Transformation</a:t>
            </a:r>
            <a:r>
              <a:rPr b="1" lang="en-US" sz="4400" spc="-1" strike="noStrike">
                <a:solidFill>
                  <a:srgbClr val="ffffff"/>
                </a:solidFill>
                <a:latin typeface="Cordia New"/>
                <a:ea typeface="JasmineUPC"/>
              </a:rPr>
              <a:t> </a:t>
            </a:r>
            <a:r>
              <a:rPr b="1" i="1" lang="th-TH" sz="4800" spc="-1" strike="noStrike">
                <a:solidFill>
                  <a:srgbClr val="ffff00"/>
                </a:solidFill>
                <a:latin typeface="Cordia New"/>
                <a:cs typeface="JasmineUPC"/>
              </a:rPr>
              <a:t>และ</a:t>
            </a:r>
            <a:r>
              <a:rPr b="1" i="1" lang="en-US" sz="4800" spc="-1" strike="noStrike">
                <a:solidFill>
                  <a:srgbClr val="ffffff"/>
                </a:solidFill>
                <a:latin typeface="Cordia New"/>
                <a:ea typeface="JasmineUPC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rdia New"/>
                <a:ea typeface="JasmineUPC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Regional Value Content</a:t>
            </a:r>
            <a:r>
              <a:rPr b="1" lang="en-US" sz="4400" spc="-1" strike="noStrike">
                <a:solidFill>
                  <a:srgbClr val="ffffff"/>
                </a:solidFill>
                <a:latin typeface="Cordia New"/>
                <a:ea typeface="JasmineUPC"/>
              </a:rPr>
              <a:t> </a:t>
            </a:r>
            <a:r>
              <a:rPr b="1" lang="th-TH" sz="4400" spc="-1" strike="noStrike">
                <a:solidFill>
                  <a:srgbClr val="ffff00"/>
                </a:solidFill>
                <a:latin typeface="Cordia New"/>
                <a:cs typeface="JasmineUPC"/>
              </a:rPr>
              <a:t>ไม่น้อยกว่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rdia New"/>
                <a:ea typeface="JasmineUPC"/>
              </a:rPr>
              <a:t>   </a:t>
            </a:r>
            <a:r>
              <a:rPr b="1" lang="th-TH" sz="4400" spc="-1" strike="noStrike">
                <a:solidFill>
                  <a:srgbClr val="ffff00"/>
                </a:solidFill>
                <a:latin typeface="Cordia New"/>
                <a:cs typeface="JasmineUPC"/>
              </a:rPr>
              <a:t>ร้อยละ</a:t>
            </a:r>
            <a:r>
              <a:rPr b="1" lang="en-US" sz="4400" spc="-1" strike="noStrike">
                <a:solidFill>
                  <a:srgbClr val="ffff00"/>
                </a:solidFill>
                <a:latin typeface="Cordi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5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35280" y="4005360"/>
            <a:ext cx="7308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Cordia New"/>
                <a:ea typeface="Cordia New"/>
              </a:rPr>
              <a:t>    </a:t>
            </a:r>
            <a:r>
              <a:rPr b="1" lang="th-TH" sz="4000" spc="-1" strike="noStrike">
                <a:solidFill>
                  <a:srgbClr val="ffffff"/>
                </a:solidFill>
                <a:latin typeface="Cordia New"/>
                <a:cs typeface="JasmineUPC"/>
              </a:rPr>
              <a:t>อย่างน้อยร้อยละ </a:t>
            </a:r>
            <a:r>
              <a:rPr b="1" lang="th-TH" sz="4000" spc="-1" strike="noStrike">
                <a:solidFill>
                  <a:srgbClr val="ffffff"/>
                </a:solidFill>
                <a:latin typeface="Cordia New"/>
                <a:ea typeface="JasmineUPC"/>
              </a:rPr>
              <a:t>30 </a:t>
            </a:r>
            <a:r>
              <a:rPr b="1" lang="th-TH" sz="4000" spc="-1" strike="noStrike">
                <a:solidFill>
                  <a:srgbClr val="ffffff"/>
                </a:solidFill>
                <a:latin typeface="Cordia New"/>
                <a:cs typeface="JasmineUPC"/>
              </a:rPr>
              <a:t>ของมูลค่าวัตถุดิ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Cordia New"/>
                <a:ea typeface="JasmineUPC"/>
              </a:rPr>
              <a:t>    </a:t>
            </a:r>
            <a:r>
              <a:rPr b="1" lang="th-TH" sz="4000" spc="-1" strike="noStrike">
                <a:solidFill>
                  <a:srgbClr val="ffffff"/>
                </a:solidFill>
                <a:latin typeface="Cordia New"/>
                <a:cs typeface="JasmineUPC"/>
              </a:rPr>
              <a:t>จากประเทศไท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2aa68"/>
                </a:solidFill>
                <a:latin typeface="Cordia New"/>
                <a:ea typeface="Cordia New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2aa68"/>
                </a:solidFill>
                <a:latin typeface="Cordia New"/>
                <a:ea typeface="Cordia New"/>
              </a:rPr>
              <a:t>    </a:t>
            </a:r>
            <a:r>
              <a:rPr b="1" lang="th-TH" sz="4000" spc="-1" strike="noStrike">
                <a:solidFill>
                  <a:srgbClr val="ffff00"/>
                </a:solidFill>
                <a:latin typeface="Cordia New"/>
                <a:cs typeface="JasmineUPC"/>
              </a:rPr>
              <a:t>ที่เหลือร้อยละ </a:t>
            </a:r>
            <a:r>
              <a:rPr b="1" lang="th-TH" sz="4000" spc="-1" strike="noStrike">
                <a:solidFill>
                  <a:srgbClr val="ffff00"/>
                </a:solidFill>
                <a:latin typeface="Cordia New"/>
                <a:ea typeface="JasmineUPC"/>
              </a:rPr>
              <a:t>25 </a:t>
            </a:r>
            <a:r>
              <a:rPr b="1" lang="th-TH" sz="4000" spc="-1" strike="noStrike">
                <a:solidFill>
                  <a:srgbClr val="ffff00"/>
                </a:solidFill>
                <a:latin typeface="Cordia New"/>
                <a:cs typeface="JasmineUPC"/>
              </a:rPr>
              <a:t>ของมูลค่าวัตถุดิบจา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Cordia New"/>
                <a:ea typeface="JasmineUPC"/>
              </a:rPr>
              <a:t>    </a:t>
            </a:r>
            <a:r>
              <a:rPr b="1" lang="th-TH" sz="4000" spc="-1" strike="noStrike">
                <a:solidFill>
                  <a:srgbClr val="ffff00"/>
                </a:solidFill>
                <a:latin typeface="Cordia New"/>
                <a:cs typeface="JasmineUPC"/>
              </a:rPr>
              <a:t>ประเทศกำลังพัฒน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99640" y="2938320"/>
            <a:ext cx="64764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4221000"/>
            <a:ext cx="1224000" cy="144720"/>
          </a:xfrm>
          <a:prstGeom prst="rightArrow">
            <a:avLst>
              <a:gd name="adj1" fmla="val 50000"/>
              <a:gd name="adj2" fmla="val 211443"/>
            </a:avLst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5960" y="5373720"/>
            <a:ext cx="1224000" cy="144360"/>
          </a:xfrm>
          <a:prstGeom prst="rightArrow">
            <a:avLst>
              <a:gd name="adj1" fmla="val 50000"/>
              <a:gd name="adj2" fmla="val 211970"/>
            </a:avLst>
          </a:prstGeom>
          <a:solidFill>
            <a:srgbClr val="ebf25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924280"/>
            <a:ext cx="0" cy="252072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476280"/>
            <a:ext cx="8136000" cy="825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rial"/>
                <a:cs typeface="JasmineUPC"/>
              </a:rPr>
              <a:t>การลดภาษีสิ่งทอของนิวซีแลนด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65440" y="2924280"/>
            <a:ext cx="611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4760" y="467352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04760" y="269244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04760" y="167652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04760" y="368316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476280"/>
            <a:ext cx="8136000" cy="8251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rial"/>
                <a:cs typeface="JasmineUPC"/>
              </a:rPr>
              <a:t>การลดภาษีสิ่งทอของนิวซีแลนด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5440" y="2924280"/>
            <a:ext cx="611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12680" y="398772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19160" y="299736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699840"/>
                <a:gridCol w="701640"/>
                <a:gridCol w="700200"/>
                <a:gridCol w="700200"/>
                <a:gridCol w="701640"/>
                <a:gridCol w="700200"/>
                <a:gridCol w="699840"/>
                <a:gridCol w="701640"/>
                <a:gridCol w="7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7,17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04760" y="1981080"/>
          <a:ext cx="8955000" cy="736560"/>
        </p:xfrm>
        <a:graphic>
          <a:graphicData uri="http://schemas.openxmlformats.org/drawingml/2006/table">
            <a:tbl>
              <a:tblPr/>
              <a:tblGrid>
                <a:gridCol w="1247760"/>
                <a:gridCol w="701640"/>
                <a:gridCol w="700200"/>
                <a:gridCol w="700200"/>
                <a:gridCol w="701640"/>
                <a:gridCol w="699840"/>
                <a:gridCol w="700200"/>
                <a:gridCol w="701640"/>
                <a:gridCol w="700200"/>
                <a:gridCol w="700200"/>
                <a:gridCol w="701640"/>
                <a:gridCol w="69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ระหว่างไทย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cs typeface="JasmineUPC"/>
              </a:rPr>
              <a:t>นิวซีแลนด์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994040"/>
          <a:ext cx="8229600" cy="4494240"/>
        </p:xfrm>
        <a:graphic>
          <a:graphicData uri="http://schemas.openxmlformats.org/drawingml/2006/table">
            <a:tbl>
              <a:tblPr/>
              <a:tblGrid>
                <a:gridCol w="2438280"/>
                <a:gridCol w="1981440"/>
                <a:gridCol w="1981080"/>
                <a:gridCol w="1828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ธ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ธ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สิ่งท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สื้อผ้าสำเร็จรูป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ผ้าผืนและด้า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3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ดุลการค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6653160" y="95796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362320" y="304920"/>
            <a:ext cx="4419360" cy="106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อาเซียน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ea typeface="JasmineUPC"/>
              </a:rPr>
              <a:t>-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จี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447920"/>
            <a:ext cx="89154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indent="-484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600200"/>
            <a:ext cx="8153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ebf25a"/>
                </a:solidFill>
                <a:latin typeface="Angsana New"/>
                <a:cs typeface="JasmineUPC"/>
              </a:rPr>
              <a:t>สิ่งที่ไทยคาดหวัง</a:t>
            </a:r>
            <a:r>
              <a:rPr b="0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คือ เข้าตลาดจีนและขยายการค้าและการลงทุน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้งจากจีนและจากทั่วโลก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)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ห้จีนใช้ไทยเป็นฐานเชื่อมโยงกับอาเซีย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/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อเชียใต้</a:t>
            </a:r>
            <a:r>
              <a:rPr b="1" lang="th-TH" sz="1800" spc="-1" strike="noStrike">
                <a:solidFill>
                  <a:srgbClr val="ffffff"/>
                </a:solidFill>
                <a:latin typeface="Arial Black"/>
                <a:ea typeface="JasmineUPC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00ff00"/>
                </a:solidFill>
                <a:latin typeface="Angsana New"/>
                <a:cs typeface="JasmineUPC"/>
              </a:rPr>
              <a:t>อาเซียน</a:t>
            </a:r>
            <a:r>
              <a:rPr b="1" lang="th-TH" sz="3400" spc="-1" strike="noStrike">
                <a:solidFill>
                  <a:srgbClr val="00ff00"/>
                </a:solidFill>
                <a:latin typeface="Angsana New"/>
                <a:ea typeface="JasmineUPC"/>
              </a:rPr>
              <a:t>-</a:t>
            </a:r>
            <a:r>
              <a:rPr b="1" lang="th-TH" sz="3400" spc="-1" strike="noStrike">
                <a:solidFill>
                  <a:srgbClr val="00ff00"/>
                </a:solidFill>
                <a:latin typeface="Angsana New"/>
                <a:cs typeface="JasmineUPC"/>
              </a:rPr>
              <a:t>จี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ลงนามใน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รอบความตกลงเร่ง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สินค้า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างส่วนก่อน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(Early Harvest Programme)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พิกัดศุลกากรตอนที่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01-08</a:t>
            </a:r>
            <a:r>
              <a:rPr b="1" lang="en-US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ั้งแต่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1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กราคม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2004 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ละภาษีจะลดลงเหลือ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400" spc="-1" strike="noStrike">
                <a:solidFill>
                  <a:srgbClr val="ffffff"/>
                </a:solidFill>
                <a:latin typeface="Angsana New"/>
                <a:ea typeface="JasmineUPC"/>
              </a:rPr>
              <a:t>2006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400" spc="-1" strike="noStrike">
                <a:solidFill>
                  <a:srgbClr val="ffff00"/>
                </a:solidFill>
                <a:latin typeface="Angsana New"/>
                <a:cs typeface="JasmineUPC"/>
              </a:rPr>
              <a:t>ความคืบหน้า</a:t>
            </a:r>
            <a:r>
              <a:rPr b="1" lang="en-US" sz="3400" spc="-1" strike="noStrike">
                <a:solidFill>
                  <a:srgbClr val="ebf25a"/>
                </a:solidFill>
                <a:latin typeface="Angsana New"/>
                <a:ea typeface="JasmineUPC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ีการลงนามความตกลงเปิดเสรีการค้าสินค้าและความตกลงว่าด้วยกลไกระงับข้อพิพาท เมื่อ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9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พฤศจิกาย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4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ะหว่าง อาเซียน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 ทีประเทศลาว เริ่มมีผลบังคับใช้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กราคม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ละเริ่มลดภาษ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รกฎาคม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1905120"/>
            <a:ext cx="777240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606680"/>
            <a:ext cx="762012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cc"/>
                </a:solidFill>
                <a:latin typeface="Wingdings"/>
                <a:ea typeface="Wingdings"/>
              </a:rPr>
              <a:t></a:t>
            </a:r>
            <a:r>
              <a:rPr b="1" lang="th-TH" sz="36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cc"/>
                </a:solidFill>
                <a:latin typeface="Cordi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JasmineUPC"/>
              </a:rPr>
              <a:t>รูปแบบการลดภาษี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r>
              <a:rPr b="1" lang="en-US" sz="3200" spc="-1" strike="noStrike">
                <a:solidFill>
                  <a:srgbClr val="ebf25a"/>
                </a:solidFill>
                <a:latin typeface="Angsana New"/>
                <a:ea typeface="JasmineUPC"/>
              </a:rPr>
              <a:t>	</a:t>
            </a:r>
            <a:r>
              <a:rPr b="0" lang="en-US" sz="3200" spc="-1" strike="noStrike">
                <a:solidFill>
                  <a:srgbClr val="ebf25a"/>
                </a:solidFill>
                <a:latin typeface="Angsana New"/>
                <a:ea typeface="JasmineUP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ngsana New"/>
                <a:ea typeface="JasmineUPC"/>
              </a:rPr>
              <a:t>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  </a:t>
            </a:r>
            <a:r>
              <a:rPr b="1" lang="th-TH" sz="3200" spc="-1" strike="noStrike">
                <a:solidFill>
                  <a:srgbClr val="5cff29"/>
                </a:solidFill>
                <a:latin typeface="Angsana New"/>
                <a:cs typeface="JasmineUPC"/>
              </a:rPr>
              <a:t>สินค้าปกติ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ะลดภาษีเหลือไม่เกิน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รกฎาคม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  </a:t>
            </a:r>
            <a:r>
              <a:rPr b="1" lang="th-TH" sz="3200" spc="-1" strike="noStrike">
                <a:solidFill>
                  <a:srgbClr val="5cff29"/>
                </a:solidFill>
                <a:latin typeface="Angsana New"/>
                <a:cs typeface="JasmineUPC"/>
              </a:rPr>
              <a:t>สินค้าอ่อนไหว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จะคงภาษีไว้และลดเหลือ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กราคม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12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โดยกำหนดเพดานรายการสินค้าอ่อนไหวไม่เกิ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40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ายการ และมูลค่านำเข้าสินค้า   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  </a:t>
            </a:r>
            <a:r>
              <a:rPr b="1" lang="th-TH" sz="3200" spc="-1" strike="noStrike">
                <a:solidFill>
                  <a:srgbClr val="5cff29"/>
                </a:solidFill>
                <a:latin typeface="Angsana New"/>
                <a:cs typeface="JasmineUPC"/>
              </a:rPr>
              <a:t>สินค้าอ่อนไหวสูง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 เป็นสินค้าที่มีโควตาภาษีของไทย  จะลดลงเหลือร้อยละ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50 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กราคม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80880"/>
            <a:ext cx="4419720" cy="106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Tahoma"/>
              </a:rPr>
              <a:t>     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อาเซียน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ea typeface="JasmineUPC"/>
              </a:rPr>
              <a:t>- </a:t>
            </a:r>
            <a:r>
              <a:rPr b="1" lang="th-TH" sz="4800" spc="-1" strike="noStrike">
                <a:solidFill>
                  <a:srgbClr val="0000ff"/>
                </a:solidFill>
                <a:latin typeface="Tahoma"/>
                <a:cs typeface="JasmineUPC"/>
              </a:rPr>
              <a:t>จี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1828800"/>
            <a:ext cx="8001000" cy="52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นำรายการสินค้า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ร่งลดภาษีบางส่วนก่อน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Early Harvest) 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ต้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รอบอาเซียน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มาเร่งลดภาษีเร็วขึ้น   โด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ั้นแรกนำผักและผลไม้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พิกัดศุลกากรตอนที่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07-08)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ุกรายการ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116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ายการ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)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าลดอัตราภาษีเหลือ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0%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ั้งแต่วันที่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ุลาคม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200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ngsana New"/>
                <a:ea typeface="JasmineUPC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JasmineUPC"/>
              </a:rPr>
              <a:t>แหล่งกำเนิดสินค้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Angsana New"/>
                <a:ea typeface="JasmineUPC"/>
              </a:rPr>
              <a:t>-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ที่จะได้รับสิทธิด้านภาษีต้องผ่านกระบวนการผลิตในประเทศทั้งหมด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(Wholly Obtaine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743200" y="380880"/>
            <a:ext cx="3504960" cy="1008360"/>
            <a:chOff x="2743200" y="380880"/>
            <a:chExt cx="3504960" cy="1008360"/>
          </a:xfrm>
        </p:grpSpPr>
        <p:grpSp>
          <p:nvGrpSpPr>
            <p:cNvPr id="227" name=""/>
            <p:cNvGrpSpPr/>
            <p:nvPr/>
          </p:nvGrpSpPr>
          <p:grpSpPr>
            <a:xfrm>
              <a:off x="2743200" y="380880"/>
              <a:ext cx="3504960" cy="990360"/>
              <a:chOff x="2743200" y="380880"/>
              <a:chExt cx="3504960" cy="990360"/>
            </a:xfrm>
          </p:grpSpPr>
          <p:pic>
            <p:nvPicPr>
              <p:cNvPr id="2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743200" y="380880"/>
                <a:ext cx="1752840" cy="99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320" y="380880"/>
                <a:ext cx="175284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" name=""/>
            <p:cNvSpPr/>
            <p:nvPr/>
          </p:nvSpPr>
          <p:spPr>
            <a:xfrm>
              <a:off x="2848320" y="380880"/>
              <a:ext cx="329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6000" spc="-1" strike="noStrike">
                  <a:solidFill>
                    <a:srgbClr val="00cc66"/>
                  </a:solidFill>
                  <a:latin typeface="Angsana New"/>
                  <a:cs typeface="JasmineUPC"/>
                </a:rPr>
                <a:t>ไทย</a:t>
              </a:r>
              <a:r>
                <a:rPr b="1" lang="th-TH" sz="6000" spc="-1" strike="noStrike">
                  <a:solidFill>
                    <a:srgbClr val="00cc66"/>
                  </a:solidFill>
                  <a:latin typeface="Angsana New"/>
                  <a:ea typeface="JasmineUPC"/>
                </a:rPr>
                <a:t>-</a:t>
              </a:r>
              <a:r>
                <a:rPr b="1" lang="th-TH" sz="6000" spc="-1" strike="noStrike">
                  <a:solidFill>
                    <a:srgbClr val="000099"/>
                  </a:solidFill>
                  <a:latin typeface="Angsana New"/>
                  <a:cs typeface="JasmineUPC"/>
                </a:rPr>
                <a:t>จีน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รูปแบบการลดภาษี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ea typeface="JasmineUPC"/>
              </a:rPr>
              <a:t>/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เลิกภาษีของสินค้าปกต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68440" y="1828800"/>
          <a:ext cx="8194680" cy="4421160"/>
        </p:xfrm>
        <a:graphic>
          <a:graphicData uri="http://schemas.openxmlformats.org/drawingml/2006/table">
            <a:tbl>
              <a:tblPr/>
              <a:tblGrid>
                <a:gridCol w="2743200"/>
                <a:gridCol w="1353960"/>
                <a:gridCol w="1365480"/>
                <a:gridCol w="1366560"/>
                <a:gridCol w="13654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=MFN Applied r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 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กค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 2003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อัตราภาษี </a:t>
                      </a:r>
                      <a:r>
                        <a:rPr b="1" lang="th-TH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 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&gt;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20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5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 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X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  <a:ea typeface="Arial"/>
                        </a:rPr>
                        <a:t>&lt; 20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 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  X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  <a:ea typeface="Arial"/>
                        </a:rPr>
                        <a:t>&lt; 15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 &lt; X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  <a:ea typeface="Arial"/>
                        </a:rPr>
                        <a:t>&lt; 10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X 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ngsana New"/>
                          <a:ea typeface="Arial"/>
                        </a:rPr>
                        <a:t>&lt;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  <a:ea typeface="Arial"/>
                        </a:rPr>
                        <a:t>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%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คงอัตราภาษ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00"/>
                </a:solidFill>
                <a:latin typeface="Tahoma"/>
                <a:cs typeface="JasmineUPC"/>
              </a:rPr>
              <a:t>รูปแบบการลด</a:t>
            </a:r>
            <a:r>
              <a:rPr b="1" lang="th-TH" sz="4600" spc="-1" strike="noStrike">
                <a:solidFill>
                  <a:srgbClr val="ffff00"/>
                </a:solidFill>
                <a:latin typeface="Tahoma"/>
                <a:ea typeface="JasmineUPC"/>
              </a:rPr>
              <a:t>/</a:t>
            </a:r>
            <a:r>
              <a:rPr b="1" lang="th-TH" sz="4600" spc="-1" strike="noStrike">
                <a:solidFill>
                  <a:srgbClr val="ffff00"/>
                </a:solidFill>
                <a:latin typeface="Tahoma"/>
                <a:cs typeface="JasmineUPC"/>
              </a:rPr>
              <a:t>เลิกภาษี สินค้าอ่อนไหว</a:t>
            </a:r>
            <a:br>
              <a:rPr sz="4600"/>
            </a:br>
            <a:r>
              <a:rPr b="1" lang="th-TH" sz="4600" spc="-1" strike="noStrike">
                <a:solidFill>
                  <a:srgbClr val="ffff00"/>
                </a:solidFill>
                <a:latin typeface="Angsana New"/>
                <a:cs typeface="JasmineUPC"/>
              </a:rPr>
              <a:t>ภายใต้ </a:t>
            </a:r>
            <a:r>
              <a:rPr b="1" lang="en-US" sz="4600" spc="-1" strike="noStrike">
                <a:solidFill>
                  <a:srgbClr val="ffff00"/>
                </a:solidFill>
                <a:latin typeface="Angsana New"/>
                <a:ea typeface="JasmineUPC"/>
              </a:rPr>
              <a:t>FTA </a:t>
            </a:r>
            <a:r>
              <a:rPr b="1" lang="th-TH" sz="46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าเซียน</a:t>
            </a:r>
            <a:r>
              <a:rPr b="1" lang="th-TH" sz="46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4600" spc="-1" strike="noStrike">
                <a:solidFill>
                  <a:srgbClr val="ffff00"/>
                </a:solidFill>
                <a:latin typeface="Angsana New"/>
                <a:cs typeface="JasmineUPC"/>
              </a:rPr>
              <a:t>จีน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90720" y="1523880"/>
          <a:ext cx="7661160" cy="5027760"/>
        </p:xfrm>
        <a:graphic>
          <a:graphicData uri="http://schemas.openxmlformats.org/drawingml/2006/table">
            <a:tbl>
              <a:tblPr/>
              <a:tblGrid>
                <a:gridCol w="3236760"/>
                <a:gridCol w="4424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กลุ่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เพดานอัตราภาษ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(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สินค้าอ่อนไหว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ป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255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ป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256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0-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สินค้าอ่อนไหวสูง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ปี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255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708200" indent="-1708200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หมายเหตุ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: </a:t>
                      </a:r>
                      <a:r>
                        <a:rPr b="1" lang="th-TH" sz="3600" spc="-1" strike="noStrike">
                          <a:solidFill>
                            <a:srgbClr val="ffffff"/>
                          </a:solidFill>
                          <a:latin typeface="Angsana New"/>
                          <a:cs typeface="JasmineUPC"/>
                        </a:rPr>
                        <a:t>ลดภาษีเฉพาะในโควตา                         ภาษีนอกโควตาอยู่ระหว่างการเจรจ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เจรจาการค้ารอบใหม่ของ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WTO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ชะงั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5000"/>
              </a:lnSpc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“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ังกรตื่นจากหลับไหล”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เข้าเป็นสมาชิกของ </a:t>
            </a:r>
            <a:r>
              <a:rPr b="1" lang="en-US" sz="3300" spc="-1" strike="noStrike">
                <a:solidFill>
                  <a:srgbClr val="ffffff"/>
                </a:solidFill>
                <a:latin typeface="Angsana New"/>
                <a:ea typeface="JasmineUPC"/>
              </a:rPr>
              <a:t>WTO </a:t>
            </a: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ำให้ประเทศต่างๆ เกิดความหวั่นเกรงต่อศักยภาพด้านการแข่งขันของจีน 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ยายอำนาจทางเศรษฐกิจในอนาคต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5000"/>
              </a:lnSpc>
              <a:spcBef>
                <a:spcPts val="825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3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วามได้เปรียบจาก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ตลาดบริโภคขนาดใหญ่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แรงงานราคาถูก รองรับการผลิต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lnSpc>
                <a:spcPct val="85000"/>
              </a:lnSpc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ีศักยภาพในการส่งออกสูง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412040" cy="16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ทำไมประเทศต่างๆ </a:t>
            </a:r>
            <a:br>
              <a:rPr sz="5600"/>
            </a:b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จึงสนใจทำ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กันมากขึ้น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457200" y="1600200"/>
          <a:ext cx="8207280" cy="4414680"/>
        </p:xfrm>
        <a:graphic>
          <a:graphicData uri="http://schemas.openxmlformats.org/drawingml/2006/table">
            <a:tbl>
              <a:tblPr/>
              <a:tblGrid>
                <a:gridCol w="2951280"/>
                <a:gridCol w="5256000"/>
              </a:tblGrid>
              <a:tr h="204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สินค้าอ่อนไหวสูง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ebf25a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ไหมดิบ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5002.00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ebf25a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ด้ายไหม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5004.00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ebf25a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ผ้าไหม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5007.20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5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สินค้าอ่อนไหว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ebf25a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ชือกมัดของ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5607.41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ebf25a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ชือกอื่นๆ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5607.50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ebf25a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ตาข่ายจับปลา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5608.11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ebf25a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ตาข่ายเป็นม้วน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5608.901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ebf25a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ตาข่ายอื่นๆ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5608.909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00"/>
                </a:solidFill>
                <a:latin typeface="Tahoma"/>
                <a:cs typeface="JasmineUPC"/>
              </a:rPr>
              <a:t>สิ่งทอที่เป็นรายการสินค้าอ่อนไหวของไทย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04920" y="1219320"/>
          <a:ext cx="8686440" cy="5329080"/>
        </p:xfrm>
        <a:graphic>
          <a:graphicData uri="http://schemas.openxmlformats.org/drawingml/2006/table">
            <a:tbl>
              <a:tblPr/>
              <a:tblGrid>
                <a:gridCol w="8686440"/>
              </a:tblGrid>
              <a:tr h="17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สินค้าอ่อนไหวสูง </a:t>
                      </a: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ea typeface="JasmineUPC"/>
                        </a:rPr>
                        <a:t>4 </a:t>
                      </a: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ขนแกะ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51051000, 51052100, 51052900)    </a:t>
                      </a:r>
                      <a:r>
                        <a:rPr b="1" lang="th-TH" sz="3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ฝ้าย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52030000)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4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สินค้าอ่อนไหว </a:t>
                      </a: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ea typeface="JasmineUPC"/>
                        </a:rPr>
                        <a:t>20 </a:t>
                      </a: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รายการ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ขนแกะ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(51011100, 51011900, 51012100, 51012900, 51013000, 51031010 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00"/>
                          </a:solidFill>
                          <a:latin typeface="Angsana New"/>
                          <a:cs typeface="JasmineUPC"/>
                        </a:rPr>
                        <a:t>ฝ้าย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(52010000)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00"/>
                          </a:solidFill>
                          <a:latin typeface="Angsana New"/>
                          <a:cs typeface="JasmineUPC"/>
                        </a:rPr>
                        <a:t>ผ้าทอจากฝ้าย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(520911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ด้าย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(52054200,  54023390, 54024200, 54024300, 5402511, 54025200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00"/>
                          </a:solidFill>
                          <a:latin typeface="Angsana New"/>
                          <a:cs typeface="JasmineUPC"/>
                        </a:rPr>
                        <a:t>ใยยาวสังเคราะห์</a:t>
                      </a:r>
                      <a:r>
                        <a:rPr b="1" lang="th-TH" sz="2800" spc="-1" strike="noStrike">
                          <a:solidFill>
                            <a:srgbClr val="ffff00"/>
                          </a:solidFill>
                          <a:latin typeface="Angsana New"/>
                          <a:ea typeface="JasmineUPC"/>
                        </a:rPr>
                        <a:t>/</a:t>
                      </a:r>
                      <a:r>
                        <a:rPr b="1" lang="th-TH" sz="2800" spc="-1" strike="noStrike">
                          <a:solidFill>
                            <a:srgbClr val="ffff00"/>
                          </a:solidFill>
                          <a:latin typeface="Angsana New"/>
                          <a:cs typeface="JasmineUPC"/>
                        </a:rPr>
                        <a:t>ใยสั้นสังเคราะห์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ngsana New"/>
                          <a:ea typeface="JasmineUPC"/>
                        </a:rPr>
                        <a:t>(55012000, 55013000, 55032000, 55033000, 55062000, 5506300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00"/>
                </a:solidFill>
                <a:latin typeface="Tahoma"/>
                <a:cs typeface="JasmineUPC"/>
              </a:rPr>
              <a:t>สิ่งทอที่เป็นรายการสินค้าอ่อนไหวของจีน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ระหว่างไทย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cs typeface="JasmineUPC"/>
              </a:rPr>
              <a:t>จีน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676520"/>
          <a:ext cx="8305920" cy="4851360"/>
        </p:xfrm>
        <a:graphic>
          <a:graphicData uri="http://schemas.openxmlformats.org/drawingml/2006/table">
            <a:tbl>
              <a:tblPr/>
              <a:tblGrid>
                <a:gridCol w="2438280"/>
                <a:gridCol w="1981440"/>
                <a:gridCol w="2209680"/>
                <a:gridCol w="167652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ธ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ธ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6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8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สิ่งท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ผ้าผืนและด้า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ส้นใยประดิษฐ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442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4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9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675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2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5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8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1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9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ดุลการค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5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3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6653160" y="71496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958840" y="458280"/>
            <a:ext cx="3306600" cy="662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300" spc="-1" strike="noStrike">
                <a:solidFill>
                  <a:srgbClr val="ffffff"/>
                </a:solidFill>
                <a:latin typeface="Cordia New"/>
                <a:ea typeface="Cordia New"/>
              </a:rPr>
              <a:t> 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cs typeface="JasmineUPC"/>
              </a:rPr>
              <a:t>ไทย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ea typeface="JasmineUPC"/>
              </a:rPr>
              <a:t>- </a:t>
            </a:r>
            <a:r>
              <a:rPr b="1" lang="th-TH" sz="4600" spc="-1" strike="noStrike">
                <a:solidFill>
                  <a:srgbClr val="ff3300"/>
                </a:solidFill>
                <a:latin typeface="Cordia New"/>
                <a:cs typeface="JasmineUPC"/>
              </a:rPr>
              <a:t>อินเดีย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371600"/>
            <a:ext cx="8534520" cy="70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00"/>
                </a:solidFill>
                <a:latin typeface="Arial Black"/>
                <a:cs typeface="JasmineUPC"/>
              </a:rPr>
              <a:t>สิ่งที่คาดหวัง</a:t>
            </a:r>
            <a:r>
              <a:rPr b="1" lang="th-TH" sz="3200" spc="-1" strike="noStrike">
                <a:solidFill>
                  <a:srgbClr val="ff9900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เข้าตลาดอินเดียซึ่งประชากรบางกลุ่มมีกำลังซื้อสูง </a:t>
            </a:r>
            <a:br>
              <a:rPr sz="3200"/>
            </a:br>
            <a:r>
              <a:rPr b="1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            ดึงดูดการลงทุนเข้าไทย และใช้เป็นฐานเข้าเอเชียใต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rial Black"/>
                <a:cs typeface="JasmineUPC"/>
              </a:rPr>
              <a:t>ไทย – อินเดีย</a:t>
            </a:r>
            <a:r>
              <a:rPr b="1" lang="th-TH" sz="3200" spc="-1" strike="noStrike">
                <a:solidFill>
                  <a:srgbClr val="ff3300"/>
                </a:solidFill>
                <a:latin typeface="Arial Black"/>
                <a:ea typeface="JasmineUPC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ได้มีการเร่งลดภาษีสินค้าบางส่วนทันท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              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รายการ  ตั้งแต่ วัน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1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rial Black"/>
                <a:cs typeface="JasmineUPC"/>
              </a:rPr>
              <a:t>กันยายน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2004</a:t>
            </a: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JasmineUPC"/>
              </a:rPr>
              <a:t>สินค้าเร่งลด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cs typeface="JasmineUPC"/>
              </a:rPr>
              <a:t>ภาษี 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JasmineUPC"/>
              </a:rPr>
              <a:t>EHS</a:t>
            </a:r>
            <a:r>
              <a:rPr b="1" lang="en-US" sz="3200" spc="-1" strike="noStrike">
                <a:solidFill>
                  <a:srgbClr val="ff9900"/>
                </a:solidFill>
                <a:latin typeface="Angsana New"/>
                <a:ea typeface="Jasmine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82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รายการ    เช่น ผลไม้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งาะ  มังคุด  ลำไย  ทุเรีย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าหารทะเลกระป๋อง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มีภัณฑ์ พลาสติกและผลิตภัณฑ์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ัญมณี 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 ไม้อัดพลายวูด เหล็กและเหล็กกล้า อลูมิเนียม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รื่องใช้ไฟฟ้า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ครื่องจักรกล บอลล์แบริ่ง และกระปุกเกียร์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ฯล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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ะยอยลดภาษีเหลือ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%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3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ี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ันยายน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4-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         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1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ันยายน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6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 New"/>
                <a:cs typeface="JasmineUPC"/>
              </a:rPr>
              <a:t>แหล่งกำเนิดสินค้า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cc"/>
                </a:solidFill>
                <a:latin typeface="Angsana New"/>
                <a:cs typeface="JasmineUPC"/>
              </a:rPr>
              <a:t>เป็นไปตามกฎว่าด้วยแหล่งกำเนิดสินค้าชั่วคราว 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(</a:t>
            </a:r>
            <a:r>
              <a:rPr b="1" lang="en-US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Interim Rue of Origin) 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cs typeface="JasmineUPC"/>
              </a:rPr>
              <a:t>โดยเป็นกฎฉพาะของสินค้า แต่ละรายการ 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(</a:t>
            </a:r>
            <a:r>
              <a:rPr b="1" lang="en-US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Specific Rule) 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cs typeface="JasmineUPC"/>
              </a:rPr>
              <a:t>มีหลักเกณฑ์ ดังนี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	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</a:t>
            </a:r>
            <a:r>
              <a:rPr b="1" lang="th-TH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Wholly Obtained goods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ือ สินค้าที่ผลิตโดยใช้วัตุดิบภายในประเทศทั้งหมด เช่นสินค้าเกษตร สินแร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Substantial Trasformation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ือผลิตตามหลักเกณฑ์การเปลี่ยนพิกัด ในระดับ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4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ลัก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6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ลัก ซึ่งมักใช้ร่วมกับ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Percentage criter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	</a:t>
            </a:r>
            <a:r>
              <a:rPr b="1" lang="en-US" sz="3200" spc="-1" strike="noStrike">
                <a:solidFill>
                  <a:srgbClr val="ccff66"/>
                </a:solidFill>
                <a:latin typeface="Angsana New"/>
                <a:ea typeface="JasmineUPC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- Percentage criterion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ือหลักเกณฑ์ที่พิจารณาจากสัดส่วนของวัตถุดิบและต้นทุนการผลิตในประเทศต่อราคาส่งออก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Local Value Added Content)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่วนใหญ่อยู่ที่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40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959200" y="458640"/>
            <a:ext cx="3306600" cy="662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300" spc="-1" strike="noStrike">
                <a:solidFill>
                  <a:srgbClr val="ffffff"/>
                </a:solidFill>
                <a:latin typeface="Cordia New"/>
                <a:ea typeface="Cordia New"/>
              </a:rPr>
              <a:t> 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cs typeface="JasmineUPC"/>
              </a:rPr>
              <a:t>ไทย </a:t>
            </a:r>
            <a:r>
              <a:rPr b="1" lang="th-TH" sz="4600" spc="-1" strike="noStrike">
                <a:solidFill>
                  <a:srgbClr val="ffffff"/>
                </a:solidFill>
                <a:latin typeface="Cordia New"/>
                <a:ea typeface="JasmineUPC"/>
              </a:rPr>
              <a:t>- </a:t>
            </a:r>
            <a:r>
              <a:rPr b="1" lang="th-TH" sz="4600" spc="-1" strike="noStrike">
                <a:solidFill>
                  <a:srgbClr val="ff3300"/>
                </a:solidFill>
                <a:latin typeface="Cordia New"/>
                <a:cs typeface="JasmineUPC"/>
              </a:rPr>
              <a:t>อินเดีย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 </a:t>
            </a:r>
            <a:r>
              <a:rPr b="1" lang="th-TH" sz="4200" spc="-1" strike="noStrike">
                <a:solidFill>
                  <a:srgbClr val="ffff00"/>
                </a:solidFill>
                <a:latin typeface="Angsana New"/>
              </a:rPr>
              <a:t>82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ea typeface="JasmineUPC"/>
              </a:rPr>
              <a:t> 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รายการระหว่างไทย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ea typeface="JasmineUPC"/>
              </a:rPr>
              <a:t>-</a:t>
            </a:r>
            <a:r>
              <a:rPr b="1" lang="th-TH" sz="4200" spc="-1" strike="noStrike">
                <a:solidFill>
                  <a:srgbClr val="ffff00"/>
                </a:solidFill>
                <a:latin typeface="Tahoma"/>
                <a:cs typeface="JasmineUPC"/>
              </a:rPr>
              <a:t>อินเดีย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2357280"/>
          <a:ext cx="8229600" cy="2770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กย</a:t>
                      </a: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-</a:t>
                      </a: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ธค</a:t>
                      </a: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2003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กย</a:t>
                      </a: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-</a:t>
                      </a: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ธค</a:t>
                      </a: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.2004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ขยายตัว </a:t>
                      </a: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</a:t>
                      </a:r>
                      <a:r>
                        <a:rPr b="1" lang="th-TH" sz="3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 </a:t>
                      </a:r>
                      <a:endParaRPr b="0" lang="en-US" sz="3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1,2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2,6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1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8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6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- 24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ดุลการค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3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1,9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6653160" y="18108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น่วย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ล้านบา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00"/>
                </a:solidFill>
                <a:latin typeface="Tahoma"/>
                <a:cs typeface="JasmineUPC"/>
              </a:rPr>
              <a:t>การค้าสินค้าระหว่างไทย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50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ินเดีย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7200" y="1523880"/>
          <a:ext cx="8458200" cy="5078160"/>
        </p:xfrm>
        <a:graphic>
          <a:graphicData uri="http://schemas.openxmlformats.org/drawingml/2006/table">
            <a:tbl>
              <a:tblPr/>
              <a:tblGrid>
                <a:gridCol w="2438280"/>
                <a:gridCol w="1981440"/>
                <a:gridCol w="2209680"/>
                <a:gridCol w="1828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รายการ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ธ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3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ม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-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ธค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ea typeface="JasmineUPC"/>
                        </a:rPr>
                        <a:t>.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200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ขยายตัว </a:t>
                      </a:r>
                      <a:r>
                        <a:rPr b="1" lang="th-TH" sz="3000" spc="-1" strike="noStrike">
                          <a:solidFill>
                            <a:srgbClr val="ffffff"/>
                          </a:solidFill>
                          <a:latin typeface="Angsana New"/>
                        </a:rPr>
                        <a:t>(%)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ส่งออ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2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สิ่งท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ผ้าผืนและด้าย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สิ่งทออื่น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ebf25a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ahoma"/>
                          <a:cs typeface="JasmineUPC"/>
                        </a:rPr>
                        <a:t>เส้นใยประดิษฐ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081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2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948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6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1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1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0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ไทยนำเข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ffff00"/>
                          </a:solidFill>
                          <a:latin typeface="Tahoma"/>
                          <a:cs typeface="JasmineUPC"/>
                        </a:rPr>
                        <a:t>ดุลการค้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th-TH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653160" y="562680"/>
            <a:ext cx="21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หน่วย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ea typeface="Jasmine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Tahoma"/>
                <a:cs typeface="JasmineUPC"/>
              </a:rPr>
              <a:t>ล้านบา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200" spc="-1" strike="noStrike">
                <a:solidFill>
                  <a:srgbClr val="ffffff"/>
                </a:solidFill>
                <a:latin typeface="Tahoma"/>
                <a:cs typeface="JasmineUPC"/>
              </a:rPr>
              <a:t>ข้อมูลเพิ่มเติม</a:t>
            </a:r>
            <a:endParaRPr b="0" lang="en-US" sz="8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ngsana New"/>
                <a:ea typeface="JasmineUPC"/>
              </a:rPr>
              <a:t>www.dtn.moc.go.th</a:t>
            </a:r>
            <a:r>
              <a:rPr b="1" lang="th-TH" sz="7200" spc="-1" strike="noStrike">
                <a:solidFill>
                  <a:srgbClr val="ffffcc"/>
                </a:solidFill>
                <a:latin typeface="Angsana New"/>
                <a:ea typeface="JasmineUP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ngsana New"/>
                <a:ea typeface="JasmineUPC"/>
              </a:rPr>
              <a:t>www.thaifta.com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gsana New"/>
                <a:ea typeface="JasmineUPC"/>
              </a:rPr>
              <a:t>FTA Unit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cs typeface="JasmineUPC"/>
              </a:rPr>
              <a:t>โทร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. 0 2507 7444      0 2507 7555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               </a:t>
            </a:r>
            <a:r>
              <a:rPr b="1" lang="th-TH" sz="4000" spc="-1" strike="noStrike">
                <a:solidFill>
                  <a:srgbClr val="ffffff"/>
                </a:solidFill>
                <a:latin typeface="Angsana New"/>
                <a:ea typeface="JasmineUPC"/>
              </a:rPr>
              <a:t>0 2507 7680       0 2507 7687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520" y="2362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ให้สิทธิประโยชน์ระหว่างคู่ภาคีส่งผลกระทบต่อประเทศนอกกลุ่ม เกิดแรงกระตุ้นทั้งระบ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ช้ </a:t>
            </a: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FTA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ป็นวิธีในกา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าเพื่อ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ร้างพันธมิตรด้านเศรษฐกิจและการเมือ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หาตลาด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ยายการค้าและการลงทุนกับภูมิภาคอื่นๆ ที่อยู่ห่างไก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ที่มีพื้นที่ขนาดเล็กแต่มีระบบเศรษฐกิจที่เปิดเสรีเต็มที่อยู่แล้ว เช่น สิงคโปร์ และชิลี ได้ใช้ยุทธวิธีนี้อย่างแข็งขั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80880"/>
            <a:ext cx="741204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ทำไมประเทศต่างๆ </a:t>
            </a:r>
            <a:br>
              <a:rPr sz="5600"/>
            </a:b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จึงสนใจทำ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FTA </a:t>
            </a: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กันมากขึ้น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9144000" cy="934920"/>
            <a:chOff x="0" y="0"/>
            <a:chExt cx="9144000" cy="934920"/>
          </a:xfrm>
        </p:grpSpPr>
        <p:sp>
          <p:nvSpPr>
            <p:cNvPr id="142" name=""/>
            <p:cNvSpPr/>
            <p:nvPr/>
          </p:nvSpPr>
          <p:spPr>
            <a:xfrm>
              <a:off x="1332000" y="27000"/>
              <a:ext cx="7812000" cy="9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863640"/>
              <a:ext cx="9144000" cy="71280"/>
            </a:xfrm>
            <a:prstGeom prst="rect">
              <a:avLst/>
            </a:prstGeom>
            <a:solidFill>
              <a:srgbClr val="71da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4" name="" descr="Flag of Thailand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32000" cy="909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45" name=""/>
          <p:cNvGraphicFramePr/>
          <p:nvPr/>
        </p:nvGraphicFramePr>
        <p:xfrm>
          <a:off x="914400" y="1143000"/>
          <a:ext cx="7634160" cy="527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63416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812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Californian FB"/>
                <a:cs typeface="JasmineUPC"/>
              </a:rPr>
              <a:t>แนวโน้มการทำเขตการค้าเสรี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286000"/>
            <a:ext cx="6192720" cy="2768760"/>
          </a:xfrm>
          <a:custGeom>
            <a:avLst/>
            <a:gdLst/>
            <a:ahLst/>
            <a:rect l="l" t="t" r="r" b="b"/>
            <a:pathLst>
              <a:path w="4224" h="1880">
                <a:moveTo>
                  <a:pt x="0" y="1824"/>
                </a:moveTo>
                <a:cubicBezTo>
                  <a:pt x="236" y="1852"/>
                  <a:pt x="472" y="1880"/>
                  <a:pt x="1008" y="1824"/>
                </a:cubicBezTo>
                <a:cubicBezTo>
                  <a:pt x="1544" y="1768"/>
                  <a:pt x="2680" y="1792"/>
                  <a:pt x="3216" y="1488"/>
                </a:cubicBezTo>
                <a:cubicBezTo>
                  <a:pt x="3752" y="1184"/>
                  <a:pt x="4056" y="248"/>
                  <a:pt x="4224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12400" y="2357280"/>
            <a:ext cx="643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Californian FB"/>
                <a:cs typeface="JasmineUPC"/>
              </a:rPr>
              <a:t>โลกมีแนวโน้มทำเขตการค้าเสรีมากขึ้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alifornian FB"/>
                <a:ea typeface="JasmineUPC"/>
              </a:rPr>
              <a:t>70% </a:t>
            </a:r>
            <a:r>
              <a:rPr b="1" lang="th-TH" sz="3200" spc="-1" strike="noStrike">
                <a:solidFill>
                  <a:srgbClr val="000099"/>
                </a:solidFill>
                <a:latin typeface="Californian FB"/>
                <a:cs typeface="JasmineUPC"/>
              </a:rPr>
              <a:t>เป็น </a:t>
            </a:r>
            <a:r>
              <a:rPr b="1" lang="en-GB" sz="3200" spc="-1" strike="noStrike">
                <a:solidFill>
                  <a:srgbClr val="000099"/>
                </a:solidFill>
                <a:latin typeface="Californian FB"/>
                <a:ea typeface="JasmineUPC"/>
              </a:rPr>
              <a:t>Bilateral F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7320" y="627840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fornian FB"/>
                <a:ea typeface="JasmineUPC"/>
              </a:rPr>
              <a:t>Source : WTO</a:t>
            </a:r>
            <a:r>
              <a:rPr b="0" lang="en-GB" sz="3200" spc="-1" strike="noStrike">
                <a:solidFill>
                  <a:srgbClr val="000000"/>
                </a:solidFill>
                <a:latin typeface="Californian FB"/>
                <a:ea typeface="JasmineUP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3059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ไทยได้มีการจัดทำ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 </a:t>
            </a:r>
            <a:r>
              <a:rPr b="1" lang="en-US" sz="5600" spc="-1" strike="noStrike">
                <a:solidFill>
                  <a:srgbClr val="ffff00"/>
                </a:solidFill>
                <a:latin typeface="Angsana New"/>
                <a:ea typeface="JasmineUPC"/>
              </a:rPr>
              <a:t>FTA                                         </a:t>
            </a:r>
            <a:r>
              <a:rPr b="1" lang="th-TH" sz="5600" spc="-1" strike="noStrike">
                <a:solidFill>
                  <a:srgbClr val="ffff00"/>
                </a:solidFill>
                <a:latin typeface="Angsana New"/>
                <a:cs typeface="JasmineUPC"/>
              </a:rPr>
              <a:t>กับประเทศใดบ้าง</a:t>
            </a:r>
            <a:endParaRPr b="0" lang="en-US" sz="5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1169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65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คู่เจรจาของไทย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6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+ 2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ลุ่มเศรษฐกิจ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โดยอยู่ระหว่างการเจรจ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หรัฐ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ญี่ปุ่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จี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าห์เร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ินเดีย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ปร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65000"/>
              </a:lnSpc>
              <a:spcBef>
                <a:spcPts val="2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BIMSTEC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บังคลาเทศ อินเดีย พม่า ศรีลังกา ไทย เนปาล และ ภูฎาน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65000"/>
              </a:lnSpc>
              <a:spcBef>
                <a:spcPts val="176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EFTA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วิตเซอร์แลนด์ นอร์เวย์ ไอซ์แลนด์ และลิกเตนสไตล์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65000"/>
              </a:lnSpc>
              <a:spcBef>
                <a:spcPts val="2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จรจาเสร็จแล้ว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2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เทศ </a:t>
            </a: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JasmineUPC"/>
              </a:rPr>
              <a:t>: </a:t>
            </a:r>
            <a:r>
              <a:rPr b="1" lang="th-TH" sz="3600" spc="-1" strike="noStrike">
                <a:solidFill>
                  <a:srgbClr val="ffffff"/>
                </a:solidFill>
                <a:latin typeface="Angsana New"/>
                <a:cs typeface="JasmineUPC"/>
              </a:rPr>
              <a:t>ออสเตรเลีย นิวซีแลนด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Angsana New"/>
                <a:cs typeface="JasmineUPC"/>
              </a:rPr>
              <a:t>ความคืบหน้าของ </a:t>
            </a:r>
            <a:r>
              <a:rPr b="1" lang="en-US" sz="6200" spc="-1" strike="noStrike">
                <a:solidFill>
                  <a:srgbClr val="ffff00"/>
                </a:solidFill>
                <a:latin typeface="Angsana New"/>
                <a:ea typeface="JasmineUPC"/>
              </a:rPr>
              <a:t>FTA </a:t>
            </a:r>
            <a:r>
              <a:rPr b="1" lang="th-TH" sz="6200" spc="-1" strike="noStrike">
                <a:solidFill>
                  <a:srgbClr val="ffff00"/>
                </a:solidFill>
                <a:latin typeface="Angsana New"/>
                <a:cs typeface="JasmineUPC"/>
              </a:rPr>
              <a:t>ในกรอบ </a:t>
            </a:r>
            <a:endParaRPr b="0" lang="en-US" sz="6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ออสเตรเลี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นิวซีแลนด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จีน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Tahoma"/>
                <a:cs typeface="JasmineUPC"/>
              </a:rPr>
              <a:t>อินเดีย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1676520"/>
            <a:ext cx="8458200" cy="53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่งที่ไทยคาดหวัง คือ ลดมาตรการ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ลดภาษ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ไท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นที 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มาณ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49%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รายการสินค้า เช่น  ธัญพืช  เส้นใยใช้ในการทอ โกโก้ อัญมณี รถยนต์นั่งขนาดเกิน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,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00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c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ี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10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ผักผลไม้ พลาสติก กระดาษ สิ่งทอ เสื้อผ้า เหล็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-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่อนไห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ปี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2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เนื้อโค</a:t>
            </a:r>
            <a:r>
              <a:rPr b="1" lang="en-US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นื้อสุกร นม เครื่องในสัตว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   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มันฝรั่ง  กาแฟ  ชา  ข้าวโพ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75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ภาษีเหลือ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ในปี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ea typeface="JasmineUPC"/>
              </a:rPr>
              <a:t>2025 </a:t>
            </a:r>
            <a:r>
              <a:rPr b="1" lang="th-TH" sz="28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นมและครี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533520"/>
            <a:ext cx="799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ไทย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อสเตรเลี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1452600" cy="14986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62120" y="1905120"/>
            <a:ext cx="75438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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การลดภาษีของออสเตรเลี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ทันที 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0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ประมาณ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83%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ของรายการสินค้า เช่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เกษตรทุกรายการ เช่น เนื้อสัตว์ ผัก ผลไม้   ยกเว้น ปลาทูน่ากระป๋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ุตสาหกรรมทุกรายการ เช่น อัญมณี ทองแดง ตะกั่ว ดีบุ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1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สิ่งทอ รองเท้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สินค้าอ่อนไหว ลดเหลือ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0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ภายในปี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ea typeface="JasmineUPC"/>
              </a:rPr>
              <a:t>2015 </a:t>
            </a:r>
            <a:r>
              <a:rPr b="1" lang="th-TH" sz="3200" spc="-1" strike="noStrike">
                <a:solidFill>
                  <a:srgbClr val="ffffff"/>
                </a:solidFill>
                <a:latin typeface="Angsana New"/>
                <a:cs typeface="JasmineUPC"/>
              </a:rPr>
              <a:t>เช่น เสื้อผ้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57200"/>
            <a:ext cx="799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ไทย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ea typeface="JasmineUPC"/>
              </a:rPr>
              <a:t>-</a:t>
            </a:r>
            <a:r>
              <a:rPr b="1" lang="th-TH" sz="6000" spc="-1" strike="noStrike">
                <a:solidFill>
                  <a:srgbClr val="ffff00"/>
                </a:solidFill>
                <a:latin typeface="Angsana New"/>
                <a:cs typeface="JasmineUPC"/>
              </a:rPr>
              <a:t>ออสเตรเลี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467480" y="762120"/>
            <a:ext cx="1452600" cy="149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tthawatc</cp:lastModifiedBy>
  <dcterms:modified xsi:type="dcterms:W3CDTF">2005-04-25T02:43:54Z</dcterms:modified>
  <cp:revision>7</cp:revision>
  <dc:subject/>
  <dc:title>ความคืบหน้าการทำความตกลง การค้าเสรีของประเทศไทย</dc:title>
</cp:coreProperties>
</file>