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4.wmf" ContentType="image/x-wmf"/>
  <Override PartName="/ppt/media/image10.png" ContentType="image/png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F34-7BB2-4602-A53B-DCF06425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912-E2D8-49B7-BAD6-9E23277D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68A-0B04-4104-B486-084473E1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11A-126A-4B1A-8235-D5783FA4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30CD-A3B5-43D2-AF3E-DA3131F9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B06C-FCCB-4051-AE00-2CD0C0B0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D681-93D3-4340-A7F7-1492945F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0696-2F57-4F42-9572-1707FAD7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AD91-52E9-483F-9071-C2570E17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2754-F8C9-46FB-96D9-B17E15AA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106F-E433-48BE-8FBC-1095BF4B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EC1-AA09-450F-A01F-155E6B03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9010-60D9-4D19-958D-0FED8BD7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30C6-E8C2-4737-9603-23466CD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7C8D-5B44-472D-866E-5A34992F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328E-0C65-43E3-98EE-8B5E4E78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349D-4346-41B7-9FFF-B6B053F7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09E-C67F-4CAE-8CFA-2ADBFE35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7B4-ABD2-4462-843F-38FF9D6C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704-C3BE-4192-8BD1-06708E0A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B02-D7CF-4CDD-BA2A-F39D86AB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E6A-0A2C-4012-B5E5-1E91312B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F3D-15F5-456D-8281-2D6FB4B4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7EA-8AB6-4F8E-B795-55DF8048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2A49-43B3-44D4-8F62-F528D3FAA1B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873080"/>
            <a:ext cx="84200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1F00-8790-48C2-8295-8C11C847257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0520" y="4221000"/>
            <a:ext cx="588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โดย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นางพัชรี  ปิยะคง  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สำนักป้องกันการแอบอ้างใช้สิทธิ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    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กรมการค้าต่าง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344520" y="345960"/>
            <a:ext cx="936144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cc66"/>
                </a:solidFill>
                <a:latin typeface="IrisUPC"/>
                <a:cs typeface="IrisUPC"/>
              </a:rPr>
              <a:t>ระบบบริการตรวจและรับรองแหล่งกำเนิดสินค้าทาง </a:t>
            </a:r>
            <a:r>
              <a:rPr b="1" lang="en-US" sz="6600" spc="-1" strike="noStrike">
                <a:solidFill>
                  <a:srgbClr val="ffcc66"/>
                </a:solidFill>
                <a:latin typeface="IrisUPC"/>
                <a:ea typeface="IrisUPC"/>
              </a:rPr>
              <a:t>Internet </a:t>
            </a:r>
            <a:endParaRPr b="0" lang="en-US" sz="6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IrisUPC"/>
                <a:ea typeface="IrisUPC"/>
              </a:rPr>
              <a:t>Rules of Origin Verification System : ROVERS</a:t>
            </a:r>
            <a:endParaRPr b="0" lang="en-US" sz="6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8146-42EC-4364-AA4F-3C2BADE6F289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49240" y="404640"/>
            <a:ext cx="8282160" cy="62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2E9-5F2E-4D6E-8323-648EA250CD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60520" y="16992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D31-F31C-4752-877F-2BD2A88EB9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4880" y="106200"/>
            <a:ext cx="8366040" cy="627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86F-A40A-43E9-B84D-2BE00A5EB5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0480" y="52560"/>
            <a:ext cx="8439120" cy="63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EEF-1054-48A2-BEB2-0E3F9EEADD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9200" y="141120"/>
            <a:ext cx="8510400" cy="638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7E0-BD89-4C9A-B40B-DAFA7837E0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31800" y="123840"/>
            <a:ext cx="8439120" cy="632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D07-476C-410E-B456-B39BB130C2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90480" y="115920"/>
            <a:ext cx="8439120" cy="632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419-35D6-4A0F-B7E0-B3A6A87B5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0520" y="2556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3CB-FAC7-43DA-946B-671ADB9812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0520" y="115920"/>
            <a:ext cx="8582040" cy="643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3D5-68F5-4079-B879-6985F86595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04880" y="150840"/>
            <a:ext cx="8405640" cy="63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98D-4E85-4FB9-A2EB-138269089D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20880" y="549360"/>
            <a:ext cx="5327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  <a:cs typeface="IrisUPC"/>
              </a:rPr>
              <a:t>ผลที่คาดว่าจะได้รับ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1352520" y="1484280"/>
            <a:ext cx="7848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ลดระยะเวลาในการตรวจและรับรอง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ลดภาระด้านเอกสาร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ทดลองตรวจสอบได้ด้วยตนเอง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ค้นหากฎแหล่งกำเนิดสินค้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ตรวจสอบได้ทุกวัน ตลอด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24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ชั่วโมง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ฯลฯ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A24-8041-429F-9A39-DD5421F3565F}" type="slidenum">
              <a:t>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2066760" y="3132000"/>
            <a:ext cx="1325880" cy="441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048520" y="3429000"/>
            <a:ext cx="217440" cy="1584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13480" y="2778120"/>
            <a:ext cx="1247760" cy="1461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79800" y="2924280"/>
            <a:ext cx="1249200" cy="4255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911240" y="2204640"/>
            <a:ext cx="1092240" cy="1429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57960" y="2706840"/>
            <a:ext cx="1366560" cy="142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20880" y="2997360"/>
            <a:ext cx="1326960" cy="116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616880" y="4869000"/>
            <a:ext cx="1146240" cy="107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36520" y="4869000"/>
            <a:ext cx="1001880" cy="129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248520" y="4797360"/>
            <a:ext cx="1154160" cy="10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065240" y="1628640"/>
            <a:ext cx="103176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873600" y="1916280"/>
          <a:ext cx="2419200" cy="161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73600" y="1916280"/>
                    <a:ext cx="241920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7400880" y="2349360"/>
            <a:ext cx="1976400" cy="11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12880" y="2492280"/>
            <a:ext cx="140364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12880" y="2347560"/>
            <a:ext cx="390600" cy="144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79440" y="3132000"/>
            <a:ext cx="312840" cy="216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2144880" y="5516640"/>
            <a:ext cx="40320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513120" y="2706840"/>
            <a:ext cx="312840" cy="2156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0160" y="277920"/>
            <a:ext cx="9432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66"/>
                </a:solidFill>
                <a:latin typeface="Arial"/>
              </a:rPr>
              <a:t>การให้บริการตรวจรับรองคุณสมบัติแหล่งกำเนิดสินค้า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16160" y="1052640"/>
            <a:ext cx="452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1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ส่งข้อมูลต้นทุนสินค้าด้วย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XML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</a:t>
            </a:r>
            <a:br>
              <a:rPr sz="3200"/>
            </a:b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(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ส่งและรับข้อมูล ผ่าน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Web Service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2301840" y="3659040"/>
            <a:ext cx="524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2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ส่งข้อมูลต้นทุนสินค้าผ่านระบบ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Internet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  </a:t>
            </a:r>
            <a:r>
              <a:rPr b="1" i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(upload BOM </a:t>
            </a:r>
            <a:r>
              <a:rPr b="1" i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จาก </a:t>
            </a:r>
            <a:r>
              <a:rPr b="1" i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excel file </a:t>
            </a:r>
            <a:r>
              <a:rPr b="1" i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ได้</a:t>
            </a:r>
            <a:r>
              <a:rPr b="1" i="1" lang="en-US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2216160" y="5516640"/>
            <a:ext cx="5315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3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ยื่นข้อมูลต้นทุนสินค้าแบบเดิม ที่</a:t>
            </a:r>
            <a:br>
              <a:rPr sz="3200"/>
            </a:b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    กรมการค้าต่างประเทศ หรือ สคต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Angsana New"/>
              </a:rPr>
              <a:t>.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Angsana New"/>
              </a:rPr>
              <a:t>ทุกแห่ง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51B-E951-4C77-8FDA-42990083CE44}" type="slidenum">
              <a:t>3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31800" y="1052640"/>
            <a:ext cx="3879720" cy="141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ลงทะเบียนขอรับ</a:t>
            </a:r>
            <a:br>
              <a:rPr sz="3600"/>
            </a:b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Username 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ea typeface="IrisUPC"/>
              </a:rPr>
              <a:t>/ </a:t>
            </a: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Password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847800" y="11592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cc66"/>
                </a:solidFill>
                <a:latin typeface="IrisUPC"/>
                <a:cs typeface="IrisUPC"/>
              </a:rPr>
              <a:t>การยื่นข้อมูลคำขอฯ ทาง </a:t>
            </a:r>
            <a:r>
              <a:rPr b="1" lang="en-US" sz="5400" spc="-1" strike="noStrike">
                <a:solidFill>
                  <a:srgbClr val="ffcc66"/>
                </a:solidFill>
                <a:latin typeface="IrisUPC"/>
                <a:ea typeface="IrisUPC"/>
              </a:rPr>
              <a:t>Internet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631800" y="2514600"/>
            <a:ext cx="3879720" cy="56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Login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ea typeface="IrisUPC"/>
              </a:rPr>
              <a:t> 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เข้าใช้ระบบฯ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638280" y="3575160"/>
            <a:ext cx="3879720" cy="102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บันทึกคำขอและส่งข้อมูล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2278080" y="3225960"/>
            <a:ext cx="517680" cy="29340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2305080" y="2171880"/>
            <a:ext cx="517320" cy="29340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638280" y="4637160"/>
            <a:ext cx="3879720" cy="102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พิมพ์คำขอจากระบ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919760" y="5479560"/>
            <a:ext cx="431640" cy="939960"/>
          </a:xfrm>
          <a:prstGeom prst="downArrow">
            <a:avLst>
              <a:gd name="adj1" fmla="val 38972"/>
              <a:gd name="adj2" fmla="val 60702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2271600" y="4276800"/>
            <a:ext cx="517680" cy="29376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631800" y="5648400"/>
            <a:ext cx="3889440" cy="102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ยื่นคำขอให้เจ้าหน้าที่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5745240" y="5157720"/>
            <a:ext cx="3240000" cy="14925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เจ้าหน้าที่บันทึกยืนยันและส่งข้อมูลให้ บก</a:t>
            </a: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5762520" y="3666960"/>
            <a:ext cx="3240360" cy="14925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เจ้าหน้าที่พิมพ์</a:t>
            </a:r>
            <a:br>
              <a:rPr sz="3600"/>
            </a:br>
            <a:r>
              <a:rPr b="1" lang="hi-IN" sz="3600" spc="-1" strike="noStrike">
                <a:solidFill>
                  <a:srgbClr val="010199"/>
                </a:solidFill>
                <a:latin typeface="IrisUPC"/>
                <a:cs typeface="IrisUPC"/>
              </a:rPr>
              <a:t>คำรับรองจากระบบ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2266920" y="5284800"/>
            <a:ext cx="517680" cy="29376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7113600" y="4779720"/>
            <a:ext cx="517680" cy="29340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113600" y="3306600"/>
            <a:ext cx="517680" cy="293760"/>
          </a:xfrm>
          <a:prstGeom prst="downArrow">
            <a:avLst>
              <a:gd name="adj1" fmla="val 38972"/>
              <a:gd name="adj2" fmla="val 56755"/>
            </a:avLst>
          </a:prstGeom>
          <a:solidFill>
            <a:srgbClr val="ffffcc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5772240" y="2182680"/>
            <a:ext cx="3240000" cy="149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ผู้ส่งออกขอ </a:t>
            </a:r>
            <a:r>
              <a:rPr b="1" lang="en-US" sz="3600" spc="-1" strike="noStrike">
                <a:solidFill>
                  <a:srgbClr val="010199"/>
                </a:solidFill>
                <a:latin typeface="IrisUPC"/>
                <a:ea typeface="IrisUPC"/>
              </a:rPr>
              <a:t>Form</a:t>
            </a:r>
            <a:br>
              <a:rPr sz="3600"/>
            </a:br>
            <a:r>
              <a:rPr b="1" lang="th-TH" sz="3600" spc="-1" strike="noStrike">
                <a:solidFill>
                  <a:srgbClr val="010199"/>
                </a:solidFill>
                <a:latin typeface="IrisUPC"/>
                <a:cs typeface="IrisUPC"/>
              </a:rPr>
              <a:t>ที่ บก</a:t>
            </a:r>
            <a:r>
              <a:rPr b="1" lang="th-TH" sz="3600" spc="-1" strike="noStrike">
                <a:solidFill>
                  <a:srgbClr val="010199"/>
                </a:solidFill>
                <a:latin typeface="IrisUPC"/>
                <a:ea typeface="IrisUP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D5D-EA5C-454C-85AF-33ABCED8A6BB}" type="slidenum">
              <a:t>4</a:t>
            </a:fld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15800" y="404640"/>
            <a:ext cx="94903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cc66"/>
                </a:solidFill>
                <a:latin typeface="IrisUPC"/>
                <a:cs typeface="IrisUPC"/>
              </a:rPr>
              <a:t>รายละเอียดข้อมูลคำขอที่ส่งทาง </a:t>
            </a:r>
            <a:r>
              <a:rPr b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Internet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2073240" y="1341360"/>
            <a:ext cx="6408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รายการสินค้าที่จะขอใช้สิทธิฯ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ขั้นตอนการผลิต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วัตถุดิบหรือวัสดุหรือชิ้นส่วน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   ที่ใช้ในการผลิตสินค้า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1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หน่ว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รายละเอียดต้นทุนอื่น ๆ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  <a:cs typeface="IrisUPC"/>
              </a:rPr>
              <a:t>ราคาสินค้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291-E509-4184-992D-9F7F115C6AF0}" type="slidenum">
              <a:t>5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944880" y="2376360"/>
          <a:ext cx="1603440" cy="34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4880" y="2376360"/>
                    <a:ext cx="160344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160880" y="1944720"/>
          <a:ext cx="13190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0880" y="1944720"/>
                    <a:ext cx="13190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73240" y="765000"/>
            <a:ext cx="5832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  <a:cs typeface="IrisUPC"/>
              </a:rPr>
              <a:t>เปิดให้บริการทุกระบบแล้ว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89D-1967-476B-933A-5E10B6019F4A}" type="slidenum">
              <a:t>6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4880" y="1844640"/>
            <a:ext cx="583236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ffffff"/>
                </a:solidFill>
                <a:latin typeface="IrisUPC"/>
                <a:cs typeface="IrisUPC"/>
              </a:rPr>
              <a:t>สาธิตการใช้ระบบ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IrisUPC"/>
                <a:ea typeface="IrisUPC"/>
              </a:rPr>
              <a:t>ROVERS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96B-3226-47BF-B709-FBFB00A7A5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4880" y="13500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545240" y="3716280"/>
            <a:ext cx="1295640" cy="86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2FB-6648-45D5-81F3-6A9ACE296C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49240" y="243000"/>
            <a:ext cx="8282160" cy="62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9F9-72EF-4B22-840A-1F6A4BA224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1:47:50Z</dcterms:created>
  <dc:creator>กองสิทธิประโยชน์ทางการค้า</dc:creator>
  <dc:description/>
  <dc:language>en-US</dc:language>
  <cp:lastModifiedBy>padungsak</cp:lastModifiedBy>
  <cp:lastPrinted>2004-06-08T04:42:39Z</cp:lastPrinted>
  <dcterms:modified xsi:type="dcterms:W3CDTF">2005-04-22T23:08:46Z</dcterms:modified>
  <cp:revision>94</cp:revision>
  <dc:subject/>
  <dc:title>ROO3</dc:title>
</cp:coreProperties>
</file>