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8.png" ContentType="image/png"/>
  <Override PartName="/ppt/media/image31.wmf" ContentType="image/x-wmf"/>
  <Override PartName="/ppt/media/image25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.png" ContentType="image/png"/>
  <Override PartName="/ppt/media/image40.png" ContentType="image/png"/>
  <Override PartName="/ppt/media/image41.jpeg" ContentType="image/jpeg"/>
  <Override PartName="/ppt/media/image4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1.gif" ContentType="image/gif"/>
  <Override PartName="/ppt/media/image48.jpeg" ContentType="image/jpeg"/>
  <Override PartName="/ppt/media/image39.png" ContentType="image/png"/>
  <Override PartName="/ppt/media/image50.png" ContentType="image/png"/>
  <Override PartName="/ppt/media/image13.png" ContentType="image/png"/>
  <Override PartName="/ppt/media/image36.wmf" ContentType="image/x-wmf"/>
  <Override PartName="/ppt/media/image47.jpeg" ContentType="image/jpe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gif" ContentType="image/gif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350-A1A9-4979-BFF3-DC27DC87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E7A-8E5E-4985-89BE-BA37F7AF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5DF-9879-4BD7-9CFE-72E15944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B6A-216B-4BC5-B01C-455EC185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11A-6C41-48B6-BD6A-73730CB0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DF4-4081-40E5-A325-C672E4AF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E05F-447B-4D0A-BA77-47B5DF18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ADDD-157E-4E74-B20D-A1C1E52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7C2B-3F53-48D3-8373-746FB653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B201-0B4B-4B1A-816F-35E81345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4860-25CC-481A-BD9B-96D46C7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DAE-1214-4CC4-BCF9-BEF74544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15D2-010A-4B6D-B984-410144E4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5833-9430-4A6C-8B06-367250EE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D023-2513-4C3E-93C0-68A2F02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A6A9-A8E1-4ACB-BDA2-6B9D66C5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84A6-27DA-4908-BE64-5775FC0E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11E-E0B1-405B-BE95-BFA15159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B52-8C8B-481A-91AD-F2C24F21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463-0F23-4455-8971-56EEA55C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D2A-B2DF-4A70-80B4-F5ECF5C2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C9A-E0BB-4E09-8320-95929F5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1CA-5525-45C8-B999-9899EEA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AEB-4E47-4175-B23D-A86354A6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3341-F4CC-49B8-9370-31EF0F00D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00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0779-8BDB-47EA-B227-881419505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hyperlink" Target="http://images.google.co.th/imgres?imgurl=www.cutebabygift.com/Media/sweater.jpg&amp;imgrefurl=http://www.cutebabygift.com/new/GirlGifts.html&amp;h=191&amp;w=263&amp;prev=/images%3Fq%3Dsweater%26svnum%3D10%26hl%3Dth%26lr%3D%26ie%3DUTF-8%26oe%3DUTF-8" TargetMode="External"/><Relationship Id="rId5" Type="http://schemas.openxmlformats.org/officeDocument/2006/relationships/image" Target="../media/image2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gif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image" Target="../media/image33.png"/><Relationship Id="rId4" Type="http://schemas.openxmlformats.org/officeDocument/2006/relationships/image" Target="../media/image27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1.wmf"/><Relationship Id="rId3" Type="http://schemas.openxmlformats.org/officeDocument/2006/relationships/image" Target="../media/image27.png"/><Relationship Id="rId4" Type="http://schemas.openxmlformats.org/officeDocument/2006/relationships/image" Target="../media/image34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7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1.wmf"/><Relationship Id="rId3" Type="http://schemas.openxmlformats.org/officeDocument/2006/relationships/image" Target="../media/image27.png"/><Relationship Id="rId4" Type="http://schemas.openxmlformats.org/officeDocument/2006/relationships/image" Target="../media/image40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7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7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7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7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7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0.png"/><Relationship Id="rId3" Type="http://schemas.openxmlformats.org/officeDocument/2006/relationships/image" Target="../media/image42.png"/><Relationship Id="rId4" Type="http://schemas.openxmlformats.org/officeDocument/2006/relationships/image" Target="../media/image31.wmf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0.png"/><Relationship Id="rId3" Type="http://schemas.openxmlformats.org/officeDocument/2006/relationships/image" Target="../media/image42.png"/><Relationship Id="rId4" Type="http://schemas.openxmlformats.org/officeDocument/2006/relationships/image" Target="../media/image31.wmf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0.png"/><Relationship Id="rId3" Type="http://schemas.openxmlformats.org/officeDocument/2006/relationships/image" Target="../media/image42.png"/><Relationship Id="rId4" Type="http://schemas.openxmlformats.org/officeDocument/2006/relationships/image" Target="../media/image31.wmf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0.png"/><Relationship Id="rId3" Type="http://schemas.openxmlformats.org/officeDocument/2006/relationships/image" Target="../media/image42.png"/><Relationship Id="rId4" Type="http://schemas.openxmlformats.org/officeDocument/2006/relationships/image" Target="../media/image31.wmf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7.png"/><Relationship Id="rId3" Type="http://schemas.openxmlformats.org/officeDocument/2006/relationships/image" Target="../media/image45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7.png"/><Relationship Id="rId3" Type="http://schemas.openxmlformats.org/officeDocument/2006/relationships/image" Target="../media/image45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7.png"/><Relationship Id="rId3" Type="http://schemas.openxmlformats.org/officeDocument/2006/relationships/image" Target="../media/image45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7.png"/><Relationship Id="rId3" Type="http://schemas.openxmlformats.org/officeDocument/2006/relationships/image" Target="../media/image45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7.png"/><Relationship Id="rId3" Type="http://schemas.openxmlformats.org/officeDocument/2006/relationships/image" Target="../media/image45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7.png"/><Relationship Id="rId3" Type="http://schemas.openxmlformats.org/officeDocument/2006/relationships/image" Target="../media/image45.png"/><Relationship Id="rId4" Type="http://schemas.openxmlformats.org/officeDocument/2006/relationships/image" Target="../media/image48.jpe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1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46000" y="2048040"/>
            <a:ext cx="7485120" cy="2589120"/>
          </a:xfrm>
          <a:prstGeom prst="rect">
            <a:avLst/>
          </a:prstGeom>
          <a:solidFill>
            <a:srgbClr val="00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240" y="1738440"/>
            <a:ext cx="8797680" cy="3087720"/>
          </a:xfrm>
          <a:custGeom>
            <a:avLst/>
            <a:gdLst>
              <a:gd name="textAreaLeft" fmla="*/ 177840 w 8797680"/>
              <a:gd name="textAreaRight" fmla="*/ 8619840 w 8797680"/>
              <a:gd name="textAreaTop" fmla="*/ 177840 h 3087720"/>
              <a:gd name="textAreaBottom" fmla="*/ 2909880 h 3087720"/>
            </a:gdLst>
            <a:ahLst/>
            <a:rect l="textAreaLeft" t="textAreaTop" r="textAreaRight" b="textAreaBottom"/>
            <a:pathLst>
              <a:path w="61539" h="21600">
                <a:moveTo>
                  <a:pt x="0" y="0"/>
                </a:moveTo>
                <a:lnTo>
                  <a:pt x="0" y="21600"/>
                </a:lnTo>
                <a:lnTo>
                  <a:pt x="61539" y="21600"/>
                </a:lnTo>
                <a:lnTo>
                  <a:pt x="61539" y="0"/>
                </a:lnTo>
                <a:close/>
                <a:moveTo>
                  <a:pt x="1244" y="1244"/>
                </a:moveTo>
                <a:lnTo>
                  <a:pt x="1244" y="20356"/>
                </a:lnTo>
                <a:lnTo>
                  <a:pt x="60295" y="20356"/>
                </a:lnTo>
                <a:lnTo>
                  <a:pt x="60295" y="12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00280" y="5683320"/>
            <a:ext cx="399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ปิยะนุช มาลากุล ณ อยุธย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FreesiaUPC"/>
              </a:rPr>
              <a:t>สภาหอการค้าแห่งประเทศไท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FreesiaUPC"/>
              </a:rPr>
              <a:t>26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มษายน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2548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4880" y="2421000"/>
            <a:ext cx="7324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FreesiaUPC"/>
              </a:rPr>
              <a:t>ผู้ผลิต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SMEs </a:t>
            </a: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FreesiaUPC"/>
              </a:rPr>
              <a:t>สิ่งทอและเครื่องนุ่งห่ม            จะใช้ประโยชน์จาก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FreesiaUPC"/>
              </a:rPr>
              <a:t>อย่างไร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FreesiaUPC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4653000"/>
            <a:ext cx="8545320" cy="1369800"/>
          </a:xfrm>
          <a:prstGeom prst="rect">
            <a:avLst/>
          </a:prstGeom>
          <a:solidFill>
            <a:srgbClr val="3366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3357720"/>
            <a:ext cx="8545320" cy="1214280"/>
          </a:xfrm>
          <a:prstGeom prst="rect">
            <a:avLst/>
          </a:prstGeom>
          <a:solidFill>
            <a:srgbClr val="3366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560" y="106200"/>
            <a:ext cx="8105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Arial"/>
                <a:cs typeface="FreesiaUPC"/>
              </a:rPr>
              <a:t>ผลการวิจัยของศูนย์ศึกษาเอเปค มหาวิทยาลัยธรรมศาสตร์ เกี่ยวกับความสามารถในการแข่งขันของไทย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2640" y="1257480"/>
            <a:ext cx="8105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09520" y="2685960"/>
          <a:ext cx="8624880" cy="3407040"/>
        </p:xfrm>
        <a:graphic>
          <a:graphicData uri="http://schemas.openxmlformats.org/drawingml/2006/table">
            <a:tbl>
              <a:tblPr/>
              <a:tblGrid>
                <a:gridCol w="1819440"/>
                <a:gridCol w="3797280"/>
                <a:gridCol w="1584360"/>
                <a:gridCol w="14238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H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ไทย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อินเดีย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</a:tr>
              <a:tr h="131616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1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ื้อผ้าที่ทำจากผ้าถัก อาทิ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Jerseys, Pullovers,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..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knit or croch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8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0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20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ื้อผ้าที่ทำจากผ้าทอ อาทิ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Mens or Boys suits, Jackets,.. not k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.5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3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511200" y="1468440"/>
            <a:ext cx="810576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ffff"/>
                </a:solidFill>
                <a:latin typeface="Arial"/>
                <a:cs typeface="FreesiaUPC"/>
              </a:rPr>
              <a:t>ดัชนีความได้เปรียบที่ปรากฏโดยเปรียบเทียบ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00ffff"/>
                </a:solidFill>
                <a:latin typeface="Arial"/>
                <a:cs typeface="FreesiaUPC"/>
              </a:rPr>
              <a:t>ของไทยและคู่แข่งใน</a:t>
            </a:r>
            <a:r>
              <a:rPr b="1" lang="en-US" sz="3700" spc="-1" strike="noStrike">
                <a:solidFill>
                  <a:srgbClr val="00ffff"/>
                </a:solidFill>
                <a:latin typeface="Arial"/>
                <a:ea typeface="FreesiaUPC"/>
              </a:rPr>
              <a:t> </a:t>
            </a:r>
            <a:r>
              <a:rPr b="1" lang="en-US" sz="2500" spc="-1" strike="noStrike">
                <a:solidFill>
                  <a:srgbClr val="00ffff"/>
                </a:solidFill>
                <a:latin typeface="Arial"/>
                <a:ea typeface="FreesiaUPC"/>
              </a:rPr>
              <a:t>BIMST-E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224640" y="1374840"/>
            <a:ext cx="34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การทำงา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ร่วมกั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ระหว่า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ภาคเอกช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กระทรวงการคลั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2400" y="816120"/>
            <a:ext cx="2724120" cy="5497200"/>
          </a:xfrm>
          <a:prstGeom prst="ellipse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32120" y="2779560"/>
            <a:ext cx="533520" cy="9144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ff"/>
              </a:gs>
              <a:gs pos="100000">
                <a:srgbClr val="00181e"/>
              </a:gs>
            </a:gsLst>
            <a:lin ang="8100000"/>
          </a:gradFill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56080" y="1692360"/>
            <a:ext cx="4284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R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05320" y="533520"/>
            <a:ext cx="385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U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38440" y="3043080"/>
            <a:ext cx="42876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N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83080" y="4586400"/>
            <a:ext cx="3664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S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81280" y="5794200"/>
            <a:ext cx="4287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X</a:t>
            </a:r>
            <a:endParaRPr b="1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923640" y="1576440"/>
            <a:ext cx="43336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FreesiaUPC"/>
              </a:rPr>
              <a:t>Reciproc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: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ลดภาษีพร้อ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กัน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2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ฝ่าย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FreesiaUPC"/>
              </a:rPr>
              <a:t>2005-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ไทยแข่งขันได้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8152920" y="198072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33cc33"/>
              </a:gs>
              <a:gs pos="50000">
                <a:srgbClr val="ccffcc"/>
              </a:gs>
              <a:gs pos="100000">
                <a:srgbClr val="33cc33"/>
              </a:gs>
            </a:gsLst>
            <a:lin ang="5400000"/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93520" y="517680"/>
            <a:ext cx="5124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FreesiaUPC"/>
              </a:rPr>
              <a:t>Unilater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: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ไทยพร้อมล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ภาษีฝ่ายเดียว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ไทยแข่งขันได้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8191080" y="80280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33cc33"/>
              </a:gs>
              <a:gs pos="50000">
                <a:srgbClr val="ccffcc"/>
              </a:gs>
              <a:gs pos="100000">
                <a:srgbClr val="33cc33"/>
              </a:gs>
            </a:gsLst>
            <a:lin ang="5400000"/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4840" y="2962440"/>
            <a:ext cx="45792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FreesiaUPC"/>
              </a:rPr>
              <a:t>Norm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: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ลดภาษีปกต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FreesiaUPC"/>
              </a:rPr>
              <a:t>2007-2010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ไทยแข่งขันได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แต่อาจต้องใช้เวลาปรับตัว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335268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0160" y="4527720"/>
            <a:ext cx="45730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FreesiaUPC"/>
              </a:rPr>
              <a:t>Sensiti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: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ไม่ต้องการล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ภาษี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ไทยไม่พร้อมแข่งขัน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29600" y="47242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3280" y="5724360"/>
            <a:ext cx="51184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FreesiaUPC"/>
              </a:rPr>
              <a:t>Oth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: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ลดภาษี แบบม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เงื่อนไข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ไทยไม่พร้อมแข่งขัน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744480" y="4668840"/>
            <a:ext cx="1514520" cy="70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1880" y="5943600"/>
            <a:ext cx="4287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X</a:t>
            </a:r>
            <a:endParaRPr b="1" lang="en-US" sz="2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4760" y="5721480"/>
            <a:ext cx="8889840" cy="1209600"/>
          </a:xfrm>
          <a:prstGeom prst="rect">
            <a:avLst/>
          </a:prstGeom>
          <a:solidFill>
            <a:srgbClr val="ff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5000" y="1407960"/>
            <a:ext cx="8889840" cy="1003320"/>
          </a:xfrm>
          <a:prstGeom prst="rect">
            <a:avLst/>
          </a:prstGeom>
          <a:solidFill>
            <a:srgbClr val="ff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1760" y="2406600"/>
            <a:ext cx="8889840" cy="109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1760" y="3494160"/>
            <a:ext cx="8889840" cy="1184040"/>
          </a:xfrm>
          <a:prstGeom prst="rect">
            <a:avLst/>
          </a:prstGeom>
          <a:solidFill>
            <a:srgbClr val="7d9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1760" y="4691160"/>
            <a:ext cx="8889840" cy="97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1640" y="392040"/>
            <a:ext cx="1325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ตอนที่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FreesiaUPC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สินค้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64400" y="561960"/>
            <a:ext cx="1432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ออ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เตรเลี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7760" y="6904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ญี่ปุ่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5200" y="727200"/>
            <a:ext cx="6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04720" y="650880"/>
            <a:ext cx="13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3080" y="66672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บาห์เร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33920" y="67320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อินเดี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806480" y="295200"/>
            <a:ext cx="520920" cy="266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942240" y="352440"/>
            <a:ext cx="522360" cy="301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>
            <a:lum contrast="44000"/>
          </a:blip>
          <a:stretch/>
        </p:blipFill>
        <p:spPr>
          <a:xfrm>
            <a:off x="4440240" y="357120"/>
            <a:ext cx="523800" cy="333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8183520" y="365040"/>
            <a:ext cx="495360" cy="3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3094200" y="355680"/>
            <a:ext cx="525240" cy="349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5635800" y="369720"/>
            <a:ext cx="515880" cy="31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-133200" y="4743360"/>
            <a:ext cx="230508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53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ส้นใ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ผ้าท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ใยยาวประดิษฐ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9840" y="2728800"/>
            <a:ext cx="867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ด้า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1560" y="5824440"/>
            <a:ext cx="183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3880" y="3781440"/>
            <a:ext cx="887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99ccff"/>
                </a:solidFill>
                <a:latin typeface="Tahoma"/>
                <a:ea typeface="Tahoma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9ccff"/>
                </a:solidFill>
                <a:latin typeface="Tahoma"/>
                <a:cs typeface="FreesiaUPC"/>
              </a:rPr>
              <a:t>ฝ้า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9120" y="5853240"/>
            <a:ext cx="152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ea typeface="Tahoma"/>
              </a:rPr>
              <a:t>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cs typeface="FreesiaUPC"/>
              </a:rPr>
              <a:t>เส้นใยสั้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cs typeface="FreesiaUPC"/>
              </a:rPr>
              <a:t>ประดิษฐ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1663200" y="49942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1657080" y="2838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1677600" y="386820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644120" y="6194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4254120" y="491760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4209840" y="27813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4230360" y="38307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4254120" y="60991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5492520" y="4936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5505120" y="27813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5506560" y="38307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800000">
            <a:off x="5549400" y="61372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8026200" y="4975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8019720" y="28576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8040240" y="38872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8197560" y="6194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0600" y="250920"/>
          <a:ext cx="8915400" cy="1046160"/>
        </p:xfrm>
        <a:graphic>
          <a:graphicData uri="http://schemas.openxmlformats.org/drawingml/2006/table">
            <a:tbl>
              <a:tblPr/>
              <a:tblGrid>
                <a:gridCol w="1268640"/>
                <a:gridCol w="1268280"/>
                <a:gridCol w="1268280"/>
                <a:gridCol w="1265400"/>
                <a:gridCol w="1268280"/>
                <a:gridCol w="1268640"/>
                <a:gridCol w="130788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420840" y="1562040"/>
            <a:ext cx="755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ไห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1676160" y="1676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4247640" y="1676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5524200" y="1695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8019720" y="1676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90480" y="1676520"/>
            <a:ext cx="1914480" cy="4838760"/>
            <a:chOff x="2490480" y="1676520"/>
            <a:chExt cx="1914480" cy="4838760"/>
          </a:xfrm>
        </p:grpSpPr>
        <p:sp>
          <p:nvSpPr>
            <p:cNvPr id="241" name=""/>
            <p:cNvSpPr/>
            <p:nvPr/>
          </p:nvSpPr>
          <p:spPr>
            <a:xfrm>
              <a:off x="2971800" y="2876400"/>
              <a:ext cx="45720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09960" y="501012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9960" y="6134040"/>
              <a:ext cx="45720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52720" y="354348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0800000">
              <a:off x="2801520" y="3983040"/>
              <a:ext cx="685800" cy="3794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90480" y="4309920"/>
              <a:ext cx="19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 </a:t>
              </a: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ฝ้าย เศษฝ้าย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48120" y="167652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0800000">
              <a:off x="2838240" y="2437920"/>
              <a:ext cx="68580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12040" y="318600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ด้าย ผ้าท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57600" y="1695600"/>
            <a:ext cx="2616840" cy="5225400"/>
            <a:chOff x="6357600" y="1695600"/>
            <a:chExt cx="2616840" cy="5225400"/>
          </a:xfrm>
        </p:grpSpPr>
        <p:sp>
          <p:nvSpPr>
            <p:cNvPr id="251" name=""/>
            <p:cNvSpPr/>
            <p:nvPr/>
          </p:nvSpPr>
          <p:spPr>
            <a:xfrm>
              <a:off x="6800760" y="169560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0" y="299088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3562200"/>
              <a:ext cx="45720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15240" y="4991040"/>
              <a:ext cx="45720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96160" y="573408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800000">
              <a:off x="6724440" y="2457000"/>
              <a:ext cx="68580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31440" y="318600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ด้าย ผ้าท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0800000">
              <a:off x="6762240" y="4038120"/>
              <a:ext cx="68580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57600" y="4290840"/>
              <a:ext cx="19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 </a:t>
              </a: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ฝ้าย เศษฝ้าย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0800000">
              <a:off x="6559200" y="615636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16520" y="6095880"/>
              <a:ext cx="225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กลุ่มใยยาว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เส้นใยสั้นสังเคราะห์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เส้นใยเทียม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4760" y="5854680"/>
            <a:ext cx="8889840" cy="981000"/>
          </a:xfrm>
          <a:prstGeom prst="rect">
            <a:avLst/>
          </a:prstGeom>
          <a:solidFill>
            <a:srgbClr val="ff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5000" y="1407960"/>
            <a:ext cx="8889840" cy="1003320"/>
          </a:xfrm>
          <a:prstGeom prst="rect">
            <a:avLst/>
          </a:prstGeom>
          <a:solidFill>
            <a:srgbClr val="ff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1760" y="2406600"/>
            <a:ext cx="8889840" cy="109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1760" y="3494160"/>
            <a:ext cx="8889840" cy="1184040"/>
          </a:xfrm>
          <a:prstGeom prst="rect">
            <a:avLst/>
          </a:prstGeom>
          <a:solidFill>
            <a:srgbClr val="7d9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1760" y="4691160"/>
            <a:ext cx="8889840" cy="1125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1640" y="392040"/>
            <a:ext cx="1325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ตอนที่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FreesiaUPC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สินค้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4400" y="561960"/>
            <a:ext cx="1432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ออ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เตรเลี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7760" y="6904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ญี่ปุ่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05200" y="727200"/>
            <a:ext cx="6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04720" y="650880"/>
            <a:ext cx="13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3080" y="66672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บาห์เร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33920" y="67320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อินเดี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806480" y="295200"/>
            <a:ext cx="520920" cy="2667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942240" y="352440"/>
            <a:ext cx="522360" cy="301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>
            <a:lum contrast="44000"/>
          </a:blip>
          <a:stretch/>
        </p:blipFill>
        <p:spPr>
          <a:xfrm>
            <a:off x="4440240" y="357120"/>
            <a:ext cx="523800" cy="333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8183520" y="365040"/>
            <a:ext cx="495360" cy="3193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3094200" y="355680"/>
            <a:ext cx="525240" cy="349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5635800" y="369720"/>
            <a:ext cx="515880" cy="319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47680" y="3524400"/>
            <a:ext cx="129528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a7e8ff"/>
                </a:solidFill>
                <a:latin typeface="Tahoma"/>
                <a:ea typeface="Tahoma"/>
              </a:rPr>
              <a:t>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a7e8ff"/>
                </a:solidFill>
                <a:latin typeface="Tahoma"/>
                <a:cs typeface="FreesiaUPC"/>
              </a:rPr>
              <a:t>ผ้าทอ</a:t>
            </a:r>
            <a:r>
              <a:rPr b="1" lang="en-US" sz="3200" spc="-1" strike="noStrike">
                <a:solidFill>
                  <a:srgbClr val="a7e8ff"/>
                </a:solidFill>
                <a:latin typeface="Tahoma"/>
                <a:ea typeface="FreesiaUPC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a7e8ff"/>
                </a:solidFill>
                <a:latin typeface="Tahoma"/>
                <a:cs typeface="FreesiaUPC"/>
              </a:rPr>
              <a:t>ผ้าลูกไม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395280" y="4762440"/>
            <a:ext cx="2763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5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ผ้าสิ่งท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ของทำด้วยสิ่งท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480" y="1468440"/>
            <a:ext cx="1611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ea typeface="Tahoma"/>
              </a:rPr>
              <a:t>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bbdd"/>
                </a:solidFill>
                <a:latin typeface="Tahoma"/>
                <a:cs typeface="FreesiaUPC"/>
              </a:rPr>
              <a:t>แวดดิ้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bbdd"/>
                </a:solidFill>
                <a:latin typeface="Tahoma"/>
                <a:cs typeface="FreesiaUPC"/>
              </a:rPr>
              <a:t>สักหลา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1560" y="5824440"/>
            <a:ext cx="183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680" y="2581200"/>
            <a:ext cx="94896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5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พร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6400" y="5967360"/>
            <a:ext cx="102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ea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cs typeface="FreesiaUPC"/>
              </a:rPr>
              <a:t>ผ้าถั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1775880" y="3773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1777680" y="4975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1752120" y="1676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1773000" y="270684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0800000">
            <a:off x="1758600" y="617544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0800000">
            <a:off x="4290480" y="37162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4292280" y="491760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0800000">
            <a:off x="4266720" y="16192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0800000">
            <a:off x="4287600" y="2649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4273200" y="6118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0800000">
            <a:off x="5567040" y="37353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568480" y="4936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5543280" y="16383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5563800" y="26686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0800000">
            <a:off x="5549400" y="61372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0800000">
            <a:off x="8024400" y="375444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0800000">
            <a:off x="8026200" y="49561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8000640" y="165744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8021160" y="26877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8007120" y="61563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09960" y="167652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09960" y="386712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09960" y="501012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9960" y="613404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266688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5000" y="263520"/>
          <a:ext cx="8915400" cy="1046160"/>
        </p:xfrm>
        <a:graphic>
          <a:graphicData uri="http://schemas.openxmlformats.org/drawingml/2006/table">
            <a:tbl>
              <a:tblPr/>
              <a:tblGrid>
                <a:gridCol w="1268640"/>
                <a:gridCol w="1268280"/>
                <a:gridCol w="1268280"/>
                <a:gridCol w="1265400"/>
                <a:gridCol w="1268280"/>
                <a:gridCol w="1268640"/>
                <a:gridCol w="130788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6858000" y="280044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386712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502920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77080" y="609588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77080" y="173340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657600" y="4419720"/>
            <a:ext cx="2133720" cy="1987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>
            <a:hlinkClick r:id="rId4"/>
          </p:cNvPr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724280" y="3581280"/>
            <a:ext cx="4032360" cy="3276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4760" y="5854680"/>
            <a:ext cx="8889840" cy="981000"/>
          </a:xfrm>
          <a:prstGeom prst="rect">
            <a:avLst/>
          </a:prstGeom>
          <a:solidFill>
            <a:srgbClr val="ff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" y="1407960"/>
            <a:ext cx="8889840" cy="1003320"/>
          </a:xfrm>
          <a:prstGeom prst="rect">
            <a:avLst/>
          </a:prstGeom>
          <a:solidFill>
            <a:srgbClr val="ff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1760" y="2406600"/>
            <a:ext cx="888984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1760" y="3760920"/>
            <a:ext cx="8889840" cy="1050840"/>
          </a:xfrm>
          <a:prstGeom prst="rect">
            <a:avLst/>
          </a:prstGeom>
          <a:solidFill>
            <a:srgbClr val="7d9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1760" y="4824360"/>
            <a:ext cx="8889840" cy="992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1640" y="392040"/>
            <a:ext cx="1325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ตอนที่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FreesiaUPC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สินค้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64400" y="561960"/>
            <a:ext cx="1432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ออ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เตรเลี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7760" y="6904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ญี่ปุ่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05200" y="727200"/>
            <a:ext cx="6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4720" y="650880"/>
            <a:ext cx="13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3080" y="666720"/>
            <a:ext cx="14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บาห์เร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33920" y="67320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อินเดี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806480" y="295200"/>
            <a:ext cx="520920" cy="2667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6942240" y="352440"/>
            <a:ext cx="522360" cy="3016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>
            <a:lum contrast="44000"/>
          </a:blip>
          <a:stretch/>
        </p:blipFill>
        <p:spPr>
          <a:xfrm>
            <a:off x="4440240" y="357120"/>
            <a:ext cx="523800" cy="333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8183520" y="365040"/>
            <a:ext cx="495360" cy="3193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2987640" y="355680"/>
            <a:ext cx="525600" cy="349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5635800" y="369720"/>
            <a:ext cx="515880" cy="3193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-455400" y="1468440"/>
            <a:ext cx="2573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ea typeface="Tahoma"/>
              </a:rPr>
              <a:t>6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ea typeface="FreesiaUPC"/>
              </a:rPr>
              <a:t>  </a:t>
            </a:r>
            <a:r>
              <a:rPr b="1" lang="th-TH" sz="2800" spc="-1" strike="noStrike">
                <a:solidFill>
                  <a:srgbClr val="ffbbdd"/>
                </a:solidFill>
                <a:latin typeface="Tahoma"/>
                <a:cs typeface="FreesiaUPC"/>
              </a:rPr>
              <a:t>เครื่องแต่งกา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bbdd"/>
                </a:solidFill>
                <a:latin typeface="Tahoma"/>
                <a:cs typeface="FreesiaUPC"/>
              </a:rPr>
              <a:t>นิต</a:t>
            </a:r>
            <a:r>
              <a:rPr b="1" lang="en-US" sz="2800" spc="-1" strike="noStrike">
                <a:solidFill>
                  <a:srgbClr val="ffbbdd"/>
                </a:solidFill>
                <a:latin typeface="Tahoma"/>
                <a:ea typeface="FreesiaUPC"/>
              </a:rPr>
              <a:t>/</a:t>
            </a:r>
            <a:r>
              <a:rPr b="1" lang="th-TH" sz="2800" spc="-1" strike="noStrike">
                <a:solidFill>
                  <a:srgbClr val="ffbbdd"/>
                </a:solidFill>
                <a:latin typeface="Tahoma"/>
                <a:cs typeface="FreesiaUPC"/>
              </a:rPr>
              <a:t>โครเชต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1560" y="5824440"/>
            <a:ext cx="183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-281520" y="2409840"/>
            <a:ext cx="23875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6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ครื่องแต่งกา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ไม่ถักแบบนิ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โครเชต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1752120" y="1676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1773000" y="28209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0800000">
            <a:off x="4266720" y="16192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0800000">
            <a:off x="4287600" y="276336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5543280" y="16383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0800000">
            <a:off x="5563800" y="278244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0800000">
            <a:off x="8000640" y="165744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8021160" y="280188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971800" y="1676520"/>
            <a:ext cx="495360" cy="1485720"/>
            <a:chOff x="2971800" y="1676520"/>
            <a:chExt cx="495360" cy="1485720"/>
          </a:xfrm>
        </p:grpSpPr>
        <p:sp>
          <p:nvSpPr>
            <p:cNvPr id="350" name=""/>
            <p:cNvSpPr/>
            <p:nvPr/>
          </p:nvSpPr>
          <p:spPr>
            <a:xfrm>
              <a:off x="3009960" y="167652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278136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52" name=""/>
          <p:cNvGraphicFramePr/>
          <p:nvPr/>
        </p:nvGraphicFramePr>
        <p:xfrm>
          <a:off x="119160" y="289080"/>
          <a:ext cx="8915400" cy="1046160"/>
        </p:xfrm>
        <a:graphic>
          <a:graphicData uri="http://schemas.openxmlformats.org/drawingml/2006/table">
            <a:tbl>
              <a:tblPr/>
              <a:tblGrid>
                <a:gridCol w="1268640"/>
                <a:gridCol w="1268280"/>
                <a:gridCol w="1268280"/>
                <a:gridCol w="1265400"/>
                <a:gridCol w="1268280"/>
                <a:gridCol w="1268640"/>
                <a:gridCol w="130788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6877080" y="1733400"/>
            <a:ext cx="495360" cy="1447920"/>
            <a:chOff x="6877080" y="1733400"/>
            <a:chExt cx="495360" cy="1447920"/>
          </a:xfrm>
        </p:grpSpPr>
        <p:sp>
          <p:nvSpPr>
            <p:cNvPr id="354" name=""/>
            <p:cNvSpPr/>
            <p:nvPr/>
          </p:nvSpPr>
          <p:spPr>
            <a:xfrm>
              <a:off x="6915240" y="2800440"/>
              <a:ext cx="45720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77080" y="1733400"/>
              <a:ext cx="45720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lin ang="135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4400" y="0"/>
            <a:ext cx="9129600" cy="68580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0480" y="208764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752480"/>
            <a:ext cx="9144000" cy="2914920"/>
          </a:xfrm>
          <a:custGeom>
            <a:avLst/>
            <a:gdLst>
              <a:gd name="textAreaLeft" fmla="*/ 209520 w 9144000"/>
              <a:gd name="textAreaRight" fmla="*/ 8934480 w 9144000"/>
              <a:gd name="textAreaTop" fmla="*/ 209520 h 2914920"/>
              <a:gd name="textAreaBottom" fmla="*/ 2705400 h 2914920"/>
            </a:gdLst>
            <a:ahLst/>
            <a:rect l="textAreaLeft" t="textAreaTop" r="textAreaRight" b="textAreaBottom"/>
            <a:pathLst>
              <a:path w="67753" h="21600">
                <a:moveTo>
                  <a:pt x="0" y="0"/>
                </a:moveTo>
                <a:lnTo>
                  <a:pt x="0" y="21600"/>
                </a:lnTo>
                <a:lnTo>
                  <a:pt x="67753" y="21600"/>
                </a:lnTo>
                <a:lnTo>
                  <a:pt x="67753" y="0"/>
                </a:lnTo>
                <a:close/>
                <a:moveTo>
                  <a:pt x="1553" y="1553"/>
                </a:moveTo>
                <a:lnTo>
                  <a:pt x="1553" y="20047"/>
                </a:lnTo>
                <a:lnTo>
                  <a:pt x="66200" y="20047"/>
                </a:lnTo>
                <a:lnTo>
                  <a:pt x="66200" y="155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5960" y="2757600"/>
            <a:ext cx="84740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ของไทย               ต่อการเปิดเสรีสินค้าสิ่งทอและเครื่องนุ่งห่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00" y="1244520"/>
            <a:ext cx="9129600" cy="637848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6600" y="68400"/>
            <a:ext cx="84740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ไทย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ต่อการเปิดเสรีการค้าสินค้าสิ่งทอและเครื่องนุ่งห่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85680" y="1609560"/>
          <a:ext cx="8944200" cy="4792680"/>
        </p:xfrm>
        <a:graphic>
          <a:graphicData uri="http://schemas.openxmlformats.org/drawingml/2006/table">
            <a:tbl>
              <a:tblPr/>
              <a:tblGrid>
                <a:gridCol w="1424160"/>
                <a:gridCol w="1136520"/>
                <a:gridCol w="1717560"/>
                <a:gridCol w="1490760"/>
                <a:gridCol w="1811520"/>
                <a:gridCol w="1363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จี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ออสเตรเล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นิวซีแลนด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สหรัฐ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ญี่ปุ่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7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รูปแบบการจัดประเภทสินค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ินค้า  ลดภาษีปกต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ินค้าอ่อนไห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ินค้าอ่อนไห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ินค้าอ่อนไหว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คาดการณ์จากการที่สหรัฐฯ ทำ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FT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ับสิงคโปร์ ชิลี ออสเตรเลีย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Zero for Z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29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ปีที่ลดภาษีเหลือ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ิ่งทอบาง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ครื่องนุ่งห่ม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ิ่งทอบางรายการ เครื่องนุ่งห่ม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020        (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ข้อเสนอของ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%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ทันที หากไทยลดเหลือ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%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ทันที เช่นกั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268280"/>
            <a:ext cx="9129600" cy="63788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20" y="163440"/>
            <a:ext cx="84740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เหตุผลที่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ให้สินค้าสิ่งทอและเครื่องนุ่งห่มเป็นสินค้าอ่อนไห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44640" y="2890800"/>
            <a:ext cx="753912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ahoma"/>
                <a:ea typeface="FreesiaUPC"/>
              </a:rPr>
              <a:t>1. </a:t>
            </a: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เสียเปรียบด้านการแข่งขันกับไทยในเรื่องต้นทุนค่าจ้างแรงงาน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40" y="1258920"/>
            <a:ext cx="9129960" cy="637848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0520" y="163440"/>
            <a:ext cx="84740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เหตุผลที่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ให้สินค้าสิ่งทอและเครื่องนุ่งห่มเป็นสินค้าอ่อนไห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080" y="2614680"/>
            <a:ext cx="79250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ea typeface="FreesiaUPC"/>
              </a:rPr>
              <a:t>2. </a:t>
            </a: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เป็นไปได้ในการ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Circumventi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จากประเทศที่สามที่อาจอาศัยไทยเป็นทางผ่านในการส่งออ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981000"/>
            <a:ext cx="8167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owallia New"/>
                <a:ea typeface="FreesiaUPC"/>
              </a:rPr>
              <a:t>Full Market Economy </a:t>
            </a:r>
            <a:r>
              <a:rPr b="1" lang="th-TH" sz="3600" spc="-1" strike="noStrike">
                <a:solidFill>
                  <a:srgbClr val="ffffff"/>
                </a:solidFill>
                <a:latin typeface="Browallia New"/>
                <a:ea typeface="FreesiaUPC"/>
              </a:rPr>
              <a:t>     </a:t>
            </a:r>
            <a:r>
              <a:rPr b="1" lang="en-US" sz="4000" spc="-1" strike="noStrike">
                <a:solidFill>
                  <a:srgbClr val="00ffff"/>
                </a:solidFill>
                <a:latin typeface="Browallia New"/>
                <a:ea typeface="FreesiaUPC"/>
              </a:rPr>
              <a:t>VS  </a:t>
            </a:r>
            <a:r>
              <a:rPr b="1" lang="th-TH" sz="3600" spc="-1" strike="noStrike">
                <a:solidFill>
                  <a:srgbClr val="ffffff"/>
                </a:solidFill>
                <a:latin typeface="Browallia New"/>
                <a:ea typeface="Freesia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rowallia New"/>
                <a:ea typeface="FreesiaUPC"/>
              </a:rPr>
              <a:t>   Non-mark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cs typeface="FreesiaUPC"/>
              </a:rPr>
              <a:t>เรื่องการใช้มาตรการปกป้องสินค้าสิ่งทอและเสื้อผ้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9400" y="2197080"/>
          <a:ext cx="8778600" cy="4468680"/>
        </p:xfrm>
        <a:graphic>
          <a:graphicData uri="http://schemas.openxmlformats.org/drawingml/2006/table">
            <a:tbl>
              <a:tblPr/>
              <a:tblGrid>
                <a:gridCol w="4321080"/>
                <a:gridCol w="4457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No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Market Econom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Full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ket Econom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1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กรณีที่สินค้าที่นำเข้าจากจีนมีปริมาณสูงขึ้น จนอาจจะส่งผลต่อตลาดและอุตสาหกรรมของประเทศสมาชิ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สมาชิก</a:t>
                      </a:r>
                      <a:r>
                        <a:rPr b="1" i="1" lang="hi-IN" sz="3200" spc="-1" strike="noStrike">
                          <a:solidFill>
                            <a:srgbClr val="ffcc00"/>
                          </a:solidFill>
                          <a:latin typeface="Browallia New"/>
                          <a:cs typeface="FreesiaUPC"/>
                        </a:rPr>
                        <a:t>มีสิทธิที่จะขอหารือ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เพื่อให้จีนจำกัดปริมาณการส่งออกได้ แต่ในระหว่างการหารือ จีนจะต้อง</a:t>
                      </a:r>
                      <a:r>
                        <a:rPr b="1" i="1" lang="hi-IN" sz="3200" spc="-1" strike="noStrike">
                          <a:solidFill>
                            <a:srgbClr val="ffcc00"/>
                          </a:solidFill>
                          <a:latin typeface="Browallia New"/>
                          <a:cs typeface="FreesiaUPC"/>
                        </a:rPr>
                        <a:t>จำกัดการส่งออก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ไว้ไม่ให้เกินร้อยละ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7.5  (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สามารถใช้ได้ถึง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31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ธ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.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ค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. 255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สามารถใช้มาตรการปกป้องสิ่งทอต่อประเทศผู้ส่งออกได้ แต่</a:t>
                      </a:r>
                      <a:r>
                        <a:rPr b="1" i="1" lang="hi-IN" sz="3200" spc="-1" strike="noStrike">
                          <a:solidFill>
                            <a:srgbClr val="ffcc00"/>
                          </a:solidFill>
                          <a:latin typeface="Browallia New"/>
                          <a:cs typeface="FreesiaUPC"/>
                        </a:rPr>
                        <a:t>จะต้องมีการหารือก่อน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อย่างไรก็ตาม ประเทศผู้นำเข้าจะสามารถใช้มาตรการปกป้องได้ เมื่อสรุปการหารือแล้วว่ามีความจำเป็นต้องใช้ หรือการหารือระหว่างกันไม่ประสบผลสำเร็จ แต่ประเทศผู้ส่งออก               </a:t>
                      </a:r>
                      <a:r>
                        <a:rPr b="1" i="1" lang="hi-IN" sz="3200" spc="-1" strike="noStrike">
                          <a:solidFill>
                            <a:srgbClr val="ffcc00"/>
                          </a:solidFill>
                          <a:latin typeface="Browallia New"/>
                          <a:cs typeface="FreesiaUPC"/>
                        </a:rPr>
                        <a:t>ไม่จำเป็นต้องจำกัดการส่งออก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ในระหว่างการหารืออย่างในกรณีของจี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 txBox="1"/>
          <p:nvPr/>
        </p:nvSpPr>
        <p:spPr>
          <a:xfrm>
            <a:off x="1116000" y="260280"/>
            <a:ext cx="68104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FreesiaUPC"/>
              </a:rPr>
              <a:t>การยอมรับ </a:t>
            </a:r>
            <a:r>
              <a:rPr b="1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FreesiaUPC"/>
              </a:rPr>
              <a:t>Full Market Economy </a:t>
            </a:r>
            <a:r>
              <a:rPr b="0" lang="hi-IN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FreesiaUPC"/>
              </a:rPr>
              <a:t>ของจีน</a:t>
            </a:r>
            <a:endParaRPr b="1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20797800">
            <a:off x="826560" y="1844280"/>
            <a:ext cx="8101080" cy="4681440"/>
          </a:xfrm>
          <a:prstGeom prst="ellipse">
            <a:avLst/>
          </a:prstGeom>
          <a:solidFill>
            <a:srgbClr val="c0c0c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33400" y="2406600"/>
            <a:ext cx="3878280" cy="3503520"/>
            <a:chOff x="2633400" y="2406600"/>
            <a:chExt cx="3878280" cy="3503520"/>
          </a:xfrm>
        </p:grpSpPr>
        <p:sp>
          <p:nvSpPr>
            <p:cNvPr id="97" name="_s488467"/>
            <p:cNvSpPr/>
            <p:nvPr/>
          </p:nvSpPr>
          <p:spPr>
            <a:xfrm flipH="1">
              <a:off x="3637800" y="4830840"/>
              <a:ext cx="468360" cy="26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_s488466"/>
            <p:cNvSpPr/>
            <p:nvPr/>
          </p:nvSpPr>
          <p:spPr>
            <a:xfrm>
              <a:off x="2633400" y="4832280"/>
              <a:ext cx="1077840" cy="1077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ญี่ปุ่น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_s488465"/>
            <p:cNvSpPr/>
            <p:nvPr/>
          </p:nvSpPr>
          <p:spPr>
            <a:xfrm>
              <a:off x="5036760" y="4830840"/>
              <a:ext cx="468360" cy="26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_s488464"/>
            <p:cNvSpPr/>
            <p:nvPr/>
          </p:nvSpPr>
          <p:spPr>
            <a:xfrm>
              <a:off x="5433840" y="4832280"/>
              <a:ext cx="1077840" cy="1077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อินเดีย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_s488463"/>
            <p:cNvSpPr/>
            <p:nvPr/>
          </p:nvSpPr>
          <p:spPr>
            <a:xfrm flipV="1">
              <a:off x="4571640" y="3482640"/>
              <a:ext cx="0" cy="54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_s488462"/>
            <p:cNvSpPr/>
            <p:nvPr/>
          </p:nvSpPr>
          <p:spPr>
            <a:xfrm>
              <a:off x="4033800" y="2406600"/>
              <a:ext cx="1077840" cy="1077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สหรัฐฯ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_s488461"/>
            <p:cNvSpPr/>
            <p:nvPr/>
          </p:nvSpPr>
          <p:spPr>
            <a:xfrm>
              <a:off x="4033800" y="4024080"/>
              <a:ext cx="1077840" cy="107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cc0000"/>
                  </a:solidFill>
                  <a:latin typeface="Times New Roman"/>
                  <a:cs typeface="FreesiaUPC"/>
                </a:rPr>
                <a:t>ไทย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  <a:ea typeface="FreesiaUPC"/>
                </a:rPr>
                <a:t>WT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59280" y="3500280"/>
              <a:ext cx="936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2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81176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5720" y="131760"/>
            <a:ext cx="75610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ผลดีสำหรับอุตสาหกรรมสิ่งทอและเครื่องนุ่งห่ม       ของไทยในการทำ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F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41360"/>
            <a:ext cx="52563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FreesiaUPC"/>
              </a:rPr>
              <a:t>1. </a:t>
            </a:r>
            <a:r>
              <a:rPr b="1" lang="hi-IN" sz="3600" spc="-1" strike="noStrike">
                <a:solidFill>
                  <a:srgbClr val="00ffff"/>
                </a:solidFill>
                <a:latin typeface="Arial"/>
                <a:cs typeface="FreesiaUPC"/>
              </a:rPr>
              <a:t>ลดการกีดกันด้านมาตรการภาษ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1628640"/>
            <a:ext cx="936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FreesiaUPC"/>
              </a:rPr>
              <a:t>0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2349360"/>
            <a:ext cx="1584360" cy="57636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เม็กซิโ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360" y="29242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FreesiaUPC"/>
              </a:rPr>
              <a:t>(NAF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2133720"/>
            <a:ext cx="2592360" cy="1366560"/>
          </a:xfrm>
          <a:prstGeom prst="ellipse">
            <a:avLst/>
          </a:prstGeom>
          <a:noFill/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9956400">
            <a:off x="4860720" y="2077200"/>
            <a:ext cx="1009440" cy="360360"/>
          </a:xfrm>
          <a:custGeom>
            <a:avLst/>
            <a:gdLst>
              <a:gd name="textAreaLeft" fmla="*/ 176400 w 1009440"/>
              <a:gd name="textAreaRight" fmla="*/ 731880 w 10094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4292640"/>
            <a:ext cx="9367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FreesiaUPC"/>
              </a:rPr>
              <a:t>30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4221000"/>
            <a:ext cx="1800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FreesiaUPC"/>
              </a:rPr>
              <a:t>9-16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9380000">
            <a:off x="3708360" y="4652640"/>
            <a:ext cx="35892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464000">
            <a:off x="4464000" y="3464640"/>
            <a:ext cx="360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87200">
            <a:off x="5076360" y="4653000"/>
            <a:ext cx="3589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4000" y="4437000"/>
            <a:ext cx="8640720" cy="863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0520" y="163440"/>
            <a:ext cx="84740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เหตุผลที่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ให้สินค้าสิ่งทอและเครื่องนุ่งห่มเป็นสินค้าอ่อนไห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1200" y="2136600"/>
            <a:ext cx="808812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ดังนั้น มาตรการกีดกันทางการค้าที่ประเทศคู่ค้า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ใช้เพื่อปกป้องอุตสาหกรรมในประเทศ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คือ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0000"/>
                </a:solidFill>
                <a:latin typeface="Tahoma"/>
                <a:cs typeface="FreesiaUPC"/>
              </a:rPr>
              <a:t>การกำหนดเกณฑ์แหล่งกำเนิดสินค้าที่เข้มงว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4400" y="0"/>
            <a:ext cx="9129600" cy="68580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480" y="208764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752480"/>
            <a:ext cx="9144000" cy="2914920"/>
          </a:xfrm>
          <a:custGeom>
            <a:avLst/>
            <a:gdLst>
              <a:gd name="textAreaLeft" fmla="*/ 209520 w 9144000"/>
              <a:gd name="textAreaRight" fmla="*/ 8934480 w 9144000"/>
              <a:gd name="textAreaTop" fmla="*/ 209520 h 2914920"/>
              <a:gd name="textAreaBottom" fmla="*/ 2705400 h 2914920"/>
            </a:gdLst>
            <a:ahLst/>
            <a:rect l="textAreaLeft" t="textAreaTop" r="textAreaRight" b="textAreaBottom"/>
            <a:pathLst>
              <a:path w="67753" h="21600">
                <a:moveTo>
                  <a:pt x="0" y="0"/>
                </a:moveTo>
                <a:lnTo>
                  <a:pt x="0" y="21600"/>
                </a:lnTo>
                <a:lnTo>
                  <a:pt x="67753" y="21600"/>
                </a:lnTo>
                <a:lnTo>
                  <a:pt x="67753" y="0"/>
                </a:lnTo>
                <a:close/>
                <a:moveTo>
                  <a:pt x="1553" y="1553"/>
                </a:moveTo>
                <a:lnTo>
                  <a:pt x="1553" y="20047"/>
                </a:lnTo>
                <a:lnTo>
                  <a:pt x="66200" y="20047"/>
                </a:lnTo>
                <a:lnTo>
                  <a:pt x="66200" y="155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960" y="2757600"/>
            <a:ext cx="847404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ต่อการค้าเสรีสินค้าสิ่งทอและเครื่องนุ่งห่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globe.gif - (28K)"/>
          <p:cNvPicPr/>
          <p:nvPr/>
        </p:nvPicPr>
        <p:blipFill>
          <a:blip r:embed="rId1"/>
          <a:stretch/>
        </p:blipFill>
        <p:spPr>
          <a:xfrm>
            <a:off x="7642080" y="5229360"/>
            <a:ext cx="947880" cy="1019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06320" y="1996920"/>
            <a:ext cx="7815240" cy="220212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2680" y="1658880"/>
            <a:ext cx="8978760" cy="2879640"/>
          </a:xfrm>
          <a:custGeom>
            <a:avLst/>
            <a:gdLst>
              <a:gd name="textAreaLeft" fmla="*/ 44280 w 8978760"/>
              <a:gd name="textAreaRight" fmla="*/ 8934480 w 8978760"/>
              <a:gd name="textAreaTop" fmla="*/ 44280 h 2879640"/>
              <a:gd name="textAreaBottom" fmla="*/ 2835360 h 2879640"/>
            </a:gdLst>
            <a:ahLst/>
            <a:rect l="textAreaLeft" t="textAreaTop" r="textAreaRight" b="textAreaBottom"/>
            <a:pathLst>
              <a:path w="67343" h="21600">
                <a:moveTo>
                  <a:pt x="0" y="0"/>
                </a:moveTo>
                <a:lnTo>
                  <a:pt x="0" y="21600"/>
                </a:lnTo>
                <a:lnTo>
                  <a:pt x="67343" y="21600"/>
                </a:lnTo>
                <a:lnTo>
                  <a:pt x="67343" y="0"/>
                </a:lnTo>
                <a:close/>
                <a:moveTo>
                  <a:pt x="333" y="333"/>
                </a:moveTo>
                <a:lnTo>
                  <a:pt x="333" y="21267"/>
                </a:lnTo>
                <a:lnTo>
                  <a:pt x="67010" y="21267"/>
                </a:lnTo>
                <a:lnTo>
                  <a:pt x="67010" y="3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422440" y="2822400"/>
            <a:ext cx="4484880" cy="5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FreesiaUPC"/>
              </a:rPr>
              <a:t>แหล่งกำเนิดสินค้า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44520" y="1380960"/>
            <a:ext cx="8437680" cy="373392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81185" dir="307803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440" y="32544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th-TH" sz="4800" spc="-1" strike="noStrike">
                <a:solidFill>
                  <a:srgbClr val="ffcc00"/>
                </a:solidFill>
                <a:latin typeface="Tahoma"/>
                <a:cs typeface="FreesiaUPC"/>
              </a:rPr>
              <a:t>เกณฑ์ </a:t>
            </a: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FreesiaUPC"/>
              </a:rPr>
              <a:t>ที่ใช้กำหนด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  <a:ea typeface="FreesiaUPC"/>
              </a:rPr>
              <a:t>“</a:t>
            </a:r>
            <a:r>
              <a:rPr b="1" lang="th-TH" sz="4800" spc="-1" strike="noStrike">
                <a:solidFill>
                  <a:srgbClr val="ffcc00"/>
                </a:solidFill>
                <a:latin typeface="Tahoma"/>
                <a:cs typeface="FreesiaUPC"/>
              </a:rPr>
              <a:t>สัญชาติ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  <a:ea typeface="FreesiaUPC"/>
              </a:rPr>
              <a:t>”</a:t>
            </a: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FreesiaUPC"/>
              </a:rPr>
              <a:t>ของสินค้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3560" y="3075120"/>
            <a:ext cx="74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06720" y="1782720"/>
            <a:ext cx="696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66ffff"/>
                </a:solidFill>
                <a:latin typeface="Tahoma"/>
                <a:cs typeface="FreesiaUPC"/>
              </a:rPr>
              <a:t>กฎแหล่งกำเนิดสินค้า</a:t>
            </a:r>
            <a:r>
              <a:rPr b="1" lang="en-US" sz="4400" spc="-1" strike="noStrike">
                <a:solidFill>
                  <a:srgbClr val="99ccff"/>
                </a:solidFill>
                <a:latin typeface="Tahoma"/>
                <a:ea typeface="FreesiaUP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76440" y="2532240"/>
            <a:ext cx="87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คื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-27000" y="5288040"/>
            <a:ext cx="9226440" cy="1558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-11160" y="3009960"/>
            <a:ext cx="9198000" cy="21938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8200" y="3000240"/>
            <a:ext cx="850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เปลี่ยนพิกัดระหว่างวัตถุดิบนำเข้าและสินค้าสำเร็จรูปที่ส่งออ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19400" y="4260960"/>
            <a:ext cx="422280" cy="536400"/>
          </a:xfrm>
          <a:prstGeom prst="rightArrow">
            <a:avLst>
              <a:gd name="adj1" fmla="val 63176"/>
              <a:gd name="adj2" fmla="val 27431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-429480" y="131760"/>
            <a:ext cx="99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ต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.</a:t>
            </a: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ย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.</a:t>
            </a: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มมติ การผลิตและส่งออกผ้าทอใยสั้นสังเคราะห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2400" y="747720"/>
            <a:ext cx="8785080" cy="8892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81520" y="5686560"/>
            <a:ext cx="3585240" cy="1296000"/>
            <a:chOff x="281520" y="5686560"/>
            <a:chExt cx="3585240" cy="1296000"/>
          </a:xfrm>
        </p:grpSpPr>
        <p:sp>
          <p:nvSpPr>
            <p:cNvPr id="411" name=""/>
            <p:cNvSpPr/>
            <p:nvPr/>
          </p:nvSpPr>
          <p:spPr>
            <a:xfrm>
              <a:off x="281520" y="5686560"/>
              <a:ext cx="3585240" cy="8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ด้าย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olyester </a:t>
              </a:r>
              <a:r>
                <a:rPr b="1" lang="en-US" sz="24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55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ahoma"/>
                  <a:ea typeface="Tahoma"/>
                </a:rPr>
                <a:t>03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.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42720" y="6401160"/>
              <a:ext cx="186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ประเทศ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667400" y="4076640"/>
            <a:ext cx="4785840" cy="1029240"/>
            <a:chOff x="4667400" y="4076640"/>
            <a:chExt cx="4785840" cy="1029240"/>
          </a:xfrm>
        </p:grpSpPr>
        <p:sp>
          <p:nvSpPr>
            <p:cNvPr id="414" name=""/>
            <p:cNvSpPr/>
            <p:nvPr/>
          </p:nvSpPr>
          <p:spPr>
            <a:xfrm>
              <a:off x="4670280" y="4106160"/>
              <a:ext cx="4281120" cy="95112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cap="sq" w="3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67400" y="4380840"/>
              <a:ext cx="139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ท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75840" y="416160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55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15.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53520" y="4524480"/>
              <a:ext cx="36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ผ้าทอใยสั้นสังเคราะห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5162400" y="4076640"/>
              <a:ext cx="574560" cy="4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14400" y="942840"/>
            <a:ext cx="9144000" cy="18003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-265680" y="966960"/>
            <a:ext cx="69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ผลิตโดยใช้วัตถุดิบในประเทศทั้งหมด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84120" y="1508040"/>
            <a:ext cx="8485200" cy="907920"/>
            <a:chOff x="384120" y="1508040"/>
            <a:chExt cx="8485200" cy="907920"/>
          </a:xfrm>
        </p:grpSpPr>
        <p:sp>
          <p:nvSpPr>
            <p:cNvPr id="422" name=""/>
            <p:cNvSpPr/>
            <p:nvPr/>
          </p:nvSpPr>
          <p:spPr>
            <a:xfrm>
              <a:off x="384120" y="1622160"/>
              <a:ext cx="8485200" cy="79380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03760" y="1774440"/>
              <a:ext cx="477720" cy="447840"/>
            </a:xfrm>
            <a:prstGeom prst="rightArrow">
              <a:avLst>
                <a:gd name="adj1" fmla="val 63176"/>
                <a:gd name="adj2" fmla="val 29261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cap="sq" w="19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8360" y="180792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ท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72560" y="1650600"/>
              <a:ext cx="12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cc00"/>
                  </a:solidFill>
                  <a:latin typeface="Tahoma"/>
                  <a:cs typeface="FreesiaUPC"/>
                </a:rPr>
                <a:t>ผ้าทอ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7760" y="1758600"/>
              <a:ext cx="382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cc00"/>
                  </a:solidFill>
                  <a:latin typeface="Tahoma"/>
                  <a:cs typeface="FreesiaUPC"/>
                </a:rPr>
                <a:t>ด้าย</a:t>
              </a:r>
              <a:r>
                <a:rPr b="1" lang="th-TH" sz="2400" spc="-1" strike="noStrike">
                  <a:solidFill>
                    <a:srgbClr val="ffcc00"/>
                  </a:solidFill>
                  <a:latin typeface="Tahoma"/>
                  <a:ea typeface="FreesiaUPC"/>
                </a:rPr>
                <a:t> </a:t>
              </a:r>
              <a:r>
                <a:rPr b="1" lang="en-US" sz="2400" spc="-1" strike="noStrike">
                  <a:solidFill>
                    <a:srgbClr val="ffcc00"/>
                  </a:solidFill>
                  <a:latin typeface="Tahoma"/>
                  <a:ea typeface="FreesiaUPC"/>
                </a:rPr>
                <a:t>Cotton + Polyester</a:t>
              </a:r>
              <a:r>
                <a:rPr b="1" lang="th-TH" sz="2400" spc="-1" strike="noStrike">
                  <a:solidFill>
                    <a:srgbClr val="ffcc00"/>
                  </a:solidFill>
                  <a:latin typeface="Tahoma"/>
                  <a:ea typeface="FreesiaUPC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769680" y="1508040"/>
              <a:ext cx="574560" cy="4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4017960" y="5869080"/>
            <a:ext cx="422280" cy="536400"/>
          </a:xfrm>
          <a:prstGeom prst="rightArrow">
            <a:avLst>
              <a:gd name="adj1" fmla="val 63176"/>
              <a:gd name="adj2" fmla="val 27431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876960" y="3913200"/>
            <a:ext cx="2855880" cy="1317960"/>
            <a:chOff x="876960" y="3913200"/>
            <a:chExt cx="2855880" cy="1317960"/>
          </a:xfrm>
        </p:grpSpPr>
        <p:sp>
          <p:nvSpPr>
            <p:cNvPr id="430" name=""/>
            <p:cNvSpPr/>
            <p:nvPr/>
          </p:nvSpPr>
          <p:spPr>
            <a:xfrm>
              <a:off x="876960" y="3913200"/>
              <a:ext cx="275760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ด้าย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otton </a:t>
              </a:r>
              <a:r>
                <a:rPr b="1" lang="th-TH" sz="24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52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0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68040" y="4649760"/>
              <a:ext cx="186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ประเทศ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665600" y="5734080"/>
            <a:ext cx="4785840" cy="1006560"/>
            <a:chOff x="4665600" y="5734080"/>
            <a:chExt cx="4785840" cy="1006560"/>
          </a:xfrm>
        </p:grpSpPr>
        <p:sp>
          <p:nvSpPr>
            <p:cNvPr id="433" name=""/>
            <p:cNvSpPr/>
            <p:nvPr/>
          </p:nvSpPr>
          <p:spPr>
            <a:xfrm>
              <a:off x="4668480" y="5762160"/>
              <a:ext cx="4281120" cy="90288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cap="sq" w="3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5600" y="6022800"/>
              <a:ext cx="139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ท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74040" y="581472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55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ahoma"/>
                  <a:ea typeface="Tahoma"/>
                </a:rPr>
                <a:t>15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.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51720" y="6159240"/>
              <a:ext cx="36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ผ้าทอใยสั้นสังเคราะห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5160600" y="5734080"/>
              <a:ext cx="574560" cy="39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-314280" y="3594240"/>
            <a:ext cx="5511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เปลี่ยนพิกัดในระดับ 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  <a:ea typeface="FreesiaUPC"/>
              </a:rPr>
              <a:t>2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หลัก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CC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85680" y="5257800"/>
            <a:ext cx="58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เปลี่ยนพิกัดในระดับ 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  <a:ea typeface="FreesiaUPC"/>
              </a:rPr>
              <a:t>4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หลัก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C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840" y="96984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3600" y="308304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-4680" y="982800"/>
            <a:ext cx="9144000" cy="2033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429480" y="131760"/>
            <a:ext cx="99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ต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.</a:t>
            </a: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ย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.</a:t>
            </a: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มมติ การผลิตและส่งออกผ้าทอใยสั้นสังเคราะห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-122040" y="907920"/>
            <a:ext cx="6473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ใช้สัดส่วนวัตถุดิบในประเทศ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FreesiaUPC"/>
              </a:rPr>
              <a:t>x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%</a:t>
            </a:r>
            <a:r>
              <a:rPr b="1" lang="en-US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2400" y="747720"/>
            <a:ext cx="8785080" cy="8892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19200" y="1916280"/>
            <a:ext cx="422280" cy="536400"/>
          </a:xfrm>
          <a:prstGeom prst="rightArrow">
            <a:avLst>
              <a:gd name="adj1" fmla="val 63176"/>
              <a:gd name="adj2" fmla="val 27431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101880" y="1501920"/>
            <a:ext cx="2260080" cy="1368360"/>
            <a:chOff x="-101880" y="1501920"/>
            <a:chExt cx="2260080" cy="1368360"/>
          </a:xfrm>
        </p:grpSpPr>
        <p:sp>
          <p:nvSpPr>
            <p:cNvPr id="448" name=""/>
            <p:cNvSpPr/>
            <p:nvPr/>
          </p:nvSpPr>
          <p:spPr>
            <a:xfrm>
              <a:off x="-5400" y="1501920"/>
              <a:ext cx="2163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ccff33"/>
                  </a:solidFill>
                  <a:latin typeface="Tahoma"/>
                  <a:cs typeface="FreesiaUPC"/>
                </a:rPr>
                <a:t>ด้าย</a:t>
              </a:r>
              <a:r>
                <a:rPr b="1" lang="th-TH" sz="2800" spc="-1" strike="noStrike">
                  <a:solidFill>
                    <a:srgbClr val="ccff33"/>
                  </a:solidFill>
                  <a:latin typeface="Tahoma"/>
                  <a:ea typeface="Tahoma"/>
                </a:rPr>
                <a:t> </a:t>
              </a:r>
              <a:r>
                <a:rPr b="1" lang="en-US" sz="2400" spc="-1" strike="noStrike">
                  <a:solidFill>
                    <a:srgbClr val="ccff33"/>
                  </a:solidFill>
                  <a:latin typeface="Tahoma"/>
                  <a:ea typeface="Tahoma"/>
                </a:rPr>
                <a:t>Cott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ff33"/>
                  </a:solidFill>
                  <a:latin typeface="Tahoma"/>
                  <a:ea typeface="Tahoma"/>
                </a:rPr>
                <a:t>5205 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(40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-101880" y="2288880"/>
              <a:ext cx="186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ประเทศ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777760" y="1568520"/>
            <a:ext cx="6309000" cy="1631520"/>
            <a:chOff x="2777760" y="1568520"/>
            <a:chExt cx="6309000" cy="1631520"/>
          </a:xfrm>
        </p:grpSpPr>
        <p:sp>
          <p:nvSpPr>
            <p:cNvPr id="451" name=""/>
            <p:cNvSpPr/>
            <p:nvPr/>
          </p:nvSpPr>
          <p:spPr>
            <a:xfrm>
              <a:off x="2851200" y="1577880"/>
              <a:ext cx="6186240" cy="121932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cap="sq" w="3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77760" y="193500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ท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49960" y="1998720"/>
              <a:ext cx="457200" cy="380880"/>
            </a:xfrm>
            <a:prstGeom prst="rightArrow">
              <a:avLst>
                <a:gd name="adj1" fmla="val 63176"/>
                <a:gd name="adj2" fmla="val 3292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2990880" y="1592280"/>
              <a:ext cx="57456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456000" y="1595160"/>
              <a:ext cx="28875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ahoma"/>
                  <a:ea typeface="Tahoma"/>
                </a:rPr>
                <a:t>Polyester 5503.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(60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75800" y="156852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ahoma"/>
                  <a:ea typeface="Tahoma"/>
                </a:rPr>
                <a:t>5515.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86360" y="1941480"/>
              <a:ext cx="320040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cc00"/>
                  </a:solidFill>
                  <a:latin typeface="Tahoma"/>
                  <a:cs typeface="FreesiaUPC"/>
                </a:rPr>
                <a:t>ผ้าทอใยสั้นสังเคราะห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(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LC </a:t>
              </a:r>
              <a:r>
                <a:rPr b="1" lang="th-TH" sz="26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ทย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=60%)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9080" y="5121360"/>
            <a:ext cx="9144000" cy="15937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970600" y="4538520"/>
            <a:ext cx="3173400" cy="22100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04720" y="5405400"/>
            <a:ext cx="8202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เริ่มต้นกระบวนการผลิตที่ผลิตเส้นด้ายเองในประเทศ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(Yarn Forwar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840" y="96984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8000" y="518652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40" y="3083040"/>
            <a:ext cx="9144000" cy="19476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9440" y="315108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5200" y="3027240"/>
            <a:ext cx="8202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ใช้วัตถุดิบสะสมระหว่างประเทคู่ภาคี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71760" y="4041720"/>
            <a:ext cx="422280" cy="536760"/>
          </a:xfrm>
          <a:prstGeom prst="rightArrow">
            <a:avLst>
              <a:gd name="adj1" fmla="val 63176"/>
              <a:gd name="adj2" fmla="val 27431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-331920" y="3627360"/>
            <a:ext cx="2542320" cy="1371960"/>
            <a:chOff x="-331920" y="3627360"/>
            <a:chExt cx="2542320" cy="1371960"/>
          </a:xfrm>
        </p:grpSpPr>
        <p:sp>
          <p:nvSpPr>
            <p:cNvPr id="468" name=""/>
            <p:cNvSpPr/>
            <p:nvPr/>
          </p:nvSpPr>
          <p:spPr>
            <a:xfrm>
              <a:off x="46800" y="3627360"/>
              <a:ext cx="2163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ccff33"/>
                  </a:solidFill>
                  <a:latin typeface="Tahoma"/>
                  <a:cs typeface="FreesiaUPC"/>
                </a:rPr>
                <a:t>ด้าย</a:t>
              </a:r>
              <a:r>
                <a:rPr b="1" lang="th-TH" sz="2800" spc="-1" strike="noStrike">
                  <a:solidFill>
                    <a:srgbClr val="ccff33"/>
                  </a:solidFill>
                  <a:latin typeface="Tahoma"/>
                  <a:ea typeface="Tahoma"/>
                </a:rPr>
                <a:t> </a:t>
              </a:r>
              <a:r>
                <a:rPr b="1" lang="en-US" sz="2400" spc="-1" strike="noStrike">
                  <a:solidFill>
                    <a:srgbClr val="ccff33"/>
                  </a:solidFill>
                  <a:latin typeface="Tahoma"/>
                  <a:ea typeface="Tahoma"/>
                </a:rPr>
                <a:t>Cott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ff33"/>
                  </a:solidFill>
                  <a:latin typeface="Tahoma"/>
                  <a:ea typeface="Tahoma"/>
                </a:rPr>
                <a:t>5205 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(40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331920" y="4417920"/>
              <a:ext cx="243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(</a:t>
              </a:r>
              <a:r>
                <a:rPr b="1" lang="hi-IN" sz="32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ออสเตรเลีย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829960" y="3693960"/>
            <a:ext cx="6309000" cy="1734840"/>
            <a:chOff x="2829960" y="3693960"/>
            <a:chExt cx="6309000" cy="1734840"/>
          </a:xfrm>
        </p:grpSpPr>
        <p:sp>
          <p:nvSpPr>
            <p:cNvPr id="471" name=""/>
            <p:cNvSpPr/>
            <p:nvPr/>
          </p:nvSpPr>
          <p:spPr>
            <a:xfrm>
              <a:off x="2903400" y="3703320"/>
              <a:ext cx="6186240" cy="121932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cap="sq" w="3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29960" y="406044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ท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02160" y="4124160"/>
              <a:ext cx="457200" cy="380880"/>
            </a:xfrm>
            <a:prstGeom prst="rightArrow">
              <a:avLst>
                <a:gd name="adj1" fmla="val 63176"/>
                <a:gd name="adj2" fmla="val 3292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4" name="" descr=""/>
            <p:cNvPicPr/>
            <p:nvPr/>
          </p:nvPicPr>
          <p:blipFill>
            <a:blip r:embed="rId3"/>
            <a:stretch/>
          </p:blipFill>
          <p:spPr>
            <a:xfrm>
              <a:off x="3043080" y="3717720"/>
              <a:ext cx="57456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508200" y="3720600"/>
              <a:ext cx="28875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ahoma"/>
                  <a:ea typeface="Tahoma"/>
                </a:rPr>
                <a:t>Polyester 5503.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(60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28000" y="369396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ahoma"/>
                  <a:ea typeface="Tahoma"/>
                </a:rPr>
                <a:t>5515.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38560" y="4066920"/>
              <a:ext cx="32004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cc00"/>
                  </a:solidFill>
                  <a:latin typeface="Tahoma"/>
                  <a:cs typeface="FreesiaUPC"/>
                </a:rPr>
                <a:t>ผ้าทอใยสั้นสังเคราะห์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(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LC </a:t>
              </a:r>
              <a:r>
                <a:rPr b="1" lang="th-TH" sz="34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ทย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=100%)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5842080" y="1444680"/>
            <a:ext cx="3484440" cy="3289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11280" y="1844640"/>
            <a:ext cx="7848360" cy="3960720"/>
          </a:xfrm>
          <a:prstGeom prst="ellipse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4040" y="2438280"/>
            <a:ext cx="831708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FreesiaUPC"/>
              </a:rPr>
              <a:t>ประเทศที่</a:t>
            </a:r>
            <a:r>
              <a:rPr b="1" lang="th-TH" sz="4800" spc="-1" strike="noStrike">
                <a:solidFill>
                  <a:srgbClr val="ccff33"/>
                </a:solidFill>
                <a:latin typeface="Angsana New"/>
                <a:cs typeface="FreesiaUPC"/>
              </a:rPr>
              <a:t>ไม่ได้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FreesiaUPC"/>
              </a:rPr>
              <a:t>แหล่งกำเนิดสินค้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FreesiaUPC"/>
              </a:rPr>
              <a:t> </a:t>
            </a:r>
            <a:r>
              <a:rPr b="1" lang="th-TH" sz="4800" spc="-1" strike="noStrike">
                <a:solidFill>
                  <a:srgbClr val="ccff33"/>
                </a:solidFill>
                <a:latin typeface="Angsana New"/>
                <a:cs typeface="FreesiaUPC"/>
              </a:rPr>
              <a:t>จะเสียสิทธิประโยชน์ทางด้านภาษ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Freesi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FreesiaUPC"/>
              </a:rPr>
              <a:t>ตามข้อตกลง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FreesiaUPC"/>
              </a:rPr>
              <a:t>F T 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1280" y="7920"/>
            <a:ext cx="9028440" cy="10177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397160" y="216000"/>
            <a:ext cx="65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FreesiaUPC"/>
              </a:rPr>
              <a:t>กฎว่าด้วยแหล่งกำเนิดสินค้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919240" cy="513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19240" y="2057400"/>
            <a:ext cx="8781840" cy="3994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729480" y="3024360"/>
            <a:ext cx="1493640" cy="785520"/>
            <a:chOff x="6729480" y="3024360"/>
            <a:chExt cx="1493640" cy="785520"/>
          </a:xfrm>
        </p:grpSpPr>
        <p:sp>
          <p:nvSpPr>
            <p:cNvPr id="486" name=""/>
            <p:cNvSpPr/>
            <p:nvPr/>
          </p:nvSpPr>
          <p:spPr>
            <a:xfrm>
              <a:off x="6729480" y="3024360"/>
              <a:ext cx="1339920" cy="785520"/>
            </a:xfrm>
            <a:prstGeom prst="downArrow">
              <a:avLst>
                <a:gd name="adj1" fmla="val 58435"/>
                <a:gd name="adj2" fmla="val 35745"/>
              </a:avLst>
            </a:prstGeom>
            <a:gradFill rotWithShape="0">
              <a:gsLst>
                <a:gs pos="0">
                  <a:srgbClr val="006600"/>
                </a:gs>
                <a:gs pos="50000">
                  <a:srgbClr val="000000"/>
                </a:gs>
                <a:gs pos="100000">
                  <a:srgbClr val="006600"/>
                </a:gs>
              </a:gsLst>
              <a:lin ang="13500000"/>
            </a:gradFill>
            <a:ln cap="sq"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27840" y="31449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2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21560" y="1071720"/>
            <a:ext cx="84499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ffffff"/>
                </a:solidFill>
                <a:latin typeface="Tahoma"/>
                <a:cs typeface="FreesiaUPC"/>
              </a:rPr>
              <a:t>กำหนดให้ต้องผลิตสินค้าสิ่งทอและเครื่องนุ่งห่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ffffff"/>
                </a:solidFill>
                <a:latin typeface="Tahoma"/>
                <a:cs typeface="FreesiaUPC"/>
              </a:rPr>
              <a:t>โดยใช้สัดส่วนวัตถุดิบสะสม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FreesiaUPC"/>
              </a:rPr>
              <a:t>(Regional Value Content: RVC)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5%</a:t>
            </a:r>
            <a:r>
              <a:rPr b="1" lang="th-TH" sz="33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9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61800" y="3862440"/>
            <a:ext cx="3353040" cy="2057400"/>
            <a:chOff x="361800" y="3862440"/>
            <a:chExt cx="3353040" cy="2057400"/>
          </a:xfrm>
        </p:grpSpPr>
        <p:sp>
          <p:nvSpPr>
            <p:cNvPr id="490" name=""/>
            <p:cNvSpPr/>
            <p:nvPr/>
          </p:nvSpPr>
          <p:spPr>
            <a:xfrm>
              <a:off x="361800" y="3862440"/>
              <a:ext cx="3353040" cy="2057400"/>
            </a:xfrm>
            <a:prstGeom prst="flowChartAlternateProcess">
              <a:avLst/>
            </a:prstGeom>
            <a:solidFill>
              <a:srgbClr val="969696">
                <a:alpha val="50000"/>
              </a:srgbClr>
            </a:solidFill>
            <a:ln cap="sq"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0520" y="4100400"/>
              <a:ext cx="2579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ท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Tahoma"/>
                  <a:cs typeface="FreesiaUPC"/>
                </a:rPr>
                <a:t>ผลิตสิ่งทอ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66ffff"/>
                  </a:solidFill>
                  <a:latin typeface="Tahoma"/>
                  <a:cs typeface="FreesiaUPC"/>
                </a:rPr>
                <a:t>ได้ </a:t>
              </a: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RVC</a:t>
              </a:r>
              <a:r>
                <a:rPr b="1" lang="en-US" sz="36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 </a:t>
              </a:r>
              <a:r>
                <a:rPr b="1" lang="en-US" sz="32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&lt;</a:t>
              </a:r>
              <a:r>
                <a:rPr b="1" lang="th-TH" sz="32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 </a:t>
              </a:r>
              <a:r>
                <a:rPr b="1" lang="en-US" sz="20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5</a:t>
              </a:r>
              <a:r>
                <a:rPr b="1" lang="th-TH" sz="32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5</a:t>
              </a:r>
              <a:r>
                <a:rPr b="1" lang="en-US" sz="32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%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2">
              <a:lum contrast="42000"/>
            </a:blip>
            <a:stretch/>
          </p:blipFill>
          <p:spPr>
            <a:xfrm>
              <a:off x="590400" y="4014720"/>
              <a:ext cx="73044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"/>
          <p:cNvGrpSpPr/>
          <p:nvPr/>
        </p:nvGrpSpPr>
        <p:grpSpPr>
          <a:xfrm>
            <a:off x="5543640" y="3862440"/>
            <a:ext cx="3352680" cy="2057400"/>
            <a:chOff x="5543640" y="3862440"/>
            <a:chExt cx="3352680" cy="2057400"/>
          </a:xfrm>
        </p:grpSpPr>
        <p:sp>
          <p:nvSpPr>
            <p:cNvPr id="494" name=""/>
            <p:cNvSpPr/>
            <p:nvPr/>
          </p:nvSpPr>
          <p:spPr>
            <a:xfrm>
              <a:off x="5543640" y="3862440"/>
              <a:ext cx="3352680" cy="2057400"/>
            </a:xfrm>
            <a:prstGeom prst="flowChartAlternateProcess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52160" y="4100400"/>
              <a:ext cx="2652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ออสเตรเลี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00"/>
                  </a:solidFill>
                  <a:latin typeface="Tahoma"/>
                  <a:cs typeface="FreesiaUPC"/>
                </a:rPr>
                <a:t>ผลิตสิ่งทอ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66ffff"/>
                  </a:solidFill>
                  <a:latin typeface="Tahoma"/>
                  <a:cs typeface="FreesiaUPC"/>
                </a:rPr>
                <a:t>ได้ </a:t>
              </a: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RVC</a:t>
              </a:r>
              <a:r>
                <a:rPr b="1" lang="en-US" sz="32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 &gt;</a:t>
              </a:r>
              <a:r>
                <a:rPr b="1" lang="th-TH" sz="32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 55</a:t>
              </a:r>
              <a:r>
                <a:rPr b="1" lang="en-US" sz="32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%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3"/>
            <a:stretch/>
          </p:blipFill>
          <p:spPr>
            <a:xfrm>
              <a:off x="8058240" y="3938760"/>
              <a:ext cx="79524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"/>
          <p:cNvGrpSpPr/>
          <p:nvPr/>
        </p:nvGrpSpPr>
        <p:grpSpPr>
          <a:xfrm>
            <a:off x="5861160" y="2300400"/>
            <a:ext cx="923040" cy="761760"/>
            <a:chOff x="5861160" y="2300400"/>
            <a:chExt cx="923040" cy="761760"/>
          </a:xfrm>
        </p:grpSpPr>
        <p:sp>
          <p:nvSpPr>
            <p:cNvPr id="498" name=""/>
            <p:cNvSpPr/>
            <p:nvPr/>
          </p:nvSpPr>
          <p:spPr>
            <a:xfrm>
              <a:off x="5918040" y="2300400"/>
              <a:ext cx="803160" cy="76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61160" y="2427120"/>
              <a:ext cx="923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ccff33"/>
                  </a:solidFill>
                  <a:latin typeface="Tahoma"/>
                  <a:ea typeface="FreesiaUPC"/>
                </a:rPr>
                <a:t>WTO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909120" y="2124000"/>
            <a:ext cx="923040" cy="762120"/>
            <a:chOff x="6909120" y="2124000"/>
            <a:chExt cx="923040" cy="762120"/>
          </a:xfrm>
        </p:grpSpPr>
        <p:sp>
          <p:nvSpPr>
            <p:cNvPr id="501" name=""/>
            <p:cNvSpPr/>
            <p:nvPr/>
          </p:nvSpPr>
          <p:spPr>
            <a:xfrm>
              <a:off x="6966000" y="2124000"/>
              <a:ext cx="803160" cy="7621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09120" y="2251080"/>
              <a:ext cx="923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ccff33"/>
                  </a:solidFill>
                  <a:latin typeface="Tahoma"/>
                  <a:ea typeface="FreesiaUPC"/>
                </a:rPr>
                <a:t>WTO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958520" y="2332080"/>
            <a:ext cx="923040" cy="762120"/>
            <a:chOff x="7958520" y="2332080"/>
            <a:chExt cx="923040" cy="762120"/>
          </a:xfrm>
        </p:grpSpPr>
        <p:sp>
          <p:nvSpPr>
            <p:cNvPr id="504" name=""/>
            <p:cNvSpPr/>
            <p:nvPr/>
          </p:nvSpPr>
          <p:spPr>
            <a:xfrm>
              <a:off x="8015400" y="2332080"/>
              <a:ext cx="803160" cy="7621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58520" y="2459160"/>
              <a:ext cx="923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ccff33"/>
                  </a:solidFill>
                  <a:latin typeface="Tahoma"/>
                  <a:ea typeface="FreesiaUPC"/>
                </a:rPr>
                <a:t>WTO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005360" y="3882960"/>
            <a:ext cx="1295280" cy="914400"/>
            <a:chOff x="4005360" y="3882960"/>
            <a:chExt cx="1295280" cy="914400"/>
          </a:xfrm>
        </p:grpSpPr>
        <p:sp>
          <p:nvSpPr>
            <p:cNvPr id="507" name=""/>
            <p:cNvSpPr/>
            <p:nvPr/>
          </p:nvSpPr>
          <p:spPr>
            <a:xfrm>
              <a:off x="4005360" y="38829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545454"/>
                </a:gs>
                <a:gs pos="100000">
                  <a:srgbClr val="ffffff"/>
                </a:gs>
              </a:gsLst>
              <a:lin ang="5400000"/>
            </a:gra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44760" y="3986280"/>
              <a:ext cx="101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25%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865680" y="4888080"/>
            <a:ext cx="1295280" cy="914400"/>
            <a:chOff x="3865680" y="4888080"/>
            <a:chExt cx="1295280" cy="914400"/>
          </a:xfrm>
        </p:grpSpPr>
        <p:sp>
          <p:nvSpPr>
            <p:cNvPr id="510" name=""/>
            <p:cNvSpPr/>
            <p:nvPr/>
          </p:nvSpPr>
          <p:spPr>
            <a:xfrm rot="10800000">
              <a:off x="3865680" y="488808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gradFill rotWithShape="0">
              <a:gsLst>
                <a:gs pos="0">
                  <a:srgbClr val="0000cc"/>
                </a:gs>
                <a:gs pos="50000">
                  <a:srgbClr val="0066cc"/>
                </a:gs>
                <a:gs pos="100000">
                  <a:srgbClr val="0000cc"/>
                </a:gs>
              </a:gsLst>
              <a:lin ang="5400000"/>
            </a:gradFill>
            <a:ln cap="sq"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55920" y="5072040"/>
              <a:ext cx="7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0%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343560" y="6035760"/>
            <a:ext cx="1905120" cy="69048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Ori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030320" y="6090840"/>
            <a:ext cx="1905120" cy="730440"/>
            <a:chOff x="1030320" y="6090840"/>
            <a:chExt cx="1905120" cy="730440"/>
          </a:xfrm>
        </p:grpSpPr>
        <p:sp>
          <p:nvSpPr>
            <p:cNvPr id="514" name=""/>
            <p:cNvSpPr/>
            <p:nvPr/>
          </p:nvSpPr>
          <p:spPr>
            <a:xfrm rot="10800000">
              <a:off x="1030320" y="6130800"/>
              <a:ext cx="1905120" cy="690480"/>
            </a:xfrm>
            <a:prstGeom prst="flowChartExtra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64760" y="6138720"/>
              <a:ext cx="9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Orig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538280" y="6090840"/>
              <a:ext cx="958680" cy="587160"/>
              <a:chOff x="1538280" y="6090840"/>
              <a:chExt cx="958680" cy="587160"/>
            </a:xfrm>
          </p:grpSpPr>
          <p:sp>
            <p:nvSpPr>
              <p:cNvPr id="517" name=""/>
              <p:cNvSpPr/>
              <p:nvPr/>
            </p:nvSpPr>
            <p:spPr>
              <a:xfrm>
                <a:off x="1538280" y="6156000"/>
                <a:ext cx="798480" cy="522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1538280" y="6090840"/>
                <a:ext cx="958680" cy="587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85480" y="15408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ออสเตรเลี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8518680" y="246240"/>
            <a:ext cx="407880" cy="3204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75320" y="23184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FreesiaUPC"/>
              </a:rPr>
              <a:t> </a:t>
            </a: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FreesiaUPC"/>
              </a:rPr>
              <a:t>ตัวอย่างสมมุติ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Freesia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71280" y="7920"/>
            <a:ext cx="9028440" cy="1017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862360" cy="40640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187280" y="1197000"/>
            <a:ext cx="734544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FreesiaUPC"/>
              </a:rPr>
              <a:t>ถ้าอัตราภาษีนำเข้าของประเทศสมาชิก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FreesiaUPC"/>
              </a:rPr>
              <a:t>WTO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FreesiaUPC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FreesiaUPC"/>
              </a:rPr>
              <a:t>รวมถึงประเทศคู่เจรจา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FreesiaUPC"/>
              </a:rPr>
              <a:t>FT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ff33"/>
                </a:solidFill>
                <a:latin typeface="Angsana New"/>
                <a:cs typeface="FreesiaUPC"/>
              </a:rPr>
              <a:t>ลดภาษีเหลือ </a:t>
            </a:r>
            <a:r>
              <a:rPr b="1" lang="th-TH" sz="4800" spc="-1" strike="noStrike">
                <a:solidFill>
                  <a:srgbClr val="ccff33"/>
                </a:solidFill>
                <a:latin typeface="Angsana New"/>
                <a:ea typeface="FreesiaUPC"/>
              </a:rPr>
              <a:t>0%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FreesiaUPC"/>
              </a:rPr>
              <a:t>สำหรับสินค้าสิ่งทอและเครื่องนุ่งห่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54040" y="4683240"/>
            <a:ext cx="741708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FreesiaUPC"/>
              </a:rPr>
              <a:t>กฎว่าด้วยแหล่งกำเนิดสินค้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FreesiaUPC"/>
              </a:rPr>
              <a:t>จะ</a:t>
            </a:r>
            <a:r>
              <a:rPr b="1" lang="hi-IN" sz="4400" spc="-1" strike="noStrike">
                <a:solidFill>
                  <a:srgbClr val="ccff33"/>
                </a:solidFill>
                <a:latin typeface="Angsana New"/>
                <a:cs typeface="FreesiaUPC"/>
              </a:rPr>
              <a:t>ไม่มี</a:t>
            </a:r>
            <a:r>
              <a:rPr b="1" lang="hi-IN" sz="4400" spc="-1" strike="noStrike">
                <a:solidFill>
                  <a:srgbClr val="ffffff"/>
                </a:solidFill>
                <a:latin typeface="Angsana New"/>
                <a:cs typeface="FreesiaUPC"/>
              </a:rPr>
              <a:t>ความสำคั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3240" y="3726000"/>
            <a:ext cx="1079640" cy="936360"/>
          </a:xfrm>
          <a:prstGeom prst="downArrow">
            <a:avLst>
              <a:gd name="adj1" fmla="val 52380"/>
              <a:gd name="adj2" fmla="val 46296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000" y="23328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ngsana New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1773360"/>
            <a:ext cx="8532720" cy="4751280"/>
          </a:xfrm>
          <a:prstGeom prst="ellipse">
            <a:avLst/>
          </a:prstGeom>
          <a:solidFill>
            <a:srgbClr val="99cc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400" y="95256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9120" y="189000"/>
            <a:ext cx="8105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FreesiaUPC"/>
              </a:rPr>
              <a:t>ข้อเท็จจริงการผลิตสินค้าสิ่งทอและเครื่องนุ่งห่มไทย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9640" y="1197000"/>
            <a:ext cx="81057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FreesiaUPC"/>
              </a:rPr>
              <a:t>1.1 </a:t>
            </a:r>
            <a:r>
              <a:rPr b="1" lang="hi-IN" sz="3400" spc="-1" strike="noStrike">
                <a:solidFill>
                  <a:srgbClr val="ffffff"/>
                </a:solidFill>
                <a:latin typeface="Arial"/>
                <a:cs typeface="FreesiaUPC"/>
              </a:rPr>
              <a:t>โครงสร้างต้นทุนอุตสาหกรรมเสื้อผ้าเครื่องนุ่งห่ม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46240" y="1541520"/>
          <a:ext cx="8597880" cy="55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541520"/>
                    <a:ext cx="859788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135000" y="6477120"/>
            <a:ext cx="8105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rial"/>
                <a:cs typeface="FreesiaUPC"/>
              </a:rPr>
              <a:t>ที่ม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FreesiaUPC"/>
              </a:rPr>
              <a:t>: 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  <a:cs typeface="FreesiaUPC"/>
              </a:rPr>
              <a:t>สำนักพัฒนาอุตสาหกรรมรายสาขา กระทรวงอุตสาหกรร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4480" y="163440"/>
            <a:ext cx="75614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ผลดีสำหรับอุตสาหกรรมสิ่งทอและเครื่องนุ่งห่ม      ของไทยในการทำ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F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109440" y="1415880"/>
            <a:ext cx="8820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FreesiaUPC"/>
              </a:rPr>
              <a:t>2. </a:t>
            </a:r>
            <a:r>
              <a:rPr b="1" lang="hi-IN" sz="3600" spc="-1" strike="noStrike">
                <a:solidFill>
                  <a:srgbClr val="00ffff"/>
                </a:solidFill>
                <a:latin typeface="Arial"/>
                <a:cs typeface="FreesiaUPC"/>
              </a:rPr>
              <a:t>แก้ไขปัญหาการกีดกันการค้าด้วยมาตรการที่ไม่ใช่ภาษ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2133720"/>
            <a:ext cx="5558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Arial"/>
                <a:cs typeface="FreesiaUPC"/>
              </a:rPr>
              <a:t>อินเดียเรียกเก็บภาษี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FreesiaUPC"/>
              </a:rPr>
              <a:t>AD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800" spc="-1" strike="noStrike">
                <a:solidFill>
                  <a:srgbClr val="ffffff"/>
                </a:solidFill>
                <a:latin typeface="Arial"/>
                <a:cs typeface="FreesiaUPC"/>
              </a:rPr>
              <a:t>กับไทย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3920" y="3152880"/>
          <a:ext cx="7854840" cy="3456000"/>
        </p:xfrm>
        <a:graphic>
          <a:graphicData uri="http://schemas.openxmlformats.org/drawingml/2006/table">
            <a:tbl>
              <a:tblPr/>
              <a:tblGrid>
                <a:gridCol w="3927240"/>
                <a:gridCol w="3927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ตัวอย่างสินค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00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อัตรา </a:t>
                      </a: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0099ff">
                        <a:alpha val="50000"/>
                      </a:srgbClr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สังเคราะห์สั้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093-1.196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USD /Kg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ก็บจากส่วนต่างของราคานำเข้าที่ต่ำกว่าราคาที่อินเดียกำหน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พาร์เชียลลีโอเรียนเต็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037-0.4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สังเคราะห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16-0.313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USD /Kg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>
            <a:lum contrast="18000"/>
          </a:blip>
          <a:stretch/>
        </p:blipFill>
        <p:spPr>
          <a:xfrm rot="1237800">
            <a:off x="7380000" y="2060640"/>
            <a:ext cx="1385640" cy="187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1844640"/>
            <a:ext cx="4140360" cy="2592360"/>
          </a:xfrm>
          <a:prstGeom prst="ellipse">
            <a:avLst/>
          </a:prstGeom>
          <a:solidFill>
            <a:srgbClr val="99cc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400" y="95256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9120" y="189000"/>
            <a:ext cx="8105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FreesiaUPC"/>
              </a:rPr>
              <a:t>ข้อเท็จจริงการผลิตสินค้าสิ่งทอและเครื่องนุ่งห่มไทย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2200" y="1103400"/>
            <a:ext cx="81057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FreesiaUPC"/>
              </a:rPr>
              <a:t>1.2 </a:t>
            </a:r>
            <a:r>
              <a:rPr b="1" lang="hi-IN" sz="3400" spc="-1" strike="noStrike">
                <a:solidFill>
                  <a:srgbClr val="ffffff"/>
                </a:solidFill>
                <a:latin typeface="Arial"/>
                <a:cs typeface="FreesiaUPC"/>
              </a:rPr>
              <a:t>โครงสร้างต้นทุนอุตสาหกรรมสิ่งทอ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FreesiaUPC"/>
              </a:rPr>
              <a:t>(</a:t>
            </a:r>
            <a:r>
              <a:rPr b="1" lang="hi-IN" sz="3400" spc="-1" strike="noStrike">
                <a:solidFill>
                  <a:srgbClr val="ffffff"/>
                </a:solidFill>
                <a:latin typeface="Arial"/>
                <a:cs typeface="FreesiaUPC"/>
              </a:rPr>
              <a:t>เฉพาะวัตถุดิบ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FreesiaUPC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00720" y="1628640"/>
            <a:ext cx="4140000" cy="2808360"/>
          </a:xfrm>
          <a:prstGeom prst="ellipse">
            <a:avLst/>
          </a:prstGeom>
          <a:solidFill>
            <a:srgbClr val="00cc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44720" y="4464000"/>
            <a:ext cx="5832360" cy="2205000"/>
          </a:xfrm>
          <a:prstGeom prst="ellipse">
            <a:avLst/>
          </a:prstGeom>
          <a:solidFill>
            <a:srgbClr val="3366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2095560"/>
            <a:ext cx="28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ccff33"/>
                </a:solidFill>
                <a:latin typeface="Arial"/>
                <a:cs typeface="FreesiaUPC"/>
              </a:rPr>
              <a:t>ผ้าที่ทำจากฝ้าย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6720" y="2892600"/>
            <a:ext cx="288144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FreesiaUPC"/>
              </a:rPr>
              <a:t>ต้องนำเข้าฝ้าย   สูงถึง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FreesiaUPC"/>
              </a:rPr>
              <a:t>99%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48360" y="1797120"/>
            <a:ext cx="288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ccff33"/>
                </a:solidFill>
                <a:latin typeface="Arial"/>
                <a:cs typeface="FreesiaUPC"/>
              </a:rPr>
              <a:t>ผ้าจาก            ใยสังเคราะห์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87960" y="3119400"/>
            <a:ext cx="28814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000" spc="-1" strike="noStrike">
                <a:solidFill>
                  <a:srgbClr val="ffffff"/>
                </a:solidFill>
                <a:latin typeface="Arial"/>
                <a:cs typeface="FreesiaUPC"/>
              </a:rPr>
              <a:t>ใช้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FreesiaUPC"/>
              </a:rPr>
              <a:t>Synthetic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000" spc="-1" strike="noStrike">
                <a:solidFill>
                  <a:srgbClr val="ffffff"/>
                </a:solidFill>
                <a:latin typeface="Arial"/>
                <a:cs typeface="FreesiaUPC"/>
              </a:rPr>
              <a:t>ในประเทศ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FreesiaUPC"/>
              </a:rPr>
              <a:t>100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04880" y="4738680"/>
            <a:ext cx="48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ccff33"/>
                </a:solidFill>
                <a:latin typeface="Arial"/>
                <a:cs typeface="FreesiaUPC"/>
              </a:rPr>
              <a:t>ผ้าใยสังเคราะห์ผสมฝ้าย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20720" y="5545080"/>
            <a:ext cx="464040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rial"/>
                <a:cs typeface="FreesiaUPC"/>
              </a:rPr>
              <a:t>นำเข้าฝ้าย </a:t>
            </a:r>
            <a:r>
              <a:rPr b="1" lang="th-TH" sz="3400" spc="-1" strike="noStrike">
                <a:solidFill>
                  <a:srgbClr val="ffffff"/>
                </a:solidFill>
                <a:latin typeface="Arial"/>
                <a:ea typeface="FreesiaUPC"/>
              </a:rPr>
              <a:t>35%                  </a:t>
            </a:r>
            <a:r>
              <a:rPr b="1" lang="th-TH" sz="3400" spc="-1" strike="noStrike">
                <a:solidFill>
                  <a:srgbClr val="ffffff"/>
                </a:solidFill>
                <a:latin typeface="Arial"/>
                <a:cs typeface="FreesiaUPC"/>
              </a:rPr>
              <a:t>ใช้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FreesiaUPC"/>
              </a:rPr>
              <a:t>Synthetic </a:t>
            </a:r>
            <a:r>
              <a:rPr b="1" lang="th-TH" sz="3400" spc="-1" strike="noStrike">
                <a:solidFill>
                  <a:srgbClr val="ffffff"/>
                </a:solidFill>
                <a:latin typeface="Arial"/>
                <a:cs typeface="FreesiaUPC"/>
              </a:rPr>
              <a:t>ในประเทศ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FreesiaUPC"/>
              </a:rPr>
              <a:t>65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27920" y="6426360"/>
            <a:ext cx="3417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rial"/>
                <a:cs typeface="FreesiaUPC"/>
              </a:rPr>
              <a:t>ที่ม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FreesiaUPC"/>
              </a:rPr>
              <a:t>: 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  <a:cs typeface="FreesiaUPC"/>
              </a:rPr>
              <a:t>จากการสอบถามผู้ผลิตภาคเอกช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2637000"/>
            <a:ext cx="3673440" cy="69840"/>
          </a:xfrm>
          <a:prstGeom prst="flowChartOnlineStorage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30280" y="5342040"/>
            <a:ext cx="5141880" cy="69840"/>
          </a:xfrm>
          <a:prstGeom prst="flowChartOnlineStorage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75320" y="2852640"/>
            <a:ext cx="3857400" cy="98640"/>
          </a:xfrm>
          <a:prstGeom prst="flowChartOnlineStorage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4292640"/>
            <a:ext cx="9144000" cy="865080"/>
          </a:xfrm>
          <a:prstGeom prst="rect">
            <a:avLst/>
          </a:prstGeom>
          <a:gradFill rotWithShape="0">
            <a:gsLst>
              <a:gs pos="0">
                <a:srgbClr val="008000">
                  <a:alpha val="39215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00" y="95256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4720" y="276120"/>
            <a:ext cx="8105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Arial"/>
                <a:cs typeface="FreesiaUPC"/>
              </a:rPr>
              <a:t>ข้อเท็จจริงการผลิตสินค้าสิ่งทอและเครื่องนุ่งห่มไทย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2060640"/>
            <a:ext cx="8105760" cy="34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Arial"/>
                <a:ea typeface="FreesiaUPC"/>
              </a:rPr>
              <a:t>2. </a:t>
            </a:r>
            <a:r>
              <a:rPr b="1" lang="th-TH" sz="3800" spc="-1" strike="noStrike">
                <a:solidFill>
                  <a:srgbClr val="ffffff"/>
                </a:solidFill>
                <a:latin typeface="Arial"/>
                <a:cs typeface="FreesiaUPC"/>
              </a:rPr>
              <a:t>เกณฑ์การผลิตสินค้าสิ่งทอและเครื่องนุ่งห่ม      เพื่อให้ได้แหล่งกำเนิดสินค้า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Arial"/>
                <a:cs typeface="FreesiaUPC"/>
              </a:rPr>
              <a:t>ควรเป็น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ff33"/>
                </a:solidFill>
                <a:latin typeface="Arial"/>
                <a:ea typeface="FreesiaUPC"/>
              </a:rPr>
              <a:t>CTC </a:t>
            </a:r>
            <a:r>
              <a:rPr b="1" lang="th-TH" sz="3400" spc="-1" strike="noStrike">
                <a:solidFill>
                  <a:srgbClr val="ccff33"/>
                </a:solidFill>
                <a:latin typeface="Arial"/>
                <a:cs typeface="FreesiaUPC"/>
              </a:rPr>
              <a:t>ไม่มี </a:t>
            </a:r>
            <a:r>
              <a:rPr b="1" lang="en-US" sz="3400" spc="-1" strike="noStrike">
                <a:solidFill>
                  <a:srgbClr val="ccff33"/>
                </a:solidFill>
                <a:latin typeface="Arial"/>
                <a:ea typeface="FreesiaUPC"/>
              </a:rPr>
              <a:t>Local Conten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6600" y="68400"/>
            <a:ext cx="84740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ไทย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ต่อการเปิดเสรีการค้าสินค้าสิ่งทอและเครื่องนุ่งห่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85760" y="1447920"/>
          <a:ext cx="8766000" cy="5103720"/>
        </p:xfrm>
        <a:graphic>
          <a:graphicData uri="http://schemas.openxmlformats.org/drawingml/2006/table">
            <a:tbl>
              <a:tblPr/>
              <a:tblGrid>
                <a:gridCol w="1020600"/>
                <a:gridCol w="1001880"/>
                <a:gridCol w="563400"/>
                <a:gridCol w="635040"/>
                <a:gridCol w="1008000"/>
                <a:gridCol w="1152720"/>
                <a:gridCol w="936720"/>
                <a:gridCol w="1022040"/>
                <a:gridCol w="562320"/>
                <a:gridCol w="863280"/>
              </a:tblGrid>
              <a:tr h="17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W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   บางชนิ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บางชนิด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 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Yarn For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  <a:cs typeface="FreesiaUPC"/>
                        </a:rPr>
                        <a:t>สิ่งท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  <a:cs typeface="FreesiaUPC"/>
                        </a:rPr>
                        <a:t>เครื่อง    นุ่งห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.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p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"/>
          <p:cNvSpPr/>
          <p:nvPr/>
        </p:nvSpPr>
        <p:spPr>
          <a:xfrm>
            <a:off x="6344640" y="105264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4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24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bfffff"/>
                </a:solidFill>
                <a:latin typeface="Arial"/>
                <a:cs typeface="FreesiaUPC"/>
              </a:rPr>
              <a:t>ออสเตรเลี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5878440" y="97956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8580600" y="1089000"/>
            <a:ext cx="407880" cy="3207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365840" y="64753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imes New Roman"/>
                <a:ea typeface="FreesiaUPC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นับสนุ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ัดค้า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919240" cy="513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1571760"/>
            <a:ext cx="9144000" cy="5097240"/>
          </a:xfrm>
          <a:prstGeom prst="rect">
            <a:avLst/>
          </a:prstGeom>
          <a:solidFill>
            <a:srgbClr val="969696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94600" y="160200"/>
            <a:ext cx="31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ออสเตรเลี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4"/>
          <a:stretch/>
        </p:blipFill>
        <p:spPr>
          <a:xfrm>
            <a:off x="8518680" y="246240"/>
            <a:ext cx="407880" cy="3204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" y="836640"/>
            <a:ext cx="25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00"/>
                </a:solidFill>
                <a:latin typeface="Tahoma"/>
                <a:cs typeface="FreesiaUPC"/>
              </a:rPr>
              <a:t>ผลการเจรจ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88000" y="1004760"/>
            <a:ext cx="2281320" cy="40824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Chapter 50-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5240" y="1677960"/>
            <a:ext cx="8678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ff33"/>
                </a:solidFill>
                <a:latin typeface="Tahoma"/>
                <a:ea typeface="FreesiaUPC"/>
              </a:rPr>
              <a:t>1.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ff33"/>
                </a:solidFill>
                <a:latin typeface="Tahoma"/>
                <a:cs typeface="FreesiaUPC"/>
              </a:rPr>
              <a:t>การเปลี่ยนพิกัด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(CTC : change of tariff classification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ิ่งทอ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CC / CTH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เครื่องนุ่งห่ม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แต่มีการห้ามนำเข้าวัตถุดิบบางชนิดจากประเทศนอกภาคีเข้ามาผลิ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5800680"/>
            <a:ext cx="9144000" cy="1181520"/>
          </a:xfrm>
          <a:prstGeom prst="rect">
            <a:avLst/>
          </a:prstGeom>
          <a:solidFill>
            <a:srgbClr val="99cc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ประเทศกำลังพัฒนา อาทิ บังคลาเทศ บราซิล กัมพูชา อินเดีย ฮ่องกง อินโดนีเซีย เม็กซิโก ปากีสถาน ฟิลิปปินส์ สิงคโปร์ ไต้หวัน เป็นต้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3920" y="3762360"/>
            <a:ext cx="85582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33"/>
                </a:solidFill>
                <a:latin typeface="Tahoma"/>
                <a:ea typeface="FreesiaUPC"/>
              </a:rPr>
              <a:t>2.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ff33"/>
                </a:solidFill>
                <a:latin typeface="Tahoma"/>
                <a:cs typeface="FreesiaUPC"/>
              </a:rPr>
              <a:t>สัดส่วนวัตถุดิบสะสม</a:t>
            </a: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ccff33"/>
                </a:solidFill>
                <a:latin typeface="Tahoma"/>
                <a:ea typeface="FreesiaUPC"/>
              </a:rPr>
              <a:t>5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RVC:Regional Value Content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55%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30%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ป็นของไทย และ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25%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ป็นของประเทศกำลังพัฒนาอื่น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35880" y="3230640"/>
            <a:ext cx="9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ff33"/>
                </a:solidFill>
                <a:latin typeface="Tahoma"/>
                <a:cs typeface="FreesiaUPC"/>
              </a:rPr>
              <a:t>แล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36600" y="68400"/>
            <a:ext cx="84740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ไทย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ต่อการเปิดเสรีการค้าสินค้าสิ่งทอและเครื่องนุ่งห่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39680" y="1533600"/>
          <a:ext cx="8766360" cy="4805280"/>
        </p:xfrm>
        <a:graphic>
          <a:graphicData uri="http://schemas.openxmlformats.org/drawingml/2006/table">
            <a:tbl>
              <a:tblPr/>
              <a:tblGrid>
                <a:gridCol w="1020960"/>
                <a:gridCol w="1001520"/>
                <a:gridCol w="507960"/>
                <a:gridCol w="690480"/>
                <a:gridCol w="1008360"/>
                <a:gridCol w="1152360"/>
                <a:gridCol w="936720"/>
                <a:gridCol w="1022400"/>
                <a:gridCol w="561960"/>
                <a:gridCol w="863640"/>
              </a:tblGrid>
              <a:tr h="17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W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   บางชนิ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บางชนิด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 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Yarn For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สิ่งท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เครื่อง    นุ่งห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.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p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6354000" y="1038240"/>
            <a:ext cx="22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4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bfffff"/>
                </a:solidFill>
                <a:latin typeface="Arial"/>
                <a:ea typeface="FreesiaUPC"/>
              </a:rPr>
              <a:t>– นิวซีแลนด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878440" y="97956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8620200" y="1114560"/>
            <a:ext cx="377640" cy="2826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365840" y="6432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imes New Roman"/>
                <a:ea typeface="FreesiaUPC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นับสนุ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ัดค้า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1557360"/>
            <a:ext cx="9144000" cy="4392720"/>
          </a:xfrm>
          <a:prstGeom prst="rect">
            <a:avLst/>
          </a:prstGeom>
          <a:solidFill>
            <a:srgbClr val="969696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41480" y="131760"/>
            <a:ext cx="29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นิวซีแลนด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598" name=""/>
          <p:cNvSpPr/>
          <p:nvPr/>
        </p:nvSpPr>
        <p:spPr>
          <a:xfrm>
            <a:off x="-93240" y="907920"/>
            <a:ext cx="25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ผลการเจรจ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1004760"/>
            <a:ext cx="2281320" cy="40824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Chapter 50-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9280" y="1628640"/>
            <a:ext cx="878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ff33"/>
                </a:solidFill>
                <a:latin typeface="Tahoma"/>
                <a:ea typeface="FreesiaUPC"/>
              </a:rPr>
              <a:t>1.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ff33"/>
                </a:solidFill>
                <a:latin typeface="Tahoma"/>
                <a:cs typeface="FreesiaUPC"/>
              </a:rPr>
              <a:t>การเปลี่ยนพิกัด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(CTC : change of tariff classification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ิ่งทอ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CC / CTH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เครื่องนุ่งห่ม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แต่มีการห้ามนำเข้าวัตถุดิบบางชนิดจากประเทศนอกภาคีเข้ามาผลิ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4005360"/>
            <a:ext cx="83818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33"/>
                </a:solidFill>
                <a:latin typeface="Tahoma"/>
                <a:ea typeface="FreesiaUPC"/>
              </a:rPr>
              <a:t>2.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ff33"/>
                </a:solidFill>
                <a:latin typeface="Tahoma"/>
                <a:cs typeface="FreesiaUPC"/>
              </a:rPr>
              <a:t>สัดส่วนวัตถุดิบสะสม</a:t>
            </a: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ccff33"/>
                </a:solidFill>
                <a:latin typeface="Tahoma"/>
                <a:ea typeface="FreesiaUPC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RVC:Regional Value Content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50%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ป็นของไทยและนิวซีแลนด์เท่านั้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915360" y="3357720"/>
            <a:ext cx="9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ff33"/>
                </a:solidFill>
                <a:latin typeface="Tahoma"/>
                <a:cs typeface="FreesiaUPC"/>
              </a:rPr>
              <a:t>แล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5"/>
          <a:stretch/>
        </p:blipFill>
        <p:spPr>
          <a:xfrm>
            <a:off x="8532720" y="260280"/>
            <a:ext cx="378000" cy="282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6600" y="68400"/>
            <a:ext cx="84740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ไทย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ต่อการเปิดเสรีการค้าสินค้าสิ่งทอและเครื่องนุ่งห่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10960" y="1490760"/>
          <a:ext cx="8766360" cy="5051160"/>
        </p:xfrm>
        <a:graphic>
          <a:graphicData uri="http://schemas.openxmlformats.org/drawingml/2006/table">
            <a:tbl>
              <a:tblPr/>
              <a:tblGrid>
                <a:gridCol w="1020960"/>
                <a:gridCol w="1060560"/>
                <a:gridCol w="536400"/>
                <a:gridCol w="603360"/>
                <a:gridCol w="1008000"/>
                <a:gridCol w="1152360"/>
                <a:gridCol w="936720"/>
                <a:gridCol w="1022400"/>
                <a:gridCol w="561960"/>
                <a:gridCol w="863640"/>
              </a:tblGrid>
              <a:tr h="17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W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   บางชนิ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บางชนิด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 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Yarn For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สิ่งท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เครื่อง    นุ่งห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.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17160" y="101124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– เปร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878440" y="97956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8551800" y="1030320"/>
            <a:ext cx="503280" cy="3715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352880" y="64674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imes New Roman"/>
                <a:ea typeface="FreesiaUPC"/>
              </a:rPr>
              <a:t>/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นับสนุ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ัดค้า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4960" y="236520"/>
            <a:ext cx="8474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หตุผลของการกำหนดกฎว่าด้วยแหล่งกำเนิดสินค้าที่เข้มงวดของเปร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82520" y="2092320"/>
          <a:ext cx="8810640" cy="4138560"/>
        </p:xfrm>
        <a:graphic>
          <a:graphicData uri="http://schemas.openxmlformats.org/drawingml/2006/table">
            <a:tbl>
              <a:tblPr/>
              <a:tblGrid>
                <a:gridCol w="1177920"/>
                <a:gridCol w="2376360"/>
                <a:gridCol w="2303640"/>
                <a:gridCol w="2952720"/>
              </a:tblGrid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คุ้มครองอุตสาหกรรม    ใน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ต้องการให้ใช้วัตถุดิบร่วมกั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้องกัน 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Circumvention 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   </a:t>
                      </a:r>
                      <a:r>
                        <a:rPr b="1" lang="th-TH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     </a:t>
                      </a:r>
                      <a:r>
                        <a:rPr b="1" lang="th-TH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จากประเทศที่สา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r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>
            <a:off x="6617160" y="101124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– เปร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878440" y="97956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8551800" y="1030320"/>
            <a:ext cx="503280" cy="37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30000" y="13644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03280" cy="371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644400" y="1625760"/>
            <a:ext cx="76122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  <a:cs typeface="FreesiaUPC"/>
              </a:rPr>
              <a:t>ทั้ง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FreesiaUPC"/>
              </a:rPr>
              <a:t>2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  <a:cs typeface="FreesiaUPC"/>
              </a:rPr>
              <a:t>ประเทศต้องการวิธีการเปลี่ยนพิกัดอัตราศุลกากรเป็นเกณฑ์การได้แหล่งกำเนิดสินค้า    โดยพิจารณาเป็นรายพิกั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FreesiaUPC"/>
              </a:rPr>
              <a:t>	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FreesiaUPC"/>
              </a:rPr>
              <a:t>	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FreesiaUPC"/>
              </a:rPr>
              <a:t>	</a:t>
            </a:r>
            <a:r>
              <a:rPr b="1" lang="en-US" sz="4000" spc="-1" strike="noStrike">
                <a:solidFill>
                  <a:srgbClr val="ccff33"/>
                </a:solidFill>
                <a:latin typeface="Arial"/>
                <a:ea typeface="FreesiaUPC"/>
              </a:rPr>
              <a:t>	</a:t>
            </a:r>
            <a:r>
              <a:rPr b="1" lang="hi-IN" sz="4400" spc="-1" strike="noStrike">
                <a:solidFill>
                  <a:srgbClr val="ccff33"/>
                </a:solidFill>
                <a:latin typeface="Arial"/>
                <a:cs typeface="FreesiaUPC"/>
              </a:rPr>
              <a:t>แต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  <a:cs typeface="FreesiaUPC"/>
              </a:rPr>
              <a:t>ยังไม่ได้ข้อสรุปว่าพิกัดใดจะใช้การเปลี่ยนพิกัดในระดับใด และห้ามนำเข้าวัตถุดิบประเภทใดบ้างจากประเทศนอกภาคีเข้ามาผลิ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"/>
          <p:cNvGraphicFramePr/>
          <p:nvPr/>
        </p:nvGraphicFramePr>
        <p:xfrm>
          <a:off x="130320" y="1773360"/>
          <a:ext cx="8853480" cy="4943520"/>
        </p:xfrm>
        <a:graphic>
          <a:graphicData uri="http://schemas.openxmlformats.org/drawingml/2006/table">
            <a:tbl>
              <a:tblPr/>
              <a:tblGrid>
                <a:gridCol w="1083960"/>
                <a:gridCol w="2705400"/>
                <a:gridCol w="3741480"/>
                <a:gridCol w="13226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พิกั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เปร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ไท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218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402.2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00%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Polye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Twisted Yarn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ด้ายใยยา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ังเคราะห์ไม่ได้จัดทำขึ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พื่อขายปลี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ด้ายทำด้วยขนแกะ ด้ายทำด้วยขนละเอียดของสัตว์ ด้ายฝ้าย ด้ายทำด้วยเส้นใยสังเคราะห์และเส้นใยสั้นเทีย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C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402.3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Cordia New"/>
                          <a:ea typeface="FreesiaUPC"/>
                        </a:rPr>
                        <a:t>100%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lyester Textured Yarn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Cordia New"/>
                          <a:ea typeface="FreesiaUPC"/>
                        </a:rPr>
                        <a:t> 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Cordia New"/>
                          <a:cs typeface="FreesiaUPC"/>
                        </a:rPr>
                        <a:t>ด้ายทำด้วยโพลิเอสเทอร์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ด้ายทำด้วยขนแกะ ด้ายทำด้วยขนละเอียดของสัตว์ ด้ายฝ้าย ด้ายทำด้วยเส้นใยสังเคราะห์และเส้นใยสั้นเทียม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C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501.1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Cordia New"/>
                          <a:ea typeface="FreesiaUPC"/>
                        </a:rPr>
                        <a:t>100%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lyester Spun Yarn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Cordia New"/>
                          <a:cs typeface="FreesiaUPC"/>
                        </a:rPr>
                        <a:t>กลุ่มใยยาวสังเคราะห์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29680" y="878040"/>
            <a:ext cx="29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ตัวอย่างข้อเสน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150840"/>
            <a:ext cx="4697280" cy="514440"/>
          </a:xfrm>
          <a:prstGeom prst="rect">
            <a:avLst/>
          </a:prstGeom>
          <a:solidFill>
            <a:srgbClr val="00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07760" y="16020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8502480" y="216000"/>
            <a:ext cx="503280" cy="3715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20520" y="4552920"/>
            <a:ext cx="9144000" cy="227952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240" y="2262240"/>
            <a:ext cx="9144000" cy="220500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3920" y="2541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2960" y="2976480"/>
            <a:ext cx="84740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ของไทย               ต่อการเปิดเสรีการค้าสินค้าสิ่งทอและเครื่องนุ่งห่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3256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7040" y="4765680"/>
            <a:ext cx="1592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่วนที่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47628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8640" y="816120"/>
            <a:ext cx="7561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FreesiaUPC"/>
              </a:rPr>
              <a:t>ความพร้อมของไทยในการเปิดเสรีการค้าสินค้า   สิ่งทอและเครื่องนุ่งห่มภายใต้กรอ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F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920" y="5254560"/>
            <a:ext cx="78440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สำคัญของกฎว่าด้วยแหล่งกำเนิดสินค้า      </a:t>
            </a: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ต่อการเปิดเสรีการค้าสินค้าสิ่งทอและเครื่องนุ่งห่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"/>
          <p:cNvGraphicFramePr/>
          <p:nvPr/>
        </p:nvGraphicFramePr>
        <p:xfrm>
          <a:off x="165240" y="2179800"/>
          <a:ext cx="8800920" cy="3662280"/>
        </p:xfrm>
        <a:graphic>
          <a:graphicData uri="http://schemas.openxmlformats.org/drawingml/2006/table">
            <a:tbl>
              <a:tblPr/>
              <a:tblGrid>
                <a:gridCol w="1319040"/>
                <a:gridCol w="1803600"/>
                <a:gridCol w="3875040"/>
                <a:gridCol w="1803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เปร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ไท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56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509.3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Acrylic Ya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ด้าย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นอกจา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ด้ายเย็บ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ทำด้ว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สังเคราะห์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TH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ด้ายทำด้วยขนแกะที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าง หวีแล้ว ด้ายทำด้วยขนละเอียดขอ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ัตว์  ด้ายฝ้าย ด้ายใยยาวสังเคราะห์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ด้ายทำด้วยเส้นใยสั้นสังเคราะห์  ด้ายท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ด้วยเส้นใยเทียม ด้ายทำด้วยเส้นใยส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ประดิษฐ์ ผ้าทอทำด้วยเส้นใยส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ังเคราะห์ ผ้าทอทำด้วยเส้นใยสั้นเทีย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TH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  ด้ายเย็บทำด้วยเส้นใยสั้นประดิษฐ์    ด้ายทำด้วยเส้นใยเทียม  ด้ายทำด้วยเส้นใยสั้นประดิษฐ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88760" y="16020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8408880" y="230040"/>
            <a:ext cx="503280" cy="3715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6"/>
          <a:stretch/>
        </p:blipFill>
        <p:spPr>
          <a:xfrm>
            <a:off x="320760" y="1163520"/>
            <a:ext cx="2919240" cy="5130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201240" y="1152360"/>
            <a:ext cx="29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ตัวอย่างข้อเสน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108000" y="1628640"/>
          <a:ext cx="8964720" cy="4892760"/>
        </p:xfrm>
        <a:graphic>
          <a:graphicData uri="http://schemas.openxmlformats.org/drawingml/2006/table">
            <a:tbl>
              <a:tblPr/>
              <a:tblGrid>
                <a:gridCol w="1342800"/>
                <a:gridCol w="1608480"/>
                <a:gridCol w="4327200"/>
                <a:gridCol w="1686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เปร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ไท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61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903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Synthe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Woven Fabr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ผ้าทอที่อาบซึ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คลือบ หุ้มหรื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อัดเป็นชั้นด้ว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พลาสติก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ด้ายทำด้วยขนแกะ หรือข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ละเอียดของสัตว์ ด้ายทำด้วยขนหยาบของสัตว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รือขนม้า ผ้าทอทำด้วยขนแกะหรือขนละเอียดของสัตว์ที่สางหรือหวีแล้ว  ผ้าทอทำด้วยขนหยาบของสัตว์หรือขนม้าด้ายฝ้าย      ผ้าทอทำด้วยฝ้าย ด้ายใยยาวสังเคราะห์ ใยยาวเดี่ยวสังเคราะห์ ด้ายใยยาวประดิษฐ์ ผ้าทอทำด้วยใยยาวสังเคราะห์ ด้ายทำด้วย  เส้นใยสั้นสังเคราะห์เส้นใยสั้นเทียม เส้นใยสั้นประดิษฐ์ ผ้าทอทำด้วย เส้นใยสั้นสังเคราะห์ เส้นใยสั้นเทียม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TH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  ด้ายเย็บทำด้วยเส้นใยสั้นประดิษฐ์ ด้ายทำด้วยเส้นใยเทียม  ด้ายทำด้วยเส้นใยสั้นประดิษฐ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74280" y="6840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8459640" y="189000"/>
            <a:ext cx="503280" cy="3715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6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29680" y="878040"/>
            <a:ext cx="29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ตัวอย่างข้อเสน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298440" y="1549440"/>
          <a:ext cx="8709120" cy="5172120"/>
        </p:xfrm>
        <a:graphic>
          <a:graphicData uri="http://schemas.openxmlformats.org/drawingml/2006/table">
            <a:tbl>
              <a:tblPr/>
              <a:tblGrid>
                <a:gridCol w="1428840"/>
                <a:gridCol w="1305000"/>
                <a:gridCol w="4624200"/>
                <a:gridCol w="1351080"/>
              </a:tblGrid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เปร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ไท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001.10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le Fabri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ผ้าที่มีขนแบบไพล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C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ด้ายทำด้วยขนแกะที่สางหรือหวีแล้ว ขนละเอียดของสัตว์ ขนหยาบของสัตว์หรือม้าผ้าทอทำด้วยขนแกะหรือขนละเอียดของสัตว์ที่สางแล้ว  ผ้าทอทำด้วยขนหยาบของสัตว์หรือม้า ด้ายฝ้าย ผ้าทอทำด้วยฝ้าย ด้ายปอกระเจา  ด้ายทำด้วยเส้นใยสิ่งทอจากพืชอื่นๆ  ผ้าทอทำด้วยป่านลินนิน ปอกระเจา  ผ้าทอทำด้วยเส้นใยสิ่งทอ ด้ายใยยาวสังเคราะห์  ผ้าทอทำด้วยด้ายใยยาวสังเคราะห์ ด้ายทำด้วยเส้นใยสั้นสังเคราะห์ เส้นใยสั้นเทียม เส้นใยสั้นประดิษฐ์ เส้นใยสั้นสังเคราะห์ ผ้าทอทำด้วยเส้นใยสั้นเทีย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74280" y="8244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03280" cy="3715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29680" y="878040"/>
            <a:ext cx="29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ตัวอย่างข้อเสน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"/>
          <p:cNvGraphicFramePr/>
          <p:nvPr/>
        </p:nvGraphicFramePr>
        <p:xfrm>
          <a:off x="108000" y="1765440"/>
          <a:ext cx="8964720" cy="4757760"/>
        </p:xfrm>
        <a:graphic>
          <a:graphicData uri="http://schemas.openxmlformats.org/drawingml/2006/table">
            <a:tbl>
              <a:tblPr/>
              <a:tblGrid>
                <a:gridCol w="1342800"/>
                <a:gridCol w="1608480"/>
                <a:gridCol w="4327200"/>
                <a:gridCol w="1686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เปร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ไท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52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001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eece Fabr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ผ้ามีขนแบบไพล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ชนิดลูป ทำด้ว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ประดิษฐ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นอกเหนือจา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ที่มีด้ายยืดหรื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ด้ายยาง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C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ด้ายทำด้วยขนแกะที่สางหรือหวีแล้ว ขนละเอียดของสัตว์ ขนหยาบของสัตว์หรือขนม้า ผ้าทอทำด้วยขนแกะ ขนละเอียดของสัตว์ ขนหยาบของสัตว์หรือขนม้า ด้ายฝ้าย ผ้าทอทำด้วยฝ้าย ด้ายปอกระเจา ด้ายทำด้วยเส้นใยสิ่งทอจากพืชอื่นๆ ด้ายใยยาวสังเคราะห์ ด้ายใยยาวเทียม ด้ายใยยาวประดิษฐ์ ผ้าทอทำด้วยใยยาวสังเคราะห์ ด้ายทำด้วยเส้นใยสั้นสังเคราะห์ เส้นใยสั้นเทียม เส้นใจสั้นประดิษฐ์ ผ้าทอทำด้ว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สั้นสังเคราะห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51960" y="9684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03280" cy="3715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229680" y="878040"/>
            <a:ext cx="29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ตัวอย่างข้อเสน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108000" y="1628640"/>
          <a:ext cx="8964720" cy="4746600"/>
        </p:xfrm>
        <a:graphic>
          <a:graphicData uri="http://schemas.openxmlformats.org/drawingml/2006/table">
            <a:tbl>
              <a:tblPr/>
              <a:tblGrid>
                <a:gridCol w="1342800"/>
                <a:gridCol w="1608480"/>
                <a:gridCol w="4327200"/>
                <a:gridCol w="1686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เปร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ข้อเสนอไท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564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006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Warp Knitt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Fabric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ผ้าอื่น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ถักแบบนิตหรื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แบบโครเชต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ถักด้วยด้ายส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ต่างๆ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้ามนำเข้าด้ายทำด้วยขนแกะ ขนละเอียดของสัตว์ ขนหยาบของสัตว์หรือขนม้า ผ้าทอทำด้วยขนแกะ ขนหยาบของสัตว์หรือม้า ด้ายฝ้าย ผ้าทอทำด้วยฝ้าย ด้ายปอกระเจา  ด้ายทำด้วยเส้นใยสิ่งทอจากพืชอื่นๆ ผ้าทอทำด้วยปอกระเจาผ้าทอทำด้วยเส้นใยสิ่งทอ  ด้ายใยยาวสังเคราะห์ ด้ายใยยาวเทียม ด้ายใยยาวประดิษฐ์  ผ้าทอทำด้วยใยยาวสังเคราะห์  ด้ายทำด้วยเส้นใยสั้นสังเคราะห์  เส้นใยสั้นเทียม เส้นใยสั้นประดิษฐ์ ผ้าทอทำด้วยเส้นใยสั้นสังเคราะห์ เส้นใยสั้นเทียม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4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88680" y="13500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4935600" y="16668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502920" cy="3715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6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229680" y="878040"/>
            <a:ext cx="29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ตัวอย่างข้อเสน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36600" y="68400"/>
            <a:ext cx="84740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ไทย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ต่อการเปิดเสรีการค้าสินค้าสิ่งทอและเครื่องนุ่งห่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49400" y="1514520"/>
          <a:ext cx="8766000" cy="5060880"/>
        </p:xfrm>
        <a:graphic>
          <a:graphicData uri="http://schemas.openxmlformats.org/drawingml/2006/table">
            <a:tbl>
              <a:tblPr/>
              <a:tblGrid>
                <a:gridCol w="1020600"/>
                <a:gridCol w="920880"/>
                <a:gridCol w="576000"/>
                <a:gridCol w="703440"/>
                <a:gridCol w="1008000"/>
                <a:gridCol w="1152360"/>
                <a:gridCol w="936720"/>
                <a:gridCol w="1022400"/>
                <a:gridCol w="561960"/>
                <a:gridCol w="863640"/>
              </a:tblGrid>
              <a:tr h="17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W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   บางชนิ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บางชนิด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 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Yarn For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สิ่งท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เครื่อง    นุ่งห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th-TH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h.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6404040" y="102708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อาเซียน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– จี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8323200" y="1058760"/>
            <a:ext cx="585720" cy="4255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5964120" y="1103400"/>
            <a:ext cx="576360" cy="3618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359720" y="64753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imes New Roman"/>
                <a:ea typeface="FreesiaUPC"/>
              </a:rPr>
              <a:t>/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นับสนุ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ัดค้า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solidFill>
            <a:srgbClr val="0000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4960" y="236520"/>
            <a:ext cx="8474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หตุผลของการกำหนดกฎว่าด้วยแหล่งกำเนิดสินค้าที่เข้มงวดของ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09440" y="2004840"/>
          <a:ext cx="8810640" cy="4335480"/>
        </p:xfrm>
        <a:graphic>
          <a:graphicData uri="http://schemas.openxmlformats.org/drawingml/2006/table">
            <a:tbl>
              <a:tblPr/>
              <a:tblGrid>
                <a:gridCol w="1177920"/>
                <a:gridCol w="2376720"/>
                <a:gridCol w="2303280"/>
                <a:gridCol w="295272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คุ้มครองอุตสาหกรรม   ในประเทศ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ต้องการให้ใช้วัตถุดิบร่วมกัน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้องกัน  </a:t>
                      </a: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Circumvention </a:t>
                      </a:r>
                      <a:r>
                        <a:rPr b="1" lang="th-TH" sz="28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   </a:t>
                      </a: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     </a:t>
                      </a: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จากประเทศที่สา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388200" y="111456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อาเซียน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– จี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8307360" y="1146240"/>
            <a:ext cx="585720" cy="4255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5948280" y="1190520"/>
            <a:ext cx="576360" cy="36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02040" y="16020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อาเซียน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-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585720" cy="4255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4932360" y="189000"/>
            <a:ext cx="762120" cy="40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"/>
          <p:cNvGraphicFramePr/>
          <p:nvPr/>
        </p:nvGraphicFramePr>
        <p:xfrm>
          <a:off x="111240" y="1944720"/>
          <a:ext cx="8786520" cy="4422600"/>
        </p:xfrm>
        <a:graphic>
          <a:graphicData uri="http://schemas.openxmlformats.org/drawingml/2006/table">
            <a:tbl>
              <a:tblPr/>
              <a:tblGrid>
                <a:gridCol w="1249200"/>
                <a:gridCol w="3541680"/>
                <a:gridCol w="39956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รายก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เงื่อนไขการได้แหล่งกำเนิ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103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ศษขนแก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ศษอื่นๆของแกะหรือขนละเอียดของสัตว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ผลิตจากแกะ ลูกแกะ หรือ สัตว์อื่นๆ ที่ถูกเลี้ยงในประเทศสมาชิกอาเซียนและจี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103.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ศษขนหยาบของสัตว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104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ลุ่มใยที่สางจากเศษวัตถุที่ทำด้วยขนแกะหรือขนละเอียดหรือขนหยาบของสัตว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675720" y="87804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ข้อเสนอ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02040" y="16020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อาเซียน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-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585720" cy="42552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4932360" y="189000"/>
            <a:ext cx="762120" cy="40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179280" y="1851120"/>
          <a:ext cx="8748720" cy="4579920"/>
        </p:xfrm>
        <a:graphic>
          <a:graphicData uri="http://schemas.openxmlformats.org/drawingml/2006/table">
            <a:tbl>
              <a:tblPr/>
              <a:tblGrid>
                <a:gridCol w="1244880"/>
                <a:gridCol w="3508200"/>
                <a:gridCol w="39956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รายก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เงื่อนไขการได้แหล่งกำเนิ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105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ขนแกะและขนละเอียดหรือขนหยาบของสัตว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ขนแกะที่สางแล้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-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ของแพะแคชเมียร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ผลิตจากแกะ ลูกแกะ หรือ สัตว์อื่นๆ ที่ถูกเลี้ยงในประเทศสมาชิกอาเซียนและจี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105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อื่น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105.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ขนหยาบของสัตว์ที่สางหรือหวีแล้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14" name="" descr=""/>
          <p:cNvPicPr/>
          <p:nvPr/>
        </p:nvPicPr>
        <p:blipFill>
          <a:blip r:embed="rId4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675720" y="87804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ข้อเสนอ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73080" y="5630760"/>
            <a:ext cx="8997840" cy="11113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02040" y="16020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อาเซียน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-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585720" cy="42552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932360" y="189000"/>
            <a:ext cx="762120" cy="40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3" name=""/>
          <p:cNvGraphicFramePr/>
          <p:nvPr/>
        </p:nvGraphicFramePr>
        <p:xfrm>
          <a:off x="115920" y="1393920"/>
          <a:ext cx="8928000" cy="4078080"/>
        </p:xfrm>
        <a:graphic>
          <a:graphicData uri="http://schemas.openxmlformats.org/drawingml/2006/table">
            <a:tbl>
              <a:tblPr/>
              <a:tblGrid>
                <a:gridCol w="927000"/>
                <a:gridCol w="8001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เงื่อนไขการได้แหล่งกำเนิ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41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และเส้นด้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ระบวนการผลิตที่วัตถุดิบต้องมากจากสารเคมี มาทำเป็นเม็ด แล้วนำไปหลอมโดยการให้ความร้อนแล้วนำเข้าเครื่อง เพื่อฉีดออกเป็นเส้น การตีเกลียว การนำมาบิดให้งอเพื่อผิวสัมผัส คือจากเส้นเรียบมาทำให้หยิก หรือการนำมาพันด้วยกันเหมือนถักเปีย โดยใช้สิ่งต่างๆ เหล่า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Sil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Wool, fine/coarse animal hai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Cotton fib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Vegetable textile fibres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(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สิ่งทอจากพืช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Synthetic or artificial filaments/man-made filament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ยาวประดิษฐ์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Synthetic or artificial staple fibres/man-made staple fibres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               (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สั้นประดิษฐ์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"/>
          <p:cNvSpPr/>
          <p:nvPr/>
        </p:nvSpPr>
        <p:spPr>
          <a:xfrm>
            <a:off x="677520" y="5722920"/>
            <a:ext cx="69685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FreesiaUPC"/>
              </a:rPr>
              <a:t>กลุ่มสินค้าเส้นใยและเส้นด้าย ได้แก่  พิกัด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52 (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FreesiaUPC"/>
              </a:rPr>
              <a:t>ฝ้า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                                        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FreesiaUPC"/>
              </a:rPr>
              <a:t>พิกัด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54 (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FreesiaUPC"/>
              </a:rPr>
              <a:t>ใยยาวประดิษฐ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                                        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FreesiaUPC"/>
              </a:rPr>
              <a:t>พิกัด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55 (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FreesiaUPC"/>
              </a:rPr>
              <a:t>เส้นใยสั้นประดิษฐ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4"/>
          <a:stretch/>
        </p:blipFill>
        <p:spPr>
          <a:xfrm>
            <a:off x="203040" y="758880"/>
            <a:ext cx="2919600" cy="51264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116640" y="747720"/>
            <a:ext cx="28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ข้อเสนออาเซีย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89320" y="76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FreesiaUPC"/>
              </a:rPr>
              <a:t>ตามวิธีของอาเซียนที่ใช้อยู่ในปัจจุบั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27000" y="-1440"/>
            <a:ext cx="9129600" cy="68580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0480" y="208764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2914920"/>
          </a:xfrm>
          <a:custGeom>
            <a:avLst/>
            <a:gdLst>
              <a:gd name="textAreaLeft" fmla="*/ 209520 w 9144000"/>
              <a:gd name="textAreaRight" fmla="*/ 8934480 w 9144000"/>
              <a:gd name="textAreaTop" fmla="*/ 209520 h 2914920"/>
              <a:gd name="textAreaBottom" fmla="*/ 2705400 h 2914920"/>
            </a:gdLst>
            <a:ahLst/>
            <a:rect l="textAreaLeft" t="textAreaTop" r="textAreaRight" b="textAreaBottom"/>
            <a:pathLst>
              <a:path w="67753" h="21600">
                <a:moveTo>
                  <a:pt x="0" y="0"/>
                </a:moveTo>
                <a:lnTo>
                  <a:pt x="0" y="21600"/>
                </a:lnTo>
                <a:lnTo>
                  <a:pt x="67753" y="21600"/>
                </a:lnTo>
                <a:lnTo>
                  <a:pt x="67753" y="0"/>
                </a:lnTo>
                <a:close/>
                <a:moveTo>
                  <a:pt x="1553" y="1553"/>
                </a:moveTo>
                <a:lnTo>
                  <a:pt x="1553" y="20047"/>
                </a:lnTo>
                <a:lnTo>
                  <a:pt x="66200" y="20047"/>
                </a:lnTo>
                <a:lnTo>
                  <a:pt x="66200" y="155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57240" y="2712960"/>
            <a:ext cx="75614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FreesiaUPC"/>
              </a:rPr>
              <a:t>ความพร้อมของไทยในการเปิดเสรีการค้าสินค้า   สิ่งทอและเครื่องนุ่งห่มภายใต้กรอ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F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204840" y="5459400"/>
            <a:ext cx="8829720" cy="13986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02040" y="16020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อาเซียน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-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585720" cy="4255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4932360" y="189000"/>
            <a:ext cx="762120" cy="40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5" name=""/>
          <p:cNvGraphicFramePr/>
          <p:nvPr/>
        </p:nvGraphicFramePr>
        <p:xfrm>
          <a:off x="181080" y="1508040"/>
          <a:ext cx="8794800" cy="3722760"/>
        </p:xfrm>
        <a:graphic>
          <a:graphicData uri="http://schemas.openxmlformats.org/drawingml/2006/table">
            <a:tbl>
              <a:tblPr/>
              <a:tblGrid>
                <a:gridCol w="2255760"/>
                <a:gridCol w="6539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กลุ่ม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cc00"/>
                          </a:solidFill>
                          <a:latin typeface="Times New Roman"/>
                          <a:cs typeface="FreesiaUPC"/>
                        </a:rPr>
                        <a:t>เงื่อนไขการได้แหล่งกำเนิ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33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Fabric/Carpets and Other Textile Floor Coverings: Special Yarns, twine, cordage and ropes and cables and articles thereof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Manufacture fro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:- Polymer (non-woven), Fibres (non-woven), Yarns (non-woven), Raw or Unbleached Fabrics (finished fabrics) through substantial transformation process of eithe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needle punching-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ารนำเส้นใยที่มาจาก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Polymer (Non-Woven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มาโรยโดยทากาวต่อเนื่องและนำเข็มมาจิกให้ต่อกันจนขึ้นฟู เช่นพรมปูรถ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/spin bonding-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ารทำให้เรียงตัวเกาะกันโดยมีฟองอากาศอยู่ข้างใน เช่น พรมเทียม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/chemical bo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weaving –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ารทอแบบกี่กระตุกโดยการใช้กระสวย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or knitting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crocheting or wadding or tufting; 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-dyeing or printing and finishing; or impregnation, coating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overing or lamin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"/>
          <p:cNvSpPr/>
          <p:nvPr/>
        </p:nvSpPr>
        <p:spPr>
          <a:xfrm>
            <a:off x="163440" y="5487840"/>
            <a:ext cx="88632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กลุ่มสินค้าเส้นใยและเส้นด้าย ได้แก่  พิกัด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52 (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ฝ้าย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                                 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พิกัด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54 (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ใยยาวประดิษฐ์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                                 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พิกัด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55 (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เส้นใยสั้นประดิษฐ์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พิกัด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60 (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ผ้าถักแบบนิตหรือแบบโครเชต์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4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62440" y="878040"/>
            <a:ext cx="28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ข้อเสนออาเซีย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35120" y="8938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FreesiaUPC"/>
              </a:rPr>
              <a:t>ตามวิธีของอาเซียนที่ใช้อยู่ในปัจจุบั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solidFill>
            <a:srgbClr val="0000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36600" y="68400"/>
            <a:ext cx="84740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ไทย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ต่อการเปิดเสรีการค้าสินค้าสิ่งทอและเครื่องนุ่งห่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54080" y="1498680"/>
          <a:ext cx="8766000" cy="5062320"/>
        </p:xfrm>
        <a:graphic>
          <a:graphicData uri="http://schemas.openxmlformats.org/drawingml/2006/table">
            <a:tbl>
              <a:tblPr/>
              <a:tblGrid>
                <a:gridCol w="1020600"/>
                <a:gridCol w="949320"/>
                <a:gridCol w="576360"/>
                <a:gridCol w="674640"/>
                <a:gridCol w="1008000"/>
                <a:gridCol w="1152720"/>
                <a:gridCol w="936360"/>
                <a:gridCol w="1022400"/>
                <a:gridCol w="561960"/>
                <a:gridCol w="863640"/>
              </a:tblGrid>
              <a:tr h="17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W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   บางชนิ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บางชนิด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 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Yarn For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สิ่งท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เครื่อง    นุ่งห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.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6574320" y="101124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– สหรั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5878440" y="97956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8461440" y="1103400"/>
            <a:ext cx="404640" cy="31752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1365840" y="64753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imes New Roman"/>
                <a:ea typeface="FreesiaUPC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นับสนุ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ัดค้า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solidFill>
            <a:srgbClr val="0000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64960" y="236520"/>
            <a:ext cx="8474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หตุผลของการกำหนดกฎว่าด้วยแหล่งกำเนิดสินค้าที่เข้มงวดของ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09440" y="2004840"/>
          <a:ext cx="8810640" cy="4324680"/>
        </p:xfrm>
        <a:graphic>
          <a:graphicData uri="http://schemas.openxmlformats.org/drawingml/2006/table">
            <a:tbl>
              <a:tblPr/>
              <a:tblGrid>
                <a:gridCol w="1177920"/>
                <a:gridCol w="2376720"/>
                <a:gridCol w="2303280"/>
                <a:gridCol w="295272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คุ้มครองอุตสาหกรรม   ในประเทศ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ต้องการให้ใช้วัตถุดิบร่วมกัน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้องกัน  </a:t>
                      </a: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Circumvention </a:t>
                      </a:r>
                      <a:r>
                        <a:rPr b="1" lang="th-TH" sz="28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   </a:t>
                      </a: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     </a:t>
                      </a: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จากประเทศที่สา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5" name=""/>
          <p:cNvSpPr/>
          <p:nvPr/>
        </p:nvSpPr>
        <p:spPr>
          <a:xfrm>
            <a:off x="6574320" y="101124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– สหรั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5878440" y="97956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8461440" y="1103400"/>
            <a:ext cx="4046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68360" y="1052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สรุปสาระสำคัญของ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FreesiaUPC"/>
              </a:rPr>
              <a:t>Rules of Orig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ใน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US Draft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250920" y="1989000"/>
          <a:ext cx="8569080" cy="3407040"/>
        </p:xfrm>
        <a:graphic>
          <a:graphicData uri="http://schemas.openxmlformats.org/drawingml/2006/table">
            <a:tbl>
              <a:tblPr/>
              <a:tblGrid>
                <a:gridCol w="4395600"/>
                <a:gridCol w="41734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00"/>
                          </a:solidFill>
                          <a:latin typeface="Browallia New"/>
                          <a:cs typeface="FreesiaUPC"/>
                        </a:rPr>
                        <a:t>กฎ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1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เส้นใยทุกชนิด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ขนสัตว์ ฝ้ายและใยสังเคราะห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เส้นใยสั้น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นำเข้าวัตถุดิบมาผลิตได้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2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ด้า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2.1)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ด้ายฝ้า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2.1)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ด้าย โดยใช้เส้นใยในประเทศ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fiber forwar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2.2)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ด้ายสามารถนำเข้าเส้นใยมาผลิต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0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40400" y="16020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5159520" y="18900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7812000" y="235080"/>
            <a:ext cx="492120" cy="38556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341280" y="1468440"/>
          <a:ext cx="8396280" cy="5278320"/>
        </p:xfrm>
        <a:graphic>
          <a:graphicData uri="http://schemas.openxmlformats.org/drawingml/2006/table">
            <a:tbl>
              <a:tblPr/>
              <a:tblGrid>
                <a:gridCol w="3500640"/>
                <a:gridCol w="4895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00"/>
                          </a:solidFill>
                          <a:latin typeface="Browallia New"/>
                          <a:cs typeface="FreesiaUPC"/>
                        </a:rPr>
                        <a:t>กฎ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3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ผื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3.1)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ทอ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Woven fabrics)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ไห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ผ้าสามารถนำเข้าด้ายไหมมาผลิต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5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ทอทำด้วยด้ายใยธรรมชาติอื่นๆ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ได้แก่ ขนสัตว์ ฝ้ายและใยพืชอื่นๆ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75000"/>
                        <a:buFont typeface="Browalli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ผ้าโดยใช้ด้ายในประเทศ หรือ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yarn for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ทอทำด้วยด้ายใยสังเคราะห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ผ้าโดยใช้ด้ายในประเทศ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yarn forward) </a:t>
                      </a:r>
                      <a:r>
                        <a:rPr b="1" lang="th-TH" sz="2800" spc="-1" strike="noStrike" u="sng">
                          <a:solidFill>
                            <a:srgbClr val="ffffff"/>
                          </a:solidFill>
                          <a:uFillTx/>
                          <a:latin typeface="Browallia New"/>
                          <a:cs typeface="FreesiaUPC"/>
                        </a:rPr>
                        <a:t>ยกเว้น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ผ้าที่ทำจากเส้นใยยาวต้องใช้เส้นใยและด้ายในประเทศ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fiber forwar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540400" y="16020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5159520" y="18900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7812000" y="235080"/>
            <a:ext cx="492120" cy="38556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412920" y="771480"/>
            <a:ext cx="83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สรุปสาระสำคัญของ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FreesiaUPC"/>
              </a:rPr>
              <a:t>Rules of Orig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ใน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US Draft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168120" y="1365120"/>
          <a:ext cx="8713800" cy="5288040"/>
        </p:xfrm>
        <a:graphic>
          <a:graphicData uri="http://schemas.openxmlformats.org/drawingml/2006/table">
            <a:tbl>
              <a:tblPr/>
              <a:tblGrid>
                <a:gridCol w="3889440"/>
                <a:gridCol w="4824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00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00"/>
                          </a:solidFill>
                          <a:latin typeface="Browallia New"/>
                          <a:cs typeface="FreesiaUPC"/>
                        </a:rPr>
                        <a:t>กฎ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3.2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ถัก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Knitted fabric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ทำด้วยด้ายขนสัตว์และด้ายใยพืชอื่น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75000"/>
                        <a:buFont typeface="Browalli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ผ้า โดยใช้ด้ายในประเท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yarn forwar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ทำด้วยด้ายฝ้ายและใยสังเคราะห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ผ้า โดยใช้เส้นใยและด้ายในประเทศ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fiber forwar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32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4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เสื้อผ้าสำเร็จรู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75000"/>
                        <a:buFont typeface="Browalli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เสื้อผ้า โดยใช้ผ้าและด้ายในประเทศ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yarn forwar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2400" spc="-1" strike="noStrike" u="sng">
                          <a:solidFill>
                            <a:srgbClr val="ffffff"/>
                          </a:solidFill>
                          <a:uFillTx/>
                          <a:latin typeface="Browallia New"/>
                          <a:cs typeface="FreesiaUPC"/>
                        </a:rPr>
                        <a:t>ยกเว้น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 ชุดนอนและชั้นในสตรี 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ฝ้าย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) 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ถ้าใช้ผ้าถัก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Circular Knit 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เสื้อเชิ้ตบุรุษ 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จากผ้าที่กำหนด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) 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ใช้กฎ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Cut &amp; Sewn 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และ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Brassieres </a:t>
                      </a:r>
                      <a:r>
                        <a:rPr b="1" i="1" lang="th-TH" sz="24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ใช้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local 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"/>
          <p:cNvSpPr/>
          <p:nvPr/>
        </p:nvSpPr>
        <p:spPr>
          <a:xfrm>
            <a:off x="0" y="4752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735440" y="4428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40400" y="730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5159520" y="10152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7812000" y="147600"/>
            <a:ext cx="492120" cy="38592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466560" y="7570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สรุปสาระสำคัญของ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FreesiaUPC"/>
              </a:rPr>
              <a:t>Rules of Orig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ใน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US Draft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8000" y="9360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2" name=""/>
          <p:cNvGraphicFramePr/>
          <p:nvPr/>
        </p:nvGraphicFramePr>
        <p:xfrm>
          <a:off x="214200" y="1881360"/>
          <a:ext cx="8713800" cy="4024080"/>
        </p:xfrm>
        <a:graphic>
          <a:graphicData uri="http://schemas.openxmlformats.org/drawingml/2006/table">
            <a:tbl>
              <a:tblPr/>
              <a:tblGrid>
                <a:gridCol w="3816360"/>
                <a:gridCol w="4897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00"/>
                          </a:solidFill>
                          <a:latin typeface="Times New Roman"/>
                          <a:cs typeface="FreesiaUPC"/>
                        </a:rPr>
                        <a:t>สินค้า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00"/>
                          </a:solidFill>
                          <a:latin typeface="Browallia New"/>
                          <a:cs typeface="FreesiaUPC"/>
                        </a:rPr>
                        <a:t>กฎ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5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สินค้าเบ็ดเตล็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75000"/>
                        <a:buFont typeface="Browalli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สักหลาด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ไม่ทอ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เชือก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ลูกไม้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พรม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ยาง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สายพาน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ห่ม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ปูที่นอน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ผ้าม่าน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,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กระสอบ ฯล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75000"/>
                        <a:buFont typeface="Browalli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ผ้า โดยใช้ด้ายในประเท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(yarn forwar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ffffff"/>
                          </a:solidFill>
                          <a:uFillTx/>
                          <a:latin typeface="Browallia New"/>
                          <a:cs typeface="FreesiaUPC"/>
                        </a:rPr>
                        <a:t>ยกเว้น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ทำด้วยใยสังเคราะห์ ใช้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fiber for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-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หมอนและเบา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75000"/>
                        <a:buFont typeface="Browalli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Browallia New"/>
                          <a:cs typeface="FreesiaUPC"/>
                        </a:rPr>
                        <a:t>ประเทศผู้ผลิตโดยใช้ผ้าในประเทศมาผลิต หรือ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rowallia New"/>
                          <a:ea typeface="FreesiaUPC"/>
                        </a:rPr>
                        <a:t>fiber for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540400" y="16020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5159520" y="18900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3"/>
          <a:stretch/>
        </p:blipFill>
        <p:spPr>
          <a:xfrm>
            <a:off x="7812000" y="235080"/>
            <a:ext cx="492120" cy="38556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466560" y="907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สรุปสาระสำคัญของ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FreesiaUPC"/>
              </a:rPr>
              <a:t>Rules of Orig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ใน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US Draft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692280"/>
            <a:ext cx="9144000" cy="616572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2240" y="901800"/>
            <a:ext cx="8820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cs typeface="FreesiaUPC"/>
              </a:rPr>
              <a:t>สหรัฐฯ ได้เสนอร่างข้อตกลงเรื่องสิ่งทอและเครื่องนุ่งห่มให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cs typeface="FreesiaUPC"/>
              </a:rPr>
              <a:t>ฝ่ายไทยพิจารณา</a:t>
            </a:r>
            <a:r>
              <a:rPr b="1" lang="en-US" sz="3200" spc="-1" strike="noStrike">
                <a:solidFill>
                  <a:srgbClr val="ffffff"/>
                </a:solidFill>
                <a:latin typeface="Browallia New"/>
                <a:ea typeface="FreesiaUPC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35000" y="26938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1)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กำหนดเงื่อนไขกฎแหล่งกำเนิดสำหรับสินค้าสิ่งทอที่เป็น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specific ru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เฉพาะแต่ละรายกา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1835280" y="3716280"/>
            <a:ext cx="1271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2)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ให้มีการปรึกษาหารือ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(Consultations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เพื่อปรับปรุงกฎแหล่งกำเนิดสินค้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สิ่งทอชนิดใดชนิดหนึ่งในอนาคต เพื่อให้สอดคล้องกับภาวการณ์ผลิตสินค้านั้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0440" y="4815000"/>
            <a:ext cx="8640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3)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กำหนดข้อยกเว้น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de minim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แล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Treatment of Se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สำหรั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สินค้าสิ่งทอที่ไม่ได้แหล่งกำเนิด โดยไทยขอสัดส่วนที่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15%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แต่เบื้องต้น   สหรัฐตกลงยอมเฉพาะแค่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Treatment of Se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เท่านั้น ส่วน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 minim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สหรัฐยังคงยืนยันทื่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FreesiaUPC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540400" y="16020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5159520" y="18900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7812000" y="235080"/>
            <a:ext cx="492120" cy="3855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255600" y="1916280"/>
            <a:ext cx="78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กฎแหล่งกำเนิดสินค้า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(Rules of Origin and Related Mat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1916280"/>
            <a:ext cx="9144000" cy="504720"/>
          </a:xfrm>
          <a:prstGeom prst="rect">
            <a:avLst/>
          </a:prstGeom>
          <a:solidFill>
            <a:srgbClr val="00cccc">
              <a:alpha val="47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692280"/>
            <a:ext cx="9144000" cy="616572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-999000" y="2262240"/>
            <a:ext cx="78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ความร่วมมือทางศุลกากร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(Customs Cooper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2080" y="3063960"/>
            <a:ext cx="67690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กำหนดความร่วมมือในการป้องกันการแอบอ้างแหล่งกำเนิดสินค้า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FreesiaUPC"/>
              </a:rPr>
              <a:t>(circumvention)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เช่น การตรวจสอบแหล่งกำเนิดสินค้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การตรวจโรงงาน การแลกเปลี่ยนข้อมูลและกฎระเบียบที่เป็นประโยชน์ต่อการตรวจสอบแหล่งกำเนิดสินค้าและ             การกำหนดให้ผู้ประกอบการสิ่งทอรักษาข้อมู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การผลิต การจ้างงานและการส่งออกเป็นเวลา </a:t>
            </a:r>
            <a:r>
              <a:rPr b="1" lang="th-TH" sz="3200" spc="-1" strike="noStrike">
                <a:solidFill>
                  <a:srgbClr val="ccff33"/>
                </a:solidFill>
                <a:latin typeface="Arial"/>
                <a:ea typeface="FreesiaUPC"/>
              </a:rPr>
              <a:t>5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ปี เป็นต้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92240" y="901800"/>
            <a:ext cx="8820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cs typeface="FreesiaUPC"/>
              </a:rPr>
              <a:t>สหรัฐฯ ได้เสนอร่างข้อตกลงเรื่องสิ่งทอและเครื่องนุ่งห่มให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cs typeface="FreesiaUPC"/>
              </a:rPr>
              <a:t>ฝ่ายไทยพิจารณา</a:t>
            </a:r>
            <a:r>
              <a:rPr b="1" lang="en-US" sz="3200" spc="-1" strike="noStrike">
                <a:solidFill>
                  <a:srgbClr val="ffffff"/>
                </a:solidFill>
                <a:latin typeface="Browallia New"/>
                <a:ea typeface="FreesiaUPC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540400" y="16020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5159520" y="18900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7812000" y="235080"/>
            <a:ext cx="492120" cy="38556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4"/>
          <a:stretch/>
        </p:blipFill>
        <p:spPr>
          <a:xfrm>
            <a:off x="6966000" y="4653000"/>
            <a:ext cx="1927080" cy="19890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FreesiaUPC"/>
              </a:rPr>
              <a:t>กฎแหล่งกำเนิดสินค้าสิ่งทอและเครื่องนุ่งห่ม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2262240"/>
            <a:ext cx="9144000" cy="504720"/>
          </a:xfrm>
          <a:prstGeom prst="rect">
            <a:avLst/>
          </a:prstGeom>
          <a:solidFill>
            <a:srgbClr val="00cccc">
              <a:alpha val="47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36600" y="68400"/>
            <a:ext cx="84740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ท่าทีของประเทศคู่เจร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ไทย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ต่อการเปิดเสรีการค้าสินค้าสิ่งทอและเครื่องนุ่งห่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198360" y="1457280"/>
          <a:ext cx="8766360" cy="5037120"/>
        </p:xfrm>
        <a:graphic>
          <a:graphicData uri="http://schemas.openxmlformats.org/drawingml/2006/table">
            <a:tbl>
              <a:tblPr/>
              <a:tblGrid>
                <a:gridCol w="1020960"/>
                <a:gridCol w="1049040"/>
                <a:gridCol w="503280"/>
                <a:gridCol w="648000"/>
                <a:gridCol w="1008000"/>
                <a:gridCol w="1152360"/>
                <a:gridCol w="936720"/>
                <a:gridCol w="1022400"/>
                <a:gridCol w="561960"/>
                <a:gridCol w="863640"/>
              </a:tblGrid>
              <a:tr h="17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W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   บางชนิ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th-TH" sz="1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แบบห้ามนำเข้าวัตถุดิบบางชนิด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+  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Yarn Forwa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สิ่งท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เครื่อง    นุ่งห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.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6565680" y="10112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– ญี่ปุ่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5878440" y="979560"/>
            <a:ext cx="492120" cy="4334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372680" y="652464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imes New Roman"/>
                <a:ea typeface="FreesiaUPC"/>
              </a:rPr>
              <a:t>/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นับสนุ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=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ัดค้า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8388360" y="1052640"/>
            <a:ext cx="434880" cy="33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69019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8560" y="106200"/>
            <a:ext cx="8105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Arial"/>
                <a:cs typeface="FreesiaUPC"/>
              </a:rPr>
              <a:t>ผลการวิจัยของศูนย์ศึกษาเอเปค มหาวิทยาลัยธรรมศาสตร์ เกี่ยวกับความสามารถในการแข่งขันของไทย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557360"/>
            <a:ext cx="8105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ffff"/>
                </a:solidFill>
                <a:latin typeface="Arial"/>
                <a:cs typeface="FreesiaUPC"/>
              </a:rPr>
              <a:t>ดัชนีความได้เปรียบโดยเปรียบเทียบของไทยและจีน          ในการส่งออกเสื้อผ้าเครื่องนุ่งห่มในตลาดโลก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5520" y="2901960"/>
          <a:ext cx="8882280" cy="3052800"/>
        </p:xfrm>
        <a:graphic>
          <a:graphicData uri="http://schemas.openxmlformats.org/drawingml/2006/table">
            <a:tbl>
              <a:tblPr/>
              <a:tblGrid>
                <a:gridCol w="1397160"/>
                <a:gridCol w="5362560"/>
                <a:gridCol w="1166760"/>
                <a:gridCol w="955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H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รายละเอียดสินค้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ไทย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จีน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ื้อผ้าที่ทำจากผ้าถัก อาทิ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Jerseys, Pullovers,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.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knit or croc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7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0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ื้อผ้าที่ทำจากผ้าทอ อาทิ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Mens or Boys suits, Jackets,.. not kn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6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3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64960" y="236520"/>
            <a:ext cx="8474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หตุผลของการกำหนดกฎว่าด้วยแหล่งกำเนิดสินค้าที่เข้มงวดของจ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400" y="9320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109440" y="2004840"/>
          <a:ext cx="8810640" cy="4310280"/>
        </p:xfrm>
        <a:graphic>
          <a:graphicData uri="http://schemas.openxmlformats.org/drawingml/2006/table">
            <a:tbl>
              <a:tblPr/>
              <a:tblGrid>
                <a:gridCol w="1177920"/>
                <a:gridCol w="2376720"/>
                <a:gridCol w="2303280"/>
                <a:gridCol w="295272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คุ้มครองอุตสาหกรรม   ในประเทศ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ต้องการให้ใช้วัตถุดิบร่วมกัน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ป้องกัน  </a:t>
                      </a: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Circumvention </a:t>
                      </a:r>
                      <a:r>
                        <a:rPr b="1" lang="th-TH" sz="28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   </a:t>
                      </a: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     </a:t>
                      </a: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จากประเทศที่สา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"/>
          <p:cNvSpPr/>
          <p:nvPr/>
        </p:nvSpPr>
        <p:spPr>
          <a:xfrm>
            <a:off x="6565680" y="10112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bfffff"/>
                </a:solidFill>
                <a:latin typeface="Arial"/>
                <a:ea typeface="FreesiaUPC"/>
              </a:rPr>
              <a:t>– ญี่ปุ่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5878440" y="979560"/>
            <a:ext cx="492120" cy="4334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2">
            <a:lum contrast="44000"/>
          </a:blip>
          <a:stretch/>
        </p:blipFill>
        <p:spPr>
          <a:xfrm>
            <a:off x="8388360" y="1052640"/>
            <a:ext cx="434880" cy="33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1916280"/>
            <a:ext cx="9144000" cy="1081080"/>
          </a:xfrm>
          <a:prstGeom prst="rect">
            <a:avLst/>
          </a:prstGeom>
          <a:solidFill>
            <a:srgbClr val="0000ff">
              <a:alpha val="33000"/>
            </a:srgbClr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135000"/>
            <a:ext cx="4697280" cy="5144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35440" y="131760"/>
            <a:ext cx="4357800" cy="5144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942520" y="11592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ea typeface="FreesiaUPC"/>
              </a:rPr>
              <a:t>-</a:t>
            </a:r>
            <a:r>
              <a:rPr b="1" lang="en-US" sz="3200" spc="-1" strike="noStrike">
                <a:solidFill>
                  <a:srgbClr val="bfffff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bfffff"/>
                </a:solidFill>
                <a:latin typeface="Arial"/>
                <a:cs typeface="FreesiaUPC"/>
              </a:rPr>
              <a:t>ญี่ปุ่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5159520" y="189000"/>
            <a:ext cx="492120" cy="43344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 txBox="1"/>
          <p:nvPr/>
        </p:nvSpPr>
        <p:spPr>
          <a:xfrm>
            <a:off x="324000" y="203040"/>
            <a:ext cx="394956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FreesiaUPC"/>
              </a:rPr>
              <a:t>กฎแหล่งกำเนิดสินค้าสิ่งท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838" name=""/>
          <p:cNvSpPr/>
          <p:nvPr/>
        </p:nvSpPr>
        <p:spPr>
          <a:xfrm>
            <a:off x="471600" y="199548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ญี่ปุ่นเสนอให้ใช้เกณฑ์การเปลี่ยนพิกัดในระดับ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หลัก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FreesiaUPC"/>
              </a:rPr>
              <a:t>C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           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ร่วมกับการผลิต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2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ขั้นตอน จึงจะได้แหล่งกำเนิดสินค้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678720" y="950760"/>
            <a:ext cx="2313000" cy="82728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Chapter 50-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0000"/>
                </a:solidFill>
                <a:latin typeface="Tahoma"/>
                <a:cs typeface="FreesiaUPC"/>
              </a:rPr>
              <a:t>ยกเว้น </a:t>
            </a:r>
            <a:r>
              <a:rPr b="1" lang="th-TH" sz="3200" spc="-1" strike="noStrike">
                <a:solidFill>
                  <a:srgbClr val="cc0000"/>
                </a:solidFill>
                <a:latin typeface="Tahoma"/>
                <a:ea typeface="FreesiaUPC"/>
              </a:rPr>
              <a:t>61-6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8640" y="3122640"/>
            <a:ext cx="843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สำหรับ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Wov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แล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Knit Fabric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การฟอกย้อมหรือพิมพ์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(Dyeing or Printing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ร่วมกับ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2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กระบวนการ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preparator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หรือ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FreesiaUPC"/>
              </a:rPr>
              <a:t>finishing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ea typeface="FreesiaUPC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ให้ถือว่าเป็นการผลิต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FreesiaUPC"/>
              </a:rPr>
              <a:t>1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FreesiaUPC"/>
              </a:rPr>
              <a:t>ขั้นตอนเท่านั้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8360" y="5084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FreesiaUPC"/>
              </a:rPr>
              <a:t>หมายความว่า การผลิตผ้าพิมพ์ ฟอกย้อม ต้องนำเข้าด้ายเข้ามาผลิตผ้าเองเท่านั้น ไม่สามารถนำเข้าผ้ามาฟอกย้อม แล้วอ้างแหล่งกำเนิดไทยได้ เนื่องจากถือเป็นการผลิต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1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FreesiaUPC"/>
              </a:rPr>
              <a:t>ขั้นตอ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67280" y="4581360"/>
            <a:ext cx="720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4"/>
          <a:stretch/>
        </p:blipFill>
        <p:spPr>
          <a:xfrm>
            <a:off x="349200" y="888840"/>
            <a:ext cx="2919600" cy="51300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468000" y="878040"/>
            <a:ext cx="24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FreesiaUPC"/>
              </a:rPr>
              <a:t>ข้อเสนอญี่ปุ่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5">
            <a:lum contrast="44000"/>
          </a:blip>
          <a:stretch/>
        </p:blipFill>
        <p:spPr>
          <a:xfrm>
            <a:off x="8459640" y="260280"/>
            <a:ext cx="435240" cy="33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87480" y="1308240"/>
            <a:ext cx="2557440" cy="47772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023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28640" y="-47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การเตรียมความพร้อมและการปรับตัว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-789120" y="1862280"/>
            <a:ext cx="73584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ร่งพัฒนาและปรับปรุง</a:t>
            </a: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คุณภาพ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ผลิตสินค้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-1473480" y="3090960"/>
            <a:ext cx="12169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มุ่งเน้นการวิจัยและพัฒนาสินค้า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พื่อ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FreesiaUPC"/>
              </a:rPr>
              <a:t>เพิ่มความหลากหลาย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ของผลิตภัณฑ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29960" y="127152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FreesiaUPC"/>
              </a:rPr>
              <a:t>ด้านการผลิ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-451440" y="2403360"/>
            <a:ext cx="49658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เพิ่มมูลค่า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ของสินค้าให้สูงขึ้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-884880" y="3843360"/>
            <a:ext cx="100252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พิ่มประสิทธิภาพการผลิตและ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พัฒนาการออกแบบ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(Fashion)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และการ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สร้าง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Brand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-1325160" y="4984920"/>
            <a:ext cx="10883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ปรับปรุงมาตรฐานด้านสิ่งแวดล้อม แรงงานและความเป็นอยู่ของแรงงา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ในโรงงา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-790920" y="5979960"/>
            <a:ext cx="95605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ควรผลิตแบบ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Supply Cha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พื่อเพิ่มประสิทธิภาพในการแข่งขั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101520" y="1454040"/>
            <a:ext cx="4395960" cy="4780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1023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5564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การเตรียมความพร้อมและการปรับตั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82480" y="2133720"/>
            <a:ext cx="75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สนับสนุนการใช้วัตถุดิบในประเทศให้มากขึ้น เพื่อเพิ่มสัดส่วน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Local Content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FreesiaUPC"/>
              </a:rPr>
              <a:t>ให้สูงขึ้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7280" y="5761080"/>
            <a:ext cx="8123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8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ติดตามความคืบหน้าการเจรจา พร้อมให้ข้อมูลแก่ภาครัฐ เพื่อประโยชน์ในการเจรจ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10960" y="1438200"/>
            <a:ext cx="39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FreesiaUPC"/>
              </a:rPr>
              <a:t>ด้านแหล่งกำเนิดสินค้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9640" y="3274920"/>
            <a:ext cx="758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ในการส่งออกไป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ASEAN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ควรแลกเปลี่ยนสินค้าประเภทวัตถุดิ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Tahoma"/>
                <a:ea typeface="FreesiaUPC"/>
              </a:rPr>
              <a:t>     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จากประเทศที่อยู่ใน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ASEAN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ช่น อินโดนีเซีย และร่วมมือกั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วียดนามซึ่งเป็นแหล่งแรงงานที่มีค่าจ้างถู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39640" y="4724280"/>
            <a:ext cx="75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ในการส่งออกไปกลุ่มประเทศ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BIMST-EC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ควรใช้วัตถุดิบจา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BIMST-EC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ในการผลิตสิ่งทอไท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15920" y="1440000"/>
            <a:ext cx="2919240" cy="4777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1023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5564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การเตรียมความพร้อมและการปรับตั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9640" y="2781360"/>
            <a:ext cx="77043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ติดตามความคืบหน้าการเจรจา พร้อมให้ข้อมูลแก่ภาครัฐ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พื่อประโยชน์ในการเจรจ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4840" y="140976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FreesiaUPC"/>
              </a:rPr>
              <a:t>ด้านการเจรจ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1023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355680" y="1595520"/>
          <a:ext cx="8150040" cy="5081400"/>
        </p:xfrm>
        <a:graphic>
          <a:graphicData uri="http://schemas.openxmlformats.org/drawingml/2006/table">
            <a:tbl>
              <a:tblPr/>
              <a:tblGrid>
                <a:gridCol w="3298680"/>
                <a:gridCol w="1687680"/>
                <a:gridCol w="1582560"/>
                <a:gridCol w="15811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สินค้านำเข้าจา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25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25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25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บังคลาเท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2624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0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ด้ายทอผ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0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0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0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ื้อผ้าและผลิตภัณฑ์สิ่งท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รว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1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อินเดี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2624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้นใ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9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7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ด้ายทอผ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9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2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8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ผ้าผื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9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รว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8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3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5" name=""/>
          <p:cNvSpPr/>
          <p:nvPr/>
        </p:nvSpPr>
        <p:spPr>
          <a:xfrm>
            <a:off x="468360" y="-151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นำเข้าสินค้าในกลุ่มสิ่งทอและเสื้อผ้าเครื่องนุ่งห่มของไทย             จากประเทศสมาชิก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BIMST-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46480" y="12430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มูลค่า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FreesiaUPC"/>
              </a:rPr>
              <a:t>: </a:t>
            </a:r>
            <a:r>
              <a:rPr b="1" i="1" lang="hi-IN" sz="20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ล้านดอลลาร์สหรัฐ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gradFill rotWithShape="0">
            <a:gsLst>
              <a:gs pos="0">
                <a:srgbClr val="000000">
                  <a:alpha val="73333"/>
                </a:srgbClr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1023840"/>
            <a:ext cx="914400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79600" y="1628640"/>
          <a:ext cx="8096040" cy="4357800"/>
        </p:xfrm>
        <a:graphic>
          <a:graphicData uri="http://schemas.openxmlformats.org/drawingml/2006/table">
            <a:tbl>
              <a:tblPr/>
              <a:tblGrid>
                <a:gridCol w="3244680"/>
                <a:gridCol w="1687680"/>
                <a:gridCol w="1582560"/>
                <a:gridCol w="15811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สินค้านำเข้าจา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25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25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25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พม่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รว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ffff"/>
                          </a:solidFill>
                          <a:latin typeface="Times New Roman"/>
                          <a:cs typeface="FreesiaUPC"/>
                        </a:rPr>
                        <a:t>ศรีลังก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ผ้าผื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889560">
                <a:tc>
                  <a:txBody>
                    <a:bodyPr lIns="54000" rIns="90000" tIns="18000" bIns="18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ื้อผ้าและผลิตภัณฑ์สิ่งท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รว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8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3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รวมทั้งภูมิภา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8.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35.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1.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131760" y="-252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นำเข้าสินค้าในกลุ่มสิ่งทอและเสื้อผ้าเครื่องนุ่งห่มของไทย             จากประเทศสมาชิก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BIMST-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97400" y="121752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มูลค่า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FreesiaUPC"/>
              </a:rPr>
              <a:t>: </a:t>
            </a:r>
            <a:r>
              <a:rPr b="1" i="1" lang="hi-IN" sz="20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ล้านดอลลาร์สหรัฐ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2" name=""/>
          <p:cNvGraphicFramePr/>
          <p:nvPr/>
        </p:nvGraphicFramePr>
        <p:xfrm>
          <a:off x="571680" y="635040"/>
          <a:ext cx="7758000" cy="56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635040"/>
                    <a:ext cx="7758000" cy="56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"/>
          <p:cNvSpPr txBox="1"/>
          <p:nvPr/>
        </p:nvSpPr>
        <p:spPr>
          <a:xfrm>
            <a:off x="990720" y="990720"/>
            <a:ext cx="243504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66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ขอบคุณ</a:t>
            </a:r>
            <a:endParaRPr b="1" i="1" lang="en-US" sz="4400" spc="1" strike="noStrike">
              <a:ln w="25560">
                <a:solidFill>
                  <a:srgbClr val="3366ff"/>
                </a:solidFill>
                <a:miter/>
              </a:ln>
              <a:solidFill>
                <a:srgbClr val="66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66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และสวัสดี</a:t>
            </a:r>
            <a:endParaRPr b="1" i="1" lang="en-US" sz="4400" spc="1" strike="noStrike">
              <a:ln w="25560">
                <a:solidFill>
                  <a:srgbClr val="3366ff"/>
                </a:solidFill>
                <a:miter/>
              </a:ln>
              <a:solidFill>
                <a:srgbClr val="66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5" name="" descr="butterfly_2.gif - (19K)"/>
          <p:cNvPicPr/>
          <p:nvPr/>
        </p:nvPicPr>
        <p:blipFill>
          <a:blip r:embed="rId3"/>
          <a:stretch/>
        </p:blipFill>
        <p:spPr>
          <a:xfrm>
            <a:off x="5410080" y="1295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8664840" y="6230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6240" y="4076640"/>
            <a:ext cx="8573760" cy="50472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8560" y="106200"/>
            <a:ext cx="8105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Arial"/>
                <a:cs typeface="FreesiaUPC"/>
              </a:rPr>
              <a:t>ผลการวิจัยของศูนย์ศึกษาเอเปค มหาวิทยาลัยธรรมศาสตร์ เกี่ยวกับความสามารถในการแข่งขันของไทย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2640" y="1257480"/>
            <a:ext cx="8105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ffff"/>
                </a:solidFill>
                <a:latin typeface="Arial"/>
                <a:cs typeface="FreesiaUPC"/>
              </a:rPr>
              <a:t>ค่าจ้างแรงงานในอุตสาหกรรมสิ่งทอ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ffff"/>
                </a:solidFill>
                <a:latin typeface="Arial"/>
                <a:cs typeface="FreesiaUPC"/>
              </a:rPr>
              <a:t>เปรียบเทียบระหว่างไทยกับคู่แข่งสำคัญในตลาดโลกปี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  <a:ea typeface="FreesiaUPC"/>
              </a:rPr>
              <a:t>2543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6920" y="2406600"/>
          <a:ext cx="8642160" cy="4295880"/>
        </p:xfrm>
        <a:graphic>
          <a:graphicData uri="http://schemas.openxmlformats.org/drawingml/2006/table">
            <a:tbl>
              <a:tblPr/>
              <a:tblGrid>
                <a:gridCol w="1800000"/>
                <a:gridCol w="3961080"/>
                <a:gridCol w="28810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อัตราค่าจ้างแรงงาน </a:t>
                      </a:r>
                      <a:r>
                        <a:rPr b="1" lang="th-TH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USD /Hr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เทียบกับไทย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hi-IN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eesiaUPC"/>
                        </a:rPr>
                        <a:t>เท่า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13500000"/>
                    </a:gradFill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ญี่ปุ่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6.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2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สหรัฐ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4.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ffff00"/>
                          </a:solidFill>
                          <a:latin typeface="Times New Roman"/>
                          <a:cs typeface="FreesiaUPC"/>
                        </a:rPr>
                        <a:t>ไทย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1.1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1.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มาเลเซ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จี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อินเด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อินโดนีเซ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54000" rIns="90000" tIns="18000" bIns="18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4653000"/>
            <a:ext cx="8640720" cy="576360"/>
          </a:xfrm>
          <a:prstGeom prst="rect">
            <a:avLst/>
          </a:prstGeom>
          <a:solidFill>
            <a:srgbClr val="3366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560" y="106200"/>
            <a:ext cx="8105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Arial"/>
                <a:cs typeface="FreesiaUPC"/>
              </a:rPr>
              <a:t>ผลการวิจัยของศูนย์ศึกษาเอเปค มหาวิทยาลัยธรรมศาสตร์ เกี่ยวกับความสามารถในการแข่งขันของไทย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080" y="1370160"/>
            <a:ext cx="8893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ffff"/>
                </a:solidFill>
                <a:latin typeface="Arial"/>
                <a:cs typeface="FreesiaUPC"/>
              </a:rPr>
              <a:t>ประมาณการค่าใช้จ่ายในโรงงานเครื่องนุ่งห่มปี </a:t>
            </a:r>
            <a:r>
              <a:rPr b="1" lang="th-TH" sz="3000" spc="-1" strike="noStrike">
                <a:solidFill>
                  <a:srgbClr val="00ffff"/>
                </a:solidFill>
                <a:latin typeface="Arial"/>
                <a:ea typeface="FreesiaUPC"/>
              </a:rPr>
              <a:t>2543  (1,00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FreesiaUPC"/>
              </a:rPr>
              <a:t>USD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  <a:ea typeface="FreesiaUPC"/>
              </a:rPr>
              <a:t> / </a:t>
            </a:r>
            <a:r>
              <a:rPr b="1" lang="th-TH" sz="3000" spc="-1" strike="noStrike">
                <a:solidFill>
                  <a:srgbClr val="00ffff"/>
                </a:solidFill>
                <a:latin typeface="Arial"/>
                <a:cs typeface="FreesiaUPC"/>
              </a:rPr>
              <a:t>ปี</a:t>
            </a:r>
            <a:r>
              <a:rPr b="1" lang="th-TH" sz="3000" spc="-1" strike="noStrike">
                <a:solidFill>
                  <a:srgbClr val="00ffff"/>
                </a:solidFill>
                <a:latin typeface="Arial"/>
                <a:ea typeface="FreesiaUP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5280" y="1887480"/>
          <a:ext cx="8771040" cy="454500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0520"/>
                <a:gridCol w="1462320"/>
                <a:gridCol w="146196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ประเท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แรงงานทางตร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การบริหารควบคุ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ค่าใช้จ่ายอื่น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ต้นทุนเงินทุ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รว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จี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0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,4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,4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มาเลเซี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4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,2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อินโดนีเซี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0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9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,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70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,2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600" spc="-1" strike="noStrike">
                          <a:solidFill>
                            <a:srgbClr val="ffff00"/>
                          </a:solidFill>
                          <a:latin typeface="Times New Roman"/>
                          <a:cs typeface="FreesiaUPC"/>
                        </a:rPr>
                        <a:t>ไทย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4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25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8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45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imes New Roman"/>
                          <a:ea typeface="FreesiaUPC"/>
                        </a:rPr>
                        <a:t>1,94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ฟิลิปปินส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4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,7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อินเดี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,4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46240" y="6477120"/>
            <a:ext cx="8105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rial"/>
                <a:cs typeface="FreesiaUPC"/>
              </a:rPr>
              <a:t>ที่มา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FreesiaUPC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FreesiaUPC"/>
              </a:rPr>
              <a:t>Textile Outlook Interna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  <a:ea typeface="FreesiaUPC"/>
              </a:rPr>
              <a:t>(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  <a:cs typeface="FreesiaUPC"/>
              </a:rPr>
              <a:t>โรงงานที่มีเครื่องจักรเย็บผ้า 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  <a:ea typeface="FreesiaUPC"/>
              </a:rPr>
              <a:t>150 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  <a:cs typeface="FreesiaUPC"/>
              </a:rPr>
              <a:t>เครื่อง</a:t>
            </a:r>
            <a:r>
              <a:rPr b="1" lang="th-TH" sz="1800" spc="-1" strike="noStrike">
                <a:solidFill>
                  <a:srgbClr val="ffffff"/>
                </a:solidFill>
                <a:latin typeface="Arial"/>
                <a:ea typeface="FreesiaUPC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00000b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9680" y="5157720"/>
            <a:ext cx="8874000" cy="13161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360" y="3227400"/>
            <a:ext cx="8883720" cy="1846080"/>
          </a:xfrm>
          <a:prstGeom prst="rect">
            <a:avLst/>
          </a:prstGeom>
          <a:solidFill>
            <a:srgbClr val="3366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00" y="12128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8560" y="106200"/>
            <a:ext cx="8105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ff"/>
                </a:solidFill>
                <a:latin typeface="Arial"/>
                <a:cs typeface="FreesiaUPC"/>
              </a:rPr>
              <a:t>ผลการวิจัยของศูนย์ศึกษาเอเปค มหาวิทยาลัยธรรมศาสตร์ เกี่ยวกับความสามารถในการแข่งขันของไทย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6200" y="1460520"/>
            <a:ext cx="810576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ffff"/>
                </a:solidFill>
                <a:latin typeface="Arial"/>
                <a:cs typeface="FreesiaUPC"/>
              </a:rPr>
              <a:t>ดัชนีความได้เปรียบที่ปรากฏโดยเปรียบเทียบ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ffff"/>
                </a:solidFill>
                <a:latin typeface="Arial"/>
                <a:cs typeface="FreesiaUPC"/>
              </a:rPr>
              <a:t>ของไทยและคู่แข่งในอาเซียน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2680" y="2597040"/>
          <a:ext cx="8935560" cy="3890880"/>
        </p:xfrm>
        <a:graphic>
          <a:graphicData uri="http://schemas.openxmlformats.org/drawingml/2006/table">
            <a:tbl>
              <a:tblPr/>
              <a:tblGrid>
                <a:gridCol w="1154880"/>
                <a:gridCol w="2788200"/>
                <a:gridCol w="1101240"/>
                <a:gridCol w="1612800"/>
                <a:gridCol w="1173960"/>
                <a:gridCol w="11044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FreesiaUPC"/>
                        </a:rPr>
                        <a:t>H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สินค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ไท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อินโดนีเซี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มาเลเซี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eesiaUPC"/>
                        </a:rPr>
                        <a:t>สิงคโปร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167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1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ื้อผ้าที่ทำจากผ้าถัก อาทิ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Jerseys, Pullovers,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..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knit or croch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.3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4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20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เสื้อผ้าที่ทำจากผ้าทอ อาทิ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Mens or Boys suits, Jackets,.. not k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.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9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6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0.4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6:38:15Z</dcterms:created>
  <dc:creator>Preinstall Customer</dc:creator>
  <dc:description/>
  <dc:language>en-US</dc:language>
  <cp:lastModifiedBy>suparin</cp:lastModifiedBy>
  <dcterms:modified xsi:type="dcterms:W3CDTF">2005-04-25T10:56:35Z</dcterms:modified>
  <cp:revision>2118</cp:revision>
  <dc:subject/>
  <dc:title>PowerPoint Presentation</dc:title>
</cp:coreProperties>
</file>